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AAD6-A2EC-44BC-A126-199C7424A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design considerations” to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design considerations” to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leted the word “submission” from second bullet:  originally read “self-serve submission feedback reports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improving the data submission process” to future data subm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validating data in a VBP program” to future valid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bulle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FF9-2018-4FE2-984F-BDD7DD8E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DEC-BC84-41DD-8C79-16DE066A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CCC5-8457-4E5D-BF9E-A8D1B67A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C5A-D038-45A1-8077-7F02EC21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A6F-0D93-4E77-BF8F-98624A79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27E-313E-4BCC-8302-B40EC75B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56D-AF63-4E29-B6C8-84724708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F38-1859-43AB-A9D0-1E1AE5FE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738-A4C7-40B4-85CF-45EE6C69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9E5-7ED0-4A6C-B552-20E281DF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B8D-5EEF-488C-9BDE-AFBC5C57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F9F-35E5-420B-8E6F-DA227389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9105-53C9-4315-82A7-EF8A7BFB6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Infrastructure &amp; Valid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30481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illiam M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ffice of Clinical Standards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876920"/>
            <a:ext cx="464832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are the advantages and disadvantages of various data sources, including claims, registries, and EH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can CMS best build on current data processes and policies to meet PVBP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might various data sources reduce the burden of repor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CMS structure data validation for PVB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CMS provide feedback reports to professionals and their grou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0FF-F2DC-4753-9121-51E8767ABF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BEF-4B8D-4DD1-A719-CAC3E6F25B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eedback to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848-E9DA-43BB-87B6-F952559639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inimize the burden of data 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vide for efficient data validation and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ive timely feedback for performance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 use of all pay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0AB6-7D3D-4721-A042-CB76DF5197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quality and the data infrastructure are essential building blocks for any successful VB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used to score performance must be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and infrastructure depend on the types of data used for calculating the performance metr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D8D-F264-4A8C-AAA0-03AD0D8D71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xisting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odifie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lemental Clin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B34-3AC4-4D1A-A99A-BBFC150585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urrent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Q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hysician Group Practice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C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Q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spital V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1AB-B297-459E-8D58-929230618D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ssociation of individual professionals to group practices or system level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tribution of a patient to a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pay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porting bu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ime 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354-E943-46D2-BC22-C07FA28CB2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7120" y="1600200"/>
            <a:ext cx="805968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validatio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universal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rter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audit targeted at all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audit of a random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t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Validation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oice depends on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DE7-AE0C-4CC3-BC11-80B42F8459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eedback to Profess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men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alid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35B-FCFF-4C0F-8285-016B67718E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0:48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51621045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-858718010</vt:r8>
  </property>
</Properties>
</file>