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33640" y="688680"/>
            <a:ext cx="4590720" cy="344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4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5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8785D-33E2-4252-AB1C-11A0FD1754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33640" y="689040"/>
            <a:ext cx="4590720" cy="34434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d title from “incentive structure” to future basis for incentive pay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33640" y="689040"/>
            <a:ext cx="4590720" cy="34434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Added this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33640" y="689040"/>
            <a:ext cx="4590720" cy="34434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Changed title from “incentive structure” to VBP design consider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33640" y="689040"/>
            <a:ext cx="4590720" cy="34434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d title from “incentive structure” to future basis for incentive pay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d bullet #1 from “what should be the basis for receiving an incentive” to options for the basis of incentive payments – instead of what the bullet was changed to we may want to ask a different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FBDE8D-E2F9-4C57-B19C-B1C373B3E0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91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680" y="4050720"/>
            <a:ext cx="7391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A5DF81-8FFD-4E53-A839-3104E2C116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54240" y="198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680" y="405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54240" y="405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A2AD89-CAAF-4781-BC9C-C5312E6B4D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6160" y="198072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65280" y="198072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680" y="405072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6160" y="405072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65280" y="405072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AE6582-ECEE-4DAD-8416-EA9639C596E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42D62D-729B-4A53-87EC-FC12F09BC87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0F24D6-84EC-425A-AACD-B7C3EE78AB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6068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54240" y="1980720"/>
            <a:ext cx="36068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0E203E-8351-4107-AA70-A5D6011761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EEB512-CF60-422B-B0D2-284717A3EB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0875B1-55D4-496F-A9AC-E923624FD1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54240" y="1980720"/>
            <a:ext cx="36068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680" y="405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A2E42E-8217-43FE-AC4B-D86F79F687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6068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54240" y="198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54240" y="405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836BE0-E428-42DA-8AC4-93A094AABF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54240" y="198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680" y="4050720"/>
            <a:ext cx="7391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A1554-3A83-4185-AFE4-C9300B8BA1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819520" y="6248520"/>
            <a:ext cx="4038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777777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777777"/>
                </a:solidFill>
                <a:latin typeface="Arial"/>
              </a:rPr>
              <a:t>Procurement Sensi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705880" y="6496200"/>
            <a:ext cx="3808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D66C0-00B8-4114-9FB4-1FAC2F98BD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120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4000"/>
            </a:br>
            <a:br>
              <a:rPr sz="4000"/>
            </a:b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251424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5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Terrence Ka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Center for Medicare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"/>
          <p:cNvSpPr/>
          <p:nvPr/>
        </p:nvSpPr>
        <p:spPr>
          <a:xfrm>
            <a:off x="1447920" y="2057400"/>
            <a:ext cx="6705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676520" y="1523880"/>
            <a:ext cx="6019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ahoma"/>
              </a:rPr>
              <a:t>   </a:t>
            </a:r>
            <a:r>
              <a:rPr b="0" lang="en-US" sz="4400" spc="-1" strike="noStrike">
                <a:solidFill>
                  <a:srgbClr val="003399"/>
                </a:solidFill>
                <a:latin typeface="Tahoma"/>
              </a:rPr>
              <a:t>Incentive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905120" y="4648320"/>
            <a:ext cx="5257800" cy="84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Listening S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December 9, 2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Basis for Incentive Payments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All Medicare Physician Fee Schedule servic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Measured servic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Inpatient or outpatient servic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Other factor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3A3783-8087-4938-A9E1-1855DA4CDC7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Factors Influencing Basis of Incentive  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1760" y="1142640"/>
            <a:ext cx="7391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Impact on increasing value to Medicare and its benefici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0720" indent="-270720"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Operational consider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0720" indent="-270720"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Equity and other iss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586800" indent="-225720"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Lower volume professionals/clinics may have less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6800" indent="-225720"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Higher volume professionals/clinics may have more opportunities to receive incentive pay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6800" indent="-225720"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Non-compliant pati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6800" indent="-225720"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Inappropriate incentives to increase volu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4F0576-B3E4-45E5-81E5-E01390A55C0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Summary of Questions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160" y="761760"/>
            <a:ext cx="79246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453240" indent="-453240">
              <a:lnSpc>
                <a:spcPct val="95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What funding sources and payment models would be feasible and desirabl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3240" indent="-453240">
              <a:lnSpc>
                <a:spcPct val="95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How large does the payment incentive need to b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3240" indent="-453240">
              <a:lnSpc>
                <a:spcPct val="95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What type of incentive bonus payment is most effectiv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3240" indent="-453240">
              <a:lnSpc>
                <a:spcPct val="95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What distribution of incentive payments best achieves the PVBP Plan goal and objectives?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3240" indent="-453240">
              <a:lnSpc>
                <a:spcPct val="95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What should be the basis for receiving an incentive? Are there strategies that place particular types of professionals, such as rural professionals, at an advantage or disadvantage?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3240" indent="-453240">
              <a:lnSpc>
                <a:spcPct val="95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Should the PVBP Plan base incentive payments on payments for all Medicare Physician Fee Schedule services, payments for measured services only, or other factor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3240" indent="0">
              <a:lnSpc>
                <a:spcPct val="85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85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85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85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E0E8EB-576B-4129-98DD-37022242163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3399"/>
                </a:solidFill>
                <a:latin typeface="Tahoma"/>
              </a:rPr>
              <a:t>Thank You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73911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Opportunity for Public Com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7998FE-21EC-4963-9CBF-AA456CBA842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Overview of Presentation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66680" y="1447920"/>
            <a:ext cx="73915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Design principles and consider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Funding sources and payment mod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Type of incentive pay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Distribution of incentive pay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Incentive payment thresho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Basis for incentive pay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9E32F5-C042-4143-BA76-2591AA363A7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Design Principles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685440"/>
            <a:ext cx="79250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Align incentives across providers and setting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Reward both attainment and improvement to engage professionals at al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Provide large enough incentives to encourage voluntary participation and dr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Make timely payments to maximize the effectiveness of the incen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AA10A9-1871-45CC-9637-8C6AE59E848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Design Considerations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3000" y="1676520"/>
            <a:ext cx="73915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Impact on Medicare program and beneficiary c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Budget im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Operational feasibilit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Distributional con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7081EC-5F57-4860-9EC9-E40A31F9264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Funding Sources &amp; Payment Models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3915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Within Physician Fee Sche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Beyond Physician Fee Sche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45476B-3CA0-4015-829F-C19F6B65E85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Type of Incentive Payment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7391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Add-on to base pay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Similar to hospital pay-for-reporting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Periodic incentive pay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Similar to PQRI program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Bonus p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Part of payment is withheld and placed in incentive payment po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3B9901-2FCA-445A-8855-836D49DF9E0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56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Distribution of Incentive Payments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1760" y="1523520"/>
            <a:ext cx="7391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What distribution of incentives is best t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Achieve the goals of physician VBP Plan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Provide consistency with the level of accountability that can be measured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C62E92-2A2D-4A61-BB2D-21C41F10B6B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Distribution of Incentive Payments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3055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Larger incentives to smaller number of high performing professio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Alternatively, smaller incentives to larger number of professio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Financial risk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98E0A3-E69E-49CF-9D26-4ABF84850B7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Incentive Payment Thresholds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Options for incentive payment thresho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Absolute performance threshold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Relative thresholds or percentile rank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Minimum performance thresho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Improvement in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A combination of approa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Advantages/disadvantages by type of professional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669F23-19EC-4067-8710-838BF715BC8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9T15:08:35Z</dcterms:created>
  <dc:creator>CMS</dc:creator>
  <dc:description/>
  <dc:language>en-US</dc:language>
  <cp:lastModifiedBy>CMS</cp:lastModifiedBy>
  <dcterms:modified xsi:type="dcterms:W3CDTF">2008-12-08T15:40:06Z</dcterms:modified>
  <cp:revision>9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94436370</vt:r8>
  </property>
  <property fmtid="{D5CDD505-2E9C-101B-9397-08002B2CF9AE}" pid="3" name="_AuthorEmail">
    <vt:lpwstr>Julianne.Howell@cms.hhs.gov</vt:lpwstr>
  </property>
  <property fmtid="{D5CDD505-2E9C-101B-9397-08002B2CF9AE}" pid="4" name="_AuthorEmailDisplayName">
    <vt:lpwstr>Howell, Julianne R. (CMS/CTR)</vt:lpwstr>
  </property>
  <property fmtid="{D5CDD505-2E9C-101B-9397-08002B2CF9AE}" pid="5" name="_EmailSubject">
    <vt:lpwstr>PVBP Slides renamed</vt:lpwstr>
  </property>
  <property fmtid="{D5CDD505-2E9C-101B-9397-08002B2CF9AE}" pid="6" name="_NewReviewCycle">
    <vt:lpwstr/>
  </property>
  <property fmtid="{D5CDD505-2E9C-101B-9397-08002B2CF9AE}" pid="7" name="_PreviousAdHocReviewCycleID">
    <vt:r8>1181294680</vt:r8>
  </property>
</Properties>
</file>