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1571-5D1F-49FE-B511-43477A599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4C14-CF9C-47B2-BA43-ED223981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6447-094C-426C-9B90-AAD0176F2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CCF0-111B-4D1D-99CE-BB06D9363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4AE9-524C-43CB-BC82-A6800F16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686A-02A4-47FD-B625-D3582409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F828-C743-49E2-8A0E-486EB2B3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B7C9-E0C6-4B35-B331-94C8CC1A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356D-74D6-48E0-AD2D-11705849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40F5-0DD3-42EB-B8BF-9E314472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143C-EE90-49BD-A08C-9EAD8907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0E19-98D5-4762-AA88-9EBCB5AB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9831-A771-4A0D-A3A8-587AFF130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Measur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22093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ichael T. Rapp, MD, JD, FAC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irector, Quality Measurement &amp; Health Assessment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ffice of Clinical Standards and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Karen Milg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irector, Office of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istening Se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ecember 9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CD47-855F-4F01-A8FB-3DECFA2DEE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Using and Combining Meas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l measures are not equal. Combinations could be flexible.  For example, well-accepted measures affecting larger numbers of beneficiaries could get more weight than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chanism for creating composi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warding both attainment of set threshold of performance and improvement on meas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teraction between quality and resource use meas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ing at different levels of account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B7AA-543C-4997-A358-C80C4105C5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ummary of Ques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ich quality and resource use measures best achieve the stated go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hould the Plan focus solely on individual practices, or is there a way to broaden accounta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strategies for measurement best address the technical challenges invol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iven current and potential data sources, which measures and level of accountability would be most effec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f combinations of measures are used, should they be equally weighted?  If not, which should receive more or less wei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1138-911F-4373-9143-4971057B20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99"/>
                </a:solidFill>
                <a:latin typeface="Tahoma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Opportunity for Public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A9D8-2C50-4F07-93F1-CF5FB9DF51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view of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echnical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Ke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hoice of Quality Meas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hoice of Resource Use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Unit of Measurement and 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ombining Meas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8E3E-96B8-4351-B68B-03EB49BFA5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 key dimensions of quality, with attention to outcomes, cost of care, patient experience, care coordination, prevention, and adoption and use of H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ccommodate the continued evolution and incorporation of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ign measures across providers and settings of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djust measurement data for fairness, where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21FD-3C0F-4F6A-937F-CFF0019C04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Assum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corporate quality and resource use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uild on current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alance the precision of a measure with the manner in which it i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ncourage coordination with other providers to the extent fea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eek to align Medicare efforts with other p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B7F9-34DA-4003-B7A6-17DAFF7BD4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ata Sour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bundant data, but limited scope at physician practice level and attribution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ugmented 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road scope of measures and self-at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gi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enefits of augmented claims plus capture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H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linical, primary source data; EHR use g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Collec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mbined Data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8E7F-B1D2-43AD-AE7C-C98556CD60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Technical Challeng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t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ampl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enchmarking/Pee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isk-adju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utliers (resource u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fessionals and CMS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A088-7B25-4543-A160-5F44E66246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Quality Measur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linical process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utcomes, including intermediate, such as HgbA1c levels, and longer term, such as potentially avoidable admi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tructural, such as EHR use and e-prescrib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atient perception of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9439-CCFC-40F5-8594-E025EAD764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Resource Use Meas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ossible lev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ervice specific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er cap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pis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uld be used in combination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832E-2350-4B0D-964A-3986E4DB6B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Accountable Entity and Unit of Measur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dividual profe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roup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ccountable care entit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mbination?  For example, re-admissions at the system level and PQRI for individual physician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D751-BF28-4110-9EDF-73757C7C02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9:45:04Z</dcterms:created>
  <dc:creator>CMS</dc:creator>
  <dc:description/>
  <dc:language>en-US</dc:language>
  <cp:lastModifiedBy>CMS</cp:lastModifiedBy>
  <dcterms:modified xsi:type="dcterms:W3CDTF">2008-12-08T15:39:29Z</dcterms:modified>
  <cp:revision>14</cp:revision>
  <dc:subject/>
  <dc:title>Measur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42570744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</vt:lpwstr>
  </property>
  <property fmtid="{D5CDD505-2E9C-101B-9397-08002B2CF9AE}" pid="6" name="_NewReviewCycle">
    <vt:lpwstr/>
  </property>
</Properties>
</file>