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C3256E1-099F-4F02-8398-4F77F8378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7D9EE95-5B23-4563-8CDC-B98042E78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DF6A128-F61C-4BAD-8C16-BFD562CE7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AC52BA7-53C2-4EEF-99D1-E44F41B3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4BA2825-439D-4C05-99F3-AA9F9240E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0C7A847-73B9-47F3-840D-98ADC0900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DEF36A0-55F3-4C47-9C85-AB9456F25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405E9EB-7481-4458-B0F9-DC1016C17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14FF009-1580-4ACA-A2D5-9C3D102CA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48EB18E-EC87-4412-880F-8FC9BB969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E2D727F-9A43-4FB5-9180-A829FB93D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E09666D-4DC7-4763-99A9-4A6C31C50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D06A88-2F33-48B4-B6AD-E9AD2BCEA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ADC-A161-4EFF-B18E-2BDC63B4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DDB-9AF8-4BF4-BBA8-4C48CA6D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D4A-1968-4DE9-B6C3-90483B11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CAA-BE7F-4C31-A68F-CBE0FEAB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F35-A232-4026-ADBD-197962BB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B32-6250-4B7E-98BB-2A78BBAD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9B8-679F-40CD-AEF6-C77E5EE3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352-9C54-4A81-83F8-3C18BC57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CDB-7DEE-48A5-97AF-C1322594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1D4-6A51-4022-9D65-B2E0A93B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6E1-B35C-4A66-9F59-D825AA3A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5FB-FE8F-4F7D-9AED-A9BD90A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AFF-A8E0-46BA-8464-3899845626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9D6C-F068-418E-82D1-12A86B3CC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10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en-US" sz="4800" spc="-1" strike="noStrike" u="sng">
                <a:solidFill>
                  <a:srgbClr val="003399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437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ne Hyatt Thor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puty 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yne H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05120" y="12193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5120" y="5181480"/>
            <a:ext cx="5257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14D3-C69F-4BA1-9758-F3F723394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ublic Report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formation will be driven in large part by measure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re some measures more suitable for public accountability or informed consumer choice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A8CD-0812-4D5F-B968-A7C9C7416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resource use information be provided confidentially or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resource use information were publicly re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quality and resource use information be reporte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resource use information be fra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might patients perceive and use the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4E85-7935-43E4-8A3D-9B496C3ED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public reporting use the scoring used in determining incentive pay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ll performance measurement results be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A24C-DAF9-44D5-AE28-467A5D7D0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compo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numbers or st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ny information be supp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benchma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trending informatio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5948-ED3B-41E3-B376-118DAF449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A688-B2AC-4D8C-8193-F18A07577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1C5F-C8CE-4FF7-B8B4-4CBDB9904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ster greater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rove quality and 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more informed decision-making by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quality and efficiency assessment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improved care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62D4-D327-48D1-8C7C-CC6764EE2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VBP public reporting will build upon CMS’ current public reporting efforts and be modeled after existing Compar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has multiple audiences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atients (benefici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tients and their friends &amp;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s and other profess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0611-7634-43AD-8C97-28387B93F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are designed and tested to insure that physicians, patients, their caregivers, and others understand and can use them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will use performance and other relevant information to help physicians, patients, and other stakeholders in their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34A4-0BEE-4F1E-9216-CB3E7C4D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ed Value Ex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ture Physician Compar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9E76-612D-4E38-AAE4-8B7770D42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urrent Physician Dire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3125" r="3127" b="18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7211-BAF4-41BD-B4E6-354E1D617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Hospital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4688" t="9376" r="4688" b="7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5AA4-0C04-4B69-B597-A0798EF9A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roup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pul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is most actionable for beneficiaries, physicians and other providers, the Medicare program, and other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best supports improved care coordination and reflects how beneficiaries receive ca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1:45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335284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