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E16-0E07-42C8-8DFD-15955AB4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BE4-1AA8-473A-B849-9FCDA57B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AC4-232D-4D3E-8528-31A760D0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021-7A24-4E79-96D5-EF6EB58B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1AF-C44D-495A-8D40-47C2BCFE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B4E-B7DE-40C6-B8E3-55BED5C1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8F1-381C-419B-99E6-5B79EC6D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E55-D352-44FE-9F47-D1D7BA17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197-7AAA-4B56-A237-6073B910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C11-ACA7-41E7-A383-11A9E6C4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59C-A323-49E0-B0C7-352DA4BB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6FD-FD75-4B36-ACC0-6A3E0E6D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BC3E-4C25-4FA5-8CD4-F3096B53E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8FD-F3C4-40DB-9D75-A4BFC9F656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2651040"/>
            <a:ext cx="701064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CE4-905C-44A7-A624-9DAC27C9AA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” summary contains overview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389320"/>
            <a:ext cx="7543800" cy="38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331-5DC7-4776-8C50-831F86A41B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w values added in 2009 are parallel with new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639040" cy="41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5410080"/>
            <a:ext cx="457200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598-4A57-4D2B-B01B-A0086C0686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8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84582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B9B-7CD7-4070-A0F0-CCE8C174AF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9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86800" cy="228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4648320"/>
            <a:ext cx="44197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0D5-CF4A-4C75-B2AC-CA59C6203F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11480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9, ICD-10-PCS Final Add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report of codes added, deleted, and descriptions changed, in pdf and programmab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298680"/>
            <a:ext cx="4267080" cy="24195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012-04ED-41AD-8B09-6786F26094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r 2009, ICD-10-PCS Body Par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omain reference to accompany PC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by both anatomical term and PCS bod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with public and Cooperating Parti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3362400"/>
            <a:ext cx="579132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558-94FE-4E2D-8E4D-2C03187EDB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10 Updat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rallel with ICD-9-C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odes or change cod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improvements from internal review and public feedback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enhancements to code set and draft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eeded for clarity and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AA6-6D98-46D6-B1C7-4F857A0EF9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1:16:58Z</dcterms:created>
  <dc:creator>3M HIS rb</dc:creator>
  <dc:description/>
  <dc:language>en-US</dc:language>
  <cp:lastModifiedBy>3M HIS rb</cp:lastModifiedBy>
  <dcterms:modified xsi:type="dcterms:W3CDTF">2009-03-02T14:24:48Z</dcterms:modified>
  <cp:revision>7</cp:revision>
  <dc:subject/>
  <dc:title>ICD-10-PCS Update</dc:title>
</cp:coreProperties>
</file>