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D6BF-2F2E-42F3-B50D-385F09FB3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77C7-EE5D-4D68-9225-D7A6EDDAA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5211-F4E1-49AB-BA28-C863571A3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3234-8F40-4F84-8143-44A9A70BC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8690-AB73-4371-86CE-33A7827E3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E88F-7993-4DE2-8F54-06A8CB2F0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7A7E-6FEA-4290-9F5B-57186E496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F50B-DACF-4476-AF57-B03AD780F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440F-6D23-49DC-94A8-8F67602030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1EE5-BDD7-4558-A0FC-D56505BC5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64EC-4F8B-411D-9016-37095F7F3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D13E-EEE3-458A-A296-77AEB8466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CFCF-6014-4FAE-A09E-6E5EB063D7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A13E-4B61-4FED-A80C-BAC74F4587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77FC-4505-4E04-8EE2-6B2EF6134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3076-B4DC-4FCD-8C82-F9770993E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1BCA-86F7-4FAE-A177-2022F50317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AF50-6D25-4A76-8BBF-9A7247C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3981-700D-42DE-A688-AC36AEE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4CCE-CF09-4CCB-85C2-88E37B7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91DDF-A7C9-4A92-96E6-C89923C3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3654-180D-4A4F-9165-D1529B5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94EF-7BC2-42EA-89EE-CE2E06AAA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705DD-BE52-4C10-9D21-BEF36FF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0663-1043-4FD7-88D9-3810F6B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41995-F127-4270-8BD9-50563C0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5254-B2FE-4311-A1E0-6D4E317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EDB9B-8A8E-49A0-BF82-EA9734A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5999-AF5C-4110-A691-B04C358E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D4DD-3A85-4103-835F-418A17B7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21987-A25E-4E17-AE35-A562B8C2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FB3CD-F850-4D77-BD89-4EB3B047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9FBBF-585B-402E-8037-BA496A3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8EDF-5DA2-4D9C-84B8-4262AEBCF3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906C0-A8FF-4137-8B28-FB359DB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CFB5-7371-461C-BE9B-ACC6BA0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B7917-EE88-4A03-A90D-38A926D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3217-C0FA-488C-AFD0-C48FEBB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F9E76-E9F8-4CD6-9E46-8ABBAF9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F06F0-B274-4FDF-ACE6-EB4810C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95627-1A20-4901-87B6-8CD08DB4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2E08F-2A35-4BEC-9B38-3C5B27DB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1CCB3-E949-45B4-9A19-DF84423C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528B-42A0-453E-968E-B41AFBC0B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DB28-D583-458B-BD24-77D675AF1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FA51-8D24-4234-B1E1-E2ABEDEF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D6C4-4A48-4764-9017-D4CA74E1B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7395-7EE2-48E4-832E-69DA75DE2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101520"/>
            <a:ext cx="64771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0720"/>
            <a:ext cx="6477120" cy="37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17371" t="41468" r="17535" b="21287"/>
          <a:stretch/>
        </p:blipFill>
        <p:spPr>
          <a:xfrm>
            <a:off x="324000" y="6039000"/>
            <a:ext cx="1143000" cy="53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9796-3ED6-4E58-A330-2F2E00B5338C}" type="slidenum">
              <a:rPr b="0" lang="en-US" sz="16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16761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17371" t="41468" r="17535" b="21287"/>
          <a:stretch/>
        </p:blipFill>
        <p:spPr>
          <a:xfrm>
            <a:off x="324000" y="6039000"/>
            <a:ext cx="1143000" cy="53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11B9-2BC5-4BAD-8BFF-B0A088C3A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A7B-DFA6-45EA-9F5E-1E328C94BF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A28D-D882-46CC-A278-308A3D7553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718920"/>
            <a:ext cx="7559640" cy="4111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mpact of Quality Standards and Accreditation on Rural Are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Impact on Rural Are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38120" y="1690200"/>
            <a:ext cx="65674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accreditation and the proposed quality standards affect suppliers in rural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mpact might there be on beneficiary access to items and services in rural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be done to minimize any potential negative impact on beneficiary access in thes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F9954-DB96-4826-8625-4151947A5E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4:30:34Z</dcterms:created>
  <dc:creator>Jamie Chriqui</dc:creator>
  <dc:description/>
  <dc:language>en-US</dc:language>
  <cp:lastModifiedBy>William Haugen</cp:lastModifiedBy>
  <dcterms:modified xsi:type="dcterms:W3CDTF">2005-09-23T15:02:09Z</dcterms:modified>
  <cp:revision>173</cp:revision>
  <dc:subject/>
  <dc:title>BadgerCare Disenrollee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0218253</vt:r8>
  </property>
  <property fmtid="{D5CDD505-2E9C-101B-9397-08002B2CF9AE}" pid="3" name="_AuthorEmail">
    <vt:lpwstr>Sean.Dalenberg@cms.hhs.gov</vt:lpwstr>
  </property>
  <property fmtid="{D5CDD505-2E9C-101B-9397-08002B2CF9AE}" pid="4" name="_AuthorEmailDisplayName">
    <vt:lpwstr>Dalenberg, Sean D. (CMS/CMM)</vt:lpwstr>
  </property>
  <property fmtid="{D5CDD505-2E9C-101B-9397-08002B2CF9AE}" pid="5" name="_EmailSubject">
    <vt:lpwstr>This is is the first of two emails ...... Thanks for  your help</vt:lpwstr>
  </property>
  <property fmtid="{D5CDD505-2E9C-101B-9397-08002B2CF9AE}" pid="6" name="_NewReviewCycle">
    <vt:lpwstr/>
  </property>
  <property fmtid="{D5CDD505-2E9C-101B-9397-08002B2CF9AE}" pid="7" name="_PreviousAdHocReviewCycleID">
    <vt:r8>-485567653</vt:r8>
  </property>
  <property fmtid="{D5CDD505-2E9C-101B-9397-08002B2CF9AE}" pid="8" name="_ReviewingToolsShownOnce">
    <vt:lpwstr/>
  </property>
</Properties>
</file>