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D6683-BB17-40A5-8B0E-9C09360D2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A29F9-045A-42D4-BA78-E4EB9D4D0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97AB9-A989-4182-BF0F-80FD5E114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486D-5EC8-461A-81B6-72EEB38DE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4F53-044E-44B5-B64B-B5C7534886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B6390-D7DC-4BA8-80E3-6CF7820119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70F57-D0A4-45AB-9FA7-1AD99CDDA77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90925-EAB6-4976-B03B-87928979936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73A0A-BFA9-42D5-ABEB-7F2E1F81B22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EE1E4-1883-46F6-B62F-14E29DD888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25BA-BCAF-49CA-9E74-5773704152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A5959-5398-4305-8EB2-2C4EC9784A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01D72-8F71-483C-9EAE-B0ACF69514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1CB2-37B2-4594-A5E5-B1FCFFF54CB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7BBF8-0C69-4DEA-A8AA-C179FC7208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10B75-A37E-4402-A4CA-3F746043D9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05FDF-DB6B-48E9-98ED-2B05A3701D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A15D2-ACB4-487B-A23D-F83A46DFA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768C7D-8B24-4E8E-95AE-52CB0812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E125D-5AF4-4C50-9026-6883FA97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14663-0FD9-4275-9097-D99BE15E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F7765-F24A-4978-A6F7-C573BB4E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2F5A7-6687-46E5-A251-A9AF273AB0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FE1F1-F31B-4C23-8DE1-A9E5A17D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AF0BD-36F2-463E-B263-F2E0E72E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52895-DED6-4482-A3AF-1FC21E8D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7F1FD-31F4-46C1-86CC-AA0DA487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92C60-3375-4C69-87E0-A833EA33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8ACA1-6B79-4008-9A8D-FE8D456B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4A1BB-1046-40A4-AD8C-84A08591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E14DEF-49A9-4AB2-A3C3-A04DC391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26D0CB-FC78-4EEE-8D09-2BADF4E1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AFF80-3830-48F0-AA71-CF796A8F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C7257-BE87-45F9-B90C-1D50C812CF2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AE2A17-F6CD-451E-8C4D-1952DE01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A9B52-732A-4385-A699-BB1DBF51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99606B-8A50-4884-B1C2-CC2F17D2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A575F-F376-4B15-BF1B-934507AE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76D24D-1248-4266-8D81-27E296E8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527B5-AF26-4F73-8870-D9CB685B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DA931A-8405-4D2B-B15B-3C4054D1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EEED2-9831-4D4B-8E6B-A9AF9360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5C3B19-1137-4639-8D33-4D1FDBEE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2A74-B46C-47DA-92DB-92592C0BDA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9B906-7AEC-49CB-B538-C83041E8A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5E73D-5080-402C-BEEB-56329DCC5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830C-52DF-4DC5-A75F-21CA5A394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1D8E7-08EF-4F3D-9296-D0AB3CE0FC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101520"/>
            <a:ext cx="64771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295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529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980720"/>
            <a:ext cx="6477120" cy="37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1500"/>
              </a:spcBef>
              <a:buClr>
                <a:srgbClr val="95aed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91960">
              <a:spcBef>
                <a:spcPts val="1500"/>
              </a:spcBef>
              <a:buClr>
                <a:srgbClr val="95aed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4840" indent="-291960">
              <a:spcBef>
                <a:spcPts val="1500"/>
              </a:spcBef>
              <a:buClr>
                <a:srgbClr val="95aed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rcRect l="17371" t="41468" r="17535" b="21287"/>
          <a:stretch/>
        </p:blipFill>
        <p:spPr>
          <a:xfrm>
            <a:off x="324000" y="6039000"/>
            <a:ext cx="1143000" cy="53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166240" y="6508440"/>
            <a:ext cx="977760" cy="33660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Minion Pr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A43C-7D82-46FC-987F-655A0061F707}" type="slidenum">
              <a:rPr b="0" lang="en-US" sz="1600" spc="-1" strike="noStrike">
                <a:solidFill>
                  <a:srgbClr val="000000"/>
                </a:solidFill>
                <a:latin typeface="Minion Pro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5640" y="1676160"/>
            <a:ext cx="6629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295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5295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rcRect l="17371" t="41468" r="17535" b="21287"/>
          <a:stretch/>
        </p:blipFill>
        <p:spPr>
          <a:xfrm>
            <a:off x="324000" y="6039000"/>
            <a:ext cx="1143000" cy="533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ldNum" idx="2"/>
          </p:nvPr>
        </p:nvSpPr>
        <p:spPr>
          <a:xfrm>
            <a:off x="8166240" y="6508440"/>
            <a:ext cx="977760" cy="336600"/>
          </a:xfrm>
          <a:prstGeom prst="rect">
            <a:avLst/>
          </a:prstGeom>
          <a:noFill/>
          <a:ln w="0">
            <a:noFill/>
          </a:ln>
        </p:spPr>
        <p:txBody>
          <a:bodyPr lIns="13716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6B97-9268-4676-B414-ACDF02A7B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82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2130-443D-4BDD-B18D-76D70656B6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9EF1-A776-4C83-89E2-02785D8893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718920"/>
            <a:ext cx="7559640" cy="41115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mpact of Quality Standards and Accreditation on Rural Are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Impact on Rural Area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38120" y="1690200"/>
            <a:ext cx="656748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accreditation and the proposed quality standards affect suppliers in rural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mpact might there be on beneficiary access to items and services in rural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be done to minimize any potential negative impact on beneficiary access in these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B7A81-6C9B-47DE-BB53-B987EBAA7EE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8T04:30:34Z</dcterms:created>
  <dc:creator>Jamie Chriqui</dc:creator>
  <dc:description/>
  <dc:language>en-US</dc:language>
  <cp:lastModifiedBy>William Haugen</cp:lastModifiedBy>
  <dcterms:modified xsi:type="dcterms:W3CDTF">2005-09-23T15:02:09Z</dcterms:modified>
  <cp:revision>173</cp:revision>
  <dc:subject/>
  <dc:title>BadgerCare Disenrollee Surv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20218253</vt:r8>
  </property>
  <property fmtid="{D5CDD505-2E9C-101B-9397-08002B2CF9AE}" pid="3" name="_AuthorEmail">
    <vt:lpwstr>Sean.Dalenberg@cms.hhs.gov</vt:lpwstr>
  </property>
  <property fmtid="{D5CDD505-2E9C-101B-9397-08002B2CF9AE}" pid="4" name="_AuthorEmailDisplayName">
    <vt:lpwstr>Dalenberg, Sean D. (CMS/CMM)</vt:lpwstr>
  </property>
  <property fmtid="{D5CDD505-2E9C-101B-9397-08002B2CF9AE}" pid="5" name="_EmailSubject">
    <vt:lpwstr>This is is the first of two emails ...... Thanks for  your help</vt:lpwstr>
  </property>
  <property fmtid="{D5CDD505-2E9C-101B-9397-08002B2CF9AE}" pid="6" name="_NewReviewCycle">
    <vt:lpwstr/>
  </property>
  <property fmtid="{D5CDD505-2E9C-101B-9397-08002B2CF9AE}" pid="7" name="_PreviousAdHocReviewCycleID">
    <vt:r8>-485567653</vt:r8>
  </property>
  <property fmtid="{D5CDD505-2E9C-101B-9397-08002B2CF9AE}" pid="8" name="_ReviewingToolsShownOnce">
    <vt:lpwstr/>
  </property>
</Properties>
</file>