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61C3-89A0-4091-8C59-59EB54290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F519-C190-4035-AA35-30FBF538C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10E1-09D2-4108-AE76-C9A69B258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1A70-7CCC-47E9-BB2A-8F1B1F5E9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91AF-92D3-43D5-985E-22A0F44A2A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A6A6-A182-4391-9889-DC43D5B845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C391-E035-4E3F-9923-8871B9E0B7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6B54-85F5-4281-BCE1-EB71E01410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3D59-23B7-4647-99CC-F1E3B043B6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6E24-55A6-427A-B313-12CA979304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D5C7-B91E-4DD6-B4C2-6614805CA0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0C45-5AB7-4B58-9091-EC69605AA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D263-AD7E-4972-9222-C0C4A94DF4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3457-1A33-48DB-8D32-8759DF4F9A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B9D6-412E-45E4-B18A-1B55F91D6B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1ECF-3A70-4765-B0C4-269CE90AFB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62E3-AEC8-4FC5-AEFF-370C5EE1EA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C522E-299E-40E8-8C13-DE20635C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FC770-249C-4C9C-BA33-C1D13E38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322C9-FE9E-447C-9A39-604DA395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8D8CC-EC06-4930-AEEE-A111599E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DCE48-797D-41C2-BACB-31B91348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6481-407A-4347-9293-2170191152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F7479-FFBC-485D-B600-100A96A8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1814E-9DDE-48EC-B507-9CFEC823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0843D-5FDE-4CDF-870D-CE75BFFB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C56C5-607A-4AD2-BAF1-11833490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DEA44-7B79-4E8E-929B-72F379E8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56588-D58B-4A2C-8869-6E8A6AF9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A3A6D-919B-44C1-90D9-28A12726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CD3CE-A991-430E-916B-9242B9D6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78DAB-0F4E-4DE2-87F7-FF7883E8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0A2E2-60DD-417F-ADA8-92FB337E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C88F-11BB-4B51-891D-5D06BCE58B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AD782-0D4D-4EA3-AA5A-DDD5A2DC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2787A-A489-4205-9ED0-8BFE2567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FCAF7-FD49-42F6-A5CD-EFB41FCF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A6A77-A839-444B-8562-4322E508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C7037-68B2-4544-A7DE-B989A785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82788-ECBE-4C6D-AFF4-20F4B0DA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BA6A7-4518-4FC2-8AD9-BE6C3743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93B0C-5F13-4A26-AABE-40FA971A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B3217-6E84-405F-BA46-B8D52EC7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117B-0ED1-4622-8302-D8597A276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5E8D-641C-4528-BC71-A753ABFEC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67D8-7838-40A8-8D22-261FF43A0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F8BF-6575-4015-B310-9F63B2868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B20B-A7A1-4B52-9379-0C914FEA5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101520"/>
            <a:ext cx="64771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295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0720"/>
            <a:ext cx="6477120" cy="37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500"/>
              </a:spcBef>
              <a:buClr>
                <a:srgbClr val="95aed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91960">
              <a:spcBef>
                <a:spcPts val="1500"/>
              </a:spcBef>
              <a:buClr>
                <a:srgbClr val="95aed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91960">
              <a:spcBef>
                <a:spcPts val="1500"/>
              </a:spcBef>
              <a:buClr>
                <a:srgbClr val="95aed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6240" y="6508440"/>
            <a:ext cx="977760" cy="3366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6AD-F06D-4A4F-800C-D16680EDDADA}" type="slidenum">
              <a:rPr b="0" lang="en-US" sz="16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5640" y="167616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295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166240" y="6508440"/>
            <a:ext cx="977760" cy="3366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B49E-63D9-4805-ACE0-4337FE307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8431-EDB7-4475-84CE-BD5821D6D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0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" name="PlaceHolder 1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7149-7498-4E33-9DE8-194AA0133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ms.hhs.gov/DMEPOSCompetitiveBid" TargetMode="External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DMEPOS Competitive Bidding Program: FFS Provider Education &amp; Outreach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971800" y="4540320"/>
            <a:ext cx="60199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dine Nicho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or, Provider Communication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ducate contract suppliers, non contract suppliers, and FFS providers who refer Medicare beneficiaries for DME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FFS Provider Communications Network, ensuring that each provider type knows how the program affects them and  their Medicare pati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92612-ECD5-4243-856A-91958264C6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5600" y="1938240"/>
            <a:ext cx="766584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icated CMS provide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ailing to select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D2CDF-BC0E-4E98-B656-4516542A51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7680" y="1200240"/>
            <a:ext cx="889632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se Program Produ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Special Edition MLN Matters SE0805; SE0806; SE0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 5978/ MM5978  - Phase I  Internet Online Man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 6119/ MM6119 - Phase II Internet Online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N SE 0820 - DMEPOS Supplier Market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6112/ MM 6112 - Complex Rehab Power Mobility (TB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 xxxx/ MMxxxx (TBD - primarily claims processing instructio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ific Aud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She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ral Agents (rele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fathered Suppliers (rele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ian and Treating Practitioners (rele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contract Suppliers (rele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 Order Diabetic Testing Suppliers (rele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F/NF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/OT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ining Pack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ower Point used for  First National Provider C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CD58B-8D00-4C73-934A-5BF49DB1FA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3080" y="154260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2 Annou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600 K list serv subscri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/RO email to &gt;2000 national and local provider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ing on CO and FI/carrier/MAC websites and provider bullet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ly message to FFS Provider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r Open Door Forums (ODF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r Conference Exhi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C81C9-07A1-4BC7-9125-FC57AF9052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dicated Provider Website   </a:t>
            </a:r>
            <a:r>
              <a:rPr b="1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ms.hhs.gov/DMEPOSCompetitive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formation in one pl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As and C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Categories and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Suppli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, Notices and Manual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Products and Re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26608-0C9C-4CC7-AAB7-D084272BBF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66760" y="457200"/>
            <a:ext cx="8648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vider Trai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3080" y="1906560"/>
            <a:ext cx="85723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Training of FI/carrier/MAC Provider Inquiry &amp; Outreach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Provider Training (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Additional calls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Supplier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 Provider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/carrier/MAC Provider Training  (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Ask the Contractor” call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-of-Service Training  - through FI/carrier/MAC provider call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AF39E-A3F2-46F6-AC71-03CABF8E2C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6400" y="457200"/>
            <a:ext cx="8629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 Mailing to Referral Agents Located in CB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1440" y="1951200"/>
            <a:ext cx="887256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/Carrier/MAC m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d 82K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- providers with a practice location in a C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kage inclu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 let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ral agent tip shee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yer advertising beneficiary broch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ing of contract suppliers in the CBA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6176B-E421-48D9-9EFA-D91A3B4A2A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04:30:34Z</dcterms:created>
  <dc:creator>Jamie Chriqui</dc:creator>
  <dc:description/>
  <dc:language>en-US</dc:language>
  <cp:lastModifiedBy>CMS/PCG/DPCT</cp:lastModifiedBy>
  <dcterms:modified xsi:type="dcterms:W3CDTF">2008-07-01T15:59:24Z</dcterms:modified>
  <cp:revision>231</cp:revision>
  <dc:subject/>
  <dc:title>BadgerCare Disenrollee Surv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92502694</vt:r8>
  </property>
  <property fmtid="{D5CDD505-2E9C-101B-9397-08002B2CF9AE}" pid="3" name="_AuthorEmail">
    <vt:lpwstr>Ralph.Goldberg@cms.hhs.gov</vt:lpwstr>
  </property>
  <property fmtid="{D5CDD505-2E9C-101B-9397-08002B2CF9AE}" pid="4" name="_AuthorEmailDisplayName">
    <vt:lpwstr>Goldberg, Ralph (CMS/CMM)</vt:lpwstr>
  </property>
  <property fmtid="{D5CDD505-2E9C-101B-9397-08002B2CF9AE}" pid="5" name="_EmailSubject">
    <vt:lpwstr>Spotlight information</vt:lpwstr>
  </property>
  <property fmtid="{D5CDD505-2E9C-101B-9397-08002B2CF9AE}" pid="6" name="_NewReviewCycle">
    <vt:lpwstr/>
  </property>
  <property fmtid="{D5CDD505-2E9C-101B-9397-08002B2CF9AE}" pid="7" name="_PreviousAdHocReviewCycleID">
    <vt:r8>-2117181011</vt:r8>
  </property>
  <property fmtid="{D5CDD505-2E9C-101B-9397-08002B2CF9AE}" pid="8" name="_ReviewingToolsShownOnce">
    <vt:lpwstr/>
  </property>
</Properties>
</file>