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50E79A-08D7-488E-BFC7-39BC965FF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4F08DF-3F29-4EAD-BF0A-C7350216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10CA05-9008-474D-B243-A74A06BE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A1BEB-ABFA-479F-BA54-78BAF879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B9F63-E99E-4A66-A023-E9D296A9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D094A-8903-4340-8F07-909A1365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267E4D-CCAA-4DEB-BFD0-75BD58BF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DA158-4E1E-4FCA-A39A-DC9F4634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0C2CF-2D6A-47EF-BB64-0B248574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9317DC-3477-4050-81F6-56C89376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3C6F30-1F36-419F-BA7A-2CECAA671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C35554-2AB1-4817-8845-4299543C9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590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IVE TEP December 1, 20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4648320" y="6248160"/>
            <a:ext cx="4038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owa Foundation for Medical C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tice: These materials are in the public domain and cannot be copyrighted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038480" y="624852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E883-E840-40C8-929C-BCC4FC0F0F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B634-B0FE-431B-9A14-F0B20BCFC1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TRIVE@IFMC.ORG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STRIVE@IFMC.ORG" TargetMode="External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http://www.cms.hhs.gov/providers/snfpps" TargetMode="External"/><Relationship Id="rId2" Type="http://schemas.openxmlformats.org/officeDocument/2006/relationships/hyperlink" Target="mailto:Strive@ifmc.org" TargetMode="External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hyperlink" Target="http://www.cms.hhs.gov/snfpps" TargetMode="External"/><Relationship Id="rId2" Type="http://schemas.openxmlformats.org/officeDocument/2006/relationships/hyperlink" Target="mailto:Strive@ifmc.org" TargetMode="External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STRIVE</a:t>
            </a:r>
            <a:br>
              <a:rPr sz="6000"/>
            </a:b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Staff Time and Resource Intensity Verification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cal Expert Panel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ember 1,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STRIVE@IFMC.ORG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istorical Background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mnibus Budget Reconciliation Act of 198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ment of uniform assessment instrument, based on a minimum data set to improve facility care planning and resident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d Budget Act of 199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NF moves to PPS system in 1998, many states use the case-mix payment system for Medicaid reimbursem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istorical Background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ase mix system at the core of the Medicare SNF PPS consists of three componen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ff time measures (ST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ident assessmen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 calculations of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urce Utilization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G-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group represents a level of resource utilization and is quantified with a case mix index sc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ks resource utilization to payment 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istorical Background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G-III classification system was designed by relating resident characteristics to wage-weighted staf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regarding a resident’s characteristics was derived from th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S resident assessment instru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istorical Background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arly 50 percent of states use a version of the RUG classification system to pay for Medicaid nursing home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 the Federal and state systems are based on staff time measurement data collected in 1990, 1995, and 199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istorical Background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national time study has taken place since 199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TRIVE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September 30, 2005, CMS awarded a contract to Iowa Foundation for Medical Care (IFMC) and its partners to conduct this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cope of Work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IVE project team will implement and manage CMS’s multi-state STM study including the following task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 T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ruit nursing homes, state agencies, and volunteers to particip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hardware, software, and training to obtain the data in a useable 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rdinate data collection through pilot test and national time stu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ze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nalytic Approach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urce use for Medicare and Medica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urce use for special pop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, ventil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cillary cos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, drug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ernative items and measur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, MDS 3.0, MDS-P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illed service patte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, IV meds, therapy patter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tential collaboration with other stud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VA, Can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ampling Approach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 nationally representative sampl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bout 12,000 residen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ified random sample of facilities within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are and special population str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ility screening based on survey deficiencies and QI/QM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Data Collection</a:t>
            </a: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State / Facility Roles</a:t>
            </a: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e Oatway, R.N., M.P.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thy Langenberg, R.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b Burke, Ph. 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Welcome &amp; Introduction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an Eby, Director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wa Foundation for Medical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thy Langenberg, R.N.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VE Operations Manager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wa Foundation for Medical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ne Pelfrey, STRIVE Project Manager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wa Foundation for Medical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Goals of Data Collection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urate resource use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 time data with most current and tested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normal staff levels and resident loa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lect current pract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urate assessment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lect current resident character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ata</a:t>
            </a: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ollection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s of data to be coll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data from sta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resources used for resident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s/Med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dent Character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DS 2.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emental i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Privacy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ident level data not shared or available outside of the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y conducted in compliance with HIPAA 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 data not shared with fac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prot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Time Data Collection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 time from all direct care sta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cketPC running the CareTrack Staff Time softw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per backup available for technical proble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vidual and group ti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cketPC time data collection is very easy to learn and use, and is reliable and accu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78483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Resident Specific Time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ident Specific Time (R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staff members spend with or on behalf of a resid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apists identify the modality by selecting HCPCS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Non-Resident Specific Time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Resident Specific Time (NR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staff members spend supporting the delivery of c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ministrative du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ea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porate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Meals and Break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ls and Brea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staff member’s spend on personal meals and brea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Additional Resources Used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to Care for Residents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and Docu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ugs/Med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l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Resident Assessmen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te/update hardcopy MDS 2.0 with an assessment reference date during the time stud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 supplemental assessment items on pa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d to IFMC for data en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Welcome &amp; Introduction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b Burke, Ph.D.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IVE Project Director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eorge Washington Uni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ant Fries, Ph.D., STRIVE Analytic Task Lead, University of Michig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b Godbout, Ph.D.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IVE Survey Design Consultant, Stepw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ve Malitz, Ph.D.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IVE Survey Design Consultant, Stepw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ve Oatway, R.N., M.P.H.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IVE Database Manager, CareTr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acility Characteristic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graph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ministration,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s, types, sizes of nursing un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ing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Data Collection Roles</a:t>
            </a: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e Oatway, R.N., M.P.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tate Rol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ates state project l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ruits fac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ruits staff for on-site data collection and monito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s sta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edules facilities and sta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itors data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Support provided by IF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takeholder Rol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s study 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ourages study particip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es issues and conce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volunteers for data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acility Rol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ipates in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ares staff for stud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staff and resident ros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s staff time and resource dat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s assessment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work space as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FMC Rol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all STRIVE l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s State Recrui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s state project sta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sample facility l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ies recruitment materials and protoc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ains recruitment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sts in recruitment as 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s State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ies study materials and protoc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ies laptops and PocketP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help line and study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ata Collection Summary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collection performed by states, with  assistance provided by IF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y trained volunteers create partnerships and keep the process transparent to the stakehol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Analysis Plan and Sampling Plan</a:t>
            </a: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nt Fries, Ph.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Malitz, Ph.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nalytic Goal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alibrate CMI for current RUG-III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full sample (N=12,00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4, 44, 53 group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sibly several CMIs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re, Medicaid, D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52280" y="2057400"/>
            <a:ext cx="3353040" cy="68580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ident Characteri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4267080"/>
            <a:ext cx="3276720" cy="53352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our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67080" y="3505320"/>
            <a:ext cx="2895840" cy="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2438280"/>
            <a:ext cx="838080" cy="106704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9" name=""/>
          <p:cNvCxnSpPr>
            <a:stCxn id="176" idx="3"/>
          </p:cNvCxnSpPr>
          <p:nvPr/>
        </p:nvCxnSpPr>
        <p:spPr>
          <a:xfrm flipV="1">
            <a:off x="3429000" y="3428280"/>
            <a:ext cx="915120" cy="1105560"/>
          </a:xfrm>
          <a:prstGeom prst="straightConnector1">
            <a:avLst/>
          </a:prstGeom>
          <a:ln w="63360">
            <a:solidFill>
              <a:srgbClr val="ff99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4348080" y="12942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nical In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525672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5257800" y="3505320"/>
            <a:ext cx="838080" cy="167616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34120" y="1752480"/>
            <a:ext cx="761760" cy="1752840"/>
          </a:xfrm>
          <a:prstGeom prst="line">
            <a:avLst/>
          </a:prstGeom>
          <a:ln w="63360">
            <a:solidFill>
              <a:srgbClr val="ff99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7315200" y="3200400"/>
            <a:ext cx="127620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e5e5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UG-III</a:t>
            </a:r>
            <a:endParaRPr b="0" lang="en-US" sz="1800" spc="1" strike="noStrike">
              <a:ln w="19080">
                <a:solidFill>
                  <a:srgbClr val="e5e5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nalytic Approach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Geographic Distribution of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Project Team</a:t>
            </a: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MC is based in West Des Moines, Iowa with offices in Owings Mills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rge Washington University, Washington, D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ity of Michigan, Ann Arbor, 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eTrack Systems, Key West, F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pwise Systems, Austin, T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nalytic Goal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RUG-III modif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ucture of RUG-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“Rehab+Extensiv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“leafy-end split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ification of special popu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ventilator/respi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ect of changing RUG-III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use of known sc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IV medications before/after NH admi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additional qualifie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rporation of new assessment i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nalytic Goal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RUG-III modifications (cont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date RUG-III service-based meas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, physician orders/vis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 of assessment schedu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 of additional cost meas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nalytic Goal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issu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ability of any new assessment i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illed service patte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collaboration with D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collaboration with Canadian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Sampling Design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ified, random sample of facilities within volunteer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ification will insure adequate re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re resi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al popu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pital-based fac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y ex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or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ble to participa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emergencies, legal a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ampling Plan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ple 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rget: 15 states, 240 facilities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,000 resi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ed facilities will include all unit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except large faciliti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tratification of Faciliti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10800000">
            <a:off x="1526760" y="1371240"/>
            <a:ext cx="546120" cy="4419720"/>
          </a:xfrm>
          <a:prstGeom prst="rect">
            <a:avLst/>
          </a:prstGeom>
          <a:solidFill>
            <a:srgbClr val="ff0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cluded Fac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46320" y="1374840"/>
            <a:ext cx="5321160" cy="2638800"/>
          </a:xfrm>
          <a:prstGeom prst="rect">
            <a:avLst/>
          </a:prstGeom>
          <a:solidFill>
            <a:srgbClr val="0099cc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population: Medi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population: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46320" y="3932280"/>
            <a:ext cx="5321160" cy="1818000"/>
          </a:xfrm>
          <a:prstGeom prst="rect">
            <a:avLst/>
          </a:prstGeom>
          <a:solidFill>
            <a:srgbClr val="ff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al population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al population 2 (…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al population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12840" y="2557440"/>
            <a:ext cx="4813560" cy="32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112840" y="4629240"/>
            <a:ext cx="481356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12840" y="5221440"/>
            <a:ext cx="481356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ampling Methodology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tep 1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ata-based exclusions using administrative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CAR deficien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Indicators (QIs) a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Measures (QM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tep 2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elect sample from remaining facilities (over-samp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tep 3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Stakeholder exclusions from list of sampled fac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acility Exclusion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ment of data-based exc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ions with QI/QM expe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s to inclu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ing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MS algorithm for scoring survey and complaint deficiency hi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keholder exc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Analysis Plan and Sampling Plan</a:t>
            </a: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P Discu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Special Populations and Supplemental Data Items</a:t>
            </a: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b Godbout, Ph.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nt Fries, Ph.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Welcome &amp; Introduction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P Participant Introd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dures for the 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n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nes – place on vib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at 4:00 p.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ct –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STRIVE@IFMC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pecial Population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teria for inclusion on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 is of high inte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ctice patterns have chang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ngthens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 is rare (prevalence &lt;0.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Population Matr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ncillary Cost Measur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measures collected directly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as part of 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ndled vs. unbundled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V drugs/ IV med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baric oxy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ium swall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ssues in Collect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ndled only for Medicare Part A st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NDC codes, can attach price/cos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dose (need advice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PAA &amp; privacy conce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ly to coll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ssues in Collect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 what 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der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ens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collection op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re / Medicaid b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cost d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d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drugs for a sample of resi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ssues in Collect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Approach: Medicare b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bills related to drugs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k to other cost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not require primary data col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s not identif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possible for Medicare resi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icult to identify appropriate bills (time fram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ay in getting complete b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ssues in Collect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ion Approach: High cost dr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e database with daily cost by drug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ck drugs in top % (e.g., 2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ility or STRIVE project staff code drug/frequency/dose received by resi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cus on drugs most likely at iss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uces data collection effort (few residents receiv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st of high-daily-cost drugs could be very lo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ed to find database to identify high-daily-cost dru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daily-cost drugs may be used infrequent High cost drugs change over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 consuming to check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ssues in Collect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ion Approach: All drugs for Medicare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ive approach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ff enter drug data directly into database (with looku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tout sent to IFMC for en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ug database sent from facility/pharmacy to IFM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NDC cod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ve all drugs, can do any analysis nee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ch alternative data collection/coding method is time-consu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ssues in Collect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ion Approach: All drugs for sample of Medicare A resi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ect in facilities where data are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hods similar to “All drug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e as 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ss expensive, as only doing for part of sa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e as 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cilities with this capability may create a biased sa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not have sufficient sample size for some analy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Other Cost Data Issu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of some supplies/services straightforw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 selected items as part of assessment (include volum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ilar collection issues for some other high-cost supp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ai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st for a supply with no specified time perio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, pressure-relieving b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upplemental Assessment Item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rc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ine MDS 2.0 i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, IV med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MDS instrum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, MDS V3.0, MDS-P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assessment syste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TRIVE Goal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hance efficiency and accuracy of the RUGs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lect changes in health care practices since implementation of SNF P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payment to promote q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upplemental Assessment Item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teria for choos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cted influence on case m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not be “game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audi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of item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specification, training materi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to obtain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isting reliability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Reliability Studi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w assessment ite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ard inter-rater reliability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ed to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e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untested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liability of ancillary cost meas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Arial"/>
              </a:rPr>
              <a:t>Skilled Service Patterns</a:t>
            </a:r>
            <a:endParaRPr b="1" lang="en-US" sz="4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rvices before or after SNF admiss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g., IV medications, sucti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apy patterns and RUG break po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apy modali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Special Populations and Supplemental Data Items</a:t>
            </a: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P Discu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TRIVE TEP - Next Step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P slides posted on CMS Web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www.cms.hhs.gov/providers/snfpps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(available later this mont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P comments due by 12/22/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Strive@ifmc.org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ipate in follow-up telecon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Open Discussion - Observer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ase take a position in lin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ar the front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ase limit questions and comments to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min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TRIVE TEP - Next Step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P slides posted on CMS Web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www.cms.hhs.gov/snfpps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(available later this mont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P comments due by 12/22/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Strive@ifmc.org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ipate in follow-up telecon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34612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Thank you </a:t>
            </a: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for your participation </a:t>
            </a: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&amp;</a:t>
            </a: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attendance</a:t>
            </a: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TEP Objectiv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scope of STRIVE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tain Stakeholder Inpu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Go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tical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ical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lcome &amp; Introd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y Design / Ov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P Discussion – Study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Collection / Facility Recrui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P Discussion –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Collection / Facility Recrui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nch / Data Collection Demon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sis &amp; Sampling Pl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P Discussion – Analysis &amp; Sampling Pl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genda, continued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Populations &amp;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lemental Data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P Discussion –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al Populations &amp;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lemental Data I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server Comment 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jou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01:11:25Z</dcterms:created>
  <dc:creator>Big Ed</dc:creator>
  <dc:description/>
  <dc:language>en-US</dc:language>
  <cp:lastModifiedBy>CMS</cp:lastModifiedBy>
  <dcterms:modified xsi:type="dcterms:W3CDTF">2005-12-19T16:07:36Z</dcterms:modified>
  <cp:revision>90</cp:revision>
  <dc:subject/>
  <dc:title>STRIV fka NNH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