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826AF21-614E-46C2-885C-5AC32F42F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895D837-75D4-4F80-BEBC-0B9FE2073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A0FE0C-615E-4F73-94E9-466B3A163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33E55FD-A7D1-49CC-A3EE-80CC47015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EDB468A-1598-47CF-B634-82E3F8596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02A525D-3339-4074-A490-5770B013A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354416C-E3C0-40BF-A4DF-00980EDD8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F48B278-9596-4655-BC3E-6DB98DA97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F61CE7-B0AC-45D7-891D-B440ED31E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364AFD-51E3-43EF-B880-1278463B1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3D3FC3-685F-4023-82B9-DB592C55D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6912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E47D-BF02-4D3E-A503-4C6D0FBCD82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5361480" y="636732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977480" y="6367320"/>
            <a:ext cx="24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CH QRP TTT Conference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mage of the JAVA logo and CMS logo and the text Long Term Care Hospital Assessment Submission Entry and Reporting."/>
          <p:cNvPicPr/>
          <p:nvPr/>
        </p:nvPicPr>
        <p:blipFill>
          <a:blip r:embed="rId1"/>
          <a:stretch/>
        </p:blipFill>
        <p:spPr>
          <a:xfrm>
            <a:off x="1066680" y="781200"/>
            <a:ext cx="701064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LASER CARE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LASER CARE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LASER CARE items, as published in LASER CARE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ER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www.qtso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LongTermCareHospital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s are applied as questions are answ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erm Care Hospital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LAS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SER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data set by selecting the Help Icon, Help Menu, or F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SER User Guide is included with the installation of LASE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Charles  Padgett</cp:lastModifiedBy>
  <cp:lastPrinted>2012-04-28T19:42:18Z</cp:lastPrinted>
  <dcterms:modified xsi:type="dcterms:W3CDTF">2012-07-24T13:50:16Z</dcterms:modified>
  <cp:revision>770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</Properties>
</file>