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282F-3B1D-448B-A9F3-3DC96CD1E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F150-150F-49A3-B442-9A51D22D6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ABFD-26AA-46F0-82C4-D3444CEF2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67DF-6197-40BB-80FD-99742B2D0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6F58-5D7C-40C6-82E1-A858ACA4E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D681-F909-489D-BC43-6EF70F38E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E187-B0D0-4888-8F07-3EAEB1E11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F88D-09E9-4341-B585-5DE7EC95B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4384-69B8-4BA4-9A8A-2A0342FAA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resident assessment validation and entry system, inpatient rehabilitation validation and entry system, HH assessment validation and entry system, LTCH Assessment Submission Entry and 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0FF1-947B-420E-86AC-5606BD94C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387A-41CF-4462-B78C-F27D7FE5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70D-47D3-4B8C-B9CC-CA2751C3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9B4C-1204-41ED-9FC5-FEE3D03F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ED4-7F56-4E99-BEC2-C095517C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847-D91C-402C-B567-9AC57F8E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20F8-050C-4FA8-AB0D-0A516C43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C07F-3A40-425A-B610-4F4CD70B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05B-4E63-4156-B43C-E1B40AAA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781-5ECC-407D-BD03-C61C0FC2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D3F0-6722-4926-BDB6-989D6CF8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0058-EA47-4857-89EA-CD10DE23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98D7-A574-4F97-B866-EA925272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3195-0598-4BF5-9AC1-A8CACA2F5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HHS Logo"/>
          <p:cNvPicPr/>
          <p:nvPr/>
        </p:nvPicPr>
        <p:blipFill>
          <a:blip r:embed="rId2"/>
          <a:stretch/>
        </p:blipFill>
        <p:spPr>
          <a:xfrm>
            <a:off x="0" y="0"/>
            <a:ext cx="762120" cy="9144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CMS Identity Mark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61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alizing Data Submission for ACA Section 3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cy Mandl,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Data Uses and U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ing on the provider type, this data is used for  purposes such as payment, fraud investigation, quality measurement, and  survey and certification purposes, care planning, public reporting, and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MS to monitor and report on the  quality and effectiveness and services provided to beneficia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302B-EAAD-48DE-916A-2CBF45C37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onsumers to make educated choices about providers (e.g., Nursing Home Compa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quality improvement within provi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include providers, CMS CO, State and Regional Survey and Certification, OIG, Ombudsmen, researchers,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AE03-FFC9-48E0-A007-006055BE3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erve as liaison between policy staff and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Survey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Of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S Stakeholders (e.g., Office of Clinical Standards and Quality, Survey &amp; Certification, Centers for Medicare, Office of Information 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s/ Supp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D4A6-6C91-47EC-86D2-BAC0CE520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s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cal Intermediaries/ Medicare Administrative Contr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Home Health Intermedi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diting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porations and Resear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Federal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65D6-50A8-48B8-A757-4DE839C66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r Stakehol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QIES supports data for over  291,100 providers/suppli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tal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, e.g. acute, LTCHs, IRFs, CAHs, etc.: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17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killed Nursing Facility (S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5,1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Nursing Facility (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0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CF/M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43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me Health Agency (HHA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1,55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c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,5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utpatient Physical Therapy (OPT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2,5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mprehensive Outpatient Rehabilitation Facility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COR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3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56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3969-23BB-4E56-906B-24551B922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-Stage Renal Dialysis Facility (ESR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6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ral  Health Clinics (R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bulatory Surgical Centers (AS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3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 Procurement Organization (OP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ty Mental Health Centers (CM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ly Qualified Health Centers (FQ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,8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ychiatric Residential Treatment Facilities (PRT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nical Laboratory Improvement Amendments (CLI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3,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F600-9B98-47E7-A227-B57498078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 will now hear more about the QIES data submissions process as it relates to your data submiss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5AB7-F2DB-402C-88DC-3A9B458E2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1BC3-0F97-4DAC-9B2C-926A90D1C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re W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Division of National Systems is located within the Data and Systems Group (DSG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SG is located within the Center for Medicaid and CHIP (Children’s Health Insurance Program) Services (CMCS) at CM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CMS’ fulfillment of statutory quality assurance responsibilities under the Social Security 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major initiatives, such as Home Health Compare and Nursing Home Comp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, evaluate and implement data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operations related to the submission of the data collected for CMS using specified assessment tools,  e.g., the IRF-P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F950-B0BC-47E4-AC3E-51EA9C9D2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d collect quality data on certified providers /suppliers, e.g. Home Health Ag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Survey &amp; Certification efforts, e.g. Skilled Nursing Fac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data system operations for data that is used to improve the quality and effectiveness of services provided by Medicare/ Medicaid/ C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6F45-0509-4670-8350-18A609B1B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S supports the submission of data files to CMS syste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QIES is the Assessment Submission and Processing (ASAP) System which will be used to collect LTCH submi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ata is stored in the QIES National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486A-72E8-4CE4-A89A-C2E6A443D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Is QI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serves as the focal point for resident and patient assessments, quality indicators, survey and certification, complaint, and enforcement information concerning providers and 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QIES we maintain and collect quality data on certified providers/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8285-0D02-45DD-A526-1DB9A114D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permits information to be shared quickly and conveniently between federal and state govern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users total over 100,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data on 17 different types of providers/ suppliers totaling over 291,100 active facilities (as of 2/201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FA3E-ADEC-4D87-90FB-AF619C7CD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CF13-4863-4D83-BE7D-7AC8AAED1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: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already provides data submission for all Certified Inpatient Rehabilitation Facilities, Home Health Agencies, Skilled Nursing Facilities/ Nursing Facilities,  and Swing Bed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ning October 1, 2012, QIES will also provide for data submission for all certified LTCH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ssessment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Data instruments currently submitted by specific provider typ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atient Rehabilitation Facility Patient Assessment Instrument, IRF-P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Data Set,  MDS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come and Assessment Information Set, OASIS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est: LTCH CARE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ree software for all of these set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RAVEN, IRVEN, HAVEN,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EB67-BF8A-475B-8AE8-B6FECEA2F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9:04:58Z</dcterms:created>
  <dc:creator>CMS</dc:creator>
  <dc:description/>
  <dc:language>en-US</dc:language>
  <cp:lastModifiedBy>Jennifer Parrish</cp:lastModifiedBy>
  <cp:lastPrinted>2012-04-28T11:44:49Z</cp:lastPrinted>
  <dcterms:modified xsi:type="dcterms:W3CDTF">2012-05-21T14:31:36Z</dcterms:modified>
  <cp:revision>1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53846888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