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9151-9D8F-46EE-9ECD-6E6C5DEF9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1EBB-D906-4685-B9E1-D1C3F3AFE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FB50-2472-47BE-99BB-C3C7E152D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DCCC-0162-4B0C-B0CC-A5DB8A3FE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97C6-4114-44D6-AE1D-0994F21AE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CFBC-3819-49F6-926B-300E74643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DF90-A10B-477B-B9E0-A97421C0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998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1056-5004-40F8-A205-1B681CD5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998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998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ABB-E3EF-4EA2-B257-90DE91AE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998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998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998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35B-0E0A-4343-89EA-1A6EFA38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97B1-7DC5-48FE-B43C-464D7B64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77CA-1B97-4C07-8399-72AF7398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8826-D443-4D79-96F8-D07F41A7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5348-7816-4D52-BF73-2F8D3340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6870-E52B-4C9B-9447-CC45DADF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4114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F970-71E5-421C-B2F3-51EA2455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998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DC53-B451-4090-B74D-C2093B2F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490-C346-4393-982E-C6E61704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998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29B9-257D-40A4-81F7-7D3EB222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998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242B-1449-4376-A685-ADACC732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998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551A-37AC-439F-8630-A37FA1D2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998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998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AF22-2C42-4D46-9B21-D58A4182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998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998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998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4AE6-004C-4C27-B273-692AF36D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CBE-CC7D-4C9B-8A6B-718DCD49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D126-518E-47DA-BFBF-60A6DBF9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05F-42B2-41BC-98B5-A0AAB8CB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4114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B03-75E3-41FE-89B2-2FA81031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998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3FB-5704-48CE-83D9-164633C2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998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81B-DBA3-4FF5-BAC0-5911D16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998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2C3-B1DE-4DFE-A4C2-D06A781C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E2CA-08F6-4306-90B9-5D18090CB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ctionet Logo"/>
          <p:cNvPicPr/>
          <p:nvPr/>
        </p:nvPicPr>
        <p:blipFill>
          <a:blip r:embed="rId2"/>
          <a:stretch/>
        </p:blipFill>
        <p:spPr>
          <a:xfrm>
            <a:off x="28440" y="6191280"/>
            <a:ext cx="1571760" cy="666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"/>
          <p:cNvPicPr/>
          <p:nvPr/>
        </p:nvPicPr>
        <p:blipFill>
          <a:blip r:embed="rId3"/>
          <a:stretch/>
        </p:blipFill>
        <p:spPr>
          <a:xfrm>
            <a:off x="1596960" y="6629400"/>
            <a:ext cx="6480360" cy="136440"/>
          </a:xfrm>
          <a:prstGeom prst="rect">
            <a:avLst/>
          </a:prstGeom>
          <a:ln w="0">
            <a:noFill/>
          </a:ln>
        </p:spPr>
      </p:pic>
      <p:sp>
        <p:nvSpPr>
          <p:cNvPr id="7" name="Oval 13"/>
          <p:cNvSpPr/>
          <p:nvPr/>
        </p:nvSpPr>
        <p:spPr>
          <a:xfrm>
            <a:off x="-304920" y="-533520"/>
            <a:ext cx="441972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" descr=""/>
          <p:cNvPicPr/>
          <p:nvPr/>
        </p:nvPicPr>
        <p:blipFill>
          <a:blip r:embed="rId4"/>
          <a:stretch/>
        </p:blipFill>
        <p:spPr>
          <a:xfrm>
            <a:off x="5715000" y="109440"/>
            <a:ext cx="266688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2"/>
          <p:cNvSpPr/>
          <p:nvPr/>
        </p:nvSpPr>
        <p:spPr>
          <a:xfrm>
            <a:off x="0" y="31680"/>
            <a:ext cx="9144000" cy="2667240"/>
          </a:xfrm>
          <a:prstGeom prst="rect">
            <a:avLst/>
          </a:prstGeom>
          <a:solidFill>
            <a:srgbClr val="4f81bd">
              <a:alpha val="1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Actionet Logo"/>
          <p:cNvPicPr/>
          <p:nvPr/>
        </p:nvPicPr>
        <p:blipFill>
          <a:blip r:embed="rId2"/>
          <a:stretch/>
        </p:blipFill>
        <p:spPr>
          <a:xfrm>
            <a:off x="76320" y="6019920"/>
            <a:ext cx="1752480" cy="742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3"/>
          <a:stretch/>
        </p:blipFill>
        <p:spPr>
          <a:xfrm>
            <a:off x="1596960" y="6629400"/>
            <a:ext cx="6480360" cy="136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"/>
          <p:cNvPicPr/>
          <p:nvPr/>
        </p:nvPicPr>
        <p:blipFill>
          <a:blip r:embed="rId4"/>
          <a:stretch/>
        </p:blipFill>
        <p:spPr>
          <a:xfrm>
            <a:off x="2832120" y="817560"/>
            <a:ext cx="3170160" cy="1095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/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E88C-66EE-46C7-852B-3217DDD32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ms.hhs.gov/DataAdmin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2058840" y="3200400"/>
            <a:ext cx="51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al Data Administration (C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del Review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553080" y="6400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E63B-5ACF-433C-88A3-7F2D5A65F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52280" y="-15264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Data Administration Standards promote consistent use of CMS Data Asse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 and Semantic Consist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us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553080" y="6400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D85C-C16A-4C71-97B4-F51D63AF7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tandards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win Tool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Data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Data Models (first cu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ing Conventions (ISO/IEC 11179-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win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/Attrib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/Column (first cu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A Enterprise Logical Data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ciary, Provider, Claims, Address, Securit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6553080" y="6400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0525-9198-4B53-A376-C30ACE9D9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DM/PDM Review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5" descr="MCj02304100000[1]"/>
          <p:cNvPicPr/>
          <p:nvPr/>
        </p:nvPicPr>
        <p:blipFill>
          <a:blip r:embed="rId1"/>
          <a:stretch/>
        </p:blipFill>
        <p:spPr>
          <a:xfrm>
            <a:off x="1996920" y="1905120"/>
            <a:ext cx="1524240" cy="1066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6"/>
          <p:cNvSpPr/>
          <p:nvPr/>
        </p:nvSpPr>
        <p:spPr>
          <a:xfrm>
            <a:off x="1543320" y="28954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MCj02304100000[1]"/>
          <p:cNvPicPr/>
          <p:nvPr/>
        </p:nvPicPr>
        <p:blipFill>
          <a:blip r:embed="rId2"/>
          <a:stretch/>
        </p:blipFill>
        <p:spPr>
          <a:xfrm>
            <a:off x="5730840" y="1828800"/>
            <a:ext cx="1523880" cy="10666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8"/>
          <p:cNvSpPr/>
          <p:nvPr/>
        </p:nvSpPr>
        <p:spPr>
          <a:xfrm>
            <a:off x="5885280" y="28954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A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9"/>
          <p:cNvSpPr/>
          <p:nvPr/>
        </p:nvSpPr>
        <p:spPr>
          <a:xfrm rot="10512600">
            <a:off x="3503160" y="2971800"/>
            <a:ext cx="2133720" cy="99072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3673440" y="1676520"/>
            <a:ext cx="2133720" cy="60948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4057920" y="1219320"/>
            <a:ext cx="137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. Submit LDM/P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3982320" y="403848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 Perform LDM/P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3" descr="MCj02304100000[1]"/>
          <p:cNvPicPr/>
          <p:nvPr/>
        </p:nvPicPr>
        <p:blipFill>
          <a:blip r:embed="rId3"/>
          <a:stretch/>
        </p:blipFill>
        <p:spPr>
          <a:xfrm>
            <a:off x="1539720" y="4419720"/>
            <a:ext cx="1524240" cy="1066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4"/>
          <p:cNvSpPr/>
          <p:nvPr/>
        </p:nvSpPr>
        <p:spPr>
          <a:xfrm>
            <a:off x="1466640" y="54864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Ow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4131720" y="2438280"/>
            <a:ext cx="119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rativ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6"/>
          <p:cNvSpPr/>
          <p:nvPr/>
        </p:nvSpPr>
        <p:spPr>
          <a:xfrm>
            <a:off x="1844640" y="3352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200880" y="3276720"/>
            <a:ext cx="13204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 Schedu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lkthr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Submit L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Sign-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orpor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8" descr="MCj02304100000[1]"/>
          <p:cNvPicPr/>
          <p:nvPr/>
        </p:nvPicPr>
        <p:blipFill>
          <a:blip r:embed="rId4"/>
          <a:stretch/>
        </p:blipFill>
        <p:spPr>
          <a:xfrm>
            <a:off x="5959440" y="4343400"/>
            <a:ext cx="1523880" cy="10666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9"/>
          <p:cNvSpPr/>
          <p:nvPr/>
        </p:nvSpPr>
        <p:spPr>
          <a:xfrm>
            <a:off x="6340320" y="3276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6885360" y="3352680"/>
            <a:ext cx="163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 Prov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DA LDM/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Cut P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-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fter rece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siness Ow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-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59612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A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2"/>
          <p:cNvSpPr/>
          <p:nvPr/>
        </p:nvSpPr>
        <p:spPr>
          <a:xfrm flipH="1">
            <a:off x="2758320" y="3505320"/>
            <a:ext cx="2971800" cy="1752480"/>
          </a:xfrm>
          <a:custGeom>
            <a:avLst/>
            <a:gdLst>
              <a:gd name="textAreaLeft" fmla="*/ -360 w 2971800"/>
              <a:gd name="textAreaRight" fmla="*/ 2547000 w 2971800"/>
              <a:gd name="textAreaTop" fmla="*/ 155484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17470" y="0"/>
                </a:moveTo>
                <a:lnTo>
                  <a:pt x="13340" y="7200"/>
                </a:lnTo>
                <a:lnTo>
                  <a:pt x="16426" y="7200"/>
                </a:lnTo>
                <a:lnTo>
                  <a:pt x="16426" y="19164"/>
                </a:lnTo>
                <a:lnTo>
                  <a:pt x="0" y="19164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7470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3"/>
          <p:cNvSpPr/>
          <p:nvPr/>
        </p:nvSpPr>
        <p:spPr>
          <a:xfrm>
            <a:off x="3904200" y="5334120"/>
            <a:ext cx="158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. Schedules Phys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ign Walkthrou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553080" y="6400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ED0D-00CD-4EFC-92F1-B56954FAD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0" y="152280"/>
            <a:ext cx="38862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l Review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Revie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Model using standard New Model Review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s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proval – Minimum standards not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Approval – Minimum standards met, mostly involving names an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Approval – All standards met, all issues resolved or wa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Business Owner Sign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553080" y="6400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6193-9C89-48AA-9611-36DC03E68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odel Review Proces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What is Review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use of entities from existing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y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(1NF), Second (2NF) and Third (3NF) Normal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6553080" y="6400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E440-4620-4D3A-BB8A-40296D54C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Model Review Proces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- Relevant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Data Administration Websit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cms.hhs.gov/DataAdmi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For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P Templ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Ter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Over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Data Design – Process for development of a Logical Data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odel Tool Use Procedure – How to use ERw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Procedures and Guidelines – Standards referred to in Logical Data Design and Data Model Tool Use Proced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6553080" y="6400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B72B-3D7B-40E6-BF2A-075D9A2AB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rap-up/Q &amp;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MPj03988310000[1]"/>
          <p:cNvPicPr/>
          <p:nvPr/>
        </p:nvPicPr>
        <p:blipFill>
          <a:blip r:embed="rId1"/>
          <a:stretch/>
        </p:blipFill>
        <p:spPr>
          <a:xfrm>
            <a:off x="3505320" y="1371600"/>
            <a:ext cx="4921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37:59Z</dcterms:created>
  <dc:creator>Paula Harris</dc:creator>
  <dc:description/>
  <dc:language>en-US</dc:language>
  <cp:lastModifiedBy>Janet Capra - US</cp:lastModifiedBy>
  <dcterms:modified xsi:type="dcterms:W3CDTF">2014-05-07T20:46:29Z</dcterms:modified>
  <cp:revision>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Target Audiences">
    <vt:lpwstr/>
  </property>
</Properties>
</file>