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4"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06280" y="696960"/>
            <a:ext cx="464796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297"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8" name="PlaceHolder 5"/>
          <p:cNvSpPr>
            <a:spLocks noGrp="1"/>
          </p:cNvSpPr>
          <p:nvPr>
            <p:ph type="ftr" idx="23"/>
          </p:nvPr>
        </p:nvSpPr>
        <p:spPr>
          <a:xfrm>
            <a:off x="-360" y="8829720"/>
            <a:ext cx="29718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FA9AB1C-A20C-4A72-A2BD-9516E6EABB9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BCC3FFC-5DD5-40A5-A340-0FA02D64A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06640" y="696960"/>
            <a:ext cx="4647960" cy="3486240"/>
          </a:xfrm>
          <a:prstGeom prst="rect">
            <a:avLst/>
          </a:prstGeom>
          <a:ln w="0">
            <a:noFill/>
          </a:ln>
        </p:spPr>
      </p:sp>
      <p:sp>
        <p:nvSpPr>
          <p:cNvPr id="35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12 Training Segments in the entire program.</a:t>
            </a:r>
            <a:endParaRPr b="0" lang="en-US" sz="1000" spc="-1" strike="noStrike">
              <a:solidFill>
                <a:srgbClr val="000000"/>
              </a:solidFill>
              <a:latin typeface="Calibri"/>
            </a:endParaRPr>
          </a:p>
        </p:txBody>
      </p:sp>
      <p:sp>
        <p:nvSpPr>
          <p:cNvPr id="35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92E7972-A124-4123-ADEF-241D793659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F4CC405-7B08-463A-B6C5-65A8D40575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06640" y="696960"/>
            <a:ext cx="4647960" cy="3486240"/>
          </a:xfrm>
          <a:prstGeom prst="rect">
            <a:avLst/>
          </a:prstGeom>
          <a:ln w="0">
            <a:noFill/>
          </a:ln>
        </p:spPr>
      </p:sp>
      <p:sp>
        <p:nvSpPr>
          <p:cNvPr id="35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egment will provide specific guidance on the purpose of the ICD-10 implementation team,  what type of participation is necessary for an effective team, and what specific schedule and responsibilities the team should have.  We consider the formation of an ICD-10 project team necessary for a successful implementation.</a:t>
            </a:r>
            <a:endParaRPr b="0" lang="en-US" sz="1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63E996B-302D-4DBC-BD7B-2D0E1947B2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06640" y="696960"/>
            <a:ext cx="4647960" cy="3486240"/>
          </a:xfrm>
          <a:prstGeom prst="rect">
            <a:avLst/>
          </a:prstGeom>
          <a:ln w="0">
            <a:noFill/>
          </a:ln>
        </p:spPr>
      </p:sp>
      <p:sp>
        <p:nvSpPr>
          <p:cNvPr id="35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ant to reiterate that this implementation project is not, and should not be thought of, as an IT project.  As we have previously shown, the transition to ICD-10 affects a wide range of business areas in the Medicaid program. While the IT work is a necessary part, it should be thought of as supporting the business transition to ICD-10.  The list of business areas affected is not all-inclusive, but you can see that it reaches throughout the organization.  Critical business decisions on how ICD-10 will be implemented must be made in these areas as the project progresses, so that IT system changes can be made to support the business areas.</a:t>
            </a:r>
            <a:endParaRPr b="0" lang="en-US" sz="1000" spc="-1" strike="noStrike">
              <a:solidFill>
                <a:srgbClr val="000000"/>
              </a:solidFill>
              <a:latin typeface="Calibri"/>
            </a:endParaRPr>
          </a:p>
        </p:txBody>
      </p:sp>
      <p:sp>
        <p:nvSpPr>
          <p:cNvPr id="35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B1CC722-FC60-4F5D-9E40-E55DBB1B22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D278759-3282-4F72-857B-DA3E2DD28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06640" y="696960"/>
            <a:ext cx="4647960" cy="3486240"/>
          </a:xfrm>
          <a:prstGeom prst="rect">
            <a:avLst/>
          </a:prstGeom>
          <a:ln w="0">
            <a:noFill/>
          </a:ln>
        </p:spPr>
      </p:sp>
      <p:sp>
        <p:nvSpPr>
          <p:cNvPr id="36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implementation team will provide the overall project management in the organization throughout the implementation process.  Because of the long-term nature and breadth of this project, we advocate the designation of such a team and keeping it active through the entire implementation process.   This will be the focal point for implementation, and allow the day-to-day work of the organization to continue as the implementation process proceeds.</a:t>
            </a:r>
            <a:endParaRPr b="0" lang="en-US" sz="1000" spc="-1" strike="noStrike">
              <a:solidFill>
                <a:srgbClr val="000000"/>
              </a:solidFill>
              <a:latin typeface="Calibri"/>
            </a:endParaRPr>
          </a:p>
        </p:txBody>
      </p:sp>
      <p:sp>
        <p:nvSpPr>
          <p:cNvPr id="3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8CC0FC7-BD86-44E9-B3D5-93DBCE50E0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68BCC56-78B1-4EB9-ADCF-83E17959F5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06640" y="696960"/>
            <a:ext cx="4647960" cy="3486240"/>
          </a:xfrm>
          <a:prstGeom prst="rect">
            <a:avLst/>
          </a:prstGeom>
          <a:ln w="0">
            <a:noFill/>
          </a:ln>
        </p:spPr>
      </p:sp>
      <p:sp>
        <p:nvSpPr>
          <p:cNvPr id="36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wide range of skills are needed for this team to be successful.  Careful consideration must be given in selecting the right mix of team members.  Individuals who have a good understanding of each of the Medicaid business processes should be included.  These people should also have the ability to describe and chart these processes, and have an understanding of business process improvement.  In addition, people must be included who have a good sense of how business processes interact and work together to accomplish tasks.  IT professionals have to be included in this, with the understanding that they are supporting the business process chang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se individuals must be willing to learn about this new code set and its implication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C0EE9C4-E4BD-4FA6-AC5E-7841B7E5DF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899DE40-29D1-43BA-9F4C-571227C184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06640" y="696960"/>
            <a:ext cx="4647960" cy="3486240"/>
          </a:xfrm>
          <a:prstGeom prst="rect">
            <a:avLst/>
          </a:prstGeom>
          <a:ln w="0">
            <a:noFill/>
          </a:ln>
        </p:spPr>
      </p:sp>
      <p:sp>
        <p:nvSpPr>
          <p:cNvPr id="36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dividuals with strong project planning and management skills should be included as part of the team.  They must be able to challenge the status quo and be willing to suggest improvements in using diagnosis and inpatient hospital procedure codes.  The team should include individuals who can understand and communicate the big picture of change due to ICD-10, and why those changes are both necessary and beneficia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t would be beneficial for the team to receive training on effective teams, and an experienced team facilitator should be part of the team to assist the team in its work.</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7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1EE3E44-376D-45FC-B26A-0D2440D8CE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B692BEC-93A6-40A0-BE15-679151F8EB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06640" y="696960"/>
            <a:ext cx="4647960" cy="3486240"/>
          </a:xfrm>
          <a:prstGeom prst="rect">
            <a:avLst/>
          </a:prstGeom>
          <a:ln w="0">
            <a:noFill/>
          </a:ln>
        </p:spPr>
      </p:sp>
      <p:sp>
        <p:nvSpPr>
          <p:cNvPr id="37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clear charter with team operating rules and responsibilities will be valuable in getting the team started.    There should be a high-level executive sponsor to which the team should report.  The sponsor must be responsible for providing the team the necessary authority and resources to get the job done.  Team members must be given the time needed to do an effective job.  They need not be full-time members of the team, but they must be permitted to devote the time need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so, the agency needs to inform all staff that such a team has been formed and what its responsibilities are.  The project must be announced with the appropriate priority.  It should be made clear to the team that there is a hard deadline to complete the project, and the team is responsible for making sure it is met.</a:t>
            </a:r>
            <a:endParaRPr b="0" lang="en-US" sz="1000" spc="-1" strike="noStrike">
              <a:solidFill>
                <a:srgbClr val="000000"/>
              </a:solidFill>
              <a:latin typeface="Calibri"/>
            </a:endParaRPr>
          </a:p>
        </p:txBody>
      </p:sp>
      <p:sp>
        <p:nvSpPr>
          <p:cNvPr id="3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810CAF2-AAD3-42CB-B545-D1C029DF16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7BE7795-29C4-4F87-85C1-ADCB522A91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06640" y="696960"/>
            <a:ext cx="4647960" cy="3486240"/>
          </a:xfrm>
          <a:prstGeom prst="rect">
            <a:avLst/>
          </a:prstGeom>
          <a:ln w="0">
            <a:noFill/>
          </a:ln>
        </p:spPr>
      </p:sp>
      <p:sp>
        <p:nvSpPr>
          <p:cNvPr id="37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what is this team supposed to do?  First, get trained on ICD-10 and do a quick organizational assessment to determine some initial parameters of cost, scope, and timing.  This is necessary to provide high-level information to executives to get buy in.  Then, an overall project plan should be developed, perhaps using the NCHICA/WEDI timeline as a general guide.  The team then needs to work with agency staff and managers in getting each step of the process don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eam should be held responsible for communicating the project plans and progress to the agency, and to determine both the types and schedule of ICD-10 training necessary.  Vendor progress must also be monitored.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t is critical for the team to continue to monitor progress, identify issues (resource constraints, conflicts with other priorities, unexpected changes in budgets or other circumstances), and resolve them.   One critical task may be to set up some sort of internal product and system quality management , or an outside independent verification and validation (IV&amp;V) process to provide assurance that work products will perform as desired. </a:t>
            </a:r>
            <a:endParaRPr b="0" lang="en-US" sz="1000" spc="-1" strike="noStrike">
              <a:solidFill>
                <a:srgbClr val="000000"/>
              </a:solidFill>
              <a:latin typeface="Calibri"/>
            </a:endParaRPr>
          </a:p>
        </p:txBody>
      </p:sp>
      <p:sp>
        <p:nvSpPr>
          <p:cNvPr id="3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6F4FC8A-889C-4DE4-A3B3-674D3F72F8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8F6C3C7-DF1A-4C4B-8D6E-AC30BA0BF9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06640" y="696960"/>
            <a:ext cx="4647960" cy="3486240"/>
          </a:xfrm>
          <a:prstGeom prst="rect">
            <a:avLst/>
          </a:prstGeom>
          <a:ln w="0">
            <a:noFill/>
          </a:ln>
        </p:spPr>
      </p:sp>
      <p:sp>
        <p:nvSpPr>
          <p:cNvPr id="38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strongly recommend a dedicated ICD-10 implementation team be formed to begin the assessment process, determine training needs, monitor agency and vendor progress, and assure the project is moving along on time and is producing quality products.  This team needs a wide variety of skills to do an effective job.  Make sure the team has the tools, the responsibility, and the authority to get the job done.</a:t>
            </a:r>
            <a:endParaRPr b="0" lang="en-US" sz="1000" spc="-1" strike="noStrike">
              <a:solidFill>
                <a:srgbClr val="000000"/>
              </a:solidFill>
              <a:latin typeface="Calibri"/>
            </a:endParaRPr>
          </a:p>
        </p:txBody>
      </p:sp>
      <p:sp>
        <p:nvSpPr>
          <p:cNvPr id="3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3F2C1E1-D828-42E1-BEE4-97CDC7F95A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2E79F-9F5B-4F17-8BCB-5813FA953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C12E6-6E28-41F9-8954-2AE398B77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67D86-3717-4ED4-9DC8-0D8D9A8A4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C4C4F-EEBF-478B-8979-DC1448022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3C21BB-7FDD-402D-8F79-78C4BF889B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6BAD0-5E28-4828-91C3-67CC0330E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05087-AAE4-45F7-9E8B-29488ACC1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A2BF9-6796-4AA8-839D-AA4E59324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38796-E0ED-4BAA-BE7F-BD69042AC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C0A86-3C08-4CCB-B391-910C678C2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668FD-DEA1-42F6-8A9D-DC3C7679F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AFEAA-A120-4007-80B6-476350E6D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75A68-604B-49FB-B6B0-E8FC84D13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84DE6-18D0-4DC6-A1BE-4B4C92CB7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6F840-5DAF-42C5-AA8A-BE5130695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72D241-E0AD-4137-888E-423F64EFA6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7B7C0-C844-4B7A-90B7-1FF8CA77B1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5F0FD7-1775-47C3-A356-80727EDC77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14AD44-189C-4602-9A73-87B3B9E32E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33331E-DBDA-44AD-A979-42BE493590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DDBF77-A832-4260-9967-D1A8653EFB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61102C-B77E-45A3-A352-CEADE2DB83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9C67B-FCB1-4F8D-8C98-B7372D113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75CEE8-BAAD-4A96-843F-D209D9AD11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4975AE-5862-4EC4-96FF-4F4E381FEE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632266-C7A2-4920-AE48-6508D0CDBB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698DEE-7D1C-4FDD-A119-81E52802EC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AF37F9-CF1E-4B72-A7F6-5C79B592D5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AD2BBE-2BF5-49BA-B124-06CBDCEA71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2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33315A-7E25-458F-9285-DB153CC5D8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9ABC3F-6289-48DC-983D-0F6C97665E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4D227B-4A0D-4965-ACD8-5B8FE9543C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FB9D7A-8CFC-4C1E-8F36-460E26D87C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C2B46-3428-44F4-8BAD-3FB35C88A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E23A9D-75C0-4984-8A8B-5A1A817353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DAC3CD-ED26-4B17-9953-8496E317C6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0C2620-D57B-45D0-9021-7F582833D8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1B7113-4006-4C3A-991A-62D27DB988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E082AC-B4AC-4658-A79F-C8794EB3B5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F225FC-EF4B-47A6-98E0-FE964C9940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FBA166-A358-4270-B2D7-EA50111FCB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4A0905-9BA4-4269-B563-B5D6A95FE6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6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89DAE7-801C-4D8A-82D1-C7473BCC71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678B83-2362-40F0-B31F-6A523934E3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C7BFE-E49D-4B69-B6D9-AAFCD1B0E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9CB7DE-0B23-4D5B-9B0E-8369E55634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C6F0F5-6E75-404A-B9B3-8612299F97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977EFA-D411-4431-8F18-9C08345AA2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19F934-C353-419D-ABDC-4B1E5141A4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A75274-E9A9-4628-AAC0-7E89657131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B6C1CA-7F9E-4516-8B5C-770DE5075B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43D4C2-2F2E-45F0-B10C-588F644458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E253E2-905A-4AA2-9F85-B79DBAAC47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1EBFBF-78E0-426E-9A8A-85B4AAD9BF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915E10-E3CF-4435-88A2-CC19823E6F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A87F6-4FA4-479E-BBCA-F87E72E1A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0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A0C8DF-012C-404B-B8AA-E53CBB0CA2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6A81E3-48A7-406A-BEBC-158DF352CC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627F66-03C9-4AED-B7E6-056B542358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96590F-13BF-4030-86F6-A54B394E8C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8F3B56-2A0E-40DD-B39E-3C6003077B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B62724-9DBF-44E8-8E46-B01DA7B379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1FA4BB-B351-4B7B-8A93-5ADCFDA471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3CE07F-7B58-45C7-AAB8-DAC62A5B83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85A421-44D0-414F-A1CC-C1062917A7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8FFA78-09E6-446C-98D4-FE80BCBD32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32F6B-1DC2-4D41-BDCD-F71CE6F6B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70D6F3-49DF-4043-B86F-44FFB48A48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091072-E52D-41BF-9527-803A75AB59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4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3648DC-E508-4328-B3BF-7B81AB15C5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26FE88-9309-4FFB-9AB1-242683AD89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58"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2F13A0-A24F-4B6E-A9DA-D4D5063700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0"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6982EE-B394-4FEA-BD56-176E5AD5E5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7223E6-8245-4A43-9D1B-78C5694000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C17510-7DD4-45B0-845A-A55060FBFB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2DF2DD-4A3F-4CB7-86E8-F985D8F34F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D14E13-431C-4CC3-BB9B-37EC416A92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5AA62-4CDC-499E-861F-6AFE3DA66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43DD65-6256-4288-AD61-233D37BFEE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0F046B-29B6-4B17-9929-EA617F9C27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9"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46BA63-951A-4DDE-BAC1-BF9258DC79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477102-9C46-45A9-8298-4CD2036D3B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7"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92FCA3-A464-4230-AFE0-BE6F83A40B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85908-BE98-4310-B293-0C51A8236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1"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3" name="Picture 8" descr="CMS_logo"/>
          <p:cNvPicPr/>
          <p:nvPr/>
        </p:nvPicPr>
        <p:blipFill>
          <a:blip r:embed="rId2"/>
          <a:stretch/>
        </p:blipFill>
        <p:spPr>
          <a:xfrm>
            <a:off x="152280" y="152280"/>
            <a:ext cx="1976400" cy="735120"/>
          </a:xfrm>
          <a:prstGeom prst="rect">
            <a:avLst/>
          </a:prstGeom>
          <a:ln w="0">
            <a:noFill/>
          </a:ln>
        </p:spPr>
      </p:pic>
      <p:pic>
        <p:nvPicPr>
          <p:cNvPr id="4" name="Picture 5" descr="HHS"/>
          <p:cNvPicPr/>
          <p:nvPr/>
        </p:nvPicPr>
        <p:blipFill>
          <a:blip r:embed="rId3"/>
          <a:stretch/>
        </p:blipFill>
        <p:spPr>
          <a:xfrm>
            <a:off x="8077320" y="152280"/>
            <a:ext cx="685800" cy="682920"/>
          </a:xfrm>
          <a:prstGeom prst="rect">
            <a:avLst/>
          </a:prstGeom>
          <a:ln w="0">
            <a:noFill/>
          </a:ln>
        </p:spPr>
      </p:pic>
      <p:sp>
        <p:nvSpPr>
          <p:cNvPr id="5" name="PlaceHolder 3"/>
          <p:cNvSpPr>
            <a:spLocks noGrp="1"/>
          </p:cNvSpPr>
          <p:nvPr>
            <p:ph type="dt" idx="1"/>
          </p:nvPr>
        </p:nvSpPr>
        <p:spPr>
          <a:xfrm>
            <a:off x="762012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517A-51EF-48B4-B596-6260F194E142}" type="datetime">
              <a:rPr b="0" lang="en-US" sz="1000" spc="-1" strike="noStrike">
                <a:solidFill>
                  <a:srgbClr val="000000"/>
                </a:solidFill>
                <a:latin typeface="Verdana"/>
              </a:rPr>
              <a:t>07/30/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191120" y="647676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8 - Forming the Implementation Team</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E650-B5B7-408D-AAA1-3DF929CD70C5}"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3ECA-74BA-4CE8-A2FA-6E7AB362D0C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8 - Forming the Implementation TeamSegment 3 - Benefits of Using ICD-10</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7221-4888-47E8-9371-CA96C5F7DD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E6D5-7B1D-4A97-8562-61EFA8C08CA1}"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8 - Forming the Implementation TeamSegment 3 - Benefits of Using ICD-10</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A2242-AC4F-4EBF-93C8-F10318D82B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45FE3-85F3-4792-9A5E-37360AF1297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8 - Forming the Implementation TeamSegment 3 - Benefits of Using ICD-10</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8A19-5807-440C-B10F-312050A74F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08EE-5607-4901-91BB-2235A7D0B26F}"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8 - Forming the Implementation TeamSegment 3 - Benefits of Using ICD-10</a:t>
            </a:r>
            <a:endParaRPr b="0" lang="en-US" sz="1200" spc="-1" strike="noStrike">
              <a:solidFill>
                <a:srgbClr val="000000"/>
              </a:solidFill>
              <a:latin typeface="Times New Roman"/>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693A-7122-4B5E-AEDB-67DA26FF3AA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F2D1-4641-42BA-9FCF-DF17B646898F}"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8 - Forming the Implementation TeamSegment 3 - Benefits of Using ICD-10</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C1CE-C4A8-45D4-B354-B8EFB19114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250" name="Picture 8" descr="CMS_logo"/>
          <p:cNvPicPr/>
          <p:nvPr/>
        </p:nvPicPr>
        <p:blipFill>
          <a:blip r:embed="rId2"/>
          <a:stretch/>
        </p:blipFill>
        <p:spPr>
          <a:xfrm>
            <a:off x="152280" y="152280"/>
            <a:ext cx="1976400" cy="735120"/>
          </a:xfrm>
          <a:prstGeom prst="rect">
            <a:avLst/>
          </a:prstGeom>
          <a:ln w="0">
            <a:noFill/>
          </a:ln>
        </p:spPr>
      </p:pic>
      <p:pic>
        <p:nvPicPr>
          <p:cNvPr id="251" name="Picture 5" descr="HHS"/>
          <p:cNvPicPr/>
          <p:nvPr/>
        </p:nvPicPr>
        <p:blipFill>
          <a:blip r:embed="rId3"/>
          <a:stretch/>
        </p:blipFill>
        <p:spPr>
          <a:xfrm>
            <a:off x="8077320" y="152280"/>
            <a:ext cx="685800" cy="682920"/>
          </a:xfrm>
          <a:prstGeom prst="rect">
            <a:avLst/>
          </a:prstGeom>
          <a:ln w="0">
            <a:noFill/>
          </a:ln>
        </p:spPr>
      </p:pic>
      <p:sp>
        <p:nvSpPr>
          <p:cNvPr id="2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253"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54" name="PlaceHolder 3"/>
          <p:cNvSpPr>
            <a:spLocks noGrp="1"/>
          </p:cNvSpPr>
          <p:nvPr>
            <p:ph type="dt" idx="19"/>
          </p:nvPr>
        </p:nvSpPr>
        <p:spPr>
          <a:xfrm>
            <a:off x="7543800" y="6476760"/>
            <a:ext cx="990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975F-463E-4C62-85AD-DC3DC3CA2BB6}" type="datetime">
              <a:rPr b="0" lang="en-US" sz="1000" spc="-1" strike="noStrike">
                <a:solidFill>
                  <a:srgbClr val="000000"/>
                </a:solidFill>
                <a:latin typeface="Verdana"/>
              </a:rPr>
              <a:t>07/30/26</a:t>
            </a:fld>
            <a:endParaRPr b="0" lang="en-US" sz="1000" spc="-1" strike="noStrike">
              <a:solidFill>
                <a:srgbClr val="000000"/>
              </a:solidFill>
              <a:latin typeface="Times New Roman"/>
            </a:endParaRPr>
          </a:p>
        </p:txBody>
      </p:sp>
      <p:sp>
        <p:nvSpPr>
          <p:cNvPr id="255" name="PlaceHolder 4"/>
          <p:cNvSpPr>
            <a:spLocks noGrp="1"/>
          </p:cNvSpPr>
          <p:nvPr>
            <p:ph type="ftr" idx="20"/>
          </p:nvPr>
        </p:nvSpPr>
        <p:spPr>
          <a:xfrm>
            <a:off x="4190760" y="6476760"/>
            <a:ext cx="33526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8 - Forming the Implementation Team</a:t>
            </a:r>
            <a:endParaRPr b="0" lang="en-US" sz="1000" spc="-1" strike="noStrike">
              <a:solidFill>
                <a:srgbClr val="000000"/>
              </a:solidFill>
              <a:latin typeface="Times New Roman"/>
            </a:endParaRPr>
          </a:p>
        </p:txBody>
      </p:sp>
      <p:sp>
        <p:nvSpPr>
          <p:cNvPr id="256" name="PlaceHolder 5"/>
          <p:cNvSpPr>
            <a:spLocks noGrp="1"/>
          </p:cNvSpPr>
          <p:nvPr>
            <p:ph type="sldNum" idx="21"/>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B5E5-A668-4151-AB31-66982D46B30F}"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1"/>
          <p:cNvSpPr/>
          <p:nvPr/>
        </p:nvSpPr>
        <p:spPr>
          <a:xfrm>
            <a:off x="7543800" y="6477120"/>
            <a:ext cx="990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994C-970F-4366-BEE4-CD4216678498}"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01" name="Footer Placeholder 2"/>
          <p:cNvSpPr/>
          <p:nvPr/>
        </p:nvSpPr>
        <p:spPr>
          <a:xfrm>
            <a:off x="4191120" y="6477120"/>
            <a:ext cx="3352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8 - Forming the Implementation Team</a:t>
            </a:r>
            <a:endParaRPr b="0" lang="en-US" sz="1000" spc="-1" strike="noStrike">
              <a:solidFill>
                <a:srgbClr val="000000"/>
              </a:solidFill>
              <a:latin typeface="Arial"/>
            </a:endParaRPr>
          </a:p>
        </p:txBody>
      </p:sp>
      <p:sp>
        <p:nvSpPr>
          <p:cNvPr id="302"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7CDA6-394C-46AA-A67C-89632540EC2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3" name="Rectangle 3"/>
          <p:cNvSpPr/>
          <p:nvPr/>
        </p:nvSpPr>
        <p:spPr>
          <a:xfrm>
            <a:off x="4572000" y="4191120"/>
            <a:ext cx="411480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Verdana"/>
              </a:rPr>
              <a:t>Training Segment 8</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504d"/>
                </a:solidFill>
                <a:latin typeface="Verdana"/>
              </a:rPr>
              <a:t>Forming the Implementation Team</a:t>
            </a:r>
            <a:endParaRPr b="0" lang="en-US" sz="2600" spc="-1" strike="noStrike">
              <a:solidFill>
                <a:srgbClr val="000000"/>
              </a:solidFill>
              <a:latin typeface="Arial"/>
            </a:endParaRPr>
          </a:p>
        </p:txBody>
      </p:sp>
      <p:sp>
        <p:nvSpPr>
          <p:cNvPr id="304" name="Rectangle 3"/>
          <p:cNvSpPr/>
          <p:nvPr/>
        </p:nvSpPr>
        <p:spPr>
          <a:xfrm>
            <a:off x="4572000" y="2895480"/>
            <a:ext cx="380988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305" name="Rectangle 6"/>
          <p:cNvSpPr/>
          <p:nvPr/>
        </p:nvSpPr>
        <p:spPr>
          <a:xfrm>
            <a:off x="403848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Content Placeholder 1"/>
          <p:cNvSpPr/>
          <p:nvPr/>
        </p:nvSpPr>
        <p:spPr>
          <a:xfrm>
            <a:off x="22860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0504d"/>
                </a:solidFill>
                <a:uFillTx/>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ing Progress and Post Compliance Date Actions</a:t>
            </a:r>
            <a:endParaRPr b="0" lang="en-US" sz="1000" spc="-1" strike="noStrike">
              <a:solidFill>
                <a:srgbClr val="000000"/>
              </a:solidFill>
              <a:latin typeface="Arial"/>
            </a:endParaRPr>
          </a:p>
        </p:txBody>
      </p:sp>
      <p:sp>
        <p:nvSpPr>
          <p:cNvPr id="307" name="TextBox 10"/>
          <p:cNvSpPr/>
          <p:nvPr/>
        </p:nvSpPr>
        <p:spPr>
          <a:xfrm>
            <a:off x="4114800" y="1141560"/>
            <a:ext cx="457200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ea typeface="Arial"/>
              </a:rPr>
              <a:t>ICD-10 </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ea typeface="Arial"/>
              </a:rPr>
              <a:t>Planning and </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ea typeface="Arial"/>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Date Placeholder 1"/>
          <p:cNvSpPr/>
          <p:nvPr/>
        </p:nvSpPr>
        <p:spPr>
          <a:xfrm>
            <a:off x="7543800" y="6477120"/>
            <a:ext cx="990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05EA-D741-4D28-8F7A-3C47C50C3B4D}"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09" name="Footer Placeholder 2"/>
          <p:cNvSpPr/>
          <p:nvPr/>
        </p:nvSpPr>
        <p:spPr>
          <a:xfrm>
            <a:off x="4191120" y="6477120"/>
            <a:ext cx="3352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8 - Forming the Implementation Team</a:t>
            </a:r>
            <a:endParaRPr b="0" lang="en-US" sz="1000" spc="-1" strike="noStrike">
              <a:solidFill>
                <a:srgbClr val="000000"/>
              </a:solidFill>
              <a:latin typeface="Arial"/>
            </a:endParaRPr>
          </a:p>
        </p:txBody>
      </p:sp>
      <p:sp>
        <p:nvSpPr>
          <p:cNvPr id="31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6DDF-FB71-44D7-A617-AC2BCD56020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1" name="PlaceHolder 1"/>
          <p:cNvSpPr>
            <a:spLocks noGrp="1"/>
          </p:cNvSpPr>
          <p:nvPr>
            <p:ph/>
          </p:nvPr>
        </p:nvSpPr>
        <p:spPr>
          <a:xfrm>
            <a:off x="457200" y="2819520"/>
            <a:ext cx="8229600" cy="18316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cuss the purpose of the Implementation Team</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termine appropriate participant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n team schedule and responsibilities</a:t>
            </a:r>
            <a:endParaRPr b="0" lang="en-US" sz="2200" spc="-1" strike="noStrike">
              <a:solidFill>
                <a:srgbClr val="000000"/>
              </a:solidFill>
              <a:latin typeface="Verdana"/>
            </a:endParaRPr>
          </a:p>
        </p:txBody>
      </p:sp>
      <p:sp>
        <p:nvSpPr>
          <p:cNvPr id="312" name="Text Box 5"/>
          <p:cNvSpPr/>
          <p:nvPr/>
        </p:nvSpPr>
        <p:spPr>
          <a:xfrm>
            <a:off x="762120" y="1143000"/>
            <a:ext cx="761976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egment 8 – Forming the Implementation Team</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Objectives of this Seg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Date Placeholder 1"/>
          <p:cNvSpPr/>
          <p:nvPr/>
        </p:nvSpPr>
        <p:spPr>
          <a:xfrm>
            <a:off x="7543800" y="6477120"/>
            <a:ext cx="990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CEE6-1B4D-4AEE-A3CD-68FB4AAFB412}"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14" name="Footer Placeholder 2"/>
          <p:cNvSpPr/>
          <p:nvPr/>
        </p:nvSpPr>
        <p:spPr>
          <a:xfrm>
            <a:off x="4191120" y="6477120"/>
            <a:ext cx="3352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8 - Forming the Implementation Team</a:t>
            </a:r>
            <a:endParaRPr b="0" lang="en-US" sz="1000" spc="-1" strike="noStrike">
              <a:solidFill>
                <a:srgbClr val="000000"/>
              </a:solidFill>
              <a:latin typeface="Arial"/>
            </a:endParaRPr>
          </a:p>
        </p:txBody>
      </p:sp>
      <p:sp>
        <p:nvSpPr>
          <p:cNvPr id="31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90D61-982B-435C-A8E6-C1ED6F536F8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6" name=""/>
          <p:cNvSpPr txBox="1"/>
          <p:nvPr/>
        </p:nvSpPr>
        <p:spPr>
          <a:xfrm>
            <a:off x="457200" y="1752120"/>
            <a:ext cx="8229600" cy="42958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Implementation is not just an IT projec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Implementation affects wide range of business area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nefit coverage</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yment policie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r relation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ims processing</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stical trending</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aud and Abuse</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dget estimation</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measurement</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iver programs and case management</a:t>
            </a:r>
            <a:endParaRPr b="0" lang="en-US" sz="2000" spc="-1" strike="noStrike">
              <a:solidFill>
                <a:srgbClr val="000000"/>
              </a:solidFill>
              <a:latin typeface="Verdana"/>
            </a:endParaRPr>
          </a:p>
        </p:txBody>
      </p:sp>
      <p:sp>
        <p:nvSpPr>
          <p:cNvPr id="317" name="Text Box 8"/>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Review of Impact Are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Date Placeholder 1"/>
          <p:cNvSpPr/>
          <p:nvPr/>
        </p:nvSpPr>
        <p:spPr>
          <a:xfrm>
            <a:off x="7543800" y="6477120"/>
            <a:ext cx="990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60739-A10C-404D-AB92-09982708E311}"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19" name="Footer Placeholder 2"/>
          <p:cNvSpPr/>
          <p:nvPr/>
        </p:nvSpPr>
        <p:spPr>
          <a:xfrm>
            <a:off x="4191120" y="6477120"/>
            <a:ext cx="3352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8 - Forming the Implementation Team</a:t>
            </a:r>
            <a:endParaRPr b="0" lang="en-US" sz="1000" spc="-1" strike="noStrike">
              <a:solidFill>
                <a:srgbClr val="000000"/>
              </a:solidFill>
              <a:latin typeface="Arial"/>
            </a:endParaRPr>
          </a:p>
        </p:txBody>
      </p:sp>
      <p:sp>
        <p:nvSpPr>
          <p:cNvPr id="32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9103-F739-45CE-8C20-E1E3095EC9C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1" name=""/>
          <p:cNvSpPr txBox="1"/>
          <p:nvPr/>
        </p:nvSpPr>
        <p:spPr>
          <a:xfrm>
            <a:off x="457200" y="1828800"/>
            <a:ext cx="8229600" cy="32004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n the overall projec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areas/business units impact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come “ICD-10 experts” and train other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management and the entire organization inform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come advocates for benefits of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stimate budgets and resources need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the project and keep it on schedule</a:t>
            </a:r>
            <a:endParaRPr b="0" lang="en-US" sz="2200" spc="-1" strike="noStrike">
              <a:solidFill>
                <a:srgbClr val="000000"/>
              </a:solidFill>
              <a:latin typeface="Verdana"/>
            </a:endParaRPr>
          </a:p>
        </p:txBody>
      </p:sp>
      <p:sp>
        <p:nvSpPr>
          <p:cNvPr id="322" name="Text Box 9"/>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Implementation Team Func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Date Placeholder 1"/>
          <p:cNvSpPr/>
          <p:nvPr/>
        </p:nvSpPr>
        <p:spPr>
          <a:xfrm>
            <a:off x="7543800" y="6477120"/>
            <a:ext cx="990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E34E5-405D-4FDD-88B4-A5EC5273CC33}"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24" name="Footer Placeholder 2"/>
          <p:cNvSpPr/>
          <p:nvPr/>
        </p:nvSpPr>
        <p:spPr>
          <a:xfrm>
            <a:off x="4191120" y="6477120"/>
            <a:ext cx="3352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8 - Forming the Implementation Team</a:t>
            </a:r>
            <a:endParaRPr b="0" lang="en-US" sz="1000" spc="-1" strike="noStrike">
              <a:solidFill>
                <a:srgbClr val="000000"/>
              </a:solidFill>
              <a:latin typeface="Arial"/>
            </a:endParaRPr>
          </a:p>
        </p:txBody>
      </p:sp>
      <p:sp>
        <p:nvSpPr>
          <p:cNvPr id="32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326B4-8536-49F1-8956-6C4F4947B91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6" name=""/>
          <p:cNvSpPr txBox="1"/>
          <p:nvPr/>
        </p:nvSpPr>
        <p:spPr>
          <a:xfrm>
            <a:off x="457200" y="205704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a mix of skill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individuals who understand Medicaid business process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individuals who know how processes work together to accomplish task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IT systems perspectiv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people who can describe and chart processes; who understand business improvemen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people who are willing to learn the new “language” of the ICD-10 code set</a:t>
            </a:r>
            <a:endParaRPr b="0" lang="en-US" sz="2200" spc="-1" strike="noStrike">
              <a:solidFill>
                <a:srgbClr val="000000"/>
              </a:solidFill>
              <a:latin typeface="Verdana"/>
            </a:endParaRPr>
          </a:p>
        </p:txBody>
      </p:sp>
      <p:sp>
        <p:nvSpPr>
          <p:cNvPr id="327" name="Text Box 8"/>
          <p:cNvSpPr/>
          <p:nvPr/>
        </p:nvSpPr>
        <p:spPr>
          <a:xfrm>
            <a:off x="762120" y="990720"/>
            <a:ext cx="7619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Skills Are Needed on the Implementation Tea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Date Placeholder 1"/>
          <p:cNvSpPr/>
          <p:nvPr/>
        </p:nvSpPr>
        <p:spPr>
          <a:xfrm>
            <a:off x="7543800" y="6477120"/>
            <a:ext cx="990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49CF-93D8-4103-A757-404AEDA8BC01}"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29" name="Footer Placeholder 2"/>
          <p:cNvSpPr/>
          <p:nvPr/>
        </p:nvSpPr>
        <p:spPr>
          <a:xfrm>
            <a:off x="4191120" y="6477120"/>
            <a:ext cx="3352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8 - Forming the Implementation Team</a:t>
            </a:r>
            <a:endParaRPr b="0" lang="en-US" sz="1000" spc="-1" strike="noStrike">
              <a:solidFill>
                <a:srgbClr val="000000"/>
              </a:solidFill>
              <a:latin typeface="Arial"/>
            </a:endParaRPr>
          </a:p>
        </p:txBody>
      </p:sp>
      <p:sp>
        <p:nvSpPr>
          <p:cNvPr id="33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7B271-9F1D-484D-B4D9-D9666B55873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1" name=""/>
          <p:cNvSpPr txBox="1"/>
          <p:nvPr/>
        </p:nvSpPr>
        <p:spPr>
          <a:xfrm>
            <a:off x="457200" y="1828800"/>
            <a:ext cx="8229600" cy="2743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ject planning and management skill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ople ready and willing to challenge the status quo</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ople who can communicate the big picture of change due to ICD-10, and why changes are necessary and beneficial</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n understanding of the benefits of ICD-10 and the willingness to support them</a:t>
            </a:r>
            <a:endParaRPr b="0" lang="en-US" sz="2200" spc="-1" strike="noStrike">
              <a:solidFill>
                <a:srgbClr val="000000"/>
              </a:solidFill>
              <a:latin typeface="Verdana"/>
            </a:endParaRPr>
          </a:p>
        </p:txBody>
      </p:sp>
      <p:sp>
        <p:nvSpPr>
          <p:cNvPr id="332" name="Text Box 8"/>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Skills Are Need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Date Placeholder 1"/>
          <p:cNvSpPr/>
          <p:nvPr/>
        </p:nvSpPr>
        <p:spPr>
          <a:xfrm>
            <a:off x="7543800" y="6477120"/>
            <a:ext cx="990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3067E-47A9-41EE-981E-91C4AA312A32}"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34" name="Footer Placeholder 2"/>
          <p:cNvSpPr/>
          <p:nvPr/>
        </p:nvSpPr>
        <p:spPr>
          <a:xfrm>
            <a:off x="4191120" y="6477120"/>
            <a:ext cx="3352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8 - Forming the Implementation Team</a:t>
            </a:r>
            <a:endParaRPr b="0" lang="en-US" sz="1000" spc="-1" strike="noStrike">
              <a:solidFill>
                <a:srgbClr val="000000"/>
              </a:solidFill>
              <a:latin typeface="Arial"/>
            </a:endParaRPr>
          </a:p>
        </p:txBody>
      </p:sp>
      <p:sp>
        <p:nvSpPr>
          <p:cNvPr id="33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11F1-12A9-48E6-A203-0014943396C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6" name=""/>
          <p:cNvSpPr txBox="1"/>
          <p:nvPr/>
        </p:nvSpPr>
        <p:spPr>
          <a:xfrm>
            <a:off x="457200" y="1828440"/>
            <a:ext cx="8229600" cy="34290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arter team and clearly set out responsibiliti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ive team the necessary authorit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ive team the necessary resourc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 team the specific time it needs </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 accountability to a specific executive sponsor</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t the organization know about thi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 this as a priority projec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the deadline and make it!</a:t>
            </a:r>
            <a:endParaRPr b="0" lang="en-US" sz="2200" spc="-1" strike="noStrike">
              <a:solidFill>
                <a:srgbClr val="000000"/>
              </a:solidFill>
              <a:latin typeface="Verdana"/>
            </a:endParaRPr>
          </a:p>
        </p:txBody>
      </p:sp>
      <p:sp>
        <p:nvSpPr>
          <p:cNvPr id="337" name="Text Box 8"/>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Team Process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Date Placeholder 1"/>
          <p:cNvSpPr/>
          <p:nvPr/>
        </p:nvSpPr>
        <p:spPr>
          <a:xfrm>
            <a:off x="7543800" y="6477120"/>
            <a:ext cx="990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DBED2-ED80-4713-A148-AD13CFBA2340}"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39" name="Footer Placeholder 2"/>
          <p:cNvSpPr/>
          <p:nvPr/>
        </p:nvSpPr>
        <p:spPr>
          <a:xfrm>
            <a:off x="4191120" y="6477120"/>
            <a:ext cx="3352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8 - Forming the Implementation Team</a:t>
            </a:r>
            <a:endParaRPr b="0" lang="en-US" sz="1000" spc="-1" strike="noStrike">
              <a:solidFill>
                <a:srgbClr val="000000"/>
              </a:solidFill>
              <a:latin typeface="Arial"/>
            </a:endParaRPr>
          </a:p>
        </p:txBody>
      </p:sp>
      <p:sp>
        <p:nvSpPr>
          <p:cNvPr id="34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C986-7587-4B82-BECE-6B3D89B8FC9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1" name=""/>
          <p:cNvSpPr txBox="1"/>
          <p:nvPr/>
        </p:nvSpPr>
        <p:spPr>
          <a:xfrm>
            <a:off x="457200" y="1752480"/>
            <a:ext cx="8229600" cy="41911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o initial assessment and get executive level buy-in</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velop the overall project plan</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ck against plan and report progress; adjust plan as necessar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 communication to executive levels and to the organization as a whol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termine training schedul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vendor progres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and resolve issu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up quality management or independent verification and validation (IV&amp;V) process</a:t>
            </a:r>
            <a:endParaRPr b="0" lang="en-US" sz="2200" spc="-1" strike="noStrike">
              <a:solidFill>
                <a:srgbClr val="000000"/>
              </a:solidFill>
              <a:latin typeface="Verdana"/>
            </a:endParaRPr>
          </a:p>
        </p:txBody>
      </p:sp>
      <p:sp>
        <p:nvSpPr>
          <p:cNvPr id="342" name="Text Box 8"/>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Team Responsibil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1"/>
          <p:cNvSpPr/>
          <p:nvPr/>
        </p:nvSpPr>
        <p:spPr>
          <a:xfrm>
            <a:off x="7543800" y="6477120"/>
            <a:ext cx="990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C6598-117F-478E-BA0A-0F20EDC36FAC}"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44" name="Footer Placeholder 2"/>
          <p:cNvSpPr/>
          <p:nvPr/>
        </p:nvSpPr>
        <p:spPr>
          <a:xfrm>
            <a:off x="4191120" y="6477120"/>
            <a:ext cx="3352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8 - Forming the Implementation Team</a:t>
            </a:r>
            <a:endParaRPr b="0" lang="en-US" sz="1000" spc="-1" strike="noStrike">
              <a:solidFill>
                <a:srgbClr val="000000"/>
              </a:solidFill>
              <a:latin typeface="Arial"/>
            </a:endParaRPr>
          </a:p>
        </p:txBody>
      </p:sp>
      <p:sp>
        <p:nvSpPr>
          <p:cNvPr id="34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EE7C-42E1-4C95-AD83-F3DCD798EDA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6" name=""/>
          <p:cNvSpPr txBox="1"/>
          <p:nvPr/>
        </p:nvSpPr>
        <p:spPr>
          <a:xfrm>
            <a:off x="457200" y="1828800"/>
            <a:ext cx="8229600" cy="28195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dedicated implementation team is critical to this projec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team needs a wide variety of skill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well-documented set of roles and responsibilities is necessary for a successful team</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team should be charged with assuring the compliance date it met</a:t>
            </a:r>
            <a:endParaRPr b="0" lang="en-US" sz="2200" spc="-1" strike="noStrike">
              <a:solidFill>
                <a:srgbClr val="000000"/>
              </a:solidFill>
              <a:latin typeface="Verdana"/>
            </a:endParaRPr>
          </a:p>
        </p:txBody>
      </p:sp>
      <p:sp>
        <p:nvSpPr>
          <p:cNvPr id="347" name="Text Box 8"/>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umma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Sherry Scott</cp:lastModifiedBy>
  <dcterms:modified xsi:type="dcterms:W3CDTF">2009-11-02T17:24:42Z</dcterms:modified>
  <cp:revision>431</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10</vt:lpwstr>
  </property>
  <property fmtid="{D5CDD505-2E9C-101B-9397-08002B2CF9AE}" pid="4" name="Status">
    <vt:lpwstr>Draft</vt:lpwstr>
  </property>
</Properties>
</file>