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44" name="PlaceHolder 2"/>
          <p:cNvSpPr>
            <a:spLocks noGrp="1"/>
          </p:cNvSpPr>
          <p:nvPr>
            <p:ph type="dt" idx="76"/>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5"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1046"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7" name="PlaceHolder 5"/>
          <p:cNvSpPr>
            <a:spLocks noGrp="1"/>
          </p:cNvSpPr>
          <p:nvPr>
            <p:ph type="ftr" idx="77"/>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048" name="PlaceHolder 6"/>
          <p:cNvSpPr>
            <a:spLocks noGrp="1"/>
          </p:cNvSpPr>
          <p:nvPr>
            <p:ph type="sldNum" idx="78"/>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31C624-AAC5-471F-A6FC-14FF1A8BF5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06640" y="696960"/>
            <a:ext cx="4647960" cy="3486240"/>
          </a:xfrm>
          <a:prstGeom prst="rect">
            <a:avLst/>
          </a:prstGeom>
          <a:ln w="0">
            <a:noFill/>
          </a:ln>
        </p:spPr>
      </p:sp>
      <p:sp>
        <p:nvSpPr>
          <p:cNvPr id="11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1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A0931A-A3F5-4676-A68E-4429A373B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6640" y="696960"/>
            <a:ext cx="464796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is an ongoing effort to expand the use of electronic health records by providers.  EHRs will be used to document the care that patients receive, and this documentation will be used to support the diagnoses that are submitted on claims.  It is expected that EHRs will contain the tools necessary to link documentation to ICD-10 codes.  Conversely, state agencies should be able to “reach back” to provider EHRs to get the documentation used to support these codes.  And, with the more specific ICD-10 codes, state agencies will be able to ask more specific questions for documentation, cutting down on administrative burdens.</a:t>
            </a:r>
            <a:endParaRPr b="0" lang="en-US" sz="1000" spc="-1" strike="noStrike">
              <a:solidFill>
                <a:srgbClr val="000000"/>
              </a:solidFill>
              <a:latin typeface="Calibri"/>
            </a:endParaRPr>
          </a:p>
        </p:txBody>
      </p:sp>
      <p:sp>
        <p:nvSpPr>
          <p:cNvPr id="1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0A5836-AB8C-462A-8855-F2CC2C2C3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6640" y="696960"/>
            <a:ext cx="464796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y for performance and provider quality measurement are key drivers in today’s health care world.  Many of the measures used for these efforts are based on specific diagnoses.  With ICD-10, we have an opportunity to develop more targeted and more accurate quality measures, since we have better diagnosis information.  This gives us the opportunity to improve quality measurement and pay for performance, which should lead to  better quality health care for Medicaid beneficiaries.</a:t>
            </a:r>
            <a:endParaRPr b="0" lang="en-US" sz="1000" spc="-1" strike="noStrike">
              <a:solidFill>
                <a:srgbClr val="000000"/>
              </a:solidFill>
              <a:latin typeface="Calibri"/>
            </a:endParaRPr>
          </a:p>
        </p:txBody>
      </p:sp>
      <p:sp>
        <p:nvSpPr>
          <p:cNvPr id="1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FC4B63-B51E-4BDC-AFF1-49742DE39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6640" y="696960"/>
            <a:ext cx="464796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the beneficiary perspective, we can also use the improved information on claims data.  Agencies can use the more specific diagnosis information to determine if beneficiaries are getting the right care at the right time.  Measuring the severity of patient conditions also enables agencies to see if there are improvements in a patient’s health.   Comparisons can be made among providers, among treatment patterns, and between Medicaid populations and other populations.</a:t>
            </a:r>
            <a:endParaRPr b="0" lang="en-US" sz="1000" spc="-1" strike="noStrike">
              <a:solidFill>
                <a:srgbClr val="000000"/>
              </a:solidFill>
              <a:latin typeface="Calibri"/>
            </a:endParaRPr>
          </a:p>
        </p:txBody>
      </p:sp>
      <p:sp>
        <p:nvSpPr>
          <p:cNvPr id="1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D6D36B-6632-4EC7-A61D-22B1F870F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6640" y="696960"/>
            <a:ext cx="464796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s now consider a longer-term opportunity – Using the better information provided on claims for strategic planning.  This is another chance to start making some data-based decisions for major program changes.  Revised benefit packages, caseload trends, changing provider mixes, etc. , are all decisions that can be looked at and possibly supported by data that is being routinely collected on claims.</a:t>
            </a:r>
            <a:endParaRPr b="0" lang="en-US" sz="1000" spc="-1" strike="noStrike">
              <a:solidFill>
                <a:srgbClr val="000000"/>
              </a:solidFill>
              <a:latin typeface="Calibri"/>
            </a:endParaRPr>
          </a:p>
        </p:txBody>
      </p:sp>
      <p:sp>
        <p:nvSpPr>
          <p:cNvPr id="1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6BE2DC-F875-4196-A7E7-A0846821B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6640" y="696960"/>
            <a:ext cx="464796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summary, ICD-10 provides better information on diagnoses and inpatient hospital procedures.  This data is routinely collected on claims and can be used to improve many of the functions of state Medicaid programs.</a:t>
            </a:r>
            <a:endParaRPr b="0" lang="en-US" sz="1000" spc="-1" strike="noStrike">
              <a:solidFill>
                <a:srgbClr val="000000"/>
              </a:solidFill>
              <a:latin typeface="Calibri"/>
            </a:endParaRPr>
          </a:p>
        </p:txBody>
      </p:sp>
      <p:sp>
        <p:nvSpPr>
          <p:cNvPr id="1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4351BB-A22B-40B9-89A5-A713013DF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06640" y="696960"/>
            <a:ext cx="4647960" cy="3486240"/>
          </a:xfrm>
          <a:prstGeom prst="rect">
            <a:avLst/>
          </a:prstGeom>
          <a:ln w="0">
            <a:noFill/>
          </a:ln>
        </p:spPr>
      </p:sp>
      <p:sp>
        <p:nvSpPr>
          <p:cNvPr id="11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egment will explain the total benefits of using the ICD-10 code set to enhance all areas of the Medicaid Enterprise.</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6640" y="696960"/>
            <a:ext cx="464796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y are we making the switch from ICD-9 codes to ICD-10 codes?  Frankly, we have been using ICD-9 codes for over 25 years.  The code set has not been able to keep up with the changes in medicine, with some of the newer conditions, and with the newer ways of treating patients.  The ICD-10 diagnosis code set has been designed to capture much more specific information  on the patient’s diagnosis.  The procedure code set will enable hospitals to record much more specific information on procedures performed and devices used.</a:t>
            </a:r>
            <a:endParaRPr b="0" lang="en-US" sz="1000" spc="-1" strike="noStrike">
              <a:solidFill>
                <a:srgbClr val="000000"/>
              </a:solidFill>
              <a:latin typeface="Calibri"/>
            </a:endParaRPr>
          </a:p>
        </p:txBody>
      </p:sp>
      <p:sp>
        <p:nvSpPr>
          <p:cNvPr id="11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0489C5-F9C1-4D4D-B72D-A4596B584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6640" y="696960"/>
            <a:ext cx="464796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is information will be captured on claims and submitted to State Medicaid Agencies, the agencies have an opportunity to use better information for decisions on what to cover, how much to pay, and how a beneficiary’s health can be better managed.  This may be accomplished without collecting any more data from providers.  This presents a significant opportunity to upgrade your current data analysis capabilities and apply results in a variety of are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AF7AEA-F5E4-4EB9-898C-9FF1A4B3B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6640" y="696960"/>
            <a:ext cx="464796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nefits of using the ICD-10 code set cover a wide range of applications and impact many areas. </a:t>
            </a:r>
            <a:endParaRPr b="0" lang="en-US" sz="1000" spc="-1" strike="noStrike">
              <a:solidFill>
                <a:srgbClr val="000000"/>
              </a:solidFill>
              <a:latin typeface="Calibri"/>
            </a:endParaRPr>
          </a:p>
        </p:txBody>
      </p:sp>
      <p:sp>
        <p:nvSpPr>
          <p:cNvPr id="1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735679-241A-4CF8-86B6-7C2E5728A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6640" y="696960"/>
            <a:ext cx="464796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and perhaps the most important area, is improving the care management of beneficiaries, especially in targeted areas.  First, there are improved opportunities to identify candidates for care management, as the diagnoses will be more specific.  Second, you will have the ability to track the severity of conditions and measure a patient’s progress if their disease becomes less severe.  You can take the opportunity to identify more specific disease clusters and design both educational programs and new care management programs for beneficiaries.</a:t>
            </a:r>
            <a:endParaRPr b="0" lang="en-US" sz="1000" spc="-1" strike="noStrike">
              <a:solidFill>
                <a:srgbClr val="000000"/>
              </a:solidFill>
              <a:latin typeface="Calibri"/>
            </a:endParaRPr>
          </a:p>
        </p:txBody>
      </p:sp>
      <p:sp>
        <p:nvSpPr>
          <p:cNvPr id="1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6A578C-8257-4944-A360-F618D575C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6640" y="696960"/>
            <a:ext cx="464796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codes could provide an opportunity for more efficient care and processing of claim payments.  With the more specific information on diagnoses, analyses may be able to identify those procedures that are more effective and cost-efficient in severe cases, and not necessary in less severe cases, enabling the savings of Medicaid dollars.   On the administrative side, the codes provide more information on the claim.  There should be less need to request additional information from providers to make payment decisions, so administrative savings can be achieved.</a:t>
            </a:r>
            <a:endParaRPr b="0" lang="en-US" sz="1000" spc="-1" strike="noStrike">
              <a:solidFill>
                <a:srgbClr val="000000"/>
              </a:solidFill>
              <a:latin typeface="Calibri"/>
            </a:endParaRPr>
          </a:p>
        </p:txBody>
      </p:sp>
      <p:sp>
        <p:nvSpPr>
          <p:cNvPr id="1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9EEE11-AACA-44C6-B6D9-B3E189104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6640" y="696960"/>
            <a:ext cx="464796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re are federal requirements to cover medical care, states still have some flexibility in determining when care is medically necessary and should be covered, and how much to pay for certain types of patients.  Starting  as soon as possible (even today!), State Medicaid Agencies should begin reviewing their coverage and payment policies to determine how they may be able to be modified to take advantage of the better information in ICD-10 codes (more specifics, severity indications).  Policies can be modified to identify more specific conditions and use that information to adjust coverage and payment.  This should result in more accurate payments based on the difficulty in treating the patient’s conditions.</a:t>
            </a:r>
            <a:endParaRPr b="0" lang="en-US" sz="1000" spc="-1" strike="noStrike">
              <a:solidFill>
                <a:srgbClr val="000000"/>
              </a:solidFill>
              <a:latin typeface="Calibri"/>
            </a:endParaRPr>
          </a:p>
        </p:txBody>
      </p:sp>
      <p:sp>
        <p:nvSpPr>
          <p:cNvPr id="11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30F475-D076-4D05-8AC7-02A0B76FE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6640" y="696960"/>
            <a:ext cx="464796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aud and abuse is a continuing issue for state Medicaid programs, and data analyses have proven to be of great benefit in identifying patterns that may indicate fraudulent or abusive behavior on the part of a provider or beneficiary.   Now, we will have better data from our claims to identify patterns.  There may be opportunities prior to claims payment to recognize diagnosis-to-procedure mismatches.    Your fraud and abuse units should be looking at these opportunities and begin planning to use the ICD-10 codes.</a:t>
            </a:r>
            <a:endParaRPr b="0" lang="en-US" sz="1000" spc="-1" strike="noStrike">
              <a:solidFill>
                <a:srgbClr val="000000"/>
              </a:solidFill>
              <a:latin typeface="Calibri"/>
            </a:endParaRPr>
          </a:p>
        </p:txBody>
      </p:sp>
      <p:sp>
        <p:nvSpPr>
          <p:cNvPr id="11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16C471-BD9F-4914-B3BB-3EC887FF9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C4BF4-F3A1-4E40-B8FC-AFC7A87E6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FE21-6B81-4F4F-9F7B-3BF80A0F4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FD792C-9D06-47C4-95E7-C8A7B2F9A5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96DEC5-66F4-4783-B037-0D3CDA558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D64B2-BC3D-4DF3-91D6-572CE6EBE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3E2435-379F-4CC2-A5B1-51A437910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6F56C-142E-4079-8E73-166B3E6D4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FE42D-3312-4AAE-BAE8-38A4622C3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586052-3C03-44D9-A523-D7777C28A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60158C-3CEB-4A5C-BAEA-3544F98D5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562C5-6686-43C2-9944-EAB1BCF5F4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F6C5D5-BFB5-4116-9F6F-EE9DE7B0B1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F3172-F56B-4ED1-9FE0-7835E2B6E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071073-FBC1-4ECD-8238-805337EDC0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F2A5E5-BA9B-482C-995C-44BBF44F85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263E38-A01C-4BB4-981A-026CA33CF6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474A55-F033-458E-B811-9D3A268137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FD6EF8-4101-47ED-B22A-6037CFCB6E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4D17CB-E6FC-45BF-BFA9-72EA911E27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542A5F-5AEA-49AD-8153-27493D484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A7F7FC-1BD3-4688-83BD-3B773AC0DD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C7545B-0F2A-4F71-B023-0D186B6B9B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9B9AB3-5D44-4AFD-AFFE-223E0D2611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869A2-621B-4EE4-ACF1-F602FA13E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18D2D7-2442-45DB-B879-03C71C7791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3E8C6F-C677-4CCA-B15C-A3BB5A7F24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CFED4D-AAC8-4E94-A18B-2F52893F5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2CE4C0-7171-467E-861F-229D28174D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AAD9C5-72A0-4C1A-B90B-317CB8F441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6DAA89-4BF9-4BE1-AE31-400B7AE013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065537-BE91-430E-89EA-6F48B18A33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80C40-F6B3-4A13-A456-C9DFE0D741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8AAEAE-D0B0-4953-B392-4BC26D35A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0E5545-BB2C-4990-894D-8E87739F91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87F4C-08CC-4DB7-87C0-064BA154A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D71712-C538-406D-B223-97C35B2EE0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7A3DF4-687B-4CB8-B62C-B743211723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0C3842-2A2E-4B39-91E0-8B7A72C84D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38D45C-BEF5-45F5-A0E7-6276601469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1DD345-5FB4-48CB-B80E-42DFBD4854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AAA65D-2574-4E3B-8037-145A7773B9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EFAE29-A310-48E8-9EA1-8D3F81CD02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779333-DC80-4726-A9D3-45D4677443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CB098F-040E-4E2D-B9F3-CC3917B68D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ECEC01-B5C3-4CF5-BC95-FBB1D18ED9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45107-76D2-4882-BBC4-9CDBC04A9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E21844-C1E5-4C7D-8991-033C1DD079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BC9E9C-58F0-4960-8F79-9F079F79F8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CD1F92-2765-4261-AB5C-52CEF16F2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5F8D55-EF0B-43D3-BDC0-E205AD7C67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4827A7-A31B-41DC-98CD-B61B009A60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FBC102-D9BD-4464-815E-1E7457D115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936CA0-A594-40D5-AA50-6C0BE7A4C3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7DB8E8-CFBF-49B6-B4C0-FD9D533837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22BA0B-8AB9-4C0C-9ED4-57D1DAC2F6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254FD6-83E2-48D4-A03A-E8DA7FEC3C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23F5-25F0-4241-B55D-5F095D298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EA7FEB-6CA1-4A1E-AEAA-49B7F948BB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DD3F6B-F750-4950-9090-7C88B122BE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2058D8-A305-45BA-80B0-0EF6D18650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2208AE-C408-45A4-A63A-A2CD3F30CC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845C1B-C202-43DE-8219-043ABF2006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33BE93-3978-499B-B34B-628EF5DBBB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86CB4F-EC23-44A9-BBFB-6CAD5F362F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680C8A-0524-4C71-B05D-96911AB102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90A484-F28E-4B6D-9AD5-CC695A463E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9AEE44-B7D4-48D7-93F5-FF0818ED71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3C643-937C-4724-9B13-651FE7F8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028B3D-C160-48C4-AA96-BFE0B5A3FA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AE0E64-6BA8-418D-B77E-8AA8C47E8B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BDFCD4-E02F-44B4-A985-78E0CF04F7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BF5038-5CF0-431B-9E51-A31802036E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415AAD-CBDE-45FC-AC96-D8023FA5A3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1B08BA-D3B8-436F-8F49-9C12B61321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DBB19B-3A05-43E3-8394-2D0706AD1E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38ADBDE-2C8F-4AB7-BC3D-845C0554A6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93A425-082E-40AB-8DFE-0AA7F2DD7F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055DEF-2D70-442B-846B-0C8D4D3BB9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F5B69-581A-4F47-B68D-229841F8A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DEACC8-DE02-448D-AD36-74C0CD22B7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115724-E5A6-42E0-B859-10C0F0D71E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F40956-AFFC-44D5-A464-D3CDCB30E5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1F133B-22EB-4648-962E-333C1A90B9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361EE9-A586-4764-8699-9DC5D7C8DF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1926B7-764A-46DD-AEB0-50EB6686C7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325CAC-C4BB-422B-A40B-DA15E86E3B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E097A4-1C64-450F-BCA9-5FA6504969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5671C5-2E5A-44A0-A255-69CB15A991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D72E76E-B072-41A7-B2DF-80FD89010E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CB081-56C5-4BFA-8FC5-C741A35B5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8BF6B40-2CA0-4497-A246-C7A6CCF064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00AABA0-36C4-4021-86AB-5FF8922994F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CE4395-E81E-48D9-A5FE-87E572602B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DE0F19-EEF9-49F8-B203-322954B9CA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BE8BFD-989C-4D61-8B96-A8332516A2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179989-559B-4A5E-93EF-D3DC17C56D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CA3D7E-1452-43B1-911D-1EFB385114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972BF9-F193-4BD8-BE98-83F5A68304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8181D6-FA28-4E7F-913F-2B08DCD248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3CFCA0-619B-4514-9E82-B190C7F8F2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636E1-7C44-406F-91A1-EA069A92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265021-CD2F-4BB4-9599-92DBB7A690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5630FFF-F070-44A7-9273-8AF8654FD7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7BA29B3-6720-4219-9D83-D61ECC004B6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6D2BC3B-B31A-4610-802C-6B9D0C7601A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16C169-160C-4671-8E23-6C540C8308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1BA961-93B1-4FE5-861B-F446F7AAF8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1AA604-42CD-4566-89E6-B22C95CC2B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62834D-B42A-4F25-A35A-66BC37326F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0E38DA-914F-4AE3-A5E5-641D9E54FF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E7CA8F-96BB-4360-A97C-3A3F045265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9BAA1-3461-4CC3-8D8B-7344DD37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FEB72-3DBB-49CC-A585-53156ACC1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AAA3CA-32B7-4F31-A9BD-E2DBF16060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2F081A-F8A1-4B6A-A84C-176DB83541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47CB07-F110-4112-871F-29F7656CC2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720F394-FF88-46D1-9778-1AB9B8E0E1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56B5C8D-9CF3-4802-AC07-7EB8778EA5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965A78C-8D34-47FB-9242-183AB1F8B65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BFB9BE6-2991-4357-94BC-2A55D0F4B4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D03C82-AAE9-4E2F-87F3-89D280A9B4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95AE12-9D13-4BBC-A046-00C2E53574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9C5130-636C-4BEC-B635-F8896582C2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A0A37-F6A3-42DA-932F-5736A976A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9BF785-629D-4CDE-9473-00640B8750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440808-B9C8-4390-B466-96F31160DF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745E28-14BC-4549-ABFB-087C3622DF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025254-732C-4A02-84C4-7E29AB3D07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729D46-DFC8-4C65-AA07-59F5C019993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D47A7F-1825-4401-9FA2-1B7406A51F9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7011617-C4DB-4F03-A86C-170F3F5656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51410D-A36A-4ED1-94C5-6284D776250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DE7002-BE98-4578-A2A1-024863DD60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86AAE3-3F05-4F43-BA99-C4176C144F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490AD-9F53-431E-9CB1-4D32ED4F2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0D05273-820E-4086-AED0-A4DC79FC7D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20200E-94B2-4546-B169-54747F0F323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6330723-E6C4-46E4-8B1A-A363EBAE65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B93E03-82A3-48F2-A0F2-2ACE60B664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CAE455-DA45-4E2F-B42B-0456465E65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038845-CEC4-4D2C-9E32-5A2D9B3DBF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299C40-1BB2-4DB1-8681-A1D8409EB1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145A9C-26E3-4893-A10D-D9BA314E345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7403680-0765-4220-BBE3-E281050376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4611075-61C2-4A3E-BCF5-8830A5E8263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5AC2F-206C-49B0-8065-98E00CA2F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125BB3B-7998-4ABE-B09B-8A1FD263AA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E56CAC-BB7F-4230-80FD-22077A6360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BFB7EC-8A00-48F2-895A-824F38D860F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98948CA-8DB2-4D16-AA5E-64A2851A37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CB6A6EE-959D-4D94-BA0F-E6F6D58CA9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0824E7-0084-4D2F-BEB1-6C6A093E76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9261CB-699D-442C-A7B7-496BF3D5BE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358F9A-3526-4FB9-8AB6-A01C38B4AFC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1A17DDA-A44D-4379-98D9-833FC98883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44113AD-E0EE-4E94-A1D4-025EFCAFFD4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5A087-FF41-49D2-9E9A-84B4D4BD2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591071E-BE13-4AE5-89E5-A48D9332A82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7BD8F36-8F00-4FAE-ADF9-46463F113EE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3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46EBD46-60FE-441A-8944-7122C09DDC4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EC55CDF-9236-450C-BF86-2C6CADD62FA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3724526-6E3A-4CDC-B2E3-86FDD504EB0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8F5DAF-5F97-4144-A7FA-481ABA0A14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6435ED-CCDD-4715-8365-BF359500719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69B0FC-C82C-4AE6-82AB-7C52F06C36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5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C0C701-546C-4D67-89C2-F4D77A632F5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9E89CC-2F13-49C1-BAAF-32B633C68DD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8324BE-7182-46DC-874F-06850EC60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F078702-097F-4455-826A-DE54F4EE3A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C7E3C3C-1832-45F7-9D6A-2C8E5A357D0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B9C60EE-4B34-4564-B5E3-AA13590EFA0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C7FBEA6-C16F-4FF6-A724-C7484063EC4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447325-13DD-4AD9-96A8-8CA564DEF6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C555AEB-586B-41C3-BF18-C965A96FE4C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367F1E-B358-4A97-BDB0-9DAD652E05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55EC08-7633-43BB-8826-31187439D5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B9FEADB-F18B-4DAE-B545-0D6BF3C0A0F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E60DC2-417C-487B-A206-22874B1EED1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21DF7-BB90-4D15-997F-F5E61F901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9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31F5870-35CA-4FA3-9CE9-B4BE7CF2A55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4CB0A3-121D-48B7-954B-97CAFC3EC5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1FB8E58-5775-4062-9486-7885B21A405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4424A99-2156-4551-B45C-6DE5B656F17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E364A3B-E047-45A4-977B-1B35BB51A6E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9E8E879-F53C-45EE-812C-19A62CB2E53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2449E3-50DD-4526-9BD5-10D73055BE2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AEBEC2-349E-49BB-B83C-FDF3E0AAF42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9AB1C47-8255-4E46-82F5-3279727289A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2E21BE1-E766-4B85-A4E6-FBCB67C659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D6E1F-18F6-462D-90BD-CBFBD9D83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67BC62E-CC1A-4497-8F4E-50E696E1FA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DE2708D-DECE-40D7-83DA-D117DEB31B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06887C8-1022-45E0-A223-EE451C9F2F1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B5210B4-CE69-4161-8B34-A0CBCADF1F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4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0BFD85-DB14-41E6-9888-C73B594379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4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2F86BAA-3376-4562-A87A-F7BEA3AC20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F21E315-137A-4E42-8696-D8017900851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A2E0EED-7095-4D6C-AB0C-B474B86ED64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862101D-24BE-4D9A-BF57-9584CC769F4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AFB57CE-F0CD-416C-8F24-0A68F3B8E61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C2612-16DF-4EE9-BBA6-C16FD7064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077204-A1A5-4A64-A55E-EADFEFCD26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4D2EA4D-700F-455D-AFDC-61CEA867D49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E91590C-DBEC-4BD0-A7E3-356CC3784F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BBB6F0-41EC-43AE-BFD0-7CC6B0B72C0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6B0D2CE-93F9-481F-BCA4-923669F535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7EC8FE6-3316-4533-B82F-B7C04E72784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8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09CEF57-1668-4451-8BAC-6199898F649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8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7B60BB6-7742-4F99-BD98-95D3D3C4CC4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9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BC6C7E-4EE4-4A4F-9A0F-5CE00BEDD8C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666CED3-1587-4880-9920-A94F66A5B2A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6FC62D-A318-4F5C-9388-842D94E24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4DC0342-3224-4599-B18A-E88BEB129D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B085B6A-8BF1-4922-B9FE-F8127577C18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C34FF89-CFEA-43EA-A203-7458AAA5C1D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60322AB-BE89-4379-9072-EBA1CAFE61B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901A071-7398-4FD4-8FAA-5B65C5E9F9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5BADE06-992B-44A8-A33C-7C068723828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A1C98BA-E06A-4315-BA0D-9C50645255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24F4A76-E5FD-4825-A215-B3AE13B1C0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F84367-7867-4C6C-A695-A7C5230E593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D9F237E-8EBC-42A3-BB64-1BDE0D369D9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0BBF1-4BB4-4469-9C54-5DD7D4C6E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CCFD6-24E6-4223-A9F2-4FC94D0C3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3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31915C5-3DC8-462C-958F-832B87989AC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4328B-FC65-4982-8B64-D225B1E3A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891A0-18DF-4620-B689-FDF6FE64C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5A12E-BEB9-4318-9B2E-29BBCF592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03AF2-06DB-4C9C-B6D1-FD9D406C6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5738B-C89E-4E59-AFB6-EFBCC63C7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ED896-083B-40E2-83C2-E55EEFADBD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552F75-5159-4A9A-AE18-FAB5418047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0E0D1-DABF-41ED-BE97-A014A08BE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9DCAA-9E8B-4D99-83BB-9E65F92F1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81C4-3063-4B08-BFD5-F7E517F0B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CE6B3-A731-4B16-AF77-979B29BC5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DDB65-2B3D-447E-A206-8B27F3EA1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C08D8-402C-4138-833A-BD0BB5C09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0A38E-2A51-4A4A-933D-CABF6C4A5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A310E-397B-4104-B352-14FCDD9C6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C9860-1DBD-4BE9-AD39-680EB1857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3EFBA-7CA0-41CB-918A-5C422DF52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43B83-AC10-4D6B-A27B-DFD32E60A8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E40FA5-7B9B-4265-8209-FA92E2282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8BED70-8CAB-4F8B-B80D-13F07989D8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3716-4C83-4B48-908A-BDE2F262D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BBC02-8A75-42B9-970B-1B3F6A660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A4AA5-0FAC-49D1-8ED0-A2130CB93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CB946-5F5C-4178-9921-0556CB74A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B5630-EDF6-4EB4-84A5-B2D6BAE67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442CD-5223-4851-81DB-D456EE3B2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7D248-D7D7-49DC-B3BB-C6789C735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1A60D-0EC4-40C0-B24B-9083A42F5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148B0-E418-4961-9391-DC95A372F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5A80C-A602-4FDE-860A-4F1C8FB64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E0E3E-313B-484A-AF2D-8F7598580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41C2-68BA-418F-B2CA-5649D8573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F4B61D-7321-4BA4-942C-F23B7ABE8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53335-66A4-414D-BF0B-088A5628BB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CB820-9AF7-480C-8C99-57DBAE451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E7A2DC-E824-4B7D-A9E2-B8AA19F48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ED030-80A1-4BAE-89DA-D3DC8419A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C3B7E-1CD9-4447-AC73-F4B6C6A87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BEA08-02C9-402F-8F20-6E3CE7220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6486D-8CB9-4E25-AA5F-618FAFD36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5AAC2-7D66-4EBD-9817-A9F8AC20B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F8E45-C0B5-4527-B170-08FC33B92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4221-75D9-4A13-A422-1F27F067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D862B4-E70F-43F8-B255-6502E03F33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CD2FE0-1BE1-4029-8576-06368B75C4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17565B-FDCC-44EB-AF9B-3875FAAE9C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1C2ED-C8DB-4850-B430-0414D33C28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63DCC-046D-4EC4-A0D8-8DD0BF4414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E632C-2346-406C-BCF9-2CC0ABAD9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1CB6F-FE16-4A94-AC59-08724B8DC9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F5E62-BE5F-4F57-9B04-13CA1A279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084033-0B05-49BC-9FA9-D5D96D5B7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684B7-C6B5-46BC-BD92-4170D841A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4B9E-3D9F-42BC-ACD4-0B18E641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84B250-509F-4053-B267-71DA69B44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1863E-F52C-4853-A526-967F71E7E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735339-60D8-4DDE-9BC3-0FE3BB289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D8646A-3E40-4C55-BA2C-C1CBB02AF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2C87BA-F2C7-41AB-BF69-B76C9B51D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8FC6BF-8DA9-414B-8EBD-9C1C0DCB0F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BC85B-29A7-4FBD-88B4-CCD032A6E9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02095-39B1-4106-B039-BCBF07C72C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89162-88B8-4CF5-A4D8-F5C6DCA306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A87737-7D88-4315-829F-CFD04077A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FC6D-AE70-48BC-AF7B-56010CA2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FEAD6-A1CA-4700-9CB5-695EC94B7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72C28-2E3A-43AC-8776-106FEE51F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BD68E-F54B-4E33-BAB7-AED0F986D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EF4F8-4CC5-4D1B-8613-18A5A7076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A6B1E-A95A-4B06-889D-EBA3F9B65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7C96F5-C8AF-4455-B94E-E47A0A0505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84A010-E54F-410D-AC4F-755ABD202A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DC990C-DC55-4923-ADFD-A37F28AD7E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47D961-FECF-449B-96D3-F64581185D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F47FB7-89A0-468C-BC4C-600B6899DC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F336-A4C2-4005-B4EE-E18046A311C8}"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D591-01AD-4219-92B7-E529CD13E63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Text Box 13"/>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6" name="Picture 8" descr="CMS_logo"/>
          <p:cNvPicPr/>
          <p:nvPr/>
        </p:nvPicPr>
        <p:blipFill>
          <a:blip r:embed="rId2"/>
          <a:stretch/>
        </p:blipFill>
        <p:spPr>
          <a:xfrm>
            <a:off x="228600" y="304920"/>
            <a:ext cx="1976400" cy="734760"/>
          </a:xfrm>
          <a:prstGeom prst="rect">
            <a:avLst/>
          </a:prstGeom>
          <a:ln w="0">
            <a:noFill/>
          </a:ln>
        </p:spPr>
      </p:pic>
      <p:pic>
        <p:nvPicPr>
          <p:cNvPr id="7" name="Picture 5" descr="HHS"/>
          <p:cNvPicPr/>
          <p:nvPr/>
        </p:nvPicPr>
        <p:blipFill>
          <a:blip r:embed="rId3"/>
          <a:stretch/>
        </p:blipFill>
        <p:spPr>
          <a:xfrm>
            <a:off x="7772400" y="152280"/>
            <a:ext cx="106668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4D46-51FD-4D59-AB83-249499667C7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FF96-CD48-4FE0-B7C6-247195B6DC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5B9C-2916-4FBD-93A1-5DD9EB70466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2C03-4354-4601-9E1B-94249C79F6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40D4-3787-45DA-91EA-0B347F52D19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D0BA-52B4-46EF-A2F9-931C8A3FB5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73FC-D103-4CA1-8B12-47E839C150B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0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BE52-F9D4-4152-B11C-6CE9EA133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317D-3B60-4B45-BD10-56AE92C426D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A771-E1D4-465C-8951-614151718C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229F-12A7-4E65-96A4-B5C8B5D7BD3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8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58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480E-4AC0-4BB2-8A10-A4F17C328C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75A9-41A9-4862-A47D-88391527183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2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62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8ABF-1BD0-4FC5-AA97-40F412409A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8ADA-B8EF-4DC7-A8FA-E38D3F9814B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6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67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5F8A-AD53-4948-834B-C13EF590CF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AAEB-9035-4997-9502-A70F0A11240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1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71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9C99-8B34-4370-B714-A1FE36164D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49"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0"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51" name="Picture 8" descr="CMS_logo"/>
          <p:cNvPicPr/>
          <p:nvPr/>
        </p:nvPicPr>
        <p:blipFill>
          <a:blip r:embed="rId2"/>
          <a:stretch/>
        </p:blipFill>
        <p:spPr>
          <a:xfrm>
            <a:off x="152280" y="152280"/>
            <a:ext cx="1976400" cy="735120"/>
          </a:xfrm>
          <a:prstGeom prst="rect">
            <a:avLst/>
          </a:prstGeom>
          <a:ln w="0">
            <a:noFill/>
          </a:ln>
        </p:spPr>
      </p:pic>
      <p:pic>
        <p:nvPicPr>
          <p:cNvPr id="752" name="Picture 5" descr="HHS"/>
          <p:cNvPicPr/>
          <p:nvPr/>
        </p:nvPicPr>
        <p:blipFill>
          <a:blip r:embed="rId3"/>
          <a:stretch/>
        </p:blipFill>
        <p:spPr>
          <a:xfrm>
            <a:off x="8077320" y="152280"/>
            <a:ext cx="685800" cy="682920"/>
          </a:xfrm>
          <a:prstGeom prst="rect">
            <a:avLst/>
          </a:prstGeom>
          <a:ln w="0">
            <a:noFill/>
          </a:ln>
        </p:spPr>
      </p:pic>
      <p:sp>
        <p:nvSpPr>
          <p:cNvPr id="753" name="PlaceHolder 3"/>
          <p:cNvSpPr>
            <a:spLocks noGrp="1"/>
          </p:cNvSpPr>
          <p:nvPr>
            <p:ph type="dt" idx="55"/>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D76A-8B67-4AE1-9BD0-8C03B409E421}"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754" name="PlaceHolder 4"/>
          <p:cNvSpPr>
            <a:spLocks noGrp="1"/>
          </p:cNvSpPr>
          <p:nvPr>
            <p:ph type="ftr" idx="56"/>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023E-3AE8-4B63-8853-3EF195AC46F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D6A8-417A-4D01-AF1E-34519A053D0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6469-83AA-44B4-AF65-0AA69F9F8E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F5A8-6038-4BE0-9527-FF4268C9348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7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B6AE-E07F-44D7-B7AE-3B8846990C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E511-565F-456D-8B58-ADCB619558C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572C-795A-420B-AE2A-AB5DEE7450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7B81-6BC5-4CE8-8A0B-EE5E7B1527B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8549-B468-4057-AE7C-67501FB994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23D5-2B36-4D4E-B48F-48C1A6D91B1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9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D7E1-58D8-420E-BF4A-E87CDEAE60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3F35-CC12-4AA8-A6E1-C338710DE28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9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36E4-DC2C-43DF-99BC-032F9C2486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9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999"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00"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1001" name="Picture 8" descr="CMS_logo"/>
          <p:cNvPicPr/>
          <p:nvPr/>
        </p:nvPicPr>
        <p:blipFill>
          <a:blip r:embed="rId2"/>
          <a:stretch/>
        </p:blipFill>
        <p:spPr>
          <a:xfrm>
            <a:off x="152280" y="152280"/>
            <a:ext cx="1976400" cy="735120"/>
          </a:xfrm>
          <a:prstGeom prst="rect">
            <a:avLst/>
          </a:prstGeom>
          <a:ln w="0">
            <a:noFill/>
          </a:ln>
        </p:spPr>
      </p:pic>
      <p:pic>
        <p:nvPicPr>
          <p:cNvPr id="1002" name="Picture 5" descr="HHS"/>
          <p:cNvPicPr/>
          <p:nvPr/>
        </p:nvPicPr>
        <p:blipFill>
          <a:blip r:embed="rId3"/>
          <a:stretch/>
        </p:blipFill>
        <p:spPr>
          <a:xfrm>
            <a:off x="8077320" y="152280"/>
            <a:ext cx="685800" cy="682920"/>
          </a:xfrm>
          <a:prstGeom prst="rect">
            <a:avLst/>
          </a:prstGeom>
          <a:ln w="0">
            <a:noFill/>
          </a:ln>
        </p:spPr>
      </p:pic>
      <p:sp>
        <p:nvSpPr>
          <p:cNvPr id="1003" name="PlaceHolder 3"/>
          <p:cNvSpPr>
            <a:spLocks noGrp="1"/>
          </p:cNvSpPr>
          <p:nvPr>
            <p:ph type="dt" idx="73"/>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F6B6-EBB6-4FA3-892E-498302773221}"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1004" name="PlaceHolder 4"/>
          <p:cNvSpPr>
            <a:spLocks noGrp="1"/>
          </p:cNvSpPr>
          <p:nvPr>
            <p:ph type="ftr" idx="74"/>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5"/>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4E7C-BE36-42F0-9BF7-20D62461380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A75B-4B29-4EFE-80E2-88B835AFA82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2380-B74B-4725-BB2A-04F8B5A90A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1DCA-C05B-4BF4-9D5B-3AE7BBB0ABB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794C-0107-4991-BAAF-2F1E3BC875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1504-F371-4188-B8CD-A63F8ADD520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735A-5638-426E-8ADC-0586233EAD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3E43-DD8F-45B8-BCBA-E378330738D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7F28-AFAF-42DA-AAE5-27BDD1BB4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9BB9-E36C-4AF7-B365-ECDA6D279E75}"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7D32-D4C4-4F3B-895C-F3659F6996E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58" name="Text Box 11"/>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9" name="Picture 8" descr="CMS_logo"/>
          <p:cNvPicPr/>
          <p:nvPr/>
        </p:nvPicPr>
        <p:blipFill>
          <a:blip r:embed="rId4"/>
          <a:stretch/>
        </p:blipFill>
        <p:spPr>
          <a:xfrm>
            <a:off x="228600" y="304920"/>
            <a:ext cx="1976400" cy="734760"/>
          </a:xfrm>
          <a:prstGeom prst="rect">
            <a:avLst/>
          </a:prstGeom>
          <a:ln w="0">
            <a:noFill/>
          </a:ln>
        </p:spPr>
      </p:pic>
      <p:pic>
        <p:nvPicPr>
          <p:cNvPr id="260" name="Picture 5" descr="HHS"/>
          <p:cNvPicPr/>
          <p:nvPr/>
        </p:nvPicPr>
        <p:blipFill>
          <a:blip r:embed="rId5"/>
          <a:stretch/>
        </p:blipFill>
        <p:spPr>
          <a:xfrm>
            <a:off x="7772400" y="152280"/>
            <a:ext cx="106668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9A5B-0B4E-47AC-8B81-AFF29C6B7DC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0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0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FFEF-47B3-4294-8B9E-58D191D4A2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0C9C-E2EA-48A0-B58B-A9E4307817E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C1F4-CCB7-4AF5-B54B-8C7D783C2E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1931-BF3A-4159-8267-A8223C8B46F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0" name="Date Placeholder 6"/>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AE58-8724-4828-B3F8-685358484C4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51"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0B49-19D2-4D08-B87E-C6F133453E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2" name="Footer Placeholder 8"/>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53" name="Rectangle 3"/>
          <p:cNvSpPr/>
          <p:nvPr/>
        </p:nvSpPr>
        <p:spPr>
          <a:xfrm>
            <a:off x="4572000" y="4343400"/>
            <a:ext cx="41148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3</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Benefits of Using</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ICD-10</a:t>
            </a:r>
            <a:endParaRPr b="0" lang="en-US" sz="2800" spc="-1" strike="noStrike">
              <a:solidFill>
                <a:srgbClr val="000000"/>
              </a:solidFill>
              <a:latin typeface="Arial"/>
            </a:endParaRPr>
          </a:p>
        </p:txBody>
      </p:sp>
      <p:sp>
        <p:nvSpPr>
          <p:cNvPr id="105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1055" name="Rectangle 12"/>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1057" name="TextBox 10"/>
          <p:cNvSpPr/>
          <p:nvPr/>
        </p:nvSpPr>
        <p:spPr>
          <a:xfrm>
            <a:off x="4648320" y="912960"/>
            <a:ext cx="373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685800" y="2288880"/>
            <a:ext cx="7391520" cy="3740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codes must be supported by documentation contained in EHR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that the tools for ICD-10 coding will be included in new EHRs </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uld be able to link codes directly to specific inform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ests for information will be more specific and accurate</a:t>
            </a:r>
            <a:endParaRPr b="0" lang="en-US" sz="2100" spc="-1" strike="noStrike">
              <a:solidFill>
                <a:srgbClr val="000000"/>
              </a:solidFill>
              <a:latin typeface="Verdana"/>
            </a:endParaRPr>
          </a:p>
        </p:txBody>
      </p:sp>
      <p:sp>
        <p:nvSpPr>
          <p:cNvPr id="109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E0FE-C7A9-4584-8D6C-4C8674CABF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6F24-5016-4B86-B90E-14E15C6BA55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0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02" name="Text Box 7"/>
          <p:cNvSpPr/>
          <p:nvPr/>
        </p:nvSpPr>
        <p:spPr>
          <a:xfrm>
            <a:off x="762120" y="1143000"/>
            <a:ext cx="7619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Links to Electronic Health Records and Additional Inform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685440" y="1904760"/>
            <a:ext cx="7543800" cy="2895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quality measures are either based on or specific to diagno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provides an opportunity to create more targeted and more accurate quality measures by using better diagnosis inform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r quality and performance measures can thus be improved, and the data considered more accurate</a:t>
            </a:r>
            <a:endParaRPr b="0" lang="en-US" sz="2100" spc="-1" strike="noStrike">
              <a:solidFill>
                <a:srgbClr val="000000"/>
              </a:solidFill>
              <a:latin typeface="Verdana"/>
            </a:endParaRPr>
          </a:p>
        </p:txBody>
      </p:sp>
      <p:sp>
        <p:nvSpPr>
          <p:cNvPr id="110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6E8A-7B84-40A2-BC85-BCDBB22183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F57F-C9A7-422D-8D3A-7884723C8EA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0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07" name="Text Box 7"/>
          <p:cNvSpPr/>
          <p:nvPr/>
        </p:nvSpPr>
        <p:spPr>
          <a:xfrm>
            <a:off x="762120" y="1219320"/>
            <a:ext cx="761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Quality and Performanc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799920" y="182880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should provide better information on claim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caid agencies can use this information to determine if beneficiaries are getting the right car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look at provider patterns of care versus industry benchmark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re Medicaid population with other populations</a:t>
            </a:r>
            <a:endParaRPr b="0" lang="en-US" sz="2100" spc="-1" strike="noStrike">
              <a:solidFill>
                <a:srgbClr val="000000"/>
              </a:solidFill>
              <a:latin typeface="Verdana"/>
            </a:endParaRPr>
          </a:p>
        </p:txBody>
      </p:sp>
      <p:sp>
        <p:nvSpPr>
          <p:cNvPr id="11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550F-2DF0-4FC6-B972-17157EACB3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1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1F09-2328-4197-A46B-E9FCEDEA241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1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12"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Quality As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799920" y="2057400"/>
            <a:ext cx="75438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ategic planning is another opportunity for use of the better data that ICD-10 will provid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enough data is collected, trending can begin and support strategic planning for:</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ng beneficiary demographic information with condi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ing at provider caseload trends by condi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ing better benefit packages for the Medicaid population</a:t>
            </a:r>
            <a:endParaRPr b="0" lang="en-US" sz="2000" spc="-1" strike="noStrike">
              <a:solidFill>
                <a:srgbClr val="000000"/>
              </a:solidFill>
              <a:latin typeface="Verdana"/>
            </a:endParaRPr>
          </a:p>
        </p:txBody>
      </p:sp>
      <p:sp>
        <p:nvSpPr>
          <p:cNvPr id="111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C33F-935C-43EC-8BB3-B9216924345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1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B097-2D60-4A92-9AF4-B9773CBE171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1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17" name="Text Box 7"/>
          <p:cNvSpPr/>
          <p:nvPr/>
        </p:nvSpPr>
        <p:spPr>
          <a:xfrm>
            <a:off x="609480" y="12193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Verdana"/>
              </a:rPr>
              <a:t>Strategic Planning for Beneficiary, Provider, and Benefit Services Improv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799920" y="2057400"/>
            <a:ext cx="7543800" cy="2286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provides better information on diagnoses and inpatient hospital procedur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data is routinely collected on claim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can be used to improve many of the functions of the State Medicaid program</a:t>
            </a:r>
            <a:endParaRPr b="0" lang="en-US" sz="2400" spc="-1" strike="noStrike">
              <a:solidFill>
                <a:srgbClr val="000000"/>
              </a:solidFill>
              <a:latin typeface="Verdana"/>
            </a:endParaRPr>
          </a:p>
        </p:txBody>
      </p:sp>
      <p:sp>
        <p:nvSpPr>
          <p:cNvPr id="111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4932-470B-431B-B4B9-78D334B8C0C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2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BD88-E44E-4EF0-BD77-46F787DD2AB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12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22" name="Text Box 7"/>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p:nvPr>
        </p:nvSpPr>
        <p:spPr>
          <a:xfrm>
            <a:off x="457200" y="2368440"/>
            <a:ext cx="8229600" cy="2291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better understand the total benefits of using the ICD-10 code set to enhance all areas of the Medicaid Enterprise</a:t>
            </a:r>
            <a:endParaRPr b="0" lang="en-US" sz="2100" spc="-1" strike="noStrike">
              <a:solidFill>
                <a:srgbClr val="000000"/>
              </a:solidFill>
              <a:latin typeface="Verdana"/>
            </a:endParaRPr>
          </a:p>
        </p:txBody>
      </p:sp>
      <p:sp>
        <p:nvSpPr>
          <p:cNvPr id="1059" name="Date Placeholder 3"/>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88E-CFE3-480A-BA52-B3A64087039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6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54C4-45B1-474A-8FD1-AD43E19F88F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6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62" name="Text Box 8"/>
          <p:cNvSpPr/>
          <p:nvPr/>
        </p:nvSpPr>
        <p:spPr>
          <a:xfrm>
            <a:off x="762120" y="1066680"/>
            <a:ext cx="7619760" cy="11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Verdana"/>
              </a:rPr>
              <a:t>Segment 3 - Benefits of Using ICD-10</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Verdana"/>
              </a:rPr>
              <a:t>Objectives of this Seg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685440" y="182880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replaces a 25-year-old code set that has failed to keep up with modern terminology and practic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detailed information on a patient’s condition through specific diagno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a more specific and modern approach to classifying inpatient hospital procedures</a:t>
            </a:r>
            <a:endParaRPr b="0" lang="en-US" sz="2200" spc="-1" strike="noStrike">
              <a:solidFill>
                <a:srgbClr val="000000"/>
              </a:solidFill>
              <a:latin typeface="Verdana"/>
            </a:endParaRPr>
          </a:p>
        </p:txBody>
      </p:sp>
      <p:sp>
        <p:nvSpPr>
          <p:cNvPr id="106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48EC-795A-495B-BAFB-5D890D5681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6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4DBA-9013-459D-B3CC-2F377C1969D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6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67"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Rationale for ICD-10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457200" y="190512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the greater specificity of ICD-10-CM diagnoses and ICD-10-PCS procedure codes, claims information can be used for data capture and analy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ay enable you to avoid collection of additional data from provi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caid agencies can take advantage of this better information for a wide variety of func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can upgrade your current data analysis of diagnoses and procedures, and enable you to start using data for additional purposes</a:t>
            </a:r>
            <a:endParaRPr b="0" lang="en-US" sz="2200" spc="-1" strike="noStrike">
              <a:solidFill>
                <a:srgbClr val="000000"/>
              </a:solidFill>
              <a:latin typeface="Verdana"/>
            </a:endParaRPr>
          </a:p>
        </p:txBody>
      </p:sp>
      <p:sp>
        <p:nvSpPr>
          <p:cNvPr id="106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C017-2083-4E54-842E-4482476456C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7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0426-444A-4FA7-ACD9-769E4C4A4D7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7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72" name="Text Box 7"/>
          <p:cNvSpPr/>
          <p:nvPr/>
        </p:nvSpPr>
        <p:spPr>
          <a:xfrm>
            <a:off x="5335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pportunity fo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609120" y="1752120"/>
            <a:ext cx="7543800" cy="4343400"/>
          </a:xfrm>
          <a:prstGeom prst="rect">
            <a:avLst/>
          </a:prstGeom>
          <a:noFill/>
          <a:ln w="0">
            <a:noFill/>
          </a:ln>
        </p:spPr>
        <p:txBody>
          <a:bodyPr anchor="t">
            <a:normAutofit/>
          </a:bodyPr>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roved care management of beneficiari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oost efficiencies by identification of specific health conditions, diagnoses, and procedur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ore effective coverage and payment determination</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etter data for fraud and abuse monitoring</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ks to electronic health records (EHRs) and additional information</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rategic planning for member, provider, and benefit service improvement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erformance monitoring and increased capacity to report quality measur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ality assurance of clinical and administrative processes</a:t>
            </a:r>
            <a:endParaRPr b="0" lang="en-US" sz="1900" spc="-1" strike="noStrike">
              <a:solidFill>
                <a:srgbClr val="000000"/>
              </a:solidFill>
              <a:latin typeface="Verdana"/>
            </a:endParaRPr>
          </a:p>
        </p:txBody>
      </p:sp>
      <p:sp>
        <p:nvSpPr>
          <p:cNvPr id="107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0F4C-4105-42E0-9631-B8C9DBAA83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7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F436-A327-4D6C-9A1F-D87380E08CF9}"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7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77" name="Text Box 7"/>
          <p:cNvSpPr/>
          <p:nvPr/>
        </p:nvSpPr>
        <p:spPr>
          <a:xfrm>
            <a:off x="609480" y="10666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Range of Appl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799920" y="2209680"/>
            <a:ext cx="7543800" cy="374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tter diagnosis identification provides opportunity to:</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andidates sooner for special attention:</a:t>
            </a:r>
            <a:endParaRPr b="0" lang="en-US" sz="20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a:t>
            </a:r>
            <a:endParaRPr b="0" lang="en-US" sz="18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thma</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k severity of disease and measure progres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disease groupings that may merit special atten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educational programs, as disease clusters are identified</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new care management programs</a:t>
            </a:r>
            <a:endParaRPr b="0" lang="en-US" sz="2000" spc="-1" strike="noStrike">
              <a:solidFill>
                <a:srgbClr val="000000"/>
              </a:solidFill>
              <a:latin typeface="Verdana"/>
            </a:endParaRPr>
          </a:p>
        </p:txBody>
      </p:sp>
      <p:sp>
        <p:nvSpPr>
          <p:cNvPr id="10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D40C-6FEB-4CC8-A597-5D4939E8DED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6182-3466-4833-9B18-0480B1CCD0D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8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82" name="Text Box 7"/>
          <p:cNvSpPr/>
          <p:nvPr/>
        </p:nvSpPr>
        <p:spPr>
          <a:xfrm>
            <a:off x="533520" y="1066680"/>
            <a:ext cx="7619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Improved Care Management of Benefici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799920" y="2057040"/>
            <a:ext cx="7543800" cy="3530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provides more specific information about diagnoses and inpatient hospital procedur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hould provide an opportunity to determine which types of procedures are the most cost-effective for specific condition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may be a way to start saving Medicaid payment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administrative side, there should be less need for additional information to make payment decisions</a:t>
            </a:r>
            <a:endParaRPr b="0" lang="en-US" sz="2000" spc="-1" strike="noStrike">
              <a:solidFill>
                <a:srgbClr val="000000"/>
              </a:solidFill>
              <a:latin typeface="Verdana"/>
            </a:endParaRPr>
          </a:p>
        </p:txBody>
      </p:sp>
      <p:sp>
        <p:nvSpPr>
          <p:cNvPr id="108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8B67-8E47-4859-88AB-C59C7862417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3419-D5EA-49A1-B2C3-42FE56CF3E6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8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87" name="Text Box 7"/>
          <p:cNvSpPr/>
          <p:nvPr/>
        </p:nvSpPr>
        <p:spPr>
          <a:xfrm>
            <a:off x="762120" y="121932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Boost Effici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799920" y="2209680"/>
            <a:ext cx="75438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re specific information provided in the ICD-10 codes presents an opportunity for coverage and policy revision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cies can now pinpoint more specific conditions and more specific procedur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id programs can make better decisions on whether or not to cover procedures based on better diagnosis information on the claim</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id programs can more accurately pay for procedures based on specific diagnoses and the severity of the diagnosis</a:t>
            </a:r>
            <a:endParaRPr b="0" lang="en-US" sz="2000" spc="-1" strike="noStrike">
              <a:solidFill>
                <a:srgbClr val="000000"/>
              </a:solidFill>
              <a:latin typeface="Verdana"/>
            </a:endParaRPr>
          </a:p>
        </p:txBody>
      </p:sp>
      <p:sp>
        <p:nvSpPr>
          <p:cNvPr id="108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FCFD-886F-4843-A2BB-6A6AD5F96D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9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7FB8-DF02-4FCC-80D4-A9097D877FE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9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92" name="Text Box 7"/>
          <p:cNvSpPr/>
          <p:nvPr/>
        </p:nvSpPr>
        <p:spPr>
          <a:xfrm>
            <a:off x="609480" y="1143000"/>
            <a:ext cx="762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ore Effective Coverage and Payment Determ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09120" y="190512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mproves the specificity of diagnos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ncludes lateralit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data provides more pattern recognition opportun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be able to recognize more diagnosis-to-procedure mismatches</a:t>
            </a:r>
            <a:endParaRPr b="0" lang="en-US" sz="2400" spc="-1" strike="noStrike">
              <a:solidFill>
                <a:srgbClr val="000000"/>
              </a:solidFill>
              <a:latin typeface="Verdana"/>
            </a:endParaRPr>
          </a:p>
        </p:txBody>
      </p:sp>
      <p:sp>
        <p:nvSpPr>
          <p:cNvPr id="10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1C80-FF8C-4A41-9E88-D571CD3D44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9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3E86-A4E9-4058-9166-C7A1DDB1F41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109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97" name="Text Box 7"/>
          <p:cNvSpPr/>
          <p:nvPr/>
        </p:nvSpPr>
        <p:spPr>
          <a:xfrm>
            <a:off x="609480" y="114300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Better Data for Fraud and Ab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6:39:40Z</dcterms:modified>
  <cp:revision>65</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