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8"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39" name="PlaceHolder 2"/>
          <p:cNvSpPr>
            <a:spLocks noGrp="1"/>
          </p:cNvSpPr>
          <p:nvPr>
            <p:ph type="dt" idx="61"/>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0"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841"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2" name="PlaceHolder 5"/>
          <p:cNvSpPr>
            <a:spLocks noGrp="1"/>
          </p:cNvSpPr>
          <p:nvPr>
            <p:ph type="ftr" idx="62"/>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3" name="PlaceHolder 6"/>
          <p:cNvSpPr>
            <a:spLocks noGrp="1"/>
          </p:cNvSpPr>
          <p:nvPr>
            <p:ph type="sldNum" idx="63"/>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924A4E5-7FC8-405E-8E6A-1BF7EF7B3D5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3A76A4B-3173-4E57-A1AE-57475123A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106640" y="696960"/>
            <a:ext cx="4647960" cy="3486240"/>
          </a:xfrm>
          <a:prstGeom prst="rect">
            <a:avLst/>
          </a:prstGeom>
          <a:ln w="0">
            <a:noFill/>
          </a:ln>
        </p:spPr>
      </p:sp>
      <p:sp>
        <p:nvSpPr>
          <p:cNvPr id="91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9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35DA69-49E2-41F9-9759-9A5A975E2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334135-A555-48F8-8540-B1C5E7DCB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06640" y="696960"/>
            <a:ext cx="4647960" cy="3486240"/>
          </a:xfrm>
          <a:prstGeom prst="rect">
            <a:avLst/>
          </a:prstGeom>
          <a:ln w="0">
            <a:noFill/>
          </a:ln>
        </p:spPr>
      </p:sp>
      <p:sp>
        <p:nvSpPr>
          <p:cNvPr id="95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A Level 5 focuses on utilization of data to make the Medicaid Enterprise most efficient and effective.  ICD-10 enables national and international interoperability because it is now the code set used by the rest of the world.  Medicaid members who receive care in Canada, Mexico, or other international locations can have clinical data from those countries returned to the Medicaid Enterprise to which they belong.  Program planning and evaluation use the detail from diagnoses to create optimal care for the most cost-effective price.</a:t>
            </a:r>
            <a:endParaRPr b="0" lang="en-US" sz="1200" spc="-1" strike="noStrike">
              <a:solidFill>
                <a:srgbClr val="000000"/>
              </a:solidFill>
              <a:latin typeface="Calibri"/>
            </a:endParaRPr>
          </a:p>
        </p:txBody>
      </p:sp>
      <p:sp>
        <p:nvSpPr>
          <p:cNvPr id="9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9CBBD89-DA0A-4059-AD14-BDA2EB3DC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386296-F288-49F9-BA12-406F1F267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06640" y="696960"/>
            <a:ext cx="4647960" cy="3486240"/>
          </a:xfrm>
          <a:prstGeom prst="rect">
            <a:avLst/>
          </a:prstGeom>
          <a:ln w="0">
            <a:noFill/>
          </a:ln>
        </p:spPr>
      </p:sp>
      <p:sp>
        <p:nvSpPr>
          <p:cNvPr id="95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ain the most value from the ICD-10 detail, all health care entities should maximize their ability to accept and process the codes and their respective meanings.  Crosswalks may enable the code to enter the system , but will lose the value because the relationship between ICD-9 and ICD-10 is not straightforward.  In one instance, one ICD-9 code maps to over  2,500 ICD-10 codes. (Non-union of a fracture = broken bone vs. exhaustive list of little toe, big nose: location of injury; repeat visit. Care management: pinky versus thigh bone.)   Such a crosswalk would be nearly impossible to map in and map out with accu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tates have multiple systems to process transactions and maintain data for reporting.  It will be important to assure that the detail of ICD-10 is not lost in translation between multiple systems.  Data shared between trading partners, such as providers and vendors, will also be more valuable if maintained in their original state.</a:t>
            </a:r>
            <a:endParaRPr b="0" lang="en-US" sz="1200" spc="-1" strike="noStrike">
              <a:solidFill>
                <a:srgbClr val="000000"/>
              </a:solidFill>
              <a:latin typeface="Calibri"/>
            </a:endParaRPr>
          </a:p>
        </p:txBody>
      </p:sp>
      <p:sp>
        <p:nvSpPr>
          <p:cNvPr id="9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A44241-44D0-49B5-9AED-B12CEA7983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A79E3F-91CC-4C0F-8B98-B7D69C69D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06640" y="696960"/>
            <a:ext cx="4647960" cy="3486240"/>
          </a:xfrm>
          <a:prstGeom prst="rect">
            <a:avLst/>
          </a:prstGeom>
          <a:ln w="0">
            <a:noFill/>
          </a:ln>
        </p:spPr>
      </p:sp>
      <p:sp>
        <p:nvSpPr>
          <p:cNvPr id="95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provides the capability to have extremely detailed data available as a communication between providers, health plans, vendors, contractors, etc., for use in managing the Medicaid program.  Additionally, such data can be used to limit the program liability by improved coordination of benefits.  As data is used for administrative and payment purposes, it can be easily retrieved for program management and care management activities.</a:t>
            </a:r>
            <a:endParaRPr b="0" lang="en-US" sz="1200" spc="-1" strike="noStrike">
              <a:solidFill>
                <a:srgbClr val="000000"/>
              </a:solidFill>
              <a:latin typeface="Calibri"/>
            </a:endParaRPr>
          </a:p>
        </p:txBody>
      </p:sp>
      <p:sp>
        <p:nvSpPr>
          <p:cNvPr id="9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7ACD4D-3E80-4FA4-A2DA-F0D3F32AE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B78A93D-5605-4FAB-BDC8-9BC73496F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06640" y="696960"/>
            <a:ext cx="4647960" cy="3486240"/>
          </a:xfrm>
          <a:prstGeom prst="rect">
            <a:avLst/>
          </a:prstGeom>
          <a:ln w="0">
            <a:noFill/>
          </a:ln>
        </p:spPr>
      </p:sp>
      <p:sp>
        <p:nvSpPr>
          <p:cNvPr id="96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is an integral part of meeting the goals and maturity capabilities of the MITA structure.  Business processes will improve when Medicaid Enterprises make the most effective use of the increased detail in ICD-10.  Interoperability and clinical data enable a more client-centric Medicaid program that improves care while managing costs eff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F23377-A6A3-4846-A281-D914C08C1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355822-0D1A-4ECE-ABEB-E4F06FCAA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06640" y="696960"/>
            <a:ext cx="4647960" cy="3486240"/>
          </a:xfrm>
          <a:prstGeom prst="rect">
            <a:avLst/>
          </a:prstGeom>
          <a:ln w="0">
            <a:noFill/>
          </a:ln>
        </p:spPr>
      </p:sp>
      <p:sp>
        <p:nvSpPr>
          <p:cNvPr id="9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Segment 4, in which we will focus on how ICD-10 can enable states to make progress toward the MITA goals established for maturity model Levels  4 and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88AA48-E91D-4761-940A-3488F2460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06640" y="696960"/>
            <a:ext cx="4647960" cy="3486240"/>
          </a:xfrm>
          <a:prstGeom prst="rect">
            <a:avLst/>
          </a:prstGeom>
          <a:ln w="0">
            <a:noFill/>
          </a:ln>
        </p:spPr>
      </p:sp>
      <p:sp>
        <p:nvSpPr>
          <p:cNvPr id="9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lear that the MITA mission determines to have technology support the business processes that improve program administration for Medicaid.  A significant portion of that support involves the use of standard transactions, interfaces, and terminology that enables Medicaid agencies to communicate effectively with other healthcare partners –  this is what we call “interoperability.”  </a:t>
            </a:r>
            <a:endParaRPr b="0" lang="en-US" sz="1200" spc="-1" strike="noStrike">
              <a:solidFill>
                <a:srgbClr val="000000"/>
              </a:solidFill>
              <a:latin typeface="Calibri"/>
            </a:endParaRPr>
          </a:p>
        </p:txBody>
      </p:sp>
      <p:sp>
        <p:nvSpPr>
          <p:cNvPr id="9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3E727A-DDA7-4EF8-AEC0-1E0FC3B2C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7956CB-4BAE-4423-BED8-3961C2EBC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06640" y="696960"/>
            <a:ext cx="4647960" cy="3486240"/>
          </a:xfrm>
          <a:prstGeom prst="rect">
            <a:avLst/>
          </a:prstGeom>
          <a:ln w="0">
            <a:noFill/>
          </a:ln>
        </p:spPr>
      </p:sp>
      <p:sp>
        <p:nvSpPr>
          <p:cNvPr id="9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will be very important to achieving all of these goals.  The next few slides will demonstrate how ICD-10 will impact each of these important MITA goals.</a:t>
            </a:r>
            <a:endParaRPr b="0" lang="en-US" sz="1200" spc="-1" strike="noStrike">
              <a:solidFill>
                <a:srgbClr val="000000"/>
              </a:solidFill>
              <a:latin typeface="Calibri"/>
            </a:endParaRPr>
          </a:p>
        </p:txBody>
      </p:sp>
      <p:sp>
        <p:nvSpPr>
          <p:cNvPr id="9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4D5EEFA-9F84-4AD1-B041-95A87C8AB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4514D4-E5FB-4563-ACCB-25CDF27BC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06640" y="696960"/>
            <a:ext cx="4647960" cy="3486240"/>
          </a:xfrm>
          <a:prstGeom prst="rect">
            <a:avLst/>
          </a:prstGeom>
          <a:ln w="0">
            <a:noFill/>
          </a:ln>
        </p:spPr>
      </p:sp>
      <p:sp>
        <p:nvSpPr>
          <p:cNvPr id="9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has developed a way to measure a Medicaid Enterprise’s progress toward meeting the goals of MITA, called MITA maturity model levels.  These levels demonstrate definable progress over a continuum of 5 – 10 years.  Most states have business processes at Level 1 or Level 2 currently.  Progression to Level 3 requires more automation and the use of standard transactions, MITA standard interfaces, and standard terminology.  At Level 4 we begin to see the use of, and benefits from clinical data, and at Level 5, interoperability at a national and international level will be realized.  ICD-10 will be a critical element of the maturity levels  from Level 3 forward. The clinical content of the ICD-10 code will help us achieve Level  4 improvements. Let us take a look at these levels in more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2F3D3E3-9D87-455A-AF8A-E9910E0A8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4" name="PlaceHolder 1"/>
          <p:cNvSpPr>
            <a:spLocks noGrp="1"/>
          </p:cNvSpPr>
          <p:nvPr>
            <p:ph type="sldImg"/>
          </p:nvPr>
        </p:nvSpPr>
        <p:spPr>
          <a:xfrm>
            <a:off x="1106640" y="696960"/>
            <a:ext cx="4647960" cy="3486240"/>
          </a:xfrm>
          <a:prstGeom prst="rect">
            <a:avLst/>
          </a:prstGeom>
          <a:ln w="0">
            <a:noFill/>
          </a:ln>
        </p:spPr>
      </p:sp>
      <p:sp>
        <p:nvSpPr>
          <p:cNvPr id="93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progress toward MITA maturity capabilities begins with Level  3.  Implementation of MITA standard interfaces and standard terminology establishes the groundwork for efficiency and effectiveness of the Medicaid business processes.  ICD-10 will play a very important role in this maturity level.  In Training Segment 7, we will discuss the impact of ICD-10 on all the MITA business areas, but it is sufficient to say that most of the business processes will be touched in some way by the utilization of the detail in ICD-10.  Wherever diagnosis information is shared within the Medicaid Enterprise and its health care partners, ICD-10 will be part of that data exchange.  The more a state sets policy to capture and utilize the detail supplied by ICD-10 coding, the better it will be able to progress through the MITA maturity model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CC9504-FACF-4200-BCFE-5AE285F51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53D750-3545-45EF-BA5A-289263C2D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06640" y="696960"/>
            <a:ext cx="4647960" cy="3486240"/>
          </a:xfrm>
          <a:prstGeom prst="rect">
            <a:avLst/>
          </a:prstGeom>
          <a:ln w="0">
            <a:noFill/>
          </a:ln>
        </p:spPr>
      </p:sp>
      <p:sp>
        <p:nvSpPr>
          <p:cNvPr id="93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dicaid operations do not utilize diagnosis information to its fullest extent because ICD-9 has not supported many of the business processes of Medicaid.  The full use of ICD-10 will enable the MMIS to manage all claim types for all kinds of Medicaid Programs, such as mental health, disabilities, etc. that may have previously been managed on separate systems.  This facilitates duplicate checking across claim types and then enables aggregation of data related to specific conditions as they are billed into the professional, institutional, and pharmacy claims.</a:t>
            </a:r>
            <a:endParaRPr b="0" lang="en-US" sz="1200" spc="-1" strike="noStrike">
              <a:solidFill>
                <a:srgbClr val="000000"/>
              </a:solidFill>
              <a:latin typeface="Calibri"/>
            </a:endParaRPr>
          </a:p>
        </p:txBody>
      </p:sp>
      <p:sp>
        <p:nvSpPr>
          <p:cNvPr id="9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B371FC-A1CB-4263-B915-CC076C277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25599D-745E-4E1C-A5CD-7DA01E950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06640" y="696960"/>
            <a:ext cx="4647960" cy="3486240"/>
          </a:xfrm>
          <a:prstGeom prst="rect">
            <a:avLst/>
          </a:prstGeom>
          <a:ln w="0">
            <a:noFill/>
          </a:ln>
        </p:spPr>
      </p:sp>
      <p:sp>
        <p:nvSpPr>
          <p:cNvPr id="94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despread and secure access to clinical data will come about as a result of development and access to Electronic Health Records (EHRs).  This clinical information will provide the detail to support ICD-10 diagnosis coding and ICD-10 diagnoses will provide significantly more detail to programs that use the codes to their advantage.  ICD-10 will represent the clinical component of administrative data, such as claims, remittance advice, prior authorization, and program integrity business functions.  While administrative data will not contain all of the clinical data available in an EHR, it will provide the fundamental building blocks for program improvement, measurement of program objectives, and the improvement of health care outcomes.  It will also establish triggers to seek additional information within specific EH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3C170D-E959-4DE6-8716-D94008733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B30D64-204D-4463-ABCB-F7054EF70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1106640" y="696960"/>
            <a:ext cx="4647960" cy="3486240"/>
          </a:xfrm>
          <a:prstGeom prst="rect">
            <a:avLst/>
          </a:prstGeom>
          <a:ln w="0">
            <a:noFill/>
          </a:ln>
        </p:spPr>
      </p:sp>
      <p:sp>
        <p:nvSpPr>
          <p:cNvPr id="94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lth care business is changing rapidly.  New diseases are being recognized and new procedures are developed quickly.  Incorporating ICD-10 fully enables the rapid addressing of these new functions for better management of the Medicaid program and appropriate payment for the procedures.  Flexible business rules enable minimal system changes, but assure that the benefits of the expanded detail will not be lost in crosswalks that offer no improvement from the current 25-year-old code set.  The ability to define more severe or chronic conditions improves the management of care, edits, DRGs, risks to the Medicaid program, and reimbursement.</a:t>
            </a:r>
            <a:endParaRPr b="0" lang="en-US" sz="1200" spc="-1" strike="noStrike">
              <a:solidFill>
                <a:srgbClr val="000000"/>
              </a:solidFill>
              <a:latin typeface="Calibri"/>
            </a:endParaRPr>
          </a:p>
        </p:txBody>
      </p:sp>
      <p:sp>
        <p:nvSpPr>
          <p:cNvPr id="9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7C6425-D476-4294-8EFF-69488289C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AE21A-BA85-4DCF-8711-C28762581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18D1C-544B-4CEB-B8A6-628E158BB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7556AD-7AB2-408B-A0B2-EDC072664C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54FBA1-A3BB-49A9-A6CF-E8AC7E95A2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2CA1DA-0079-4812-8FCE-60F07EAA78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8B6D14-540D-4167-8CC7-CECF71468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5622A2-C34B-4DE1-9C76-77EE78AE1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B68342-4816-418B-834E-32DF51832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B30B74-0C44-445E-8D81-9AB9C3C279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F52EFD-1036-4718-A449-972B7B0F4B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7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2B4941-27FB-4908-93F8-D28B7A961F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BB5522-9B54-4E1F-AE72-207AE02B04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DDB33-4A19-4644-B50E-C853B60DF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5255BA-F44E-48BB-BF8E-1D3AD39E0F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C20323-B0E9-4261-9845-743119E80D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55BD80-0F9E-428B-AC09-492DE0FF66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2A6CE4-481E-4216-BE3B-8E554C2E21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D6C4C9-8498-44A0-92AA-730F85FA7F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635146-5F16-4485-8BBF-0D7103A5CB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2703FA-FDFA-409D-A4B4-0204BD6DBA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588FD3-DBDF-4FF2-8C73-6954C9BADA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766100-DA56-4687-8990-E4EF0E8D6A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B9F963-65D1-4530-B2D2-84CA2851C1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476B4-40E6-4464-821E-B4967F237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1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9BB444-002F-4FC0-93C2-4927577AF6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447666-5635-47F0-969E-5EB3E19512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B7AA4F-3DE5-465C-889A-6574611984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10B746-483A-451C-8DCE-046ADC7BCD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C1B5B4-1A10-4C53-A3B9-6F141206B2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3B697B-6DEC-4440-BE53-BD0208E51C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0964AD-AA7C-4EF5-8865-3ADA6BA80C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66F41A-D78F-40BC-8ED3-0B4829471A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B16A67-85B4-44AA-9173-DE92724F6A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68F66C-E350-4744-834E-E24CD1D45D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857D0-5FCC-497D-9BF2-6CB86E7C1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FD011F-C992-4F2C-9945-01BDEA6B10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1A3698-93EA-4CA6-B8D6-C00E20C56D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5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4FC8EA-4987-4FB4-9B7C-DD1B349AFC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6482E5-8729-42F2-A3CE-1352F7A3DF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5"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703500-DE4C-49E1-8E55-BB1406C4A3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7"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29ED19-AF8B-4D0B-927A-454A8E0E42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5E788E-0F72-43AF-B41F-E581D34A6F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23E552-8B82-4A46-9FE5-7AAB27B568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EA6ABC-BB10-406B-81FE-D7A92A9750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C42F56-42C0-43E0-A7FE-9505BA90E9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6345D-7E3B-4464-B069-3B8F42AE1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EEBB37-BD25-43B7-861B-5AA81B5023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75DD57-3DAF-4607-AA10-5EDD398098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6"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AA6B69-557B-4E08-8790-F3CB07F36E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16CD1D-87D2-45F7-9B46-4B5E6D8272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4"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9DDF86-A213-43E1-88E3-0939ECB231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29FABDE-8EE8-4FF0-905A-8F11BFD1E8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83FBE7-F017-4C46-B9F0-55189EB136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FB804D-BCB7-463E-A6AD-7C9A298942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C23984-96A9-417E-B512-0A2B162E1D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8B7B5F-08FE-43AF-B9FB-612ED54A98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614F1-6E66-481F-A26E-2684145C2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B5F63C-5EE6-4DE6-B7F7-3451D92852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E4CE10-71EE-4A89-B367-A0F2ECBDAA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1BA2D5-5281-408E-9D5B-0AB3A7FF68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DC0AA2-B37B-4917-9585-F8B45FE6D6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D759F8-5DBB-4921-8B18-5211FB2FCF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062810C-87C9-47E5-9CB0-D5FD393BC3F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EE23DD-5437-49EE-9DD8-00D3E75DBA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199A617-2D76-42D9-9E18-441FFCD85FB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48E777-C6D7-40A0-87CC-8EAA9BF9E1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E7C1C2-ADC8-4B05-AFF1-F76F511D31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8B29A-0CBE-4729-996C-D68200063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080293-5EDA-4907-B494-020B6072E2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0C748F-6A7B-4480-B412-4B1A3FD0EF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168841-2A12-48B6-ADD6-5C06C6F9A2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866418-6A2B-4266-8E36-7144059000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37E8F1-A855-4235-9CF2-5BB910AA98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220E40-0259-47B6-90A8-8EF1141804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EE878A-FFEA-45C8-85FF-65B8A1D08E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95B52AC-6709-4258-9C7D-4AAE667F901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482982F-5C9D-43FA-B420-567DE06AF45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9118680-3603-45AF-94ED-C88DF657824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B683A-AE76-4F61-9962-07007EB09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87DA8CF-D1C9-4049-A9BB-62855EB389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A43050-A9F1-47D1-BFD0-061BB3DBFB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325D02-30F7-4821-BD74-9D4427DA2E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9CFEE50-149B-4D98-9BB8-E0A73AB0981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8C43126-F621-4079-A5AD-F948996F66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CF9931-D1E0-477C-BC5C-6F7216ECE6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B0BFD4C-A52C-45B4-BFE3-4794A003B1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AC7B4C-03A4-44E8-A1F2-D6E5E31BD9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68F29A-A6BB-4692-8E6E-E17BC3CDE1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7E733FA-8F32-43E5-B34B-AA0C9693BF3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457F5-55BD-4B2D-9FDF-CB695C1AE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66BEACA-91D0-48F3-A51B-8005534A02C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6E194D0-002C-4C01-8F94-48E47658FBB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A9BE606-DBE7-4C42-9604-D25D00A0039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14A401-3750-4FAC-B3E9-48134C3BBC4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E4F304-D9EA-439A-9F01-ADF3969E92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F3A1A10-6DB2-4F12-80B3-9BA9C253CC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007E977-4E28-462E-A081-F9F5FB419E9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B52631-092D-4649-ACAE-605F0DE0AD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863B88-21A0-4A4A-9ECF-36749BCECF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12D622-3237-4757-8FC8-6315708217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835C9-C198-479F-9A41-1E2ECE5BF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417F2BF-DA41-4731-B7A2-89360A5B40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60BB32B-C2D4-49B1-8E76-68ED055601A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7E84A73-7E7C-4473-B254-F69A222D75E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7AB2E61-DBFE-45F3-9F26-16BE56D8AEC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1427779-67E7-4DF4-AD1D-D98C55C436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2360DB2-07A5-47AC-96D1-E3A9DA6B8C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7E2795E-B9EA-49C6-8C5D-42B0CAC84CA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8A0147A-7AE3-4E70-AF7A-3EA60677A7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875091-E38F-4C11-9842-0991BDA5EBD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AC870A-1C98-442F-9DFA-277F8AEC9D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9FFBE-4BCB-4692-957A-716AFC2E1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F1283-6558-4E32-AF37-17C0C2C55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D7574A-2B62-4263-92D8-F077195E9FF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F95D353-543E-491A-BF94-8F18C6B321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A294063-8679-4520-B8C0-624C659536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B4BDC7E-F130-4740-945F-CFB922C600A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1697866-E46B-4F05-B814-575B1EF5EA8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192636F-03A3-428F-B085-908CE1E2A4A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D698FEA-8B13-49A8-8AA5-4F129461453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4C17B95-2161-45F8-8FC8-324D152E3E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64BC3C5-5B65-45A7-8378-E541A143131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AF3AD74-FF03-4778-959F-A7302BE6E6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EE5CD-F1C3-4B4D-BCBA-A51008703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64A7257-C5E2-4428-8725-76CDACC3A1B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2F8426-2492-4CBE-ABD6-3B135259AA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45759E-6CFB-40FF-B4E3-A301A6D618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64B54B-0CE2-4EE0-BBAE-3032CB2A430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E1F8DC8-D4A7-4F91-AFEC-5A7EAD6E383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451D47A-56B8-41AE-AC8C-208A02D8F77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30A2636-E152-4CEF-916B-0EEB05A8A5C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E4BF90C-4D0E-44D5-B3ED-F48775792F8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26456B4-1770-4503-9817-8A8D6F0AC73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ECDC244-05F5-4B71-8E02-E5930510F6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5D814-F8FF-4E7D-9F7E-297489164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18CECA6-DB2D-4B62-B568-C87CC113A98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B94A01B-403F-4B1B-A9C7-AAC8EDC67D9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231D77A-6DD2-4D14-92B6-546DECFD926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9F709BE-8500-467F-A95A-25E6972F13B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43AA5E2-0FF8-4AA3-BB98-90DFBB5FA83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30C2DEB-530F-41CA-8BAD-D1A34B57E5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3A35596-58E8-422B-980A-37C3F3BBEE9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94ABCE3-46BE-4DDE-B828-CC9057D6177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63A4C3A-63CB-4523-B4C0-08F8A497959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9B6D1B9-6D05-4D64-B2AB-224691BBE51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0A5A3-E00B-45C3-B813-DE9D4821E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36D1737-D7C6-47F7-87B7-FF558F7282D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1E6A958-0F8E-4210-9729-BF504B04E4A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722EEC0-E2E3-491F-996A-30AF6C13BB3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AC63F89-9E85-4B7B-852C-1D0F892E5DF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3196DB1-EEDC-40EA-9233-970230AB7E2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5064ADD-C928-4C3A-A8C9-AF974D0A6D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795EC9-6A9E-49BA-9636-79A25FA1C88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2E6C8E-8A7C-4D41-856D-2F571B6028B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2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78423CF-C1B9-4492-8104-896E86E8B4F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E89246C-FF59-47C9-A8BB-99984F96680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B9B59-DCBC-4498-AE19-9C7F28D5D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3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08D2D8C-00B4-446A-BDBD-494BF29B3C3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EBC58B-CE94-4D81-BD7C-A72EA6CE0B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ACAED-F6DC-40E8-9F09-BE5325773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0D41A-37B1-4B45-AABA-46D1BB3E9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8488EA-4ADE-4A51-B8EB-0BB22CE94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970A3-9341-4F8B-A4FD-BDCA60826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82C2-04A2-4E7C-9B7D-828A387F4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D32FD-AE52-459C-BAAF-AE54E901F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8C572-CF5F-4BB1-9A8D-84C90B494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93611-124A-400E-91F6-2F64EE087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50423-F8D5-4433-A1C4-3890E672B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BAD47-058F-4752-9682-746884140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2BD4A8-21EB-4B61-98B5-975BF715D9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E7C20C-9FE8-4B63-8449-F8C03279B4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4B2406-1A37-48E5-A0DD-80FE655AF0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B073C-8DAB-426C-94DA-9C21A5EF3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BD744-BAD3-4DB6-9764-981F440132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412E4-2BC9-4BC5-8498-5E6BF341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55E1C4-DB42-4263-976D-7132AA959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DC0C0-8EC5-4755-8E3D-AD8803D289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BA3BD7-70D9-4026-8E12-CFF8DF9D25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A79CA-1C79-4F45-8EB7-8311266A9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F812E-CE1F-46F2-8686-D4E5590875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C4DE9-2B9E-4D8F-B3A9-E03BBC6C5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C7BDAE-7E7B-4292-A6C4-93D7D389D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1A2DF1-CD0E-4D31-B8DF-F8F6374D19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A1A31C-F482-46A4-8434-AF89CCF159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DDAA34-67FC-4C77-9224-F01E5EF521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B0C2A-F5C6-4F29-B324-DE422093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552FC-1F77-474A-8016-81AD0E435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C940D-3C99-4C99-BA33-DC1039DA52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B7C1C1-E148-42A9-9996-1ECFEE6314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99708-BDBE-4FFB-B0AF-115D96DCCD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35C1E1-F2B2-41CA-A238-C29058C80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9D005-99A8-4B10-A965-59C5DD520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7663D-F97A-403E-B229-7069D2982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08B7EC-713D-4686-A7F3-E7192E5A0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142F46-B40A-457C-88BF-AC5A88051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048496-3692-47A6-8033-14EF4BC191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5A59F-98CB-482E-9843-A0916913E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470825-EC13-4587-8900-8B1DEF7EC4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8B70C5-A51D-403D-A70A-04625A583C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22F0C-D5DC-45D2-8B19-D3B0AB8C2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CAC31F-02C5-40AE-8CC3-BC2398D8B8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8B49F7-936F-4560-A5D9-AADF24990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6A7A69-305F-4826-9648-A57C6B17D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83967C-F967-42A8-8A78-09D05B34E3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EEECF-CB60-41C5-BE1F-AEA3C7B81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CFEB8D-0B84-4DB1-BC74-8B23F797C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AD9E8-D764-4339-A2C4-A1B63A8810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DCE4-1C0E-40C9-B959-28A2E2017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D56477-646B-4AB6-9722-EA8EF19373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06698E-6401-473C-A585-27A72548A7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7C1200-5133-4A78-9922-2C72F58D9E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741926-69F3-4F1A-AD92-C981174DB6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4861B3-B457-4BB2-8D44-722E32E576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250266-506C-419D-A203-ABA7673C75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5251AD-6FB5-4CDB-81EC-787399AE1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D2659A-2E30-49AE-8DDA-EEF05BFBED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501D65-5AAF-4CEE-8432-3342D9805A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C88827-3539-41A2-9385-4FA011F3D2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475A-3E00-481D-8845-A47CBF9C2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F56B6-ACE9-477D-9A5E-7BFDB696F7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094BA-0E4B-4506-8076-BE8785701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E2D959-4DE8-4700-B5B0-1A683E570B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EB478E-B699-4414-A3F2-6A1AE3F8CE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0F2391-4A76-412F-BAAF-288C2FE609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17E555-F831-4239-AA15-690E1D4B60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13E33-1F72-4A52-A381-B23AA53417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CF44F8-141F-49F1-A965-63DDC6FAD8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5DC90-F221-492D-9590-5FC0538FAD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CE641E-CF91-4AD7-8EC2-B3D075452F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19AA-3F86-478D-8481-D271F52FD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9F0AC-8D23-47A0-BCF8-62A0D26621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45D60A-8B13-471F-BE90-24C3A70C53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29D43-12B5-45C5-9E13-2A4E3C2E9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3C97B-F243-4A68-9F2F-5EA3BD9F62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2D55F-3EFF-4A9A-9AA2-87040B21CD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6F1072-5C0E-41A9-9E51-F80FC9FDA8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A859BE-937D-44E3-AA09-A4C4D25692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520C00-8C8A-4945-AA95-9BEC275A8E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18F771-1C06-4524-892E-E1287400F7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BA71B8-CFDF-47CA-8F52-54E6252324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86000"/>
            <a:ext cx="8229600" cy="372096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7543800" y="6408720"/>
            <a:ext cx="990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0171-3D65-4883-A4C1-E74848948183}"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57240" y="6400800"/>
            <a:ext cx="3886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534160" y="6408720"/>
            <a:ext cx="479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6E76-7DA5-4364-9B6D-7409230CAA5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Text Box 7"/>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6" name="Picture 5" descr="HHS"/>
          <p:cNvPicPr/>
          <p:nvPr/>
        </p:nvPicPr>
        <p:blipFill>
          <a:blip r:embed="rId2"/>
          <a:stretch/>
        </p:blipFill>
        <p:spPr>
          <a:xfrm>
            <a:off x="7772400" y="152280"/>
            <a:ext cx="1066680" cy="1062000"/>
          </a:xfrm>
          <a:prstGeom prst="rect">
            <a:avLst/>
          </a:prstGeom>
          <a:ln w="0">
            <a:noFill/>
          </a:ln>
        </p:spPr>
      </p:pic>
      <p:pic>
        <p:nvPicPr>
          <p:cNvPr id="7" name="Picture 8" descr="CMS_logo"/>
          <p:cNvPicPr/>
          <p:nvPr/>
        </p:nvPicPr>
        <p:blipFill>
          <a:blip r:embed="rId3"/>
          <a:stretch/>
        </p:blipFill>
        <p:spPr>
          <a:xfrm>
            <a:off x="228600" y="228600"/>
            <a:ext cx="197640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FD6B-340F-4151-9B01-D92361C849C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A547-448B-4303-B09C-3BD682692C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5C35-BC41-4A60-A019-B8570793E8B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2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42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EFE7-9A26-45B7-A67B-D1D622FB51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C5FE-C9CB-4220-86EF-9C3FCF0A863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6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46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3BB7-3A57-47C7-A38E-D95332C0ED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50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0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503" name="Picture 8" descr="CMS_logo"/>
          <p:cNvPicPr/>
          <p:nvPr/>
        </p:nvPicPr>
        <p:blipFill>
          <a:blip r:embed="rId2"/>
          <a:stretch/>
        </p:blipFill>
        <p:spPr>
          <a:xfrm>
            <a:off x="152280" y="152280"/>
            <a:ext cx="1976400" cy="735120"/>
          </a:xfrm>
          <a:prstGeom prst="rect">
            <a:avLst/>
          </a:prstGeom>
          <a:ln w="0">
            <a:noFill/>
          </a:ln>
        </p:spPr>
      </p:pic>
      <p:pic>
        <p:nvPicPr>
          <p:cNvPr id="504" name="Picture 5" descr="HHS"/>
          <p:cNvPicPr/>
          <p:nvPr/>
        </p:nvPicPr>
        <p:blipFill>
          <a:blip r:embed="rId3"/>
          <a:stretch/>
        </p:blipFill>
        <p:spPr>
          <a:xfrm>
            <a:off x="8077320" y="152280"/>
            <a:ext cx="685800" cy="682920"/>
          </a:xfrm>
          <a:prstGeom prst="rect">
            <a:avLst/>
          </a:prstGeom>
          <a:ln w="0">
            <a:noFill/>
          </a:ln>
        </p:spPr>
      </p:pic>
      <p:sp>
        <p:nvSpPr>
          <p:cNvPr id="505" name="PlaceHolder 3"/>
          <p:cNvSpPr>
            <a:spLocks noGrp="1"/>
          </p:cNvSpPr>
          <p:nvPr>
            <p:ph type="dt" idx="37"/>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BA3B-582F-4843-8760-D8CB69C2C1C1}"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506" name="PlaceHolder 4"/>
          <p:cNvSpPr>
            <a:spLocks noGrp="1"/>
          </p:cNvSpPr>
          <p:nvPr>
            <p:ph type="ftr" idx="38"/>
          </p:nvPr>
        </p:nvSpPr>
        <p:spPr>
          <a:xfrm>
            <a:off x="4114800" y="6476760"/>
            <a:ext cx="32767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507" name="PlaceHolder 5"/>
          <p:cNvSpPr>
            <a:spLocks noGrp="1"/>
          </p:cNvSpPr>
          <p:nvPr>
            <p:ph type="sldNum" idx="39"/>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5B6A-628F-408C-A537-D7260D3942B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6AD9-36C9-4439-B105-641FA19B7DD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47"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548"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DE57-0BC5-4629-BC6E-4ACB3D3B0B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7"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23F5-96E7-4DEB-9F48-C1BBC6AB87D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88"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589"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1D01-9675-47F7-B2A6-B50E3B2A99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8"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854B-086C-4086-B23D-B823CA23BB8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29"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630"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8440-3170-44CA-8404-A8C965FBBB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9"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3B88-C934-43D4-9BF3-71E03C5E16F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70"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671"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144F-2384-43E1-BD5A-9BAE9DE7D0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0"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FB6F-803E-4C18-977A-DC963F2661F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711"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712"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53B9-9654-4E28-B46D-3C756B4A43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750" name="Picture 8" descr="CMS_logo"/>
          <p:cNvPicPr/>
          <p:nvPr/>
        </p:nvPicPr>
        <p:blipFill>
          <a:blip r:embed="rId2"/>
          <a:stretch/>
        </p:blipFill>
        <p:spPr>
          <a:xfrm>
            <a:off x="152280" y="152280"/>
            <a:ext cx="1976400" cy="735120"/>
          </a:xfrm>
          <a:prstGeom prst="rect">
            <a:avLst/>
          </a:prstGeom>
          <a:ln w="0">
            <a:noFill/>
          </a:ln>
        </p:spPr>
      </p:pic>
      <p:pic>
        <p:nvPicPr>
          <p:cNvPr id="751" name="Picture 5" descr="HHS"/>
          <p:cNvPicPr/>
          <p:nvPr/>
        </p:nvPicPr>
        <p:blipFill>
          <a:blip r:embed="rId3"/>
          <a:stretch/>
        </p:blipFill>
        <p:spPr>
          <a:xfrm>
            <a:off x="8077320" y="152280"/>
            <a:ext cx="685800" cy="682920"/>
          </a:xfrm>
          <a:prstGeom prst="rect">
            <a:avLst/>
          </a:prstGeom>
          <a:ln w="0">
            <a:noFill/>
          </a:ln>
        </p:spPr>
      </p:pic>
      <p:sp>
        <p:nvSpPr>
          <p:cNvPr id="7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753"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754" name="PlaceHolder 3"/>
          <p:cNvSpPr>
            <a:spLocks noGrp="1"/>
          </p:cNvSpPr>
          <p:nvPr>
            <p:ph type="dt" idx="55"/>
          </p:nvPr>
        </p:nvSpPr>
        <p:spPr>
          <a:xfrm>
            <a:off x="7391160" y="6476760"/>
            <a:ext cx="990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075C-F26D-449F-AA80-C32EB69247BF}"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755" name="PlaceHolder 4"/>
          <p:cNvSpPr>
            <a:spLocks noGrp="1"/>
          </p:cNvSpPr>
          <p:nvPr>
            <p:ph type="ftr" idx="56"/>
          </p:nvPr>
        </p:nvSpPr>
        <p:spPr>
          <a:xfrm>
            <a:off x="4114800" y="6476760"/>
            <a:ext cx="31240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756" name="PlaceHolder 5"/>
          <p:cNvSpPr>
            <a:spLocks noGrp="1"/>
          </p:cNvSpPr>
          <p:nvPr>
            <p:ph type="sldNum" idx="57"/>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27A4-BD91-42D4-8A90-2A0727C6A6C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44D2-79D8-406A-BA25-91754D86E93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7FD7-7C64-4C64-B331-9255225E00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794" name="Picture 8" descr="CMS_logo"/>
          <p:cNvPicPr/>
          <p:nvPr/>
        </p:nvPicPr>
        <p:blipFill>
          <a:blip r:embed="rId2"/>
          <a:stretch/>
        </p:blipFill>
        <p:spPr>
          <a:xfrm>
            <a:off x="152280" y="152280"/>
            <a:ext cx="1976400" cy="735120"/>
          </a:xfrm>
          <a:prstGeom prst="rect">
            <a:avLst/>
          </a:prstGeom>
          <a:ln w="0">
            <a:noFill/>
          </a:ln>
        </p:spPr>
      </p:pic>
      <p:pic>
        <p:nvPicPr>
          <p:cNvPr id="795" name="Picture 5" descr="HHS"/>
          <p:cNvPicPr/>
          <p:nvPr/>
        </p:nvPicPr>
        <p:blipFill>
          <a:blip r:embed="rId3"/>
          <a:stretch/>
        </p:blipFill>
        <p:spPr>
          <a:xfrm>
            <a:off x="8077320" y="152280"/>
            <a:ext cx="685800" cy="682920"/>
          </a:xfrm>
          <a:prstGeom prst="rect">
            <a:avLst/>
          </a:prstGeom>
          <a:ln w="0">
            <a:noFill/>
          </a:ln>
        </p:spPr>
      </p:pic>
      <p:sp>
        <p:nvSpPr>
          <p:cNvPr id="7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797"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798" name="PlaceHolder 3"/>
          <p:cNvSpPr>
            <a:spLocks noGrp="1"/>
          </p:cNvSpPr>
          <p:nvPr>
            <p:ph type="dt" idx="58"/>
          </p:nvPr>
        </p:nvSpPr>
        <p:spPr>
          <a:xfrm>
            <a:off x="7314840" y="6476760"/>
            <a:ext cx="10666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3F8D-2AAB-4DF0-9A3E-CE1ABADB84FA}"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799" name="PlaceHolder 4"/>
          <p:cNvSpPr>
            <a:spLocks noGrp="1"/>
          </p:cNvSpPr>
          <p:nvPr>
            <p:ph type="ftr" idx="59"/>
          </p:nvPr>
        </p:nvSpPr>
        <p:spPr>
          <a:xfrm>
            <a:off x="4343400" y="6476760"/>
            <a:ext cx="2743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800" name="PlaceHolder 5"/>
          <p:cNvSpPr>
            <a:spLocks noGrp="1"/>
          </p:cNvSpPr>
          <p:nvPr>
            <p:ph type="sldNum" idx="60"/>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BFF6-C6E8-45D8-84CE-458CA5BD5D3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DF08-3151-44AD-98D6-07B98416A03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133A-B178-4AFF-84C2-EECC0E6534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35E7-BF47-4B57-9B67-792E74C22AD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AAFD-14C6-4A7D-A22E-77D0C7B08A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4E0E-91DB-4F23-9FF8-D2C694FCD47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A4A4-16D4-4DE2-92BE-37529524F8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FB8E-A537-4514-858E-28AA99C87E0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CB86-2872-4D7F-AC42-B4F091D178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WordArt 2"/>
          <p:cNvSpPr txBox="1"/>
          <p:nvPr/>
        </p:nvSpPr>
        <p:spPr>
          <a:xfrm rot="2157600">
            <a:off x="1700280" y="2819160"/>
            <a:ext cx="604656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rPr>
              <a:t>DRAFT</a:t>
            </a:r>
            <a:endPar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ea typeface="Arial Black"/>
            </a:endParaRPr>
          </a:p>
        </p:txBody>
      </p:sp>
      <p:sp>
        <p:nvSpPr>
          <p:cNvPr id="2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1"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2" name="Text Box 5"/>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253" name="Picture 8" descr="CMS_logo"/>
          <p:cNvPicPr/>
          <p:nvPr/>
        </p:nvPicPr>
        <p:blipFill>
          <a:blip r:embed="rId2"/>
          <a:stretch/>
        </p:blipFill>
        <p:spPr>
          <a:xfrm>
            <a:off x="228600" y="304920"/>
            <a:ext cx="1976400" cy="734760"/>
          </a:xfrm>
          <a:prstGeom prst="rect">
            <a:avLst/>
          </a:prstGeom>
          <a:ln w="0">
            <a:noFill/>
          </a:ln>
        </p:spPr>
      </p:pic>
      <p:pic>
        <p:nvPicPr>
          <p:cNvPr id="254" name="Picture 5" descr="HHS"/>
          <p:cNvPicPr/>
          <p:nvPr/>
        </p:nvPicPr>
        <p:blipFill>
          <a:blip r:embed="rId3"/>
          <a:stretch/>
        </p:blipFill>
        <p:spPr>
          <a:xfrm>
            <a:off x="7772400" y="152280"/>
            <a:ext cx="1066680" cy="1062000"/>
          </a:xfrm>
          <a:prstGeom prst="rect">
            <a:avLst/>
          </a:prstGeom>
          <a:ln w="0">
            <a:noFill/>
          </a:ln>
        </p:spPr>
      </p:pic>
      <p:sp>
        <p:nvSpPr>
          <p:cNvPr id="255" name="PlaceHolder 3"/>
          <p:cNvSpPr>
            <a:spLocks noGrp="1"/>
          </p:cNvSpPr>
          <p:nvPr>
            <p:ph type="dt" idx="19"/>
          </p:nvPr>
        </p:nvSpPr>
        <p:spPr>
          <a:xfrm>
            <a:off x="7543800" y="6400440"/>
            <a:ext cx="91440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745D-64BE-49D6-AD4D-19D205DBC1DA}"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4267080" y="6400440"/>
            <a:ext cx="32767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8458200" y="6400440"/>
            <a:ext cx="5335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F9C2-C367-4688-B479-ADCE2E184B8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258" name="Picture 8" descr="CMS_logo"/>
          <p:cNvPicPr/>
          <p:nvPr/>
        </p:nvPicPr>
        <p:blipFill>
          <a:blip r:embed="rId4"/>
          <a:stretch/>
        </p:blipFill>
        <p:spPr>
          <a:xfrm>
            <a:off x="228600" y="228600"/>
            <a:ext cx="197640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AF8B-9CF9-4E3A-B844-11DB493128B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5213-522D-48A2-931B-108C5DF75A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C608-E14B-40CE-BEDE-2BF0948F363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EA52-9DCE-4705-93C9-75354ECF6C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B7E4-7F6D-455E-B32C-4534126EAF64}"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45"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4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A3FA-D62D-4BE8-AED7-1468ACA94A6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47" name="PlaceHolder 1"/>
          <p:cNvSpPr>
            <a:spLocks noGrp="1"/>
          </p:cNvSpPr>
          <p:nvPr>
            <p:ph type="subTitle"/>
          </p:nvPr>
        </p:nvSpPr>
        <p:spPr>
          <a:xfrm>
            <a:off x="4571640" y="4114440"/>
            <a:ext cx="4343400" cy="15238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504d"/>
                </a:solidFill>
                <a:latin typeface="Verdana"/>
              </a:rPr>
              <a:t>Training Segment 4</a:t>
            </a:r>
            <a:r>
              <a:rPr b="0" lang="en-US" sz="2300" spc="-1" strike="noStrike">
                <a:solidFill>
                  <a:srgbClr val="c0504d"/>
                </a:solidFill>
                <a:latin typeface="Verdana"/>
              </a:rPr>
              <a:t> </a:t>
            </a:r>
            <a:r>
              <a:rPr b="0" lang="en-US" sz="2100" spc="-1" strike="noStrike">
                <a:solidFill>
                  <a:srgbClr val="c0504d"/>
                </a:solidFill>
                <a:latin typeface="Verdana"/>
              </a:rPr>
              <a:t>Further Movement along the MITA Road Map - Use of Clinical Data &amp; Interoperability</a:t>
            </a:r>
            <a:endParaRPr b="0" lang="en-US" sz="2100" spc="-1" strike="noStrike">
              <a:solidFill>
                <a:srgbClr val="000000"/>
              </a:solidFill>
              <a:latin typeface="Verdana"/>
            </a:endParaRPr>
          </a:p>
        </p:txBody>
      </p:sp>
      <p:sp>
        <p:nvSpPr>
          <p:cNvPr id="84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6E21-571C-4AAA-9BB0-2A551FDA8E7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849" name="Title 2" descr=""/>
          <p:cNvPicPr/>
          <p:nvPr/>
        </p:nvPicPr>
        <p:blipFill>
          <a:blip r:embed="rId1"/>
          <a:stretch/>
        </p:blipFill>
        <p:spPr>
          <a:xfrm>
            <a:off x="4191120" y="520560"/>
            <a:ext cx="4572000" cy="2908440"/>
          </a:xfrm>
          <a:prstGeom prst="rect">
            <a:avLst/>
          </a:prstGeom>
          <a:ln w="0">
            <a:noFill/>
          </a:ln>
        </p:spPr>
      </p:pic>
      <p:sp>
        <p:nvSpPr>
          <p:cNvPr id="850" name="Rectangle 3"/>
          <p:cNvSpPr/>
          <p:nvPr/>
        </p:nvSpPr>
        <p:spPr>
          <a:xfrm>
            <a:off x="4572000" y="2819520"/>
            <a:ext cx="38098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851" name="Text Box 9"/>
          <p:cNvSpPr/>
          <p:nvPr/>
        </p:nvSpPr>
        <p:spPr>
          <a:xfrm rot="4124400">
            <a:off x="2999880" y="-879120"/>
            <a:ext cx="459000" cy="366840"/>
          </a:xfrm>
          <a:prstGeom prst="rect">
            <a:avLst/>
          </a:prstGeom>
          <a:noFill/>
          <a:ln w="0">
            <a:noFill/>
          </a:ln>
        </p:spPr>
        <p:style>
          <a:lnRef idx="0"/>
          <a:fillRef idx="0"/>
          <a:effectRef idx="0"/>
          <a:fontRef idx="minor"/>
        </p:style>
        <p:txBody>
          <a:bodyPr lIns="90000" rIns="90000" tIns="46800" bIns="46800" anchor="t" vert="eaVe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10"/>
          <p:cNvSpPr/>
          <p:nvPr/>
        </p:nvSpPr>
        <p:spPr>
          <a:xfrm rot="5400000">
            <a:off x="4379760" y="-1331640"/>
            <a:ext cx="459000" cy="366840"/>
          </a:xfrm>
          <a:prstGeom prst="rect">
            <a:avLst/>
          </a:prstGeom>
          <a:noFill/>
          <a:ln w="0">
            <a:noFill/>
          </a:ln>
        </p:spPr>
        <p:style>
          <a:lnRef idx="0"/>
          <a:fillRef idx="0"/>
          <a:effectRef idx="0"/>
          <a:fontRef idx="minor"/>
        </p:style>
        <p:txBody>
          <a:bodyPr lIns="90000" rIns="90000" tIns="46800" bIns="46800" anchor="t" vert="eaVe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6"/>
          <p:cNvSpPr/>
          <p:nvPr/>
        </p:nvSpPr>
        <p:spPr>
          <a:xfrm>
            <a:off x="396252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9B53-32F8-406D-A4EB-02AE0DD6275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9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9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898B-B6D2-4C31-87FA-E3261CAFF5F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98" name="PlaceHolder 1"/>
          <p:cNvSpPr>
            <a:spLocks noGrp="1"/>
          </p:cNvSpPr>
          <p:nvPr>
            <p:ph/>
          </p:nvPr>
        </p:nvSpPr>
        <p:spPr>
          <a:xfrm>
            <a:off x="457200" y="1905120"/>
            <a:ext cx="8229600" cy="372096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ational and international interoperability</a:t>
            </a:r>
            <a:endParaRPr b="0" lang="en-US" sz="22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on fine tuning programs</a:t>
            </a:r>
            <a:endParaRPr b="0" lang="en-US" sz="22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izing program management, planning, and evaluation</a:t>
            </a:r>
            <a:endParaRPr b="0" lang="en-US" sz="22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turns full cycle to MITA Mission:</a:t>
            </a:r>
            <a:endParaRPr b="0" lang="en-US" sz="22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establish a national framework of enabling technologies and processes that support improved program administration for the Medicaid enterprise and for stakeholders dedicated to improving health care outcomes and administrative procedures for Medicaid beneficiaries</a:t>
            </a:r>
            <a:endParaRPr b="0" lang="en-US" sz="2200" spc="-1" strike="noStrike">
              <a:solidFill>
                <a:srgbClr val="000000"/>
              </a:solidFill>
              <a:latin typeface="Verdana"/>
            </a:endParaRPr>
          </a:p>
        </p:txBody>
      </p:sp>
      <p:sp>
        <p:nvSpPr>
          <p:cNvPr id="899" name="TextBox 6"/>
          <p:cNvSpPr/>
          <p:nvPr/>
        </p:nvSpPr>
        <p:spPr>
          <a:xfrm>
            <a:off x="380880" y="109224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MITA Maturity Model Level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09D6-A3AE-41E2-BE84-39E2094C40F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90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90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A9B4-504B-41DB-96D6-7773CF0E9B2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03" name=""/>
          <p:cNvSpPr txBox="1"/>
          <p:nvPr/>
        </p:nvSpPr>
        <p:spPr>
          <a:xfrm>
            <a:off x="457200" y="2019240"/>
            <a:ext cx="8229600" cy="32385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Level 5, ICD-10 will be the language spoken by all health plans and all provide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unication via claims, prior authorizations, care management, and coordination of benefits will use the increased detail in ICD-10 to make communications more effectiv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ystems within each state and between states must be able to communicate using the same standard terminology</a:t>
            </a:r>
            <a:endParaRPr b="0" lang="en-US" sz="2200" spc="-1" strike="noStrike">
              <a:solidFill>
                <a:srgbClr val="000000"/>
              </a:solidFill>
              <a:latin typeface="Verdana"/>
            </a:endParaRPr>
          </a:p>
        </p:txBody>
      </p:sp>
      <p:sp>
        <p:nvSpPr>
          <p:cNvPr id="904" name="Rectangle 6"/>
          <p:cNvSpPr/>
          <p:nvPr/>
        </p:nvSpPr>
        <p:spPr>
          <a:xfrm>
            <a:off x="914400" y="990720"/>
            <a:ext cx="69343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Integration and Interoper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1B2A-EF23-4F22-9A41-7EE2DF137B8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90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90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3650-4171-4CFC-A4CD-F81DE2902A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08" name="PlaceHolder 1"/>
          <p:cNvSpPr>
            <a:spLocks noGrp="1"/>
          </p:cNvSpPr>
          <p:nvPr>
            <p:ph/>
          </p:nvPr>
        </p:nvSpPr>
        <p:spPr>
          <a:xfrm>
            <a:off x="457200" y="2209680"/>
            <a:ext cx="8229600" cy="31831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Levels 4 and 5, ICD-10 codes supply more detailed and accurate data for use by health plans, providers, and other partners (worker’s comp, liability, etc.)</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ull utilization of the ICD-10 code set assures that data is readily available in its submitted forma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ed specificity within the codes makes diagnoses far more accurate than previous code structures</a:t>
            </a:r>
            <a:endParaRPr b="0" lang="en-US" sz="2200" spc="-1" strike="noStrike">
              <a:solidFill>
                <a:srgbClr val="000000"/>
              </a:solidFill>
              <a:latin typeface="Verdana"/>
            </a:endParaRPr>
          </a:p>
        </p:txBody>
      </p:sp>
      <p:sp>
        <p:nvSpPr>
          <p:cNvPr id="909" name="TextBox 6"/>
          <p:cNvSpPr/>
          <p:nvPr/>
        </p:nvSpPr>
        <p:spPr>
          <a:xfrm>
            <a:off x="380880" y="1150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Data that Is Timely, Accurate, Usable, and Easily Acce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0568-3A1E-4989-8DE3-C6E2EC539F6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91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91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77FF-9A84-4127-B9A5-DF643CBB9C7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13" name=""/>
          <p:cNvSpPr txBox="1"/>
          <p:nvPr/>
        </p:nvSpPr>
        <p:spPr>
          <a:xfrm>
            <a:off x="457200" y="1981080"/>
            <a:ext cx="8229600" cy="28958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s an integral part of meeting the goals and maturity capabilities of the MITA structur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processes will improve when Medicaid Enterprises make the most effective use of the increased detail in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operability and clinical data enable a more client-centric Medicaid program that improves care while managing costs effectively</a:t>
            </a:r>
            <a:endParaRPr b="0" lang="en-US" sz="2200" spc="-1" strike="noStrike">
              <a:solidFill>
                <a:srgbClr val="000000"/>
              </a:solidFill>
              <a:latin typeface="Verdana"/>
            </a:endParaRPr>
          </a:p>
        </p:txBody>
      </p:sp>
      <p:sp>
        <p:nvSpPr>
          <p:cNvPr id="914" name="Rectangle 6"/>
          <p:cNvSpPr/>
          <p:nvPr/>
        </p:nvSpPr>
        <p:spPr>
          <a:xfrm>
            <a:off x="2971800" y="91440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Verdana"/>
              </a:rPr>
              <a:t>Summ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BE85-9127-4256-ABA8-983A5EA585E5}"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5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5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ED14-001A-410A-9EA7-A16605A92F3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58" name="Rectangle 6"/>
          <p:cNvSpPr/>
          <p:nvPr/>
        </p:nvSpPr>
        <p:spPr>
          <a:xfrm>
            <a:off x="457200" y="2550960"/>
            <a:ext cx="8229600" cy="17542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monstrate relationship between MITA Framework and ICD-10</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examples of benefits of ICD-10 for MITA business processes at Maturity Levels 4 and 5</a:t>
            </a:r>
            <a:endParaRPr b="0" lang="en-US" sz="2200" spc="-1" strike="noStrike">
              <a:solidFill>
                <a:srgbClr val="000000"/>
              </a:solidFill>
              <a:latin typeface="Arial"/>
            </a:endParaRPr>
          </a:p>
        </p:txBody>
      </p:sp>
      <p:sp>
        <p:nvSpPr>
          <p:cNvPr id="859" name="TextBox 8"/>
          <p:cNvSpPr/>
          <p:nvPr/>
        </p:nvSpPr>
        <p:spPr>
          <a:xfrm>
            <a:off x="380880" y="13032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Segment 4 – Moving along the MITA Road Ma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Objectives of this Seg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AF5F-B37B-4347-B01A-8DD7CC80F2D5}"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6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6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1A3A-1746-49F9-BF28-FEFE66428F6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63" name=""/>
          <p:cNvSpPr txBox="1"/>
          <p:nvPr/>
        </p:nvSpPr>
        <p:spPr>
          <a:xfrm>
            <a:off x="457200" y="2209680"/>
            <a:ext cx="8229600" cy="19814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ablish a national framework of enabling technologies and processes that support improved program administration for the Medicaid enterprise using the ICD-10 code</a:t>
            </a:r>
            <a:endParaRPr b="0" lang="en-US" sz="2200" spc="-1" strike="noStrike">
              <a:solidFill>
                <a:srgbClr val="000000"/>
              </a:solidFill>
              <a:latin typeface="Verdana"/>
            </a:endParaRPr>
          </a:p>
        </p:txBody>
      </p:sp>
      <p:sp>
        <p:nvSpPr>
          <p:cNvPr id="864" name="TextBox 6"/>
          <p:cNvSpPr/>
          <p:nvPr/>
        </p:nvSpPr>
        <p:spPr>
          <a:xfrm>
            <a:off x="263520" y="12952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The MITA M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60F5-B18F-4F16-ADD8-DC49BC7796A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66"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67"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9F86-0574-44D3-A263-414B833DF1A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68" name=""/>
          <p:cNvSpPr txBox="1"/>
          <p:nvPr/>
        </p:nvSpPr>
        <p:spPr>
          <a:xfrm>
            <a:off x="457200" y="1599840"/>
            <a:ext cx="8229600" cy="4419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elop seamless and integrated systems that communicate effectively to achieve common Medicaid goals through interoperability and common standard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mote an environment that supports flexibility, adaptability, and rapid response to changes in programs and technology</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mote an enterprise view that supports enabling technologies that are aligned with Medicaid business process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vide data that is timely, accurate, usable, and easily accessible in order to support analysis and decision making for health care management and program administration</a:t>
            </a:r>
            <a:endParaRPr b="0" lang="en-US" sz="2100" spc="-1" strike="noStrike">
              <a:solidFill>
                <a:srgbClr val="000000"/>
              </a:solidFill>
              <a:latin typeface="Verdana"/>
            </a:endParaRPr>
          </a:p>
        </p:txBody>
      </p:sp>
      <p:sp>
        <p:nvSpPr>
          <p:cNvPr id="869" name="Rectangle 6"/>
          <p:cNvSpPr/>
          <p:nvPr/>
        </p:nvSpPr>
        <p:spPr>
          <a:xfrm>
            <a:off x="457200" y="91440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MITA Go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4B01-A7C1-48DC-A1F9-08570819153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71"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7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D1C8-7479-47BB-B8DC-AAAD0C2BB83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aphicFrame>
        <p:nvGraphicFramePr>
          <p:cNvPr id="873" name=""/>
          <p:cNvGraphicFramePr/>
          <p:nvPr/>
        </p:nvGraphicFramePr>
        <p:xfrm>
          <a:off x="457200" y="2133720"/>
          <a:ext cx="8229600" cy="3565440"/>
        </p:xfrm>
        <a:graphic>
          <a:graphicData uri="http://schemas.openxmlformats.org/drawingml/2006/table">
            <a:tbl>
              <a:tblPr/>
              <a:tblGrid>
                <a:gridCol w="1646280"/>
                <a:gridCol w="1646280"/>
                <a:gridCol w="1644480"/>
                <a:gridCol w="1646280"/>
                <a:gridCol w="1646280"/>
              </a:tblGrid>
              <a:tr h="495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ff"/>
                    </a:solidFill>
                  </a:tcPr>
                </a:tc>
              </a:tr>
              <a:tr h="1969920">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plies with State &amp; Federal Law</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stly manual</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State standard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 interoperabilit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roves beyond compliance</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stly automated</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blend of national &amp; state standard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imited interoperabi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llaboration with other State agencie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MITA standard interface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roved interoperabi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clinical data to improve operation and outcome of the business proces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roperability for providers, agency, memb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roperable nationally</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forms with NHI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01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ICD-9</a:t>
                      </a:r>
                      <a:endParaRPr b="0" lang="en-US" sz="10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rvention required to validate and make use of D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ICD-9</a:t>
                      </a:r>
                      <a:endParaRPr b="0" lang="en-US" sz="10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mation improves validation and use of Dx co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ICD-9 or 10</a:t>
                      </a:r>
                      <a:endParaRPr b="0" lang="en-US" sz="1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TA standard interfaces incorporate ICD-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ICD-10 in administrative transactions and clinical recor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CD-10 and clinical data available electronically, nationwid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4" name="TextBox 6"/>
          <p:cNvSpPr/>
          <p:nvPr/>
        </p:nvSpPr>
        <p:spPr>
          <a:xfrm>
            <a:off x="380880" y="950760"/>
            <a:ext cx="8305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MITA Maturity Model Levels 1-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And Use of ICS-10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A486-9504-4679-A475-0E396F65CC1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7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7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B6D5-2861-4D49-B505-E095889590A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78" name="PlaceHolder 1"/>
          <p:cNvSpPr>
            <a:spLocks noGrp="1"/>
          </p:cNvSpPr>
          <p:nvPr>
            <p:ph/>
          </p:nvPr>
        </p:nvSpPr>
        <p:spPr>
          <a:xfrm>
            <a:off x="457200" y="1904760"/>
            <a:ext cx="8229600" cy="38098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opts national standard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hared business servi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ndardized data exchanges using MITA standard interfa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ordination and collaboration with other state agenc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mation to improve the cost effectiveness of health care service deliver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orporate use of ICD-10 in MITA business processes to strengthen Enterprise View</a:t>
            </a:r>
            <a:endParaRPr b="0" lang="en-US" sz="2200" spc="-1" strike="noStrike">
              <a:solidFill>
                <a:srgbClr val="000000"/>
              </a:solidFill>
              <a:latin typeface="Verdana"/>
            </a:endParaRPr>
          </a:p>
        </p:txBody>
      </p:sp>
      <p:sp>
        <p:nvSpPr>
          <p:cNvPr id="879" name="TextBox 6"/>
          <p:cNvSpPr/>
          <p:nvPr/>
        </p:nvSpPr>
        <p:spPr>
          <a:xfrm>
            <a:off x="380880" y="116856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MITA Maturity Model Level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2C14-6F8A-45D1-BE4C-33EBF411F54A}"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8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8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4993-9EDC-43F0-919A-DFBA3676F4D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83" name=""/>
          <p:cNvSpPr txBox="1"/>
          <p:nvPr/>
        </p:nvSpPr>
        <p:spPr>
          <a:xfrm>
            <a:off x="457200" y="2209680"/>
            <a:ext cx="8229600" cy="3276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Level 3, ICD-10 should be incorporated into every business process and system that uses diagnosis and hospital procedure cod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provides better detail for programs (mental health, disabilities, and outpatient care) so data from separate systems can be integrated into the MMIS accuratel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es are required on all claim type transactions to protect program integrity against duplicate bills</a:t>
            </a:r>
            <a:endParaRPr b="0" lang="en-US" sz="2200" spc="-1" strike="noStrike">
              <a:solidFill>
                <a:srgbClr val="000000"/>
              </a:solidFill>
              <a:latin typeface="Verdana"/>
            </a:endParaRPr>
          </a:p>
        </p:txBody>
      </p:sp>
      <p:sp>
        <p:nvSpPr>
          <p:cNvPr id="884" name="Rectangle 6"/>
          <p:cNvSpPr/>
          <p:nvPr/>
        </p:nvSpPr>
        <p:spPr>
          <a:xfrm>
            <a:off x="914400" y="1219320"/>
            <a:ext cx="6858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Enterprise View for Support of Medicaid Business Pro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66F6-EB84-4624-9468-1E080947CBB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8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8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30EF-807A-4753-A399-252DBE5E794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88" name="PlaceHolder 1"/>
          <p:cNvSpPr>
            <a:spLocks noGrp="1"/>
          </p:cNvSpPr>
          <p:nvPr>
            <p:ph/>
          </p:nvPr>
        </p:nvSpPr>
        <p:spPr>
          <a:xfrm>
            <a:off x="457200" y="1866960"/>
            <a:ext cx="8229600" cy="31240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despread and secure access to clinical data</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e health care outcom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mpower beneficiary and provider stakeholde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 quantitative objectiv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on program improv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orporate use of ICD-10 in MITA business processes to achieve Level 4 goals</a:t>
            </a:r>
            <a:endParaRPr b="0" lang="en-US" sz="2200" spc="-1" strike="noStrike">
              <a:solidFill>
                <a:srgbClr val="000000"/>
              </a:solidFill>
              <a:latin typeface="Verdana"/>
            </a:endParaRPr>
          </a:p>
        </p:txBody>
      </p:sp>
      <p:sp>
        <p:nvSpPr>
          <p:cNvPr id="889" name="TextBox 6"/>
          <p:cNvSpPr/>
          <p:nvPr/>
        </p:nvSpPr>
        <p:spPr>
          <a:xfrm>
            <a:off x="380880" y="116856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MITA Maturity Model Level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FF4E-505E-4096-A949-CC88EFE0A675}"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9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9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1200-DABD-42A5-85D6-4575A227065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93" name=""/>
          <p:cNvSpPr txBox="1"/>
          <p:nvPr/>
        </p:nvSpPr>
        <p:spPr>
          <a:xfrm>
            <a:off x="457200" y="2209320"/>
            <a:ext cx="8229600" cy="35816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Level 4, use of ICD-10 codes will help design and improve programs, benefit plans, care management, and payment function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 ICD-10 codes can be adopted with business process rules and basic system chang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codes define the severity of illness to enable better management and appropriate payment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Edits, DRGs, Disease/Care Management, etc.</a:t>
            </a:r>
            <a:endParaRPr b="0" lang="en-US" sz="2200" spc="-1" strike="noStrike">
              <a:solidFill>
                <a:srgbClr val="000000"/>
              </a:solidFill>
              <a:latin typeface="Verdana"/>
            </a:endParaRPr>
          </a:p>
        </p:txBody>
      </p:sp>
      <p:sp>
        <p:nvSpPr>
          <p:cNvPr id="894" name="Rectangle 6"/>
          <p:cNvSpPr/>
          <p:nvPr/>
        </p:nvSpPr>
        <p:spPr>
          <a:xfrm>
            <a:off x="990720" y="1219320"/>
            <a:ext cx="6781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Flexibility, Adaptability, and Rapid Response t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Trish Bunch</cp:lastModifiedBy>
  <dcterms:modified xsi:type="dcterms:W3CDTF">2009-11-03T20:18:32Z</dcterms:modified>
  <cp:revision>119</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