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BFFFB8-F013-4CEF-B78A-379FAB5DD3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87EC32-09DF-46C4-AAD0-C5ED51F51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06640" y="696960"/>
            <a:ext cx="4647960" cy="3486240"/>
          </a:xfrm>
          <a:prstGeom prst="rect">
            <a:avLst/>
          </a:prstGeom>
          <a:ln w="0">
            <a:noFill/>
          </a:ln>
        </p:spPr>
      </p:sp>
      <p:sp>
        <p:nvSpPr>
          <p:cNvPr id="39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3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E61115-BCE5-4E7E-A295-8FDC9B2D5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B146CD-FCB7-4A4B-B32E-0FAB0B3BC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of crosswalks – tools that take an ICD-10 code and “convert” it back to an equivalent ICD-9 code – has been raised in many forums as an easy solution to implementation.  Why not just build a crosswalk at the front end of a Medicaid system, take in the ICD-10 codes, and convert them to ICD-9 codes?  This way, you can continue processing transactions with almost no system change.  Does this work, and is it a viable solution for Medicaid?</a:t>
            </a:r>
            <a:endParaRPr b="0" lang="en-US" sz="1200" spc="-1" strike="noStrike">
              <a:solidFill>
                <a:srgbClr val="000000"/>
              </a:solidFill>
              <a:latin typeface="Calibri"/>
            </a:endParaRPr>
          </a:p>
        </p:txBody>
      </p:sp>
      <p:sp>
        <p:nvSpPr>
          <p:cNvPr id="4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6289D3-4AE5-4E71-BC59-3CD0D3FBA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DC34EC-0C6D-4369-83F3-769783F1C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96960"/>
            <a:ext cx="464796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re is no easy crosswalk from ICD-10 to ICD-9 (or vice versa).  ICD-10 is significantly different than ICD-9, not only in structure, but also in the meaning of the codes.  Greater specificity is only one of the changes brought by ICD-10.  There are many other significant structural changes in the code set that make a crosswalk extremely difficult, if not impossible.  For example, let’s consider asthma.  Under the current ICD-9 diagnosis code system, asthma is classified by intrinsic asthma, basically the cause of the disease.  Under ICD-10, asthma is classified by mild, moderate, and severe.  There is no way to crosswalk these codes from one system to another.</a:t>
            </a:r>
            <a:endParaRPr b="0" lang="en-US" sz="1200" spc="-1" strike="noStrike">
              <a:solidFill>
                <a:srgbClr val="000000"/>
              </a:solidFill>
              <a:latin typeface="Calibri"/>
            </a:endParaRPr>
          </a:p>
        </p:txBody>
      </p:sp>
      <p:sp>
        <p:nvSpPr>
          <p:cNvPr id="4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C7AB75-FFEA-4092-AD03-2A8736E21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F5ED42-CAF8-416F-AAD3-A846672CA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6640" y="696960"/>
            <a:ext cx="464796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major reasons to move to ICD-10 is to obtain and use the better information contained in the new code set.  The modern terminology, the enhanced severity, the more accurate description of conditions and procedures, all provide better information on which to make coverage, payment, and patient management decisions.  If crosswalking is done and only the ICD-9 codes are used in processing, the additional information provided by ICD-9 codes is lost.  Thus, no improvement in decision-making can be achieved.   There is also a danger in significant negative reactions from providers who are required to code using ICD-10.   If a State Medicaid Agency simply crosswalks back to ICD-9, there is no reason for providers to have coded with ICD-10 to begin with.</a:t>
            </a:r>
            <a:endParaRPr b="0" lang="en-US" sz="1200" spc="-1" strike="noStrike">
              <a:solidFill>
                <a:srgbClr val="000000"/>
              </a:solidFill>
              <a:latin typeface="Calibri"/>
            </a:endParaRPr>
          </a:p>
        </p:txBody>
      </p:sp>
      <p:sp>
        <p:nvSpPr>
          <p:cNvPr id="4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E06EBF-4A2A-4590-9313-B30AA44D1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74326D-7A74-440B-8E1E-9007060CD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06640" y="696960"/>
            <a:ext cx="464796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factors that differentiate ICD-9 from ICD-10, no crosswalk has yet been developed that definitively associates every ICD-9 code with ICD-10 codes.  The National Center for Health Statistics (NCHS) has developed General Equivalence Maps or “GEMs” for diagnosis codes.  CMS has done the same for inpatient hospital codes.  NCHS is the federal agency responsible for maintaining the ICD-10-CM code set,  while CMS is responsible for the ICD-10-PCS code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EMs show the relationships between ICD-9 and ICD-10 codes.  There are many different situations they point out.  There are some exact  one-to-one matches, and some approximate one-to-one matches.  There are some situations where one ICD-9 code matches several  ICD-10 codes.  There are some situations where several  ICD-9 codes are equivalent, as a set, to an ICD-10 code, or to a set of ICD-10 codes.  There are situations where there is no equivalent ICD-10 code for an ICD-9 code, and vice ver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EMs can be used to understand the relationships between ICD-9 and ICD-10.  Analysis of these GEMs may enable State Medicaid Agencies to approximate the ICD-10 code distributions they will be receiving in the future.  However, they will not serve as crosswalks.  They may also be valuable as tools in determining how certain policies need to be cha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280620-11D3-4B19-A3A7-0970294A6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CC1B15-69A7-4A10-B8F6-4261D6A81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06640" y="696960"/>
            <a:ext cx="464796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rosswalks are imperfect and incomplete, they should not be considered as a production solution.  Instead, they could be used to see what the effect of ICD-10 is on current systems.  One potential testing scenario would be to take an ICD-10 code, crosswalk it back to an ICD-9 code, and see what results occur in processing.  Are they as expected?   This will give you an idea of how to modify your systems to accurately process the new ICD-10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modify systems to understand ICD-10 codes and process them  appropriately.  Changing them into ICD-9 codes will defeat the purpose of ICD-10 coding. CMS-Medicare will be using ICD-10 codes as input to their MS-DRG system on and after the compliance date.</a:t>
            </a: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B3E5EC-71B4-4821-81C0-5332B45FC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E637C6-9A39-46EB-A332-4705F5DBD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06640" y="696960"/>
            <a:ext cx="464796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good uses for the GEMs and crosswalks between ICD-9 and ICD-10.  They can be used as a teaching tool, to help understand the differences and similarities between the code sets.  They can show how, in some situations, the ICD-10 codes may be similar to ICD-9 codes, but contain significantly more information.   The crosswalks can also be used as a simulation exercise, so that an agency can see what the impact of moving to ICD-10 might be on benefit costs.   And, they may need to be used when comparing previous data collected using ICD-9 codes with the upcoming data being collected using ICD-10 codes.</a:t>
            </a:r>
            <a:endParaRPr b="0" lang="en-US" sz="1200" spc="-1" strike="noStrike">
              <a:solidFill>
                <a:srgbClr val="000000"/>
              </a:solidFill>
              <a:latin typeface="Calibri"/>
            </a:endParaRPr>
          </a:p>
        </p:txBody>
      </p:sp>
      <p:sp>
        <p:nvSpPr>
          <p:cNvPr id="4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58F0F2-8884-4C06-9C0C-9CF3DFD9D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852694-FD33-4272-BE32-07C2D2689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06640" y="696960"/>
            <a:ext cx="4647960" cy="3486240"/>
          </a:xfrm>
          <a:prstGeom prst="rect">
            <a:avLst/>
          </a:prstGeom>
          <a:ln w="0">
            <a:noFill/>
          </a:ln>
        </p:spPr>
      </p:sp>
      <p:sp>
        <p:nvSpPr>
          <p:cNvPr id="44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or HIPAA implementations, CMS has granted contingency periods, or extensions, to published compliance dates.  Many entities have come to rely on these extensions in making their implementation plans.  This would be a critical error for ICD-10 implementation.  CMS had emphatically stated that there will be no contingency period for ICD-10, and that entities must meet the compliance date or face enforcement actions.  Worse, a State Medicaid Agency not ready to process ICD-10 claims will face extreme difficulties in making payment and coverage decisions for services on and after Oct 1,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work plans should target, and stick to, Oct 1, 2013 as the readiness date.</a:t>
            </a:r>
            <a:endParaRPr b="0" lang="en-US" sz="1200" spc="-1" strike="noStrike">
              <a:solidFill>
                <a:srgbClr val="000000"/>
              </a:solidFill>
              <a:latin typeface="Calibri"/>
            </a:endParaRPr>
          </a:p>
        </p:txBody>
      </p:sp>
      <p:sp>
        <p:nvSpPr>
          <p:cNvPr id="4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75AD7B-E3CC-45D1-BD37-FB3BB2BD5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D32394-68FA-4E60-99BF-4D51BF37C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06640" y="696960"/>
            <a:ext cx="4647960" cy="3486240"/>
          </a:xfrm>
          <a:prstGeom prst="rect">
            <a:avLst/>
          </a:prstGeom>
          <a:ln w="0">
            <a:noFill/>
          </a:ln>
        </p:spPr>
      </p:sp>
      <p:sp>
        <p:nvSpPr>
          <p:cNvPr id="4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issues have already been identified that must be considered during the course of your ICD-10 implementation.  We have identified them for you in this segment, so make sure that you consider them as you do your assessment and create your implementation strate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insisted that it will not grant any extensions for ICD-10 implementation, so focus your plan on making the compliance date of Oct 1, 2013.</a:t>
            </a:r>
            <a:endParaRPr b="0" lang="en-US" sz="1200" spc="-1" strike="noStrike">
              <a:solidFill>
                <a:srgbClr val="000000"/>
              </a:solidFill>
              <a:latin typeface="Calibri"/>
            </a:endParaRPr>
          </a:p>
        </p:txBody>
      </p:sp>
      <p:sp>
        <p:nvSpPr>
          <p:cNvPr id="4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190445-1282-4AF8-9AAF-6B1D40654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9E233A-B71C-4F84-B5CC-0766025B6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6640" y="696960"/>
            <a:ext cx="4647960" cy="3486240"/>
          </a:xfrm>
          <a:prstGeom prst="rect">
            <a:avLst/>
          </a:prstGeom>
          <a:ln w="0">
            <a:noFill/>
          </a:ln>
        </p:spPr>
      </p:sp>
      <p:sp>
        <p:nvSpPr>
          <p:cNvPr id="39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identify the currently known potential programmatic and technical problems that may occur during the ICD-10 implementation.  The goal is to become aware of these problems and to make some early preparations to address and resolve them.  These are the types of issues that must be addressed in the program strategy development we described in the previous segmen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E9B487-12DD-4297-BF57-0598D51EB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6640" y="696960"/>
            <a:ext cx="4647960" cy="3486240"/>
          </a:xfrm>
          <a:prstGeom prst="rect">
            <a:avLst/>
          </a:prstGeom>
          <a:ln w="0">
            <a:noFill/>
          </a:ln>
        </p:spPr>
      </p:sp>
      <p:sp>
        <p:nvSpPr>
          <p:cNvPr id="39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mediate issue is: “Where do resources for this large project come from?”  This is certainly a difficult time for State Medicaid Agencies, with the need to cut costs while expanding coverage, and pressures for health care reform.  There are may competing priorities from the federal government and other sources.  HIPAA version upgrades are required by Jan 1, 2012, many areas are implementing health information exchanges, and standards are being developed to interoperate with Electronic Health Records (EH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ring adequate resources, and managing them effectively, is critical to achieving all of these goals.  Creative planning may be necessary, especially in the potential sharing of resources with other agencies within the State (public health, for example) that may be dealing with the ICD-10 conversion.</a:t>
            </a:r>
            <a:endParaRPr b="0" lang="en-US" sz="1200" spc="-1" strike="noStrike">
              <a:solidFill>
                <a:srgbClr val="000000"/>
              </a:solidFill>
              <a:latin typeface="Calibri"/>
            </a:endParaRPr>
          </a:p>
        </p:txBody>
      </p:sp>
      <p:sp>
        <p:nvSpPr>
          <p:cNvPr id="3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138DA3-DCFA-4B3B-87BD-B257ACB29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F43D5D-8083-42A8-AF6B-9E1B9E113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06640" y="696960"/>
            <a:ext cx="464796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ICD-10 mandate applies to all health plans and providers in this country.  There will be significant competition for experts throughout the industry, not just in Medicaid.  There is an expectation that there will be a shortage of such expe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ate Medicaid agencies will be going through the ICD-10 implementation at the same time.  This may be an opportunity for states to form cooperatives to acquire ICD-10 expertise and MMIS expertise.</a:t>
            </a:r>
            <a:endParaRPr b="0" lang="en-US" sz="1200" spc="-1" strike="noStrike">
              <a:solidFill>
                <a:srgbClr val="000000"/>
              </a:solidFill>
              <a:latin typeface="Calibri"/>
            </a:endParaRPr>
          </a:p>
        </p:txBody>
      </p:sp>
      <p:sp>
        <p:nvSpPr>
          <p:cNvPr id="4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E2C5E6-5411-4FB6-BA6D-574F15258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CDA92D-3315-425C-B082-161F6DFFB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will face numerous program questions because of this ICD-10 implementation.  It may prove difficult to predict the impact of these coding changes on Medicaid expenditures.  If, as expected, coverage and reimbursement policies change based on these new codes,  how will utilization be affected?  Will provider behaviors change?  Will more claims be rejected or paid?  Will there be a period of uncertainty during the first year or so of implementation, as providers get used to using the new cod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agencies will need to manage their relationships with providers carefully during this change.  Any difficulties could drive providers out of the program, and any payment delays could cause serious hardships for providers.  Ongoing communication will be critic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Medicaid beneficiaries will also be impacted.  Coverage changes may impact the care that they have been receiving.  If States use the better diagnosis information to make decisions on coverage, some beneficiaries may no longer receive the care that they have been used to.  Beneficiary communication and management will also be critical during this time perio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may have to also change some of their waiver programs.  Better information on beneficiary conditions may alter the structure and eligibility for participation in these programs.</a:t>
            </a:r>
            <a:endParaRPr b="0" lang="en-US" sz="1200" spc="-1" strike="noStrike">
              <a:solidFill>
                <a:srgbClr val="000000"/>
              </a:solidFill>
              <a:latin typeface="Calibri"/>
            </a:endParaRPr>
          </a:p>
        </p:txBody>
      </p:sp>
      <p:sp>
        <p:nvSpPr>
          <p:cNvPr id="4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8F882B-234A-408D-BF8F-FBC85BC47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682FB2-D5B4-4188-95BF-B84CA0F61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6640" y="696960"/>
            <a:ext cx="464796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immense difference between ICD-9 and ICD-10 codes, and their impact throughout the organization, many staff in the agency will have to be trained on the change in codes.  Some will need extensive training, others not.   Planning for training will be necessary , so that everyone who needs the training receives it, and productivity is not unduly impacted while staff are being tr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raining question deals with providers and vendors.  Who will be responsible for assuring that all providers get appropriate training, and all vendors?  This may need to be looked at state by state or locally, in cooperation with other health plans, provider organizations, and CMS.</a:t>
            </a:r>
            <a:endParaRPr b="0" lang="en-US" sz="1200" spc="-1" strike="noStrike">
              <a:solidFill>
                <a:srgbClr val="000000"/>
              </a:solidFill>
              <a:latin typeface="Calibri"/>
            </a:endParaRPr>
          </a:p>
        </p:txBody>
      </p:sp>
      <p:sp>
        <p:nvSpPr>
          <p:cNvPr id="4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0DBE34-2658-4058-BF9C-411DE9C38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026569-5B82-4708-9373-E614FFAAA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06640" y="696960"/>
            <a:ext cx="464796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 time – the time on and after Oct 1, 2013 – when the entire industry will be moving from ICD-9 to ICD-10 will be a difficult time.  But planning ahead for that time may help ease the burden.  One task that Medicaid agencies should take on is the tracking of provider readiness.  You should, as best as possible and as early as possible, assure that </a:t>
            </a:r>
            <a:r>
              <a:rPr b="0" lang="en-US" sz="1200" spc="-1" strike="noStrike" u="sng">
                <a:solidFill>
                  <a:srgbClr val="000000"/>
                </a:solidFill>
                <a:uFillTx/>
                <a:latin typeface="Calibri"/>
              </a:rPr>
              <a:t>all</a:t>
            </a:r>
            <a:r>
              <a:rPr b="0" lang="en-US" sz="1200" spc="-1" strike="noStrike">
                <a:solidFill>
                  <a:srgbClr val="000000"/>
                </a:solidFill>
                <a:latin typeface="Calibri"/>
              </a:rPr>
              <a:t> of the providers that you deal with are ready to begin using ICD-10 codes for services on and after Oct 1, 2013.    Early tracking of provider progress toward the switch will help identify any provider problems and perhaps resolve those issues before they cause a bigger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also be tracking the readiness of other  trading partners and suppliers – clearinghouses, billing agencies, UR partners, COB partners – so that you know they will be ready when the time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cision must be made on how to handle transactions which should have ICD-10 codes but are submitted with ICD-9 codes.  Do you reject them and send them back or do you hold them and contact the sender for the correct ICD-10 codes.  You should not process ICD-9 codes when ICD-10 codes are required on a transaction.</a:t>
            </a:r>
            <a:endParaRPr b="0" lang="en-US" sz="1200" spc="-1" strike="noStrike">
              <a:solidFill>
                <a:srgbClr val="000000"/>
              </a:solidFill>
              <a:latin typeface="Calibri"/>
            </a:endParaRPr>
          </a:p>
        </p:txBody>
      </p:sp>
      <p:sp>
        <p:nvSpPr>
          <p:cNvPr id="4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8C6A2D-FBC7-40E5-9366-7734E96D4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636722-4427-4F08-93B7-CF6207156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06640" y="696960"/>
            <a:ext cx="464796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ntities with which Medicaid agencies deal that are not required to use ICD-10 codes; in fact they are not required to follow HIPAA standards.  You already have ongoing business arrangements with these entities, but they will need to be modified for ICD-10.  You should avoid having to run different systems to deal with these entities.  Any coding from atypical providers should be switched to ICD-10 with appropriate instructions.   There are ongoing discussions with Workers Compensation plans to attempt to get them to move to ICD-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to other state agencies may also be an issue.  If they have been getting reports based on ICD-9 diagnoses, these reports will have to be modified to accommodate ICD-10.</a:t>
            </a:r>
            <a:endParaRPr b="0" lang="en-US" sz="1200" spc="-1" strike="noStrike">
              <a:solidFill>
                <a:srgbClr val="000000"/>
              </a:solidFill>
              <a:latin typeface="Calibri"/>
            </a:endParaRPr>
          </a:p>
        </p:txBody>
      </p:sp>
      <p:sp>
        <p:nvSpPr>
          <p:cNvPr id="4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9B4858-1A31-4CA8-8C19-B6698DAF5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B35CE6-BD09-4DA8-ADD9-645782F40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6640" y="696960"/>
            <a:ext cx="464796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IOs are looking at ICD-10 as an opportunity for system replacements.  Each entity should decide for itself if it will be cost effective to do partial or total system or vendor replacements for ICD-10 implementation, or if systems can be remediated.  This decision should be based on the outcome of your business and technical assessments.  For each system, look at the changes necessary to implement ICD-10.  What will be necessary to meet the changes and perhaps take advantage of the improved data?  Compare the costs and time frames for remediation versus replacement.  Can you justify one or the other?  What is the time necessary to do each?  Were you planning for system replacement sometime in the next  four years any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 you do for ICD-10 implementation, and the answers to these questions, will help you make an informed decision.</a:t>
            </a: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0DFBA9-C16E-41C8-9038-14988953E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567FC-CB8A-4817-A8A8-BE1853FC8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07BB-009E-4DD6-AECA-5CBE4973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E7D9A-6F64-462E-AC27-AE02328AF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FC8C0-7082-4215-9DA3-9DC492FF0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4E2AB-EAEF-4385-9D93-B7DD61D1E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79735-3534-42A5-BD6A-CB0EB8A00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0E428-891F-4ACA-99C8-0008F7ABD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EDF67-C62B-4AB4-8FD0-2D4A2F043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6EBC1-0868-4DD2-86DE-5FAAB2D95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C8959-F194-46ED-AF1C-0A2C344F1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6586-3532-4BCB-8BA3-4CEE0C340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AD49-4CF3-419D-B330-4805D3CA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5DA58-529B-4A5B-9584-77AE05EAA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FAA5B-7506-4C2C-88AA-C8FE51499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20C61-4FAC-4DAC-B1F2-CB7ECAB24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B646E-42FF-413B-A092-B3D55FAA4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BDAA5-F483-4BA7-8510-28338EA91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F72A72-429D-415A-95C3-537B52E8F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E6578-3E03-409B-AEAD-6C8EA53D0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715A38-7223-4C4F-ABDC-E7F2FF85E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7B317-6636-46AE-BED3-A93F80996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EC163-86E0-4DA1-A208-FAB8F4DD8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37A9-27DA-4A0A-8094-E75099D9B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481BEA-D065-4CB2-A417-D8E5119973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E61A0-F562-4C08-9334-A79385A65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8C907-F0CE-4A04-832D-527FA554C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1ECF4-0F42-4AD3-B87E-974EDF840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2707B-6747-4462-B20E-F710CCFD0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66860-C592-4834-A428-5B79F1F1C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5BAB60-9DF5-4D4A-A594-BD4EE6B6BA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68B4D4-DC28-4E87-800E-C8DD8A429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F3360-67F3-46C7-AFFA-B1F810A8D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F58BA-454A-41D7-85D1-0B3C9B5F3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AB214-C517-4C3C-B395-C8C27A25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14A73-8892-4581-91F4-354FE9F27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67279-9C45-4CFE-AD55-D6EEE44D3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31C76-E8B6-40BA-9892-2BCDC2927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A90BA-5537-4A81-B51A-B84B33847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A54BA-A286-4B20-825F-0A7C58988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48931-E0C6-4C56-9926-C6FFBF6F3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BC455-A84C-4DAC-926F-C30A6D747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A1175E-445D-4DFB-8802-308680809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790269-FDAD-46B9-A0F6-CE975CDD63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6263B6-62CC-453E-85C3-9623E4A8AC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ECCF-FBA0-4EAD-B20C-A9A3667AF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4B378-A24C-4DA2-8F21-7E92A23BC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8CF0E6-DC23-4BDD-A95E-3AEF51438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079DF9-DC4F-4CA4-9443-87B7685BD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060AE-70DE-42F8-A3C5-642F49BBF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4A17B-BBBD-4FBD-BFA2-E2E11CC8D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61D97-9E02-40F0-8529-1198A6452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2473E-D683-483E-A9D8-2AC88D010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FEC43-A514-47F3-A2F6-5D61F7291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B58DD-58B1-4907-ABB1-7ADCA300F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A8D492-FF40-4F00-B3D0-E75191E83F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C2FB9-F5C2-4212-B25A-A5D125BE7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E79CC-02DD-4661-82A1-B2DC49124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8D0E65-7032-45C8-829D-3520DE6843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33030-C8B9-42AE-9036-F615897C1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F6F8EC-A29C-408C-ADC1-D7320D342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12C74-21AA-46F8-B8E4-8104A44D94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1C2E39-2E61-4974-A257-7A12A23C3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2CC47-985F-4AA2-A45B-B4C178AF4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6D199-777F-4172-8680-CE4C1024C4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B75FF-4C33-4B5E-8F08-A57F5E021D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E2C67-F9F8-4227-B9D8-8A16E03FF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DFA01-1627-4A74-AE23-FFAF208A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73EFB-BCF6-4911-8816-B62244147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76EBB2-BB2F-4DD8-97D9-F1DFFF9AE0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C5668E-181B-4F24-9F91-C5CA122B2D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3F44F4-7502-4663-901F-7EDE045BE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D7AC5F-17E4-4109-811A-2B8634A23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9D06B-ED35-4396-9C7D-979E73439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0CAA3-69A9-44E5-8FB1-5486F4A23E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CA01E9-68A5-453A-BA86-6BA134116D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3C499-D466-4CA9-A046-4605F5E07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5C356-4F76-4488-846F-ED08F5B5A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9F16A-2211-447E-8C45-3D68CD329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4D340-3CF2-45BE-8F04-F99DE7EF3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FDE245-C0D9-42C0-AA89-00534359B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5F49A5-5E6B-4DEE-A39A-E366E6AED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0CA90C-C627-40FF-B8CF-99DE613826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675676-CAC2-4258-9914-870F3757D3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F9E3-18E3-4A87-8987-26398ACB5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DF02-ADDA-452E-AB59-C72E59F33744}"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266720" y="6477120"/>
            <a:ext cx="342900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CCFB-079B-4394-B2F7-2B10186C877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FEAC-34A3-4D4A-A2B4-608A8FB9136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1A0E-8DA1-456D-966F-7890C5AC99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CE23-D0AB-408E-B4B5-A15A3587D6F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9A5D-9F87-48CE-876A-4E9BC59441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83E1-E291-4BAC-9FE4-BD7209B4812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4ECD-AE57-4655-933E-6D89D6E35A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393F-4B3F-4F58-89A0-46CF4F838B1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53F8-4EC0-43B5-BACC-1506CD2558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0DD4-7099-4AFE-A353-72934E1F097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18CD-B0A4-4064-B3F8-8062BBD7FC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619760" y="6476760"/>
            <a:ext cx="990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5CE7-F51D-465C-92DE-6B6FDCA3DFE1}"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114800" y="6477120"/>
            <a:ext cx="3581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BC67-8B16-4555-86C3-368BB8871EE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ms.hhs.gov/ICD10/02m_2009_ICD_10_CM.asp" TargetMode="External"/><Relationship Id="rId2" Type="http://schemas.openxmlformats.org/officeDocument/2006/relationships/hyperlink" Target="http://www.cms.hhs.gov/ICD10/01m_2009_ICD10PCS.asp" TargetMode="External"/><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1"/>
          <p:cNvSpPr/>
          <p:nvPr/>
        </p:nvSpPr>
        <p:spPr>
          <a:xfrm>
            <a:off x="7620120" y="6477120"/>
            <a:ext cx="1066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4395-5B81-4F53-A0CD-C255E477D51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1"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2F5B-94CA-4F64-8A11-03E56ABC510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6</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Potential Programmatic and Technical Problems</a:t>
            </a:r>
            <a:endParaRPr b="0" lang="en-US" sz="26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10"/>
          <p:cNvSpPr/>
          <p:nvPr/>
        </p:nvSpPr>
        <p:spPr>
          <a:xfrm>
            <a:off x="4495680" y="98892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D446-D5D7-42A0-885C-716E9B6A7B1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5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1BD8-4E1A-4728-AE2F-497E834FBA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crosswalk?</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tool that attempts to match ICD-10 codes to ICD-9 cod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s being looked at as an easy solution for ICD-10 implementatio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it?</a:t>
            </a:r>
            <a:endParaRPr b="0" lang="en-US" sz="2200" spc="-1" strike="noStrike">
              <a:solidFill>
                <a:srgbClr val="000000"/>
              </a:solidFill>
              <a:latin typeface="Verdana"/>
            </a:endParaRPr>
          </a:p>
        </p:txBody>
      </p:sp>
      <p:sp>
        <p:nvSpPr>
          <p:cNvPr id="35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echnical Issue - Crosswal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1A1D-1C67-4735-8D6D-1899EDB0855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5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5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3314-7A1A-4F4A-BCEB-1B7282D55E7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6"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ICD-10 has many changes from ICD-9</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er specificity is only one of those chang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other changes that make comparing ICD-10 to ICD-9 difficult</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 – asthma</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9 classifies asthma by intrinsic and extrinsic</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classifies asthma as mild, moderate, and seve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asy way to translate one to the other</a:t>
            </a:r>
            <a:endParaRPr b="0" lang="en-US" sz="2400" spc="-1" strike="noStrike">
              <a:solidFill>
                <a:srgbClr val="000000"/>
              </a:solidFill>
              <a:latin typeface="Verdana"/>
            </a:endParaRPr>
          </a:p>
        </p:txBody>
      </p:sp>
      <p:sp>
        <p:nvSpPr>
          <p:cNvPr id="35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rosswalk Issues – No Perfect Crosswa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B449-C8BB-40E3-90EF-69106C038EC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5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6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10F2-30EC-4EFB-B24F-A08297A3941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codes contain significantly more and different information than ICD-9 cod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rosswalking could be done, this additional information would be los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minimizes the benefits of the ICD-10 code set usage</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it negates the efforts that providers make to code in ICD-10</a:t>
            </a:r>
            <a:endParaRPr b="0" lang="en-US" sz="2400" spc="-1" strike="noStrike">
              <a:solidFill>
                <a:srgbClr val="000000"/>
              </a:solidFill>
              <a:latin typeface="Verdana"/>
            </a:endParaRPr>
          </a:p>
        </p:txBody>
      </p:sp>
      <p:sp>
        <p:nvSpPr>
          <p:cNvPr id="36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rosswalk Issues – Loss of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9215-6609-4B57-9214-4654F7704D3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6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6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EEB8-C7B0-4A38-817B-36E4EB102A0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6" name=""/>
          <p:cNvSpPr txBox="1"/>
          <p:nvPr/>
        </p:nvSpPr>
        <p:spPr>
          <a:xfrm>
            <a:off x="457200" y="16761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e is no crosswalk that has been developed for all code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CHS and CMS have developed General Equivalence Maps or “GEM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show the relationships between ICD-9 and ICD-10 code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links to GEMs</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gnoses - </a:t>
            </a:r>
            <a:r>
              <a:rPr b="0" lang="en-US" sz="1800" spc="-1" strike="noStrike" u="sng">
                <a:solidFill>
                  <a:srgbClr val="0000ff"/>
                </a:solidFill>
                <a:uFillTx/>
                <a:latin typeface="Verdana"/>
                <a:hlinkClick r:id="rId1"/>
              </a:rPr>
              <a:t>http://www.cms.hhs.gov/ICD10/02m_2009_ICD_10_CM.asp</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s - </a:t>
            </a:r>
            <a:r>
              <a:rPr b="0" lang="en-US" sz="1800" spc="-1" strike="noStrike" u="sng">
                <a:solidFill>
                  <a:srgbClr val="0000ff"/>
                </a:solidFill>
                <a:uFillTx/>
                <a:latin typeface="Verdana"/>
                <a:hlinkClick r:id="rId2"/>
              </a:rPr>
              <a:t>http://www.cms.hhs.gov/ICD10/01m_2009_ICD10PCS.asp</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rosswalk Issues -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527A-671D-40E0-842A-BCD44D576B7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6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7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5F92-C628-4577-88AF-CDC40607BF9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 use of crosswalks as a production tool</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some testing of current systems against crosswalked ICD-9 data</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o speak ICD-10</a:t>
            </a:r>
            <a:endParaRPr b="0" lang="en-US" sz="2400" spc="-1" strike="noStrike">
              <a:solidFill>
                <a:srgbClr val="000000"/>
              </a:solidFill>
              <a:latin typeface="Verdana"/>
            </a:endParaRPr>
          </a:p>
        </p:txBody>
      </p:sp>
      <p:sp>
        <p:nvSpPr>
          <p:cNvPr id="37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Don’t Use Crosswalks for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143B-A649-46DA-8657-C1877060AF6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7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7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B9F1-D490-44F0-B66B-A0C1B33E545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6"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 to learn differences and similarities between ICD-9 and ICD-10 cod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simulation exercise to compare impact of ICD-10 on current system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 to compare historical ICD-9 data with new ICD-10 data</a:t>
            </a:r>
            <a:endParaRPr b="0" lang="en-US" sz="2400" spc="-1" strike="noStrike">
              <a:solidFill>
                <a:srgbClr val="000000"/>
              </a:solidFill>
              <a:latin typeface="Verdana"/>
            </a:endParaRPr>
          </a:p>
        </p:txBody>
      </p:sp>
      <p:sp>
        <p:nvSpPr>
          <p:cNvPr id="37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What Are Crosswalks Goo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7798-41C2-4666-AF39-F5AFE2CE76D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7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8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CD0F-F31A-4A69-874B-F14B217104C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1" name=""/>
          <p:cNvSpPr txBox="1"/>
          <p:nvPr/>
        </p:nvSpPr>
        <p:spPr>
          <a:xfrm>
            <a:off x="457200" y="19807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gency periods have been used in prior HIPAA implementation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MS has been very emphatic that they will not be available for ICD-10</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liance deadline must be met, or there will be difficulties after Oct 1, 2013</a:t>
            </a:r>
            <a:endParaRPr b="0" lang="en-US" sz="2400" spc="-1" strike="noStrike">
              <a:solidFill>
                <a:srgbClr val="000000"/>
              </a:solidFill>
              <a:latin typeface="Verdana"/>
            </a:endParaRPr>
          </a:p>
        </p:txBody>
      </p:sp>
      <p:sp>
        <p:nvSpPr>
          <p:cNvPr id="38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ontingency – Not According to C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091E-D475-4652-8F22-2AB5C752436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8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8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0C3E-456C-4493-8AD6-C5674121236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6" name=""/>
          <p:cNvSpPr txBox="1"/>
          <p:nvPr/>
        </p:nvSpPr>
        <p:spPr>
          <a:xfrm>
            <a:off x="457200" y="19807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 number of issues that need to be considered in the ICD-10 implementation</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hould be kept in mind as you do your assessment and create your strategy</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n making the end date – No contingency period is expected to be granted</a:t>
            </a:r>
            <a:endParaRPr b="0" lang="en-US" sz="2400" spc="-1" strike="noStrike">
              <a:solidFill>
                <a:srgbClr val="000000"/>
              </a:solidFill>
              <a:latin typeface="Verdana"/>
            </a:endParaRPr>
          </a:p>
        </p:txBody>
      </p:sp>
      <p:sp>
        <p:nvSpPr>
          <p:cNvPr id="38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umm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BF54-4D94-428E-BBF0-1F1717A1EF0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FC74-CE98-49EA-B098-0E9B95773C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PlaceHolder 1"/>
          <p:cNvSpPr>
            <a:spLocks noGrp="1"/>
          </p:cNvSpPr>
          <p:nvPr>
            <p:ph/>
          </p:nvPr>
        </p:nvSpPr>
        <p:spPr>
          <a:xfrm>
            <a:off x="761760" y="2599920"/>
            <a:ext cx="7467480" cy="113364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potential programmatic and technical issues</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pare to resolve them</a:t>
            </a:r>
            <a:endParaRPr b="0" lang="en-US" sz="2200" spc="-1" strike="noStrike">
              <a:solidFill>
                <a:srgbClr val="000000"/>
              </a:solidFill>
              <a:latin typeface="Verdana"/>
            </a:endParaRPr>
          </a:p>
        </p:txBody>
      </p:sp>
      <p:sp>
        <p:nvSpPr>
          <p:cNvPr id="312" name="Text Box 5"/>
          <p:cNvSpPr/>
          <p:nvPr/>
        </p:nvSpPr>
        <p:spPr>
          <a:xfrm>
            <a:off x="762120" y="1066680"/>
            <a:ext cx="76197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egment 6 – Potential Programmatic and Technical Proble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bjectives of this Se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CE42-F392-4224-A248-AF98B74DE77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6DF8-6F3A-4D0E-B728-1DF4761608A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curring at a difficult time for Medicaid Agenc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sures exist for cost cutting and health care reform</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major projects also occurring – HIPAA version upgrades, health information exchanges, interoperability with EH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distribution and management is critical to achieving goals of these project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eed to get creative</a:t>
            </a:r>
            <a:endParaRPr b="0" lang="en-US" sz="2400" spc="-1" strike="noStrike">
              <a:solidFill>
                <a:srgbClr val="000000"/>
              </a:solidFill>
              <a:latin typeface="Verdana"/>
            </a:endParaRPr>
          </a:p>
        </p:txBody>
      </p:sp>
      <p:sp>
        <p:nvSpPr>
          <p:cNvPr id="317" name="Text Box 7"/>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Resource Issues - Inte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8B64-1019-4AB1-B9B8-29E388AD34E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8B51-D355-43F8-8884-16579E3E155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competition for ICD-10 experts throughout the industry, not just in Medicaid</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at all states will be going through this at the same time</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y for cooperatives for both ICD-10 expertise and MMIS expertise</a:t>
            </a:r>
            <a:endParaRPr b="0" lang="en-US" sz="2400" spc="-1" strike="noStrike">
              <a:solidFill>
                <a:srgbClr val="000000"/>
              </a:solidFill>
              <a:latin typeface="Verdana"/>
            </a:endParaRPr>
          </a:p>
        </p:txBody>
      </p:sp>
      <p:sp>
        <p:nvSpPr>
          <p:cNvPr id="32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Resource Issues - Exte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A240-65D9-4FBA-BD4D-8CD5A9CB145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2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BFD0-19D7-4D64-A856-2EE1C3C901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predict impacts of code changes on budget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ing relationships with provide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ciary issu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efining coverage using cod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ing waiver programs</a:t>
            </a:r>
            <a:endParaRPr b="0" lang="en-US" sz="2400" spc="-1" strike="noStrike">
              <a:solidFill>
                <a:srgbClr val="000000"/>
              </a:solidFill>
              <a:latin typeface="Verdana"/>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Program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37C4-E934-4D0D-B9E4-90B5F6EF913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3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01FD-5EF2-43B4-AD57-E43FE8A1BD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staff will need to be trained – How do you avoid loss of productivity?</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is responsible for training providers and vendo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raining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95C1-3BB0-4F34-BA05-15F67C709D6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3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1C61-45F9-4A27-91E8-91352D433C3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ing provider readines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ing other partner readines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nying the use of ICD-9 codes after Oct 1, 2013</a:t>
            </a:r>
            <a:endParaRPr b="0" lang="en-US" sz="2400" spc="-1" strike="noStrike">
              <a:solidFill>
                <a:srgbClr val="000000"/>
              </a:solidFill>
              <a:latin typeface="Verdana"/>
            </a:endParaRPr>
          </a:p>
        </p:txBody>
      </p:sp>
      <p:sp>
        <p:nvSpPr>
          <p:cNvPr id="33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ransition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193A-9B6B-462F-B7D0-728F116BB9E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4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D34A-52B0-45F1-AD80-3FF31A4C58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atypical provide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Workers Compensation</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other state agencies</a:t>
            </a:r>
            <a:endParaRPr b="0" lang="en-US" sz="2400" spc="-1" strike="noStrike">
              <a:solidFill>
                <a:srgbClr val="000000"/>
              </a:solidFill>
              <a:latin typeface="Verdana"/>
            </a:endParaRPr>
          </a:p>
        </p:txBody>
      </p:sp>
      <p:sp>
        <p:nvSpPr>
          <p:cNvPr id="34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Non-HIPAA Part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B278-7C4C-4A8E-8E34-7C2DE43ECE5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4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D4FB-CD10-46F7-9657-17ED2B09868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at the range of changes necessary (assessmen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approximate costs of remediation vs. replacemen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ppropriate decision based on analysis</a:t>
            </a:r>
            <a:endParaRPr b="0" lang="en-US" sz="2400" spc="-1" strike="noStrike">
              <a:solidFill>
                <a:srgbClr val="000000"/>
              </a:solidFill>
              <a:latin typeface="Verdana"/>
            </a:endParaRPr>
          </a:p>
        </p:txBody>
      </p:sp>
      <p:sp>
        <p:nvSpPr>
          <p:cNvPr id="34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echnical Issue – Remediate or Re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5:42:13Z</dcterms:modified>
  <cp:revision>129</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