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dt" idx="19"/>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52"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53"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20"/>
          </p:nvPr>
        </p:nvSpPr>
        <p:spPr>
          <a:xfrm>
            <a:off x="-360" y="8829720"/>
            <a:ext cx="29718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6"/>
          <p:cNvSpPr>
            <a:spLocks noGrp="1"/>
          </p:cNvSpPr>
          <p:nvPr>
            <p:ph type="sldNum" idx="21"/>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C1A6D9E-32C7-4618-9DA2-09E4A9F20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19F38A1-78FC-49DB-9E17-34AA14835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06640" y="696960"/>
            <a:ext cx="4647960" cy="3486240"/>
          </a:xfrm>
          <a:prstGeom prst="rect">
            <a:avLst/>
          </a:prstGeom>
          <a:ln w="0">
            <a:noFill/>
          </a:ln>
        </p:spPr>
      </p:sp>
      <p:sp>
        <p:nvSpPr>
          <p:cNvPr id="3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12 Training Segments in the entire program.</a:t>
            </a:r>
            <a:endParaRPr b="0" lang="en-US" sz="1000" spc="-1" strike="noStrike">
              <a:solidFill>
                <a:srgbClr val="000000"/>
              </a:solidFill>
              <a:latin typeface="Calibri"/>
            </a:endParaRPr>
          </a:p>
        </p:txBody>
      </p:sp>
      <p:sp>
        <p:nvSpPr>
          <p:cNvPr id="3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DEDCFC-6F81-443E-8C2D-EDBC64BEC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06640" y="696960"/>
            <a:ext cx="4647960" cy="3486240"/>
          </a:xfrm>
          <a:prstGeom prst="rect">
            <a:avLst/>
          </a:prstGeom>
          <a:ln w="0">
            <a:noFill/>
          </a:ln>
        </p:spPr>
      </p:sp>
      <p:sp>
        <p:nvSpPr>
          <p:cNvPr id="36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what happens after October 1, 2013?   This project is far from over.  There are a number of tasks that cannot start until after the compliance date, but are also critical to the success of the project.  Some of these tasks will extend 2-3 years after Oct 2013.  Remember to include these tasks in your overall project plan and budget for them.</a:t>
            </a:r>
            <a:endParaRPr b="0" lang="en-US" sz="1000" spc="-1" strike="noStrike">
              <a:solidFill>
                <a:srgbClr val="000000"/>
              </a:solidFill>
              <a:latin typeface="Calibri"/>
            </a:endParaRPr>
          </a:p>
        </p:txBody>
      </p:sp>
      <p:sp>
        <p:nvSpPr>
          <p:cNvPr id="3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F65F475-F80F-44A8-868D-2BDD0D9C4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06640" y="696960"/>
            <a:ext cx="4647960" cy="3486240"/>
          </a:xfrm>
          <a:prstGeom prst="rect">
            <a:avLst/>
          </a:prstGeom>
          <a:ln w="0">
            <a:noFill/>
          </a:ln>
        </p:spPr>
      </p:sp>
      <p:sp>
        <p:nvSpPr>
          <p:cNvPr id="36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assume that you are ready to transact business using ICD-10 codes for services on and after Oct 1, 2013.  One of the first items to do is some very close monitoring of your processes.  Are transactions using ICD-10 being processed in a timely manner?  Are they being processed accurately?  How is staff responding to the new code set?  Are they operating successfully?  Monitor calls to your provider help desk.  It is expected that the volume of such calls will rise dramatically during the first few months of ICD-10.    Plan for th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nitor your trading partners.  All should be using ICD-10 based on service date.  Are they?  Is anyone using ICD-10 for services prior to Oct 1, 2013?  How are you reacting to improper code set u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 at all of your vendor products (remember your inventory – use it!).  Are all operating successfully with ICD-10?</a:t>
            </a:r>
            <a:endParaRPr b="0" lang="en-US" sz="1000" spc="-1" strike="noStrike">
              <a:solidFill>
                <a:srgbClr val="000000"/>
              </a:solidFill>
              <a:latin typeface="Calibri"/>
            </a:endParaRPr>
          </a:p>
        </p:txBody>
      </p:sp>
      <p:sp>
        <p:nvSpPr>
          <p:cNvPr id="3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F6C556-AA4E-477C-B5F8-A6B82A3C3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06640" y="696960"/>
            <a:ext cx="4647960" cy="3486240"/>
          </a:xfrm>
          <a:prstGeom prst="rect">
            <a:avLst/>
          </a:prstGeom>
          <a:ln w="0">
            <a:noFill/>
          </a:ln>
        </p:spPr>
      </p:sp>
      <p:sp>
        <p:nvSpPr>
          <p:cNvPr id="36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 more and more transactions come in with ICD-10 codes, start gathering some trend data.  Do the diagnosis and inpatient hospital procedure trends make sense?  You should have a general idea of diagnosis trends from ICD-9 data; the ICD-10 data should not break dramatically from general trends (number of cases of asthma, diabetes, heart disease, etc.).  Are there unexpected reimbursement changes – by provider type or local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 at your targeted disease programs.  Are they still working as expected?  Are you identifying more participants than expec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nitor your claim edit results.  Are you properly accepting and rejecting claims for medical review,  fraud and abuse, etc.?</a:t>
            </a:r>
            <a:endParaRPr b="0" lang="en-US" sz="1000" spc="-1" strike="noStrike">
              <a:solidFill>
                <a:srgbClr val="000000"/>
              </a:solidFill>
              <a:latin typeface="Calibri"/>
            </a:endParaRPr>
          </a:p>
        </p:txBody>
      </p:sp>
      <p:sp>
        <p:nvSpPr>
          <p:cNvPr id="3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4A8F9C8-3A09-4AB3-BACA-A5E0D44F60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06640" y="696960"/>
            <a:ext cx="4647960" cy="3486240"/>
          </a:xfrm>
          <a:prstGeom prst="rect">
            <a:avLst/>
          </a:prstGeom>
          <a:ln w="0">
            <a:noFill/>
          </a:ln>
        </p:spPr>
      </p:sp>
      <p:sp>
        <p:nvSpPr>
          <p:cNvPr id="37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is expected that the switch to ICD-10 will encourage attempts at fraudulent or abusive practices, since the experience in dealing with the codes does not exist.  Some initial work should already have been done to develop some early screens, but it may not be known how accurate those screens are.  Be vigilan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municate with your trading partners, other state Medicaid agencies, and health plans in your state on their experiences.  Share lessons learn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will have to determine how best to handle claims history for trending from ICD-9 to ICD-10.  Look at ways to accurately measure trends.  We cannot wait 2-3 years to gather ICD-10 trend data on which to make decis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so, keep in close contact with vendors who may be distributing “patches” to their products if they discover issues with ICD-10.</a:t>
            </a:r>
            <a:endParaRPr b="0" lang="en-US" sz="1000" spc="-1" strike="noStrike">
              <a:solidFill>
                <a:srgbClr val="000000"/>
              </a:solidFill>
              <a:latin typeface="Calibri"/>
            </a:endParaRPr>
          </a:p>
        </p:txBody>
      </p:sp>
      <p:sp>
        <p:nvSpPr>
          <p:cNvPr id="3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66ED76-8D19-464E-8370-05028E0C4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06640" y="696960"/>
            <a:ext cx="4647960" cy="3486240"/>
          </a:xfrm>
          <a:prstGeom prst="rect">
            <a:avLst/>
          </a:prstGeom>
          <a:ln w="0">
            <a:noFill/>
          </a:ln>
        </p:spPr>
      </p:sp>
      <p:sp>
        <p:nvSpPr>
          <p:cNvPr id="37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d as you move on in the use of ICD-10, keep looking for more ways to use the information that you are receiving in the ICD-10 codes.  There will be further opportunities for improving beneficiary health, making program improvements, fine tuning edits, and being more cost-effective with Medicaid funds.  The more detailed codes should allow you to target specific disease areas for improvements.  Don’t forget about these codes just because the compliance date has pas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d, just as we have seen with ICD-9, there will probably be periodic and annual updates to the codes, so plan for the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AAE4D3-5FCE-4C35-8C2F-19FF273EE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06640" y="696960"/>
            <a:ext cx="4647960" cy="3486240"/>
          </a:xfrm>
          <a:prstGeom prst="rect">
            <a:avLst/>
          </a:prstGeom>
          <a:ln w="0">
            <a:noFill/>
          </a:ln>
        </p:spPr>
      </p:sp>
      <p:sp>
        <p:nvSpPr>
          <p:cNvPr id="37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ffectively monitoring your project plan and reacting to delays and changes is necessary with such a complex undertaking as ICD-10 implementation.  There are many moving parts that must be watched, including your own staff and activities, and those of your vendors and trading partner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will also be work after Oct 1, 2013.  We have pointed out several activities that will be occurring after the compliance date. You must include those in your planning.</a:t>
            </a:r>
            <a:endParaRPr b="0" lang="en-US" sz="1000" spc="-1" strike="noStrike">
              <a:solidFill>
                <a:srgbClr val="000000"/>
              </a:solidFill>
              <a:latin typeface="Calibri"/>
            </a:endParaRPr>
          </a:p>
        </p:txBody>
      </p:sp>
      <p:sp>
        <p:nvSpPr>
          <p:cNvPr id="3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126C68-1F92-4C44-8ECD-18AB13C88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72D6320-1239-4DA7-91F4-33FF1109A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06640" y="696960"/>
            <a:ext cx="4647960" cy="3486240"/>
          </a:xfrm>
          <a:prstGeom prst="rect">
            <a:avLst/>
          </a:prstGeom>
          <a:ln w="0">
            <a:noFill/>
          </a:ln>
        </p:spPr>
      </p:sp>
      <p:sp>
        <p:nvSpPr>
          <p:cNvPr id="3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gment will focus on how the State Medicaid Agency can monitor its implementation process, determine if there are any issues, and stay on a path to timely compliance.  We will also discuss some ICD-10 activities that will take place after the compliance date.</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06640" y="696960"/>
            <a:ext cx="4647960" cy="3486240"/>
          </a:xfrm>
          <a:prstGeom prst="rect">
            <a:avLst/>
          </a:prstGeom>
          <a:ln w="0">
            <a:noFill/>
          </a:ln>
        </p:spPr>
      </p:sp>
      <p:sp>
        <p:nvSpPr>
          <p:cNvPr id="34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CD-10 implementation may be the most complex project that the State Medicaid Agency has undertaken in a long time.  It is far from an IT upgrade; it involves virtually every business process and every part of the organization, as well as every provider and other health plan.  This is a four- to five-year undertaking, so it is important to have an overall project plan and monitor progress.   Early estimates indicate that this will also be an expensive project, so budget estimation, planning, monitoring, and adjustment take on added significance.</a:t>
            </a:r>
            <a:endParaRPr b="0" lang="en-US" sz="1000" spc="-1" strike="noStrike">
              <a:solidFill>
                <a:srgbClr val="000000"/>
              </a:solidFill>
              <a:latin typeface="Calibri"/>
            </a:endParaRPr>
          </a:p>
        </p:txBody>
      </p:sp>
      <p:sp>
        <p:nvSpPr>
          <p:cNvPr id="3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4DB671-DBF6-446E-9F78-9602E0A75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06640" y="696960"/>
            <a:ext cx="4647960" cy="3486240"/>
          </a:xfrm>
          <a:prstGeom prst="rect">
            <a:avLst/>
          </a:prstGeom>
          <a:ln w="0">
            <a:noFill/>
          </a:ln>
        </p:spPr>
      </p:sp>
      <p:sp>
        <p:nvSpPr>
          <p:cNvPr id="34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of the size and complexity of this project, careful attention must be paid to how the project is progressing, whether or not resources are available for each step, budget status and availability of funding, and the readiness of entities outside the organization.  Also, it is critical that the quality of each work step be measured, and that the relationship of this project to other major initiatives in the organization be understood and followed.  We will now look at each of these items in some detail to explain how best to monitor each one.</a:t>
            </a:r>
            <a:endParaRPr b="0" lang="en-US" sz="1000" spc="-1" strike="noStrike">
              <a:solidFill>
                <a:srgbClr val="000000"/>
              </a:solidFill>
              <a:latin typeface="Calibri"/>
            </a:endParaRPr>
          </a:p>
        </p:txBody>
      </p:sp>
      <p:sp>
        <p:nvSpPr>
          <p:cNvPr id="3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5AD162-F3EF-486C-BAA5-45CE92A06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06640" y="696960"/>
            <a:ext cx="4647960" cy="3486240"/>
          </a:xfrm>
          <a:prstGeom prst="rect">
            <a:avLst/>
          </a:prstGeom>
          <a:ln w="0">
            <a:noFill/>
          </a:ln>
        </p:spPr>
      </p:sp>
      <p:sp>
        <p:nvSpPr>
          <p:cNvPr id="34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determine the status of the overall implementation plan.  It is absolutely imperative that a detailed project plan, with each task clearly identified and assigned, be created and approved by the organization.  Once this is accomplished, a regular reporting system must be set up so that the progress of the project against the plan can be tracked.  Since ICD-10 implementation is such a large effort, it is recommended that a Project Management Office (PMO) be established and charged with the responsibility of monitoring and reporting on the status of the projec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is important to monitor not only current tasks, but also tasks with due dates in the near- to mid-term future, so that progress can be assured.  This will enable the organization to identify obstacles to progress (and current and upcoming slippages), so that corrective actions can be taken to deal with them.  Keeping the project on target throughout its lifetime will enable a much smoother implement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a variety of automated project management and tracking tools available.  Given the size of this project, these should prove very useful.  The NCHICA/WEDI timeline can be used as a basic framework for a project plan.</a:t>
            </a:r>
            <a:endParaRPr b="0" lang="en-US" sz="1000" spc="-1" strike="noStrike">
              <a:solidFill>
                <a:srgbClr val="000000"/>
              </a:solidFill>
              <a:latin typeface="Calibri"/>
            </a:endParaRPr>
          </a:p>
        </p:txBody>
      </p:sp>
      <p:sp>
        <p:nvSpPr>
          <p:cNvPr id="3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EF88CA6-AF62-4C76-833D-5F036D721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06640" y="696960"/>
            <a:ext cx="4647960" cy="3486240"/>
          </a:xfrm>
          <a:prstGeom prst="rect">
            <a:avLst/>
          </a:prstGeom>
          <a:ln w="0">
            <a:noFill/>
          </a:ln>
        </p:spPr>
      </p:sp>
      <p:sp>
        <p:nvSpPr>
          <p:cNvPr id="35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key to a smooth implementation involves assuring the availability and commitment of resources to each step in this project.  It is imperative that the project plan identify both the amount of resources and the type of resources that are required to complete each step of the plan.  Once identified, project managers must assure that these resources are made available, and that they remain available for each step.  Top management must continue to emphasize the priority of this project (which should be quite high given the federal mandate and the need to interact with the outside health care communit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there is an issue with resources – and it should be identified early – alternative solutions must be considered to keep the project on time.  Some of these alternatives could include utilizing other agencies within the state government for additional resources, relying upon information from national organizations on how best to accomplish certain tasks, or perhaps contracting certain resources.</a:t>
            </a:r>
            <a:endParaRPr b="0" lang="en-US" sz="1000" spc="-1" strike="noStrike">
              <a:solidFill>
                <a:srgbClr val="000000"/>
              </a:solidFill>
              <a:latin typeface="Calibri"/>
            </a:endParaRPr>
          </a:p>
        </p:txBody>
      </p:sp>
      <p:sp>
        <p:nvSpPr>
          <p:cNvPr id="3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434207F-62E2-44DE-9E55-CC0120D53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06640" y="696960"/>
            <a:ext cx="4647960" cy="3486240"/>
          </a:xfrm>
          <a:prstGeom prst="rect">
            <a:avLst/>
          </a:prstGeom>
          <a:ln w="0">
            <a:noFill/>
          </a:ln>
        </p:spPr>
      </p:sp>
      <p:sp>
        <p:nvSpPr>
          <p:cNvPr id="35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CD-10  is a multi-year effort, which makes budgeting a difficult task in the state environment.   It may be difficult to get a budget commitment for the entire term of the project, but estimating the budget for the entire project and attempting to spread costs out through the project may help to limit the budget needs in any one year.  Events may occur in any one state that can jeopardize funding, or make more funds available.  Project managers should be aware of such event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would also be wise to look to other projects within the state to see if additional money may be available, or to combine efforts with other state departments, so that costs can be shared.</a:t>
            </a:r>
            <a:endParaRPr b="0" lang="en-US" sz="1000" spc="-1" strike="noStrike">
              <a:solidFill>
                <a:srgbClr val="000000"/>
              </a:solidFill>
              <a:latin typeface="Calibri"/>
            </a:endParaRPr>
          </a:p>
        </p:txBody>
      </p:sp>
      <p:sp>
        <p:nvSpPr>
          <p:cNvPr id="3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CF86F8-4411-460C-B6FD-A47E7D1AD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06640" y="696960"/>
            <a:ext cx="4647960" cy="3486240"/>
          </a:xfrm>
          <a:prstGeom prst="rect">
            <a:avLst/>
          </a:prstGeom>
          <a:ln w="0">
            <a:noFill/>
          </a:ln>
        </p:spPr>
      </p:sp>
      <p:sp>
        <p:nvSpPr>
          <p:cNvPr id="35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ny states rely on vendors for their IT and other activities.  An early step in the implementation process would be to identify all of the vendors that will impact the project.  Once identified, you should get a commitment from each vendor as to when they will deliver their product as “ICD-10 ready” for your plan.  Make sure that you get a commitment that enables you to meet the dates in your project pl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ce you have that initial commitment, note it.  Then, reconfirm the vendor’s progress toward their committed delivery date.  Look for evidence of progress (beta software tests, interim products, etc.).</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some relationships among your vendor products – for those products that depend on others, make sure that the sequencing of dates is correct.  </a:t>
            </a:r>
            <a:endParaRPr b="0" lang="en-US" sz="1000" spc="-1" strike="noStrike">
              <a:solidFill>
                <a:srgbClr val="000000"/>
              </a:solidFill>
              <a:latin typeface="Calibri"/>
            </a:endParaRPr>
          </a:p>
        </p:txBody>
      </p:sp>
      <p:sp>
        <p:nvSpPr>
          <p:cNvPr id="3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1BA53E-21B1-494C-B1E2-B180BDDBC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06640" y="696960"/>
            <a:ext cx="4647960" cy="3486240"/>
          </a:xfrm>
          <a:prstGeom prst="rect">
            <a:avLst/>
          </a:prstGeom>
          <a:ln w="0">
            <a:noFill/>
          </a:ln>
        </p:spPr>
      </p:sp>
      <p:sp>
        <p:nvSpPr>
          <p:cNvPr id="36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member that </a:t>
            </a:r>
            <a:r>
              <a:rPr b="0" lang="en-US" sz="1000" spc="-1" strike="noStrike" u="sng">
                <a:solidFill>
                  <a:srgbClr val="000000"/>
                </a:solidFill>
                <a:uFillTx/>
                <a:latin typeface="Calibri"/>
              </a:rPr>
              <a:t>every </a:t>
            </a:r>
            <a:r>
              <a:rPr b="0" lang="en-US" sz="1000" spc="-1" strike="noStrike">
                <a:solidFill>
                  <a:srgbClr val="000000"/>
                </a:solidFill>
                <a:latin typeface="Calibri"/>
              </a:rPr>
              <a:t>health plan, provider, and health care clearinghouse is going through the ICD-10 implementation process.  You cannot assure that your implementation is successful until you have tested with partners to measure that the exchange of transactions is successful and that transactions are processed accurately.  The external testing piece of your implementation plan is totally dependent on working with trading partn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eep informed of industry progress toward implementation, especially your major trading partners.  Focus early on partners that will enable you to do robust testing of your systems and processes. Look at your implementation plan and make sure your external testing is on track.  If some of your partners will not be ready early enough to do testing, look at alternativ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E85207-65F1-4B25-9922-E2E46E7A4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5D7A5-1D05-4BE7-9872-5B5058652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B16F0-A602-4579-A1A2-F8FBFB2E5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7EF64-101D-4551-A2ED-D9F453218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8E4F1-4ED0-443B-8400-6276F5562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C32FF-1874-43A1-828A-609FD68B5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A6E85-4DF7-4545-AFAA-E082A68E4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4B3FF-96B8-4F1F-ACA6-C5C1AA26D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FAEE6-5303-41A8-8D22-DA0EA8DBD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D19B0-36C3-43D0-A7A8-3C5B6EBCD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A3F3A-8E98-496C-9879-432633022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62215-90E7-4C08-A0EC-B012BC96A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4224A-B849-483C-87AD-7A53E5CC7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1C5E1-8D69-4916-B87B-B6EB51F3D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6A8DA-A5D2-4351-A581-C8CDEBAAB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44174-A62E-4D7F-B64C-FDFCCA1FC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221C4-6DDB-4262-BE3B-956F548B8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08671-1DEE-47CA-81D4-0E370525C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16F9CA-6B9E-4AD2-84CA-44C890C232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5B5C61-9E90-41D2-B423-6905D0FD83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42847-C896-40B7-A1C2-3C6B436CF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D1F2FF-FA9B-4DDA-BD42-6BD9ACD364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1A7761-30B6-4E3C-A332-94500CCE4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7AFEA-1358-479A-9A31-A35D00954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B869C5-15E3-4430-93E5-CEB40A3EA8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E2FCF-C4DB-4F4F-9E35-082466F08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AB914-5AE7-4090-923A-67DDD125A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817B1-8A75-4657-B9CA-DFF6BD2E9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3212F8-F23C-422D-8670-2E12FF3A6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CB1ACE-5846-4115-A6C9-BBACBAC4AE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7BE623-0B3E-49CE-BFA5-2B17198E5B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C72F89-FADE-4CEE-86B2-C78D76E137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AEEBD9-C16A-4648-9A4F-A7D78F79A8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6C088B-1A7D-4262-8595-6B761E2EB2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D9F1C-2718-46F9-BC02-A9A31D745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F8A63-DF5D-4930-83F9-393A81B7F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ADA7C-9EE2-40A4-8C01-FF4ADBDA99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B437C-AEB9-4381-B03F-0EE40374E0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F26D1-B790-4E2A-9E11-A588E2D6F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2CB6C-1C3B-4052-BF9C-C0F0F34E2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4E5B3-241F-4C47-839E-CA5A5CA9E2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E1F42E-DC5F-4E62-9E44-D8FFB35BA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ACCA24-78D7-4B03-A0CF-F033A6CAAB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6C561-4269-4A6B-AFE1-87BD3E4063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8B15B3-E477-4C15-BD29-E9551CD0D3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E7C7E-7C62-415C-97BA-C4A336A06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FBBFD3-7E4D-4227-A7FA-9E3CD1CC6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3AA864-6B0A-4F8A-A4A7-C38F1C120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C9CAFF-CC67-4B22-8EE0-27F53EF557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DB72D2-4DA2-4917-AAE0-5DEDB24403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C31161-0B03-4E26-BAF8-57BBF14C33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DE03B-11B8-4500-A1CC-5DA536675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DAD9B6-45B2-463E-BB8B-A1B433283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8D7D4-555C-49F5-AD18-AECE2AA42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D9C8D3-38B4-4164-A35D-1C1000CF2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FD894E-42E0-4603-A1D9-8FAC58378A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982B8-7251-411D-AD2C-38646D48E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8B41F5-4BFB-44D0-B7B7-8614BDFB08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91C6B6-5A7E-4BC7-AC53-8DF4AC525E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9486DA-6EF9-4D9B-8F14-5E2EB4870A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48AD67-0DE8-4454-A118-9931EF6EFD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8E2199-1A88-4C1E-959B-22E99B56BE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BC7E48-1C3B-4F5F-9F5E-C12F0EB180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27C6B8-5C8A-4EA8-837D-180AFE1537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7C4D9D-88AC-405E-B1C8-FB83803C99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97189-10A7-441E-A83C-C8BA80715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EB1DD6-CB96-4E88-B23E-16B399CC6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11481-7D15-41B3-990D-9EF329B19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1C62A0-FB92-4A58-AEF2-A996EDFABA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8C5A01-D35D-4871-B3D1-C664039170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64CC2B-489D-4F63-AAF7-EC378B6B86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54FA5-5D72-4B4C-AEA4-917AECE5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17E7-6BB5-4444-BFB8-4BE22A308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6201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DA69-2B34-4BB3-849A-03455FEE1FE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6" name="PlaceHolder 4"/>
          <p:cNvSpPr>
            <a:spLocks noGrp="1"/>
          </p:cNvSpPr>
          <p:nvPr>
            <p:ph type="ftr" idx="2"/>
          </p:nvPr>
        </p:nvSpPr>
        <p:spPr>
          <a:xfrm>
            <a:off x="396252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8702-3F06-49E6-8392-159597A1B04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40C2-29D9-4F47-8945-51DE9405FB1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2 – Monitoring Progress and Post Compliance Date Actions</a:t>
            </a:r>
            <a:endParaRPr b="0" lang="en-US" sz="12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24B2-0FC0-453A-B4C1-4D3749C06B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E0AC-2CF4-4068-B5E1-3B9A9E4C6B0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2 – Monitoring Progress and Post Compliance Date Actions</a:t>
            </a:r>
            <a:endParaRPr b="0" lang="en-US" sz="12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9B11-DC8C-4F1A-A58B-7C2008FE0E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F4C9-9949-46B3-BB75-14F6657D788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2 – Monitoring Progress and Post Compliance Date Actions</a:t>
            </a:r>
            <a:endParaRPr b="0" lang="en-US" sz="12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5E9B-14D7-49F8-9E69-BA2ABDF7D2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ABAB-DA6C-4E4A-A3A4-400DA8ED916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2 – Monitoring Progress and Post Compliance Date Actions</a:t>
            </a:r>
            <a:endParaRPr b="0" lang="en-US" sz="1200" spc="-1" strike="noStrike">
              <a:solidFill>
                <a:srgbClr val="000000"/>
              </a:solidFill>
              <a:latin typeface="Arial"/>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1090-B5BB-43AF-B64B-EF6E754757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5EA8-B729-49A9-B335-D9AB6F7252D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2 – Monitoring Progress and Post Compliance Date Actions</a:t>
            </a:r>
            <a:endParaRPr b="0" lang="en-US" sz="1200" spc="-1" strike="noStrike">
              <a:solidFill>
                <a:srgbClr val="000000"/>
              </a:solidFill>
              <a:latin typeface="Arial"/>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F7BE-684B-4D2B-A04E-D0D3D8A19D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Date Placeholder 1"/>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86EC-68A6-4236-97E5-8B5E1404459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257" name="Footer Placeholder 2"/>
          <p:cNvSpPr/>
          <p:nvPr/>
        </p:nvSpPr>
        <p:spPr>
          <a:xfrm>
            <a:off x="4191120" y="640080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58"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6655-787A-4E69-A14D-B9E1F2C8537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9" name="Rectangle 3"/>
          <p:cNvSpPr/>
          <p:nvPr/>
        </p:nvSpPr>
        <p:spPr>
          <a:xfrm>
            <a:off x="4419720" y="4191120"/>
            <a:ext cx="4495680" cy="144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12</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Verdana"/>
              </a:rPr>
              <a:t>Monitoring Progress and Post Compliance Date Actions</a:t>
            </a:r>
            <a:endParaRPr b="0" lang="en-US" sz="2600" spc="-1" strike="noStrike">
              <a:solidFill>
                <a:srgbClr val="000000"/>
              </a:solidFill>
              <a:latin typeface="Arial"/>
            </a:endParaRPr>
          </a:p>
        </p:txBody>
      </p:sp>
      <p:sp>
        <p:nvSpPr>
          <p:cNvPr id="260"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261"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ae4845"/>
                </a:solidFill>
                <a:uFillTx/>
                <a:latin typeface="Verdana"/>
              </a:rPr>
              <a:t>Monitoring Progress and Post Compliance Date Actions</a:t>
            </a:r>
            <a:endParaRPr b="0" lang="en-US" sz="1000" spc="-1" strike="noStrike">
              <a:solidFill>
                <a:srgbClr val="000000"/>
              </a:solidFill>
              <a:latin typeface="Arial"/>
            </a:endParaRPr>
          </a:p>
        </p:txBody>
      </p:sp>
      <p:sp>
        <p:nvSpPr>
          <p:cNvPr id="263" name="TextBox 10"/>
          <p:cNvSpPr/>
          <p:nvPr/>
        </p:nvSpPr>
        <p:spPr>
          <a:xfrm>
            <a:off x="4114800" y="1141560"/>
            <a:ext cx="45720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ICD-10 </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Planning and </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828800"/>
            <a:ext cx="8229600" cy="2819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re are a number of tasks that will become important after the Oct 1, 2013 dat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project does not end on Oct 1, 2013.  In fact, there will be tasks that will stretch 2-3 years beyond the compliance dat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de these tasks in your overall project plan, and budget for them</a:t>
            </a:r>
            <a:endParaRPr b="0" lang="en-US" sz="2200" spc="-1" strike="noStrike">
              <a:solidFill>
                <a:srgbClr val="000000"/>
              </a:solidFill>
              <a:latin typeface="Verdana"/>
            </a:endParaRPr>
          </a:p>
        </p:txBody>
      </p:sp>
      <p:sp>
        <p:nvSpPr>
          <p:cNvPr id="305" name="Date Placeholder 3"/>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ECFF-9C86-49AB-8B41-936C28CF3BA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0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0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C7D4-4691-4A59-86B2-EAF752FCC51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ost Compliance Date Ac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1828800"/>
            <a:ext cx="8229600" cy="3657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uming you are ready:</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your processes</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meliness of transaction processing</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curacy of transaction processing</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ff knowledge of ICD-10 processes</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mber of calls to provider help desk</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your trading partners</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o is/isn’t working in ICD-10</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vendor products</a:t>
            </a:r>
            <a:endParaRPr b="0" lang="en-US" sz="2200" spc="-1" strike="noStrike">
              <a:solidFill>
                <a:srgbClr val="000000"/>
              </a:solidFill>
              <a:latin typeface="Verdana"/>
            </a:endParaRPr>
          </a:p>
        </p:txBody>
      </p:sp>
      <p:sp>
        <p:nvSpPr>
          <p:cNvPr id="310"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9011-1C0D-441A-9A85-9B239315AC9A}"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1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1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0828-1F96-41C0-A455-572B035DBB8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to Do after Oct 1, 2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1866960"/>
            <a:ext cx="8229600" cy="31240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ather data on ICD-10 trend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es data make sense?</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e you seeing unexpected results in reimbursements or types of diagnos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e targeted programs working as expected, or do you have too many or too few participant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edit results – Are you catching the right claims or not?</a:t>
            </a:r>
            <a:endParaRPr b="0" lang="en-US" sz="2200" spc="-1" strike="noStrike">
              <a:solidFill>
                <a:srgbClr val="000000"/>
              </a:solidFill>
              <a:latin typeface="Verdana"/>
            </a:endParaRPr>
          </a:p>
        </p:txBody>
      </p:sp>
      <p:sp>
        <p:nvSpPr>
          <p:cNvPr id="315"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3E3E-9391-444D-9FD6-E02DDD28DF6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1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1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22FA-C02C-405D-9DD6-D4685E08E9E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to Do after Oct 1, 2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905120"/>
            <a:ext cx="8229600" cy="35049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 especially vigilant for abusive or fraudulent activit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unicate with partners, other state Medicaid agencies, and other plans about their experien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think about trending data from ICD-9 to ICD-10 and how to accurately measure trend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 with any trading partners who have not made the switch or are having great difficult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 aware of any necessary vendor patches</a:t>
            </a:r>
            <a:endParaRPr b="0" lang="en-US" sz="2200" spc="-1" strike="noStrike">
              <a:solidFill>
                <a:srgbClr val="000000"/>
              </a:solidFill>
              <a:latin typeface="Verdana"/>
            </a:endParaRPr>
          </a:p>
        </p:txBody>
      </p:sp>
      <p:sp>
        <p:nvSpPr>
          <p:cNvPr id="320" name="Date Placeholder 3"/>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DC2F-F6CB-4D0B-B5C4-B3AC84BC50A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2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2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6215-E07E-454A-9863-EE642AFDDC0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to Do after Oct 1, 2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2209680"/>
            <a:ext cx="8229600" cy="320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re ways to use the information in ICD-10 for making program improvements, improving beneficiary health, and being more cost-effective with Medicaid fund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n’t “forget” about ICD-10 just because the compliance date has pass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re will be periodic (annual?) code updates, so plan for them</a:t>
            </a:r>
            <a:endParaRPr b="0" lang="en-US" sz="2200" spc="-1" strike="noStrike">
              <a:solidFill>
                <a:srgbClr val="000000"/>
              </a:solidFill>
              <a:latin typeface="Verdana"/>
            </a:endParaRPr>
          </a:p>
        </p:txBody>
      </p:sp>
      <p:sp>
        <p:nvSpPr>
          <p:cNvPr id="325"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A657-1106-45DA-BEAE-0AC7956315F1}"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2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2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8636-FCBB-4AED-B789-DDD608E5BF8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And as We Move 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1828800"/>
            <a:ext cx="8229600" cy="2743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ICD-10 project is a complex undertaking that must be closely monitored to ensure succ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your project plan and keep it updat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not only your activities, but those of partners and vendo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roject does not end on Oct 1, 2013.  Plan for continuing activities.</a:t>
            </a:r>
            <a:endParaRPr b="0" lang="en-US" sz="2200" spc="-1" strike="noStrike">
              <a:solidFill>
                <a:srgbClr val="000000"/>
              </a:solidFill>
              <a:latin typeface="Verdana"/>
            </a:endParaRPr>
          </a:p>
        </p:txBody>
      </p:sp>
      <p:sp>
        <p:nvSpPr>
          <p:cNvPr id="330"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3A80-9ED0-4A07-AAED-473346B3127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3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3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4BB9-2E6A-4C11-A986-4675D195052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1"/>
          <p:cNvSpPr/>
          <p:nvPr/>
        </p:nvSpPr>
        <p:spPr>
          <a:xfrm>
            <a:off x="7620120" y="6477120"/>
            <a:ext cx="99036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265E-B326-4C1F-9A63-D10400459E14}"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265" name="Footer Placeholder 2"/>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6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F023-086F-4929-A602-E333EBC55F3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7" name="PlaceHolder 1"/>
          <p:cNvSpPr>
            <a:spLocks noGrp="1"/>
          </p:cNvSpPr>
          <p:nvPr>
            <p:ph/>
          </p:nvPr>
        </p:nvSpPr>
        <p:spPr>
          <a:xfrm>
            <a:off x="457200" y="2819520"/>
            <a:ext cx="8229600" cy="1831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nt a monitoring strategy to assure compliance is achiev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nt activities that will take place after the October 1, 2013 compliance date</a:t>
            </a:r>
            <a:endParaRPr b="0" lang="en-US" sz="2200" spc="-1" strike="noStrike">
              <a:solidFill>
                <a:srgbClr val="000000"/>
              </a:solidFill>
              <a:latin typeface="Verdana"/>
            </a:endParaRPr>
          </a:p>
        </p:txBody>
      </p:sp>
      <p:sp>
        <p:nvSpPr>
          <p:cNvPr id="268" name="Text Box 5"/>
          <p:cNvSpPr/>
          <p:nvPr/>
        </p:nvSpPr>
        <p:spPr>
          <a:xfrm>
            <a:off x="762120" y="1143000"/>
            <a:ext cx="761976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12 – Monitoring Progress and Post Compliance Date Action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828440"/>
            <a:ext cx="8229600" cy="30481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member that this is a multi-year, wide-ranging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y parts, in fact most parts, of the organization are involv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a long-range project that must be carefully managed to remain on tim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gnificant costs are expected, so budget planning, monitoring, and adjustments will be critical</a:t>
            </a:r>
            <a:endParaRPr b="0" lang="en-US" sz="2200" spc="-1" strike="noStrike">
              <a:solidFill>
                <a:srgbClr val="000000"/>
              </a:solidFill>
              <a:latin typeface="Verdana"/>
            </a:endParaRPr>
          </a:p>
        </p:txBody>
      </p:sp>
      <p:sp>
        <p:nvSpPr>
          <p:cNvPr id="270" name="Date Placeholder 1"/>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EFBD-FA33-457C-9017-98658B7B30E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271" name="Footer Placeholder 2"/>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7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321D-4F7F-4592-8F38-6A43FB1050C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cope of This Proj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828440"/>
            <a:ext cx="8229600" cy="30481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lementation plan progr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commitment and availabilit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dget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ndor readin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ner readin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qualit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lationship with other initiatives in the organizatio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75" name="Date Placeholder 3"/>
          <p:cNvSpPr/>
          <p:nvPr/>
        </p:nvSpPr>
        <p:spPr>
          <a:xfrm>
            <a:off x="7620120" y="6477120"/>
            <a:ext cx="99036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D31A-7727-4B83-B93C-80BE79BBDC7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27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7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5FF8-7CC1-42EF-8F08-BD23A5D9C55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Must Be Monitor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828440"/>
            <a:ext cx="8229600" cy="35053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ve a project plan developed and approv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up a regular reporting system so that the progress of each step can be track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tasks with current due dates and due dates some time in the futur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obstacles and slippages early enough to deal with them</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mated project management and tracking tools are very useful for this</a:t>
            </a:r>
            <a:endParaRPr b="0" lang="en-US" sz="2200" spc="-1" strike="noStrike">
              <a:solidFill>
                <a:srgbClr val="000000"/>
              </a:solidFill>
              <a:latin typeface="Verdana"/>
            </a:endParaRPr>
          </a:p>
        </p:txBody>
      </p:sp>
      <p:sp>
        <p:nvSpPr>
          <p:cNvPr id="280"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5F0C-BFD5-4D12-98E2-D88B959C62EE}"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28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8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ACD1-9540-41AE-AA31-ADE6246DE9B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Implementation Plan Progr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7521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right” resources must be available at the “right” tim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plan should identify thes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tant emphasis should be placed on the priority of this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t the commitment and adhere to i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issues arise, look at alternativ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acting</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 state agenci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ational organizations</a:t>
            </a:r>
            <a:endParaRPr b="0" lang="en-US" sz="2200" spc="-1" strike="noStrike">
              <a:solidFill>
                <a:srgbClr val="000000"/>
              </a:solidFill>
              <a:latin typeface="Verdana"/>
            </a:endParaRPr>
          </a:p>
        </p:txBody>
      </p:sp>
      <p:sp>
        <p:nvSpPr>
          <p:cNvPr id="285"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4D23-2263-40A9-8B1A-8A02BCE84960}"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28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8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74F7-062F-48F8-B7FE-DB96A504FD8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Resource Commitment and Avail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90476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cus on the long-term effort, assuring that money will be available for the entire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 aware of year-to-year changes in state budgets and unforeseen event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reading costs throughout the life of the project should allow a less variable budget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money becomes available from other projects, having an established plan may allow you to get that money</a:t>
            </a:r>
            <a:endParaRPr b="0" lang="en-US" sz="2200" spc="-1" strike="noStrike">
              <a:solidFill>
                <a:srgbClr val="000000"/>
              </a:solidFill>
              <a:latin typeface="Verdana"/>
            </a:endParaRPr>
          </a:p>
        </p:txBody>
      </p:sp>
      <p:sp>
        <p:nvSpPr>
          <p:cNvPr id="290" name="Date Placeholder 3"/>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CFD8-7F5B-42C5-A4F0-FE7CD85A56A2}"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29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9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D716-F6D5-4488-994A-828CC3C57A6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Budge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828440"/>
            <a:ext cx="8229600" cy="2514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inventory of vendo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t commitments from vendors as to their delivery dates – Assure that your project plan dates are me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nfirm progress toward the vendor delivery dat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sequencing of vendor products and assure that it is correct</a:t>
            </a:r>
            <a:endParaRPr b="0" lang="en-US" sz="2200" spc="-1" strike="noStrike">
              <a:solidFill>
                <a:srgbClr val="000000"/>
              </a:solidFill>
              <a:latin typeface="Verdana"/>
            </a:endParaRPr>
          </a:p>
        </p:txBody>
      </p:sp>
      <p:sp>
        <p:nvSpPr>
          <p:cNvPr id="295" name="Date Placeholder 3"/>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4ACC-E51B-4896-83E3-7DDB2D5A9BE6}"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29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9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FC4C-371A-412F-91EF-0AA4BC33133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Vendor Readi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75212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itical for testing</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partner readin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cus on those partners that will enable you to do the “best” testing; the widest variety of situation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oritize your trading partners and focus on the most important and largest volum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will feed into your testing pla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partner readiness is slipping, take some immediate actions</a:t>
            </a:r>
            <a:endParaRPr b="0" lang="en-US" sz="2200" spc="-1" strike="noStrike">
              <a:solidFill>
                <a:srgbClr val="000000"/>
              </a:solidFill>
              <a:latin typeface="Verdana"/>
            </a:endParaRPr>
          </a:p>
        </p:txBody>
      </p:sp>
      <p:sp>
        <p:nvSpPr>
          <p:cNvPr id="300"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B818-7C9A-45C4-A54A-BA9B78E348DD}" type="datetime">
              <a:rPr b="0" lang="en-US" sz="1000" spc="-1" strike="noStrike">
                <a:solidFill>
                  <a:srgbClr val="000000"/>
                </a:solidFill>
                <a:latin typeface="Verdana"/>
              </a:rPr>
              <a:t>07/30/26</a:t>
            </a:fld>
            <a:endParaRPr b="0" lang="en-US" sz="1000" spc="-1" strike="noStrike">
              <a:solidFill>
                <a:srgbClr val="000000"/>
              </a:solidFill>
              <a:latin typeface="Arial"/>
            </a:endParaRPr>
          </a:p>
        </p:txBody>
      </p:sp>
      <p:sp>
        <p:nvSpPr>
          <p:cNvPr id="30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0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A6E2-9927-4A7D-95FD-19DDD72850D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artner Readi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7:27:42Z</dcterms:modified>
  <cp:revision>470</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