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3"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794" name="PlaceHolder 2"/>
          <p:cNvSpPr>
            <a:spLocks noGrp="1"/>
          </p:cNvSpPr>
          <p:nvPr>
            <p:ph type="dt" idx="58"/>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5" name="PlaceHolder 3"/>
          <p:cNvSpPr>
            <a:spLocks noGrp="1"/>
          </p:cNvSpPr>
          <p:nvPr>
            <p:ph type="sldImg"/>
          </p:nvPr>
        </p:nvSpPr>
        <p:spPr>
          <a:xfrm>
            <a:off x="1106280" y="696960"/>
            <a:ext cx="464796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move the slide</a:t>
            </a:r>
            <a:endParaRPr b="1" lang="en-US" sz="4100" spc="-1" strike="noStrike">
              <a:solidFill>
                <a:srgbClr val="1f497d"/>
              </a:solidFill>
              <a:latin typeface="Verdana"/>
            </a:endParaRPr>
          </a:p>
        </p:txBody>
      </p:sp>
      <p:sp>
        <p:nvSpPr>
          <p:cNvPr id="796"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97" name="PlaceHolder 5"/>
          <p:cNvSpPr>
            <a:spLocks noGrp="1"/>
          </p:cNvSpPr>
          <p:nvPr>
            <p:ph type="ftr" idx="59"/>
          </p:nvPr>
        </p:nvSpPr>
        <p:spPr>
          <a:xfrm>
            <a:off x="-360" y="8829720"/>
            <a:ext cx="29718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798" name="PlaceHolder 6"/>
          <p:cNvSpPr>
            <a:spLocks noGrp="1"/>
          </p:cNvSpPr>
          <p:nvPr>
            <p:ph type="sldNum" idx="60"/>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6084D8C-3FE4-432E-A12E-80AA4348748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88E55F4-7C66-43E5-A11A-EF9B3A678D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1106640" y="696960"/>
            <a:ext cx="4647960" cy="3486240"/>
          </a:xfrm>
          <a:prstGeom prst="rect">
            <a:avLst/>
          </a:prstGeom>
          <a:ln w="0">
            <a:noFill/>
          </a:ln>
        </p:spPr>
      </p:sp>
      <p:sp>
        <p:nvSpPr>
          <p:cNvPr id="86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move from ICD-9 to ICD-10 is a significant change for State Medicaid Agencies.   It will take considerable effort for Medicaid, and every health plan and provider in the country, to successfully accomplish the transition.  However, there are considerable benefits to using the new code se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ve prepared a series of training sessions especially for State Medicaid agencies, which provide key information about the ICD-10 code set, how to use it, how to benefit from it, and what the implementation steps are.  We hope to provide the information you need to effectively implement and to benefit from this major change to the coding of health care in the United Stat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12 Training Segments in the entire program.</a:t>
            </a:r>
            <a:endParaRPr b="0" lang="en-US" sz="1000" spc="-1" strike="noStrike">
              <a:solidFill>
                <a:srgbClr val="000000"/>
              </a:solidFill>
              <a:latin typeface="Calibri"/>
            </a:endParaRPr>
          </a:p>
        </p:txBody>
      </p:sp>
      <p:sp>
        <p:nvSpPr>
          <p:cNvPr id="8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3490641-205C-43C9-8E4F-641F4CEE31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7CFB69B-C59C-40C2-A842-AEB72E8735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06640" y="696960"/>
            <a:ext cx="4647960" cy="3486240"/>
          </a:xfrm>
          <a:prstGeom prst="rect">
            <a:avLst/>
          </a:prstGeom>
          <a:ln w="0">
            <a:noFill/>
          </a:ln>
        </p:spPr>
      </p:sp>
      <p:sp>
        <p:nvSpPr>
          <p:cNvPr id="90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major event for the health care industry was the passage of the HITECH provisions as part of the American Recovery and Reinvestment Act on February 17, 2009.  These provisions included many significant initiatives for health care providers and state Medicaid agencies.  Much of this work will need to be accomplished before the compliance date for ICD-10, but it is taking place at the same time as the implementation work for ICD-10.  Most of the efforts revolve around EHR implementation for providers, but there are also privacy and security rule changes that will impact state Medicaid agencies.</a:t>
            </a:r>
            <a:endParaRPr b="0" lang="en-US" sz="1000" spc="-1" strike="noStrike">
              <a:solidFill>
                <a:srgbClr val="000000"/>
              </a:solidFill>
              <a:latin typeface="Calibri"/>
            </a:endParaRPr>
          </a:p>
        </p:txBody>
      </p:sp>
      <p:sp>
        <p:nvSpPr>
          <p:cNvPr id="9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43E3A04-2BA8-4AA7-ADAB-FF245F6DD9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AE0FBE2-849A-48AA-8D76-DDBF62C908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1106640" y="696960"/>
            <a:ext cx="4647960" cy="3486240"/>
          </a:xfrm>
          <a:prstGeom prst="rect">
            <a:avLst/>
          </a:prstGeom>
          <a:ln w="0">
            <a:noFill/>
          </a:ln>
        </p:spPr>
      </p:sp>
      <p:sp>
        <p:nvSpPr>
          <p:cNvPr id="90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RRA placed a significant responsibility on state Medicaid agencies.  Funding has been allotted to provide incentives to Medicaid providers who demonstrate meaningful use of an EHR.  In later years, reimbursement will be cut to those providers who do not demonstrate meaningful us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ile these incentives have captured the attention of many providers, they cannot forget about their responsibility to also make the transition to ICD-10.  Providers must assure that these new EHRs can support the use of ICD-10.  It is also hoped that using ICD-10 with these EHRs will allow for meaningful use, including improved measurement of quality and increased ability to effectively manage patient care.</a:t>
            </a:r>
            <a:endParaRPr b="0" lang="en-US" sz="1000" spc="-1" strike="noStrike">
              <a:solidFill>
                <a:srgbClr val="000000"/>
              </a:solidFill>
              <a:latin typeface="Calibri"/>
            </a:endParaRPr>
          </a:p>
        </p:txBody>
      </p:sp>
      <p:sp>
        <p:nvSpPr>
          <p:cNvPr id="9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97CD973-EC56-40F9-9F2D-81F9471304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F89F62A-F1AB-4C7F-86E8-21294D953F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07" name="PlaceHolder 1"/>
          <p:cNvSpPr>
            <a:spLocks noGrp="1"/>
          </p:cNvSpPr>
          <p:nvPr>
            <p:ph type="sldImg"/>
          </p:nvPr>
        </p:nvSpPr>
        <p:spPr>
          <a:xfrm>
            <a:off x="1106640" y="696960"/>
            <a:ext cx="4647960" cy="3486240"/>
          </a:xfrm>
          <a:prstGeom prst="rect">
            <a:avLst/>
          </a:prstGeom>
          <a:ln w="0">
            <a:noFill/>
          </a:ln>
        </p:spPr>
      </p:sp>
      <p:sp>
        <p:nvSpPr>
          <p:cNvPr id="90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ederal regulations mandate the use of ICD-10 codes on HIPAA transactions for services on and after Oct 1, 2013.  Because this is a federal mandate, all health plans, clearinghouses, and providers using electronic transactions must transition to the ICD-10 code sets on the compliance date, not befor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transition impacts MMIS systems, EHRs, and other system conversion projects between now and 2013.</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7C76765-2F9E-48A5-93C5-3466186B02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1106640" y="696960"/>
            <a:ext cx="4647960" cy="3486240"/>
          </a:xfrm>
          <a:prstGeom prst="rect">
            <a:avLst/>
          </a:prstGeom>
          <a:ln w="0">
            <a:noFill/>
          </a:ln>
        </p:spPr>
      </p:sp>
      <p:sp>
        <p:nvSpPr>
          <p:cNvPr id="86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gment will discuss the provisions of the Federal Regulation, which mandates the adoption of the ICD-10 code sets for services on and after Oct 1,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705AFC6-2058-4175-B68F-B6CAC72CC5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1083C60-E2F5-4909-88F3-38265DF053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1" name="PlaceHolder 1"/>
          <p:cNvSpPr>
            <a:spLocks noGrp="1"/>
          </p:cNvSpPr>
          <p:nvPr>
            <p:ph type="sldImg"/>
          </p:nvPr>
        </p:nvSpPr>
        <p:spPr>
          <a:xfrm>
            <a:off x="1106640" y="696960"/>
            <a:ext cx="4647960" cy="3486240"/>
          </a:xfrm>
          <a:prstGeom prst="rect">
            <a:avLst/>
          </a:prstGeom>
          <a:ln w="0">
            <a:noFill/>
          </a:ln>
        </p:spPr>
      </p:sp>
      <p:sp>
        <p:nvSpPr>
          <p:cNvPr id="87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n January 16, 2009, the Department of Health and Human Services published the final regulation, which adopted the ICD-10-CM and ICD-10 PCS code sets as HIPAA standards.  This rule required the use of the ICD-10 code sets in all HIPAA transactions.  The compliance date published in the final rule is Oct 1, 2013.  Since ICD-10 code sets are medical code sets, the compliance date indicates the date of service for which these codes must be used.  So, the ICD-10 code sets must be used in transactions when the service date in the transaction is on or after Oct 1, 2013.  </a:t>
            </a:r>
            <a:endParaRPr b="0" lang="en-US" sz="1000" spc="-1" strike="noStrike">
              <a:solidFill>
                <a:srgbClr val="000000"/>
              </a:solidFill>
              <a:latin typeface="Calibri"/>
            </a:endParaRPr>
          </a:p>
        </p:txBody>
      </p:sp>
      <p:sp>
        <p:nvSpPr>
          <p:cNvPr id="87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C2FE796-30DC-4D1E-9B4E-0CDC4B7458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572224C-97A3-4904-A3F5-96AC4DA81D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06640" y="696960"/>
            <a:ext cx="4647960" cy="3486240"/>
          </a:xfrm>
          <a:prstGeom prst="rect">
            <a:avLst/>
          </a:prstGeom>
          <a:ln w="0">
            <a:noFill/>
          </a:ln>
        </p:spPr>
      </p:sp>
      <p:sp>
        <p:nvSpPr>
          <p:cNvPr id="87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regulation set Oct 1, 2013 as the single compliance date for all covered entities – health plans, clearinghouses, and providers using electronic transactions.  There is no later date for small health plans, small providers, or anyone else.  And there is no “transition” period when either ICD-9 or ICD-10 codes can be used.  Some of these options were recommended in comments to the proposed rule on ICD-10 (published on Aug 22, 2008).  However, these options were rejected by HHS for a variety of reas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ile there is no transition time or optional use of ICD-10 codes, remember that the requirement for use is based on service date.  Claims and other transactions with service dates prior to Oct 1, 2013 will continue to be submitted to Medicaid Agencies for a considerable period of time.  So, the policies for processing transactions using ICD-9 must remain active until the agency is relatively certain that all services prior to Oct 1, 2013 have been completely processed.</a:t>
            </a:r>
            <a:endParaRPr b="0" lang="en-US" sz="1000" spc="-1" strike="noStrike">
              <a:solidFill>
                <a:srgbClr val="000000"/>
              </a:solidFill>
              <a:latin typeface="Calibri"/>
            </a:endParaRPr>
          </a:p>
        </p:txBody>
      </p:sp>
      <p:sp>
        <p:nvSpPr>
          <p:cNvPr id="8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FDB79E2-DB07-4C20-B987-57E489ECB4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B0DED35-57AE-40F7-B9F1-2310B38618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1106640" y="696960"/>
            <a:ext cx="4647960" cy="3486240"/>
          </a:xfrm>
          <a:prstGeom prst="rect">
            <a:avLst/>
          </a:prstGeom>
          <a:ln w="0">
            <a:noFill/>
          </a:ln>
        </p:spPr>
      </p:sp>
      <p:sp>
        <p:nvSpPr>
          <p:cNvPr id="88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the final regulation was published, Oct 1, 2013 seemed a long time away – more than four years.  But that end date was requested by the industry in many comments to the proposed rule, which had Oct 1, 2011 as the compliance date for ICD-10 use.  Many organizations, including WEDI, had looked at the work necessary to implement ICD-10 throughout the industry.  The need for more time was based on a number of factors.  First, the assessment of changes due to ICD-10 was expected to take a considerable amount of time.  Second, given the breadth of the impact, extensive system testing, both within an organization and between trading partners, was going to be required.  Third, the significant changes in the code set would necessitate training not only for coders, but for anyone in an organization that used these codes.  It was also thought that health plans, including Medicaid Agencies, would need to do extensive outreach to providers to alert them of all of the changes that the move to ICD-10 would require.</a:t>
            </a:r>
            <a:endParaRPr b="0" lang="en-US" sz="1000" spc="-1" strike="noStrike">
              <a:solidFill>
                <a:srgbClr val="000000"/>
              </a:solidFill>
              <a:latin typeface="Calibri"/>
            </a:endParaRPr>
          </a:p>
        </p:txBody>
      </p:sp>
      <p:sp>
        <p:nvSpPr>
          <p:cNvPr id="8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41F6EAF-FC3F-4A97-885A-71B2A00BF1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0C0D456-01EB-4260-AD8F-F555BC0C89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3" name="PlaceHolder 1"/>
          <p:cNvSpPr>
            <a:spLocks noGrp="1"/>
          </p:cNvSpPr>
          <p:nvPr>
            <p:ph type="sldImg"/>
          </p:nvPr>
        </p:nvSpPr>
        <p:spPr>
          <a:xfrm>
            <a:off x="1106640" y="696960"/>
            <a:ext cx="4647960" cy="3486240"/>
          </a:xfrm>
          <a:prstGeom prst="rect">
            <a:avLst/>
          </a:prstGeom>
          <a:ln w="0">
            <a:noFill/>
          </a:ln>
        </p:spPr>
      </p:sp>
      <p:sp>
        <p:nvSpPr>
          <p:cNvPr id="88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DI and NCHICA have spent considerable time developing an overall timeline/project plan for the ICD-10 implementation project.  This plan includes the actions that each segment of the industry – providers, health plans, and vendors – must perform to effectively implement the new code sets.  This complete project plan requires that impact assessments begin as soon as possible to provide organizations enough time to make all of the necessary business and system changes.   A later Training Segment will provide specific details on the entire timeline.</a:t>
            </a:r>
            <a:endParaRPr b="0" lang="en-US" sz="1000" spc="-1" strike="noStrike">
              <a:solidFill>
                <a:srgbClr val="000000"/>
              </a:solidFill>
              <a:latin typeface="Calibri"/>
            </a:endParaRPr>
          </a:p>
        </p:txBody>
      </p:sp>
      <p:sp>
        <p:nvSpPr>
          <p:cNvPr id="88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862FD4E-5F6B-44D7-9DE3-5E5AED6F30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FEAEF25-50BF-41ED-BA9D-90EE570849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1106640" y="696960"/>
            <a:ext cx="4647960" cy="3486240"/>
          </a:xfrm>
          <a:prstGeom prst="rect">
            <a:avLst/>
          </a:prstGeom>
          <a:ln w="0">
            <a:noFill/>
          </a:ln>
        </p:spPr>
      </p:sp>
      <p:sp>
        <p:nvSpPr>
          <p:cNvPr id="88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same day that the ICD-10 final rule was published, HHS also published the final rule for updating the version of the existing HIPAA transactions.  The new X12 transaction version is 5010.  While there were improvements in many of the transactions, the change was also necessary to allow the use of the ICD-10 codes in the transactions.  NCPDP retail pharmacy transactions were also upgraded to Version D.0, and a new transaction for Medicaid Subrogation was adop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iance date for these changes is for transactions occurring on and after Jan 1, 2012.  The rule allows for willing trading partners to use the upgraded versions anytime before Jan 1, 2012.</a:t>
            </a:r>
            <a:endParaRPr b="0" lang="en-US" sz="1200" spc="-1" strike="noStrike">
              <a:solidFill>
                <a:srgbClr val="000000"/>
              </a:solidFill>
              <a:latin typeface="Calibri"/>
            </a:endParaRPr>
          </a:p>
        </p:txBody>
      </p:sp>
      <p:sp>
        <p:nvSpPr>
          <p:cNvPr id="8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C261F1C-597A-462B-9AEC-DD7B72416A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088B1EE-D288-4153-A16F-39CD4D7E49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06640" y="696960"/>
            <a:ext cx="4647960" cy="3486240"/>
          </a:xfrm>
          <a:prstGeom prst="rect">
            <a:avLst/>
          </a:prstGeom>
          <a:ln w="0">
            <a:noFill/>
          </a:ln>
        </p:spPr>
      </p:sp>
      <p:sp>
        <p:nvSpPr>
          <p:cNvPr id="89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HIPAA upgrade will have considerable impact on many of the same systems and resources that will be affected by the ICD-10 upgrade.  In some instances, the work will overlap.  For example, the database will need to be upgraded to handle new data in the HIPAA transactions, as well as the new ICD-10 codes.  This may allow some savings by combining effort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owever, in many parts of an organization, the same people (system analysts, business analysts, programmers, etc.) will need to work on both the HIPAA changes and the ICD-10 changes.  Both of these efforts will need to move forward concurrently.  This may pose a significant resource and management issue.  These projects must be considered complementary and must be managed as such.  </a:t>
            </a:r>
            <a:endParaRPr b="0" lang="en-US" sz="1000" spc="-1" strike="noStrike">
              <a:solidFill>
                <a:srgbClr val="000000"/>
              </a:solidFill>
              <a:latin typeface="Calibri"/>
            </a:endParaRPr>
          </a:p>
        </p:txBody>
      </p:sp>
      <p:sp>
        <p:nvSpPr>
          <p:cNvPr id="8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9290F9D-7AB1-4D12-8DF6-9308F6E4E3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ECBD9FE-1F8C-45AC-9173-F9C4092463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95" name="PlaceHolder 1"/>
          <p:cNvSpPr>
            <a:spLocks noGrp="1"/>
          </p:cNvSpPr>
          <p:nvPr>
            <p:ph type="sldImg"/>
          </p:nvPr>
        </p:nvSpPr>
        <p:spPr>
          <a:xfrm>
            <a:off x="1106640" y="696960"/>
            <a:ext cx="4647960" cy="3486240"/>
          </a:xfrm>
          <a:prstGeom prst="rect">
            <a:avLst/>
          </a:prstGeom>
          <a:ln w="0">
            <a:noFill/>
          </a:ln>
        </p:spPr>
      </p:sp>
      <p:sp>
        <p:nvSpPr>
          <p:cNvPr id="89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ny state Medicaid programs are undergoing upgrades to their MMIS systems, or planning for an upgrade.  ICD-10 is an important consideration in this process.  Your upgrades must be able to handle the new HIPAA transactions and the ICD-10 code sets by the compliance dates.  CMS has stated, in the final rules and in other venues, that they do not plan on having contingency periods for these HIPAA changes.  Do not expect any waiver because you are changing your MMI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must consider the timing carefully in your MMIS planning.  You may wish to consider breaking down tasks to match the intermediate timelines recommended by WEDI and others.  This will enable you to keep your MMIS project on time.  Note that ICD-10 is not a special case for enhanced funding.  The normal rules for MMIS enhanced funding will apply during this ICD-10 implementation period.</a:t>
            </a:r>
            <a:endParaRPr b="0" lang="en-US" sz="1000" spc="-1" strike="noStrike">
              <a:solidFill>
                <a:srgbClr val="000000"/>
              </a:solidFill>
              <a:latin typeface="Calibri"/>
            </a:endParaRPr>
          </a:p>
        </p:txBody>
      </p:sp>
      <p:sp>
        <p:nvSpPr>
          <p:cNvPr id="8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0DE56BB-AB6B-4B19-9457-B3962E9FCE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C8B70-35DF-4596-83DE-50F481182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B4C5D-E9EA-4B62-B393-A4332D5DB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4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C65506-4E8F-4906-A1A5-00C6303EDD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CF679D-70D2-4A34-A276-A0C7F1E516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31DEE3-53E7-4343-A140-3B2B919ABE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5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3D46D7-85EE-4619-B5A0-303ED58D79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5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5694AC-F4C8-4B34-8AC5-9F335DEE23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5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1BA6E0-7D75-42EE-B2B5-2F6C75B4B1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6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B3825B-24DF-4B9A-BAB9-5D48F79AB8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6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DC0263-312F-43E8-B2C7-D0A9778C20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7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0AF18B-C48F-405D-BEE8-58736CE5D4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ACF9D6D-4AEA-48EE-A021-66456A47BE6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28DEB-6D12-4D2C-8E86-54C2FDF90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7A00DB5-1A5B-4F84-AF98-9F7B8FEF11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7F3DB7-D299-4E3C-9366-2BDCA40A92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A37311-A20E-4848-8046-019970E783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C7E762-36B4-4966-8611-AEB36B72A0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68BC17-BA96-48EF-A2F1-8C227778B27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9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48CCE4-B25D-4E19-BF14-834F2EB4C1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9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548E0E-BDCC-4846-937E-2B23B7407E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9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D21454-FEB2-48CC-9FEA-0874FE2171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0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F494D5-7EE7-486E-8741-862A311DD0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0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E61C700-42B1-4607-A949-6C82D7108DD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77C1F-0EB0-49B7-B5B0-3D936C6E3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1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388C8E4-F5CC-4D87-9070-C661593DC18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196463C-56B8-4E55-96FC-6CE934168C5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2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A192F3-6504-4802-A25D-07D00CDA73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2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9CA4773-79E1-40FD-9AB4-F2DD561DD3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2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1D4D5F-CEBA-4470-90AD-6E05ADA774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FF4768-FC3A-4A70-8D95-44366DCA73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A33C9F-CCAD-42E6-AC27-F1ED3F04EB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3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1737A2-7418-4080-B3E9-7CC5278264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3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3EB50D-2E3F-4EB1-A44E-BD86AF43D4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4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9A34B8-58DC-49D1-90E9-1927B4B13A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41DAC2-63C6-4014-BCEB-64818FF4BC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4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4D51D5-7865-4BE3-9402-999C73B726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4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F69B137-1891-4721-B2D1-09BA055E722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5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ADC0C50-A068-4DD4-B309-5A160FBA492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A5CC2F1-BF92-4854-A0FD-68865823CD0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6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40B329-CDE4-4AE4-B48B-A3152AC82E7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6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820A424-F71D-465C-BAC1-F4F536C99D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6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108C26B-0FB3-4615-843E-34EEF7D45CF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16E6BAA-5F7A-448D-ADD0-49F90E6409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F8A225-663F-417C-8DBD-F558A553EB0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7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4E1728-E96A-422D-B21D-9350B407E6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D2388-249D-45F2-9DF0-50DBA560C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7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22C3B0-7760-4E9E-965E-D75E857803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8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233256-EC35-4D61-9B27-13671574AF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8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AB55EB-8FB2-4DDD-AA17-0288CC30E6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8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A210B71-C07D-4BC7-B1E3-5EAD88E8B32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9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8508F04-B8C1-4ADA-84E4-3528744BB07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B05D7D8-C7CF-4659-9DAF-A40A2DF94DC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8"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E151C2F-3B31-4EB1-8205-21896EC77D7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10"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8C794A8-7CE4-488A-BA6A-526198F53E8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1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3FC0AF9-A77C-4D08-A58D-27491DA22E7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6CB92C4-6EA4-431A-AD69-4BDD34E647D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14B7E-9AF6-478F-B23B-602FC724B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96223A5-BC6C-47DC-8C19-3D3D4FAA1C7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1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E263970-855C-4E12-B8E3-8F729D7842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BD2359-D4E8-47E4-8E9A-58E4309073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7"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5B2F464-3793-465B-844B-A345BDB07A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9"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0"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5556E58-CE43-4C10-AC17-679A5909785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3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5"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F33C8E6-082C-4E64-BAF5-D4FCF128C86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37"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8"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9"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0"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1"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2"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148EF91-3456-4B94-9BC1-E34F72EFD91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C3E74CA-01BF-4023-9390-82CD4FAA7A4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3E350FB-1745-41A6-A243-C282CC37CF4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5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D855E52-9ECD-4EBA-B6B9-36C358B76EE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E55C1-C6D8-4634-91E6-E6E2991AE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5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9060FF7-509E-462A-AD24-6AEC3F6ECEC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233D1FF-F9CC-489E-AB41-849A0B5476E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1BAD26A-E54E-4CD8-9A43-D63C57F1D8F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5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7E1ADCA-BF99-49B1-9564-BAD4FA7F2F1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6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F6DB67E-9793-43E9-AC7D-708E67F9384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6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BA30A44-8175-4662-BD3B-FA62C5204CF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7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57C84E1-8E4F-434E-97C7-A78150CD372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7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031FD58-27E4-4BC2-913E-19D72F26848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7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E8B4D8E-CEBF-474A-AD2C-7FAD284A2F4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7C7CFDF-89D0-4E74-8F67-312EF561ECB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B0988-449F-4325-9411-802DDEF5D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D060023-1144-4208-A855-459F944C345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9225992-798E-401A-B4D2-003A2AAFF40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DBA4879-5B69-4A30-A429-2C90B14996A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F522D6B-1B30-4463-9AA2-38C300E7EC7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17B75D0-E949-4AC7-8555-D0917286825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C5900EA-9969-466B-BA35-2563A3C5179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0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B16FFD-4F4B-4266-B14B-F6516D69E18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0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F5D7B0A-518D-4E0E-8FC1-C8EDC8E6D37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1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9A26A1F-3196-46F9-86AB-58D36D2D6ED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1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AE7DF73-4C51-46F9-8A37-87CD06DAC4C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3D347-EDDD-43A4-9B5E-D25503FDE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1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DE928FB-8595-4A7F-A7D2-B339328E150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678265A-021F-43A3-9775-93144DB5622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0AA1060-0ED0-4A5E-B149-ED87383B3A8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F711436-80E5-4F17-978A-0BAA3E3AF89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824193D-E724-4D74-AE9E-11BD4E1480B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4BBA4A7-57EF-449C-BD73-DC40FA12186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F27575B-C672-4426-8325-D7A9A0D3AFC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4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155CC4A-76D8-48C3-82F2-8FF647A0BD2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4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A3DC492-52BD-457B-8CFE-F66FE17DBAD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4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DAE3BEB-CE5F-4E8D-AB3C-26D12003FAB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206FD-75B6-464E-A474-AB33F8B00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5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31A9544-5167-40DD-AAAC-C81FF7A1CF2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5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9E3DEED-F58E-441E-9074-FBCC40E4819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6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5DB1797-8038-4622-AD66-B742184497D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4FA50A8-4D2D-4F39-B079-618CA0CEA71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FA44D7E-CE24-4457-AA41-140C451BDA2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CC7EDB9-2E84-46AB-9E31-4539B1646F9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F2B672C-BD8B-4F98-8B07-511E1A4630E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FD30611-3C9A-48C1-845C-44D4BA2A6FF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8F98111-9343-4CB8-A16C-66F7D6C8EC2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8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8E62E02-B74A-4C14-B3D7-2FBCEDEA418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FDB8C-EE81-4C44-B15F-FB7E912D9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DEAD8-9DFF-45FC-A761-02164B45A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8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ACBF371-21FB-46A7-90CA-ABEFCAAB671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8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044C979-CD5D-41CF-B930-5D2B28ED9ED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9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BF517E8-6368-4D11-A099-8A0CF5D7099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9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77BEFC7-2919-4CC3-BBC8-D794C202D37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0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771EAC5-FA78-4A0C-88B8-C5E00A3B67C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AA6EE48-CF9C-47CB-B59A-7ABD0C1B33E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D1B2D98-1514-49B9-8BC8-2FBDA2CE04D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6E5FB76-1A08-410F-8BEB-2F0A97027A5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52BCFF2-7BA0-496B-9476-7A14020AF3C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D4EA735-264D-4BF1-8CF2-D3BFE2CA08C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F89DC-AE2B-49E8-A428-98A660930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89D882D-0E4E-4146-9C2A-D8D411C97B4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2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4F55D68-E8F5-4785-B870-19F42594263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2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EE96138-A0F7-4594-9BDD-F83D7D02E09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3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E1A3167-6FEA-4D99-8D3C-62045E94B2A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3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D603453-505C-4177-B034-0AE516BC3ED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3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66015A2-F45E-4545-A481-ABD4143AC74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9867811-CA3D-4E34-AC26-F0B51EA3941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E825B05-199D-4302-9693-F29057D7DA9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57"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3E757EB-05B4-4FD9-B1C0-04B9FB45DDD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59"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2771578-0D3F-4882-860E-8811DBE1BE4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5A288-18BE-4E82-938C-419683806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6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2CF59AB-AFA7-49BA-A400-8462BF88E0C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3A82DAB-A966-47BC-9976-5F919F8B174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1DA718D-748F-42A1-8503-474C772DC60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6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FDD8238-CF13-4D26-A2C6-19E0DA7A7D6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70"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2"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8426CCA-C889-4CDE-903C-F96F70D0A39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6"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3295B3D-A512-4D5C-82C2-130C9D6BBD5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78"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9"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C7099B0-6C21-4867-ABCC-C2AB79F0CFA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8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4"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B28BA8A-0DA3-4CA1-9189-7D87F06C819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86"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7"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8"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9"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0"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1"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5036590-ED8A-4C5F-93CB-747E7EDF9FA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3425C6-33EB-4AA8-A2C2-5AD07EA830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BEE7B1-123B-4E55-B2D8-3778EC93A3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1EB9F1-CBDD-4BAD-9734-5E26188D5E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29EA47-5797-4707-B42A-F9279687D8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4CBF76-EB92-4D14-98A6-96CFB98A1A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088472-7EC5-4920-A298-8C74A40D11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5696D9-2175-4342-A78A-B9571E6392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4C8FB-C3FB-4C48-BF8C-359B59EA1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6B908E-4110-4D04-AAD3-6719DCCB2E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A63711-2E2B-4A32-A671-6A6680AD0D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89D8C8-1405-450D-9FD6-2ED972BB7D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6B43EA-4A07-49D1-A6E5-DF30639DC2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94DC3B-F216-4EAF-819F-4F0F34AE09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75F14F-6713-47B9-AAD3-4A64D71C47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2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F89075-6D17-4362-B7DD-28A509B8C8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9F9972-FB1C-422A-BCA8-668D011DED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E4CAFE-3136-4450-9568-3A7802D58B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B86345-3B8C-4C49-AA86-70013C7E15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B164F-54D1-4CBB-92FA-EC9CDDD77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3258BC-1B0E-47B7-92B6-D172B84CB1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1D18B8-71C0-46E7-A489-CF909BEE4E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2B4279-EDDD-40FB-9E24-552BC9F34A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D95B20-8782-4A01-B452-6402C10205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7CED8F-D232-436E-A2F3-17C160464E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5C80A0-2AD8-4FEE-9F61-1D7956B628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A1D160-B883-4A70-8C18-A115BD68BD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D76618-F4A7-4302-93D1-F252483933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6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18620D-6547-487C-A2E9-CBED59826D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46EF16-23F8-43F0-A169-53E657FF51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B5ED4-A05D-4115-9873-5CCCBCB07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F55E5F-44AA-4DFC-8124-CF549E0CAE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B1981A-1436-47BA-97A1-ACA3F03B3B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EC2024-D2DE-48A0-801D-E49254455B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A894FC-D0A2-4FD9-8F8D-D52DEA2426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E28B74-4234-4B47-9E95-6677FF7AF6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8F7C51-AC9A-406E-A8CB-68F4186C28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FEE948-46B7-41DA-976F-993800E000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DAA272-1810-455C-8126-62EC3420AB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4D05B7-BA6F-461F-82F3-819496C098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ED7A36-A4FC-4C05-9C2D-5C3ACAF6A2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0F333-DA32-44E1-A1FF-646066646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0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34D32F-65ED-4EBB-9808-31123A5368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A4DFAF-469D-46D4-8012-E6D72927CE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5A05D8-87C7-4478-A48D-327B46AB54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068C0E-0619-4ECC-AE59-BAB88E758A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8612E5-885A-47A3-909B-9076CEC098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8880B9-0A92-435A-811C-8FC3D3F28B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DD7834-EAC7-4FB4-911C-9E325FD116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7094CA-6A29-428B-87E4-09240053F2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2AF1A9-C265-4A2C-9E99-9745B087B9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1AF300-9F0D-4651-9825-79447AF963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80A0E-D492-47D2-9B4B-B55D0C7C3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5C8C2A-876E-4CBC-BAD6-1964464ABF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9EE527-ABDD-4F8F-BEBB-3BB75FA095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4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1A8F3A-6821-4897-B26C-22D0420EFE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F7C8D5-3B69-4AB6-818A-B91EC3267C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5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96637D-432E-45B1-B5D4-591381AC5A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2EAAEB-6270-41A2-B852-690DEA44E3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72AFDF-8A49-453D-9C8F-DED0AA9B1B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3249BB-D470-45F8-A0F7-BDB98127A5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F48187-CE29-45EA-A01A-B58D74C8D4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C4D955-1A2C-4D5C-807C-56AE6AA474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D710B-A8F4-4666-BB24-93F893A60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B278AA-6D93-43EA-9272-DB75FB3B5A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399663-791E-44E3-B13C-1A379C30D9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8AA6C3-E416-49D9-BF6C-4C244E78C3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56526D-6653-4755-9001-75F7A6E90E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060463-FB1E-46DD-B084-290F5898A4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101DF4-9E2A-4E4C-8E8D-4F8377A782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EC02F5-5F55-460F-BA20-BB716311F0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DB320F-124E-432A-8C49-1630E65D42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9F304B-8714-4F6E-95FC-4C4104DC1B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374B9C-AC47-4C65-BCAE-85A635007E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7F858-D220-46BC-AD8B-88A0DF23B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DA96B8-932E-40E0-9A12-C1BEBAAE81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5739A5-330F-4AB6-BD80-4A5821F873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1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5F7C68-49E3-44F9-AB3B-2831A8A976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1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EDCFC7-4E1B-4365-A6AD-81F6E16C4A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2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3284CD-D8F9-4483-8974-121D02240D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2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90C46D-7AFB-4002-9F63-E0497F0A0A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2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C2F1D5-62B2-4125-A336-B035159D49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C3B7AB-A9C4-4513-BA26-2ED5D6CAE6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4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AC252D-75A3-4F1F-9E61-B20E3E94C4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4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82B282-B51D-4D06-A3FD-BC6CD975C3C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1" name="PlaceHolder 2"/>
          <p:cNvSpPr>
            <a:spLocks noGrp="1"/>
          </p:cNvSpPr>
          <p:nvPr>
            <p:ph type="body"/>
          </p:nvPr>
        </p:nvSpPr>
        <p:spPr>
          <a:xfrm>
            <a:off x="457200" y="2286000"/>
            <a:ext cx="8229600" cy="372096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
        <p:nvSpPr>
          <p:cNvPr id="2" name="Text Box 7"/>
          <p:cNvSpPr/>
          <p:nvPr/>
        </p:nvSpPr>
        <p:spPr>
          <a:xfrm>
            <a:off x="0" y="6324480"/>
            <a:ext cx="3657600" cy="33732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CD-10 Is a Big Deal</a:t>
            </a:r>
            <a:endParaRPr b="0" lang="en-US" sz="1600" spc="-1" strike="noStrike">
              <a:solidFill>
                <a:srgbClr val="000000"/>
              </a:solidFill>
              <a:latin typeface="Arial"/>
            </a:endParaRPr>
          </a:p>
        </p:txBody>
      </p:sp>
      <p:pic>
        <p:nvPicPr>
          <p:cNvPr id="3" name="Picture 8" descr="CMS_logo"/>
          <p:cNvPicPr/>
          <p:nvPr/>
        </p:nvPicPr>
        <p:blipFill>
          <a:blip r:embed="rId2"/>
          <a:stretch/>
        </p:blipFill>
        <p:spPr>
          <a:xfrm>
            <a:off x="228600" y="304920"/>
            <a:ext cx="1976400" cy="734760"/>
          </a:xfrm>
          <a:prstGeom prst="rect">
            <a:avLst/>
          </a:prstGeom>
          <a:ln w="0">
            <a:noFill/>
          </a:ln>
        </p:spPr>
      </p:pic>
      <p:pic>
        <p:nvPicPr>
          <p:cNvPr id="4" name="Picture 5" descr="HHS"/>
          <p:cNvPicPr/>
          <p:nvPr/>
        </p:nvPicPr>
        <p:blipFill>
          <a:blip r:embed="rId3"/>
          <a:stretch/>
        </p:blipFill>
        <p:spPr>
          <a:xfrm>
            <a:off x="7772400" y="152280"/>
            <a:ext cx="1066680" cy="1062000"/>
          </a:xfrm>
          <a:prstGeom prst="rect">
            <a:avLst/>
          </a:prstGeom>
          <a:ln w="0">
            <a:noFill/>
          </a:ln>
        </p:spPr>
      </p:pic>
      <p:sp>
        <p:nvSpPr>
          <p:cNvPr id="5" name="PlaceHolder 3"/>
          <p:cNvSpPr>
            <a:spLocks noGrp="1"/>
          </p:cNvSpPr>
          <p:nvPr>
            <p:ph type="dt" idx="1"/>
          </p:nvPr>
        </p:nvSpPr>
        <p:spPr>
          <a:xfrm>
            <a:off x="6781680" y="6477120"/>
            <a:ext cx="1067040" cy="247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AB6B4-EB7D-475A-8348-D7E0DF4F93CB}" type="datetime">
              <a:rPr b="0" lang="en-US" sz="1000" spc="-1" strike="noStrike">
                <a:solidFill>
                  <a:srgbClr val="000000"/>
                </a:solidFill>
                <a:latin typeface="Verdana"/>
              </a:rPr>
              <a:t>07/30/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343400" y="6476760"/>
            <a:ext cx="2286000" cy="244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15328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0B640-D8C1-4193-8313-46CEFDC596BC}"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8"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6EE18-E4BE-4A46-BC4A-D03DB1D9982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79"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380"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6AE4-58F0-4D4C-87B6-15489DA5D5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9"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A58FE-A9B6-40F7-BC74-ED41761BB68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20"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421"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7CCB1-07B9-4AAE-9416-5789DB376C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C058D-78E0-4B53-AE03-9D3BE681F2A5}"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6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46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62A04-FBA2-40EB-B6B0-5277ED6EAC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500"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501"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502" name="Picture 8" descr="CMS_logo"/>
          <p:cNvPicPr/>
          <p:nvPr/>
        </p:nvPicPr>
        <p:blipFill>
          <a:blip r:embed="rId2"/>
          <a:stretch/>
        </p:blipFill>
        <p:spPr>
          <a:xfrm>
            <a:off x="152280" y="152280"/>
            <a:ext cx="1976400" cy="735120"/>
          </a:xfrm>
          <a:prstGeom prst="rect">
            <a:avLst/>
          </a:prstGeom>
          <a:ln w="0">
            <a:noFill/>
          </a:ln>
        </p:spPr>
      </p:pic>
      <p:pic>
        <p:nvPicPr>
          <p:cNvPr id="503" name="Picture 5" descr="HHS"/>
          <p:cNvPicPr/>
          <p:nvPr/>
        </p:nvPicPr>
        <p:blipFill>
          <a:blip r:embed="rId3"/>
          <a:stretch/>
        </p:blipFill>
        <p:spPr>
          <a:xfrm>
            <a:off x="8077320" y="152280"/>
            <a:ext cx="685800" cy="682920"/>
          </a:xfrm>
          <a:prstGeom prst="rect">
            <a:avLst/>
          </a:prstGeom>
          <a:ln w="0">
            <a:noFill/>
          </a:ln>
        </p:spPr>
      </p:pic>
      <p:sp>
        <p:nvSpPr>
          <p:cNvPr id="504" name="PlaceHolder 3"/>
          <p:cNvSpPr>
            <a:spLocks noGrp="1"/>
          </p:cNvSpPr>
          <p:nvPr>
            <p:ph type="dt" idx="37"/>
          </p:nvPr>
        </p:nvSpPr>
        <p:spPr>
          <a:xfrm>
            <a:off x="746748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BAC4-981D-4435-8018-BEB5E304DF7A}" type="datetime">
              <a:rPr b="0" lang="en-US" sz="1000" spc="-1" strike="noStrike">
                <a:solidFill>
                  <a:srgbClr val="000000"/>
                </a:solidFill>
                <a:latin typeface="Verdana"/>
              </a:rPr>
              <a:t>07/30/26</a:t>
            </a:fld>
            <a:endParaRPr b="0" lang="en-US" sz="1000" spc="-1" strike="noStrike">
              <a:solidFill>
                <a:srgbClr val="000000"/>
              </a:solidFill>
              <a:latin typeface="Times New Roman"/>
            </a:endParaRPr>
          </a:p>
        </p:txBody>
      </p:sp>
      <p:sp>
        <p:nvSpPr>
          <p:cNvPr id="505" name="PlaceHolder 4"/>
          <p:cNvSpPr>
            <a:spLocks noGrp="1"/>
          </p:cNvSpPr>
          <p:nvPr>
            <p:ph type="ftr" idx="38"/>
          </p:nvPr>
        </p:nvSpPr>
        <p:spPr>
          <a:xfrm>
            <a:off x="4343040" y="6476760"/>
            <a:ext cx="28954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Times New Roman"/>
            </a:endParaRPr>
          </a:p>
        </p:txBody>
      </p:sp>
      <p:sp>
        <p:nvSpPr>
          <p:cNvPr id="506" name="PlaceHolder 5"/>
          <p:cNvSpPr>
            <a:spLocks noGrp="1"/>
          </p:cNvSpPr>
          <p:nvPr>
            <p:ph type="sldNum" idx="39"/>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86D72-86EB-4AC3-BF13-6983E6D6AB35}"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579C4-B11C-4994-BA8C-5E4BAC2F918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54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54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886C-7D60-4678-9E59-89F83BA095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528D-72C5-4490-BD81-D3D4BC5429D9}"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58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58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C68CA-C42B-4765-A89A-62F4B7F27A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7"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2A4D-3E1C-4002-98E2-6829ABD3C3A1}"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628"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629"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2CED-469E-4DFA-A271-CED3607519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8"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F18BC-735C-42A4-BF75-3D04C1677DE8}"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669"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670"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20F53-C71F-479C-B088-24115E37E7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CD029-274B-4276-9C15-3A57799F13B1}"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71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71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7DAE-CF4B-4F8F-A0A7-E506CC1745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749" name="Picture 8" descr="CMS_logo"/>
          <p:cNvPicPr/>
          <p:nvPr/>
        </p:nvPicPr>
        <p:blipFill>
          <a:blip r:embed="rId2"/>
          <a:stretch/>
        </p:blipFill>
        <p:spPr>
          <a:xfrm>
            <a:off x="152280" y="152280"/>
            <a:ext cx="1976400" cy="735120"/>
          </a:xfrm>
          <a:prstGeom prst="rect">
            <a:avLst/>
          </a:prstGeom>
          <a:ln w="0">
            <a:noFill/>
          </a:ln>
        </p:spPr>
      </p:pic>
      <p:pic>
        <p:nvPicPr>
          <p:cNvPr id="750" name="Picture 5" descr="HHS"/>
          <p:cNvPicPr/>
          <p:nvPr/>
        </p:nvPicPr>
        <p:blipFill>
          <a:blip r:embed="rId3"/>
          <a:stretch/>
        </p:blipFill>
        <p:spPr>
          <a:xfrm>
            <a:off x="8077320" y="152280"/>
            <a:ext cx="685800" cy="682920"/>
          </a:xfrm>
          <a:prstGeom prst="rect">
            <a:avLst/>
          </a:prstGeom>
          <a:ln w="0">
            <a:noFill/>
          </a:ln>
        </p:spPr>
      </p:pic>
      <p:sp>
        <p:nvSpPr>
          <p:cNvPr id="7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752"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753" name="PlaceHolder 3"/>
          <p:cNvSpPr>
            <a:spLocks noGrp="1"/>
          </p:cNvSpPr>
          <p:nvPr>
            <p:ph type="dt" idx="55"/>
          </p:nvPr>
        </p:nvSpPr>
        <p:spPr>
          <a:xfrm>
            <a:off x="7314840" y="6476760"/>
            <a:ext cx="10666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23F17-08F6-4F89-B24E-1DE1E4BD4910}" type="datetime">
              <a:rPr b="0" lang="en-US" sz="1000" spc="-1" strike="noStrike">
                <a:solidFill>
                  <a:srgbClr val="000000"/>
                </a:solidFill>
                <a:latin typeface="Verdana"/>
              </a:rPr>
              <a:t>07/30/26</a:t>
            </a:fld>
            <a:endParaRPr b="0" lang="en-US" sz="1000" spc="-1" strike="noStrike">
              <a:solidFill>
                <a:srgbClr val="000000"/>
              </a:solidFill>
              <a:latin typeface="Times New Roman"/>
            </a:endParaRPr>
          </a:p>
        </p:txBody>
      </p:sp>
      <p:sp>
        <p:nvSpPr>
          <p:cNvPr id="754" name="PlaceHolder 4"/>
          <p:cNvSpPr>
            <a:spLocks noGrp="1"/>
          </p:cNvSpPr>
          <p:nvPr>
            <p:ph type="ftr" idx="56"/>
          </p:nvPr>
        </p:nvSpPr>
        <p:spPr>
          <a:xfrm>
            <a:off x="4343040" y="6476760"/>
            <a:ext cx="28954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Times New Roman"/>
            </a:endParaRPr>
          </a:p>
        </p:txBody>
      </p:sp>
      <p:sp>
        <p:nvSpPr>
          <p:cNvPr id="755" name="PlaceHolder 5"/>
          <p:cNvSpPr>
            <a:spLocks noGrp="1"/>
          </p:cNvSpPr>
          <p:nvPr>
            <p:ph type="sldNum" idx="57"/>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DCF8-DD77-4E3D-92A6-D43C79768D27}"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6DECC-0E2F-404B-AF6C-7785E30F537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5CD5-2A46-4D6F-A7BF-E5E3793A7A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A2DE7-DD03-432A-96E6-1F9DB4484BF5}"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92D5E-23E5-4C84-91BF-9E51FBC8CA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C12F-DCFB-4869-9D0B-EECABEC23228}"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6441-5244-4674-B15F-323385A5F91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A529-99F0-499D-A31E-5EDAF95173CC}"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ACD2-69D9-4CB2-B87E-33CA710956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E907E-C368-47EF-AF49-423C39A0650C}"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1D9CE-1F5B-4F5D-B403-35A6CFBBDF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WordArt 2"/>
          <p:cNvSpPr txBox="1"/>
          <p:nvPr/>
        </p:nvSpPr>
        <p:spPr>
          <a:xfrm rot="2157600">
            <a:off x="1700280" y="2819160"/>
            <a:ext cx="6046560" cy="220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e6e6e6"/>
                    </a:gs>
                    <a:gs pos="100000">
                      <a:srgbClr val="ffffff"/>
                    </a:gs>
                  </a:gsLst>
                  <a:lin ang="1080000"/>
                </a:gradFill>
                <a:effectLst>
                  <a:outerShdw dist="40186" dir="4303641" blurRad="0" rotWithShape="0">
                    <a:srgbClr val="4d4d4d">
                      <a:alpha val="80000"/>
                    </a:srgbClr>
                  </a:outerShdw>
                </a:effectLst>
                <a:latin typeface="Arial Black"/>
              </a:rPr>
              <a:t>DRAFT</a:t>
            </a:r>
            <a:endParaRPr b="0" lang="en-US" sz="2800" spc="1" strike="noStrike">
              <a:ln w="0">
                <a:noFill/>
              </a:ln>
              <a:gradFill rotWithShape="0">
                <a:gsLst>
                  <a:gs pos="0">
                    <a:srgbClr val="e6e6e6"/>
                  </a:gs>
                  <a:gs pos="100000">
                    <a:srgbClr val="ffffff"/>
                  </a:gs>
                </a:gsLst>
                <a:lin ang="1080000"/>
              </a:gradFill>
              <a:effectLst>
                <a:outerShdw dist="40186" dir="4303641" blurRad="0" rotWithShape="0">
                  <a:srgbClr val="4d4d4d">
                    <a:alpha val="80000"/>
                  </a:srgbClr>
                </a:outerShdw>
              </a:effectLst>
              <a:latin typeface="Arial Black"/>
              <a:ea typeface="Arial Black"/>
            </a:endParaRPr>
          </a:p>
        </p:txBody>
      </p:sp>
      <p:sp>
        <p:nvSpPr>
          <p:cNvPr id="25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251" name="PlaceHolder 2"/>
          <p:cNvSpPr>
            <a:spLocks noGrp="1"/>
          </p:cNvSpPr>
          <p:nvPr>
            <p:ph type="body"/>
          </p:nvPr>
        </p:nvSpPr>
        <p:spPr>
          <a:xfrm>
            <a:off x="457200" y="228564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52" name="Text Box 5"/>
          <p:cNvSpPr/>
          <p:nvPr/>
        </p:nvSpPr>
        <p:spPr>
          <a:xfrm>
            <a:off x="0" y="6324480"/>
            <a:ext cx="3657600" cy="33732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CD-10 Is a Big Deal</a:t>
            </a:r>
            <a:endParaRPr b="0" lang="en-US" sz="1600" spc="-1" strike="noStrike">
              <a:solidFill>
                <a:srgbClr val="000000"/>
              </a:solidFill>
              <a:latin typeface="Arial"/>
            </a:endParaRPr>
          </a:p>
        </p:txBody>
      </p:sp>
      <p:pic>
        <p:nvPicPr>
          <p:cNvPr id="253" name="Picture 8" descr="CMS_logo"/>
          <p:cNvPicPr/>
          <p:nvPr/>
        </p:nvPicPr>
        <p:blipFill>
          <a:blip r:embed="rId2"/>
          <a:stretch/>
        </p:blipFill>
        <p:spPr>
          <a:xfrm>
            <a:off x="228600" y="304920"/>
            <a:ext cx="1976400" cy="734760"/>
          </a:xfrm>
          <a:prstGeom prst="rect">
            <a:avLst/>
          </a:prstGeom>
          <a:ln w="0">
            <a:noFill/>
          </a:ln>
        </p:spPr>
      </p:pic>
      <p:pic>
        <p:nvPicPr>
          <p:cNvPr id="254" name="Picture 5" descr="HHS"/>
          <p:cNvPicPr/>
          <p:nvPr/>
        </p:nvPicPr>
        <p:blipFill>
          <a:blip r:embed="rId3"/>
          <a:stretch/>
        </p:blipFill>
        <p:spPr>
          <a:xfrm>
            <a:off x="7772400" y="152280"/>
            <a:ext cx="1066680" cy="1062000"/>
          </a:xfrm>
          <a:prstGeom prst="rect">
            <a:avLst/>
          </a:prstGeom>
          <a:ln w="0">
            <a:noFill/>
          </a:ln>
        </p:spPr>
      </p:pic>
      <p:sp>
        <p:nvSpPr>
          <p:cNvPr id="255" name="PlaceHolder 3"/>
          <p:cNvSpPr>
            <a:spLocks noGrp="1"/>
          </p:cNvSpPr>
          <p:nvPr>
            <p:ph type="dt" idx="19"/>
          </p:nvPr>
        </p:nvSpPr>
        <p:spPr>
          <a:xfrm>
            <a:off x="746748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2A5F7-3221-4649-B90D-F29E3CE643EC}" type="datetime">
              <a:rPr b="0" lang="en-US" sz="1000" spc="-1" strike="noStrike">
                <a:solidFill>
                  <a:srgbClr val="000000"/>
                </a:solidFill>
                <a:latin typeface="Verdana"/>
              </a:rPr>
              <a:t>07/30/26</a:t>
            </a:fld>
            <a:endParaRPr b="0" lang="en-US" sz="1000" spc="-1" strike="noStrike">
              <a:solidFill>
                <a:srgbClr val="000000"/>
              </a:solidFill>
              <a:latin typeface="Times New Roman"/>
            </a:endParaRPr>
          </a:p>
        </p:txBody>
      </p:sp>
      <p:sp>
        <p:nvSpPr>
          <p:cNvPr id="256" name="PlaceHolder 4"/>
          <p:cNvSpPr>
            <a:spLocks noGrp="1"/>
          </p:cNvSpPr>
          <p:nvPr>
            <p:ph type="ftr" idx="20"/>
          </p:nvPr>
        </p:nvSpPr>
        <p:spPr>
          <a:xfrm>
            <a:off x="4343040" y="6476760"/>
            <a:ext cx="28954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Times New Roman"/>
            </a:endParaRPr>
          </a:p>
        </p:txBody>
      </p:sp>
      <p:sp>
        <p:nvSpPr>
          <p:cNvPr id="257" name="PlaceHolder 5"/>
          <p:cNvSpPr>
            <a:spLocks noGrp="1"/>
          </p:cNvSpPr>
          <p:nvPr>
            <p:ph type="sldNum" idx="21"/>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F379-BA04-490C-A48E-C416D63E1714}"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94941-1168-464E-BD8A-FCC8473F88B9}"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DC7D8-EDCD-484B-B0F3-9A0B6B0D7B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EF820-2C37-4EA7-AD40-2EA13BB94E86}"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3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33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28051-146B-45FE-AF48-9E5ABACF56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9BE72-E702-4A3C-862E-829C79706735}"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800"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Arial"/>
            </a:endParaRPr>
          </a:p>
        </p:txBody>
      </p:sp>
      <p:sp>
        <p:nvSpPr>
          <p:cNvPr id="801"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08CB-CB67-4785-B1E3-D7E3967DC4C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02" name="Rectangle 3"/>
          <p:cNvSpPr/>
          <p:nvPr/>
        </p:nvSpPr>
        <p:spPr>
          <a:xfrm>
            <a:off x="4572000" y="4191120"/>
            <a:ext cx="4114800" cy="19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Verdana"/>
              </a:rPr>
              <a:t>Training Segment 2</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gulatory Requirements</a:t>
            </a:r>
            <a:endParaRPr b="0" lang="en-US" sz="2000" spc="-1" strike="noStrike">
              <a:solidFill>
                <a:srgbClr val="000000"/>
              </a:solidFill>
              <a:latin typeface="Arial"/>
            </a:endParaRPr>
          </a:p>
        </p:txBody>
      </p:sp>
      <p:sp>
        <p:nvSpPr>
          <p:cNvPr id="803" name="Rectangle 3"/>
          <p:cNvSpPr/>
          <p:nvPr/>
        </p:nvSpPr>
        <p:spPr>
          <a:xfrm>
            <a:off x="4572000" y="2895480"/>
            <a:ext cx="380988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nformational Series on ICD-10 Planning and Assessment for State Medicaid Agencies</a:t>
            </a:r>
            <a:endParaRPr b="0" lang="en-US" sz="1600" spc="-1" strike="noStrike">
              <a:solidFill>
                <a:srgbClr val="000000"/>
              </a:solidFill>
              <a:latin typeface="Arial"/>
            </a:endParaRPr>
          </a:p>
        </p:txBody>
      </p:sp>
      <p:sp>
        <p:nvSpPr>
          <p:cNvPr id="804" name="Rectangle 6"/>
          <p:cNvSpPr/>
          <p:nvPr/>
        </p:nvSpPr>
        <p:spPr>
          <a:xfrm>
            <a:off x="4038480" y="0"/>
            <a:ext cx="2286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Content Placeholder 1"/>
          <p:cNvSpPr/>
          <p:nvPr/>
        </p:nvSpPr>
        <p:spPr>
          <a:xfrm>
            <a:off x="152280" y="1295280"/>
            <a:ext cx="3733920" cy="4953240"/>
          </a:xfrm>
          <a:prstGeom prst="rect">
            <a:avLst/>
          </a:prstGeom>
          <a:noFill/>
          <a:ln w="0">
            <a:noFill/>
          </a:ln>
        </p:spPr>
        <p:style>
          <a:lnRef idx="0"/>
          <a:fillRef idx="0"/>
          <a:effectRef idx="0"/>
          <a:fontRef idx="minor"/>
        </p:style>
        <p:txBody>
          <a:bodyPr lIns="90000" rIns="90000" tIns="46800" bIns="46800" anchor="t">
            <a:noAutofit/>
          </a:bodyPr>
          <a:p>
            <a:pPr marL="496800" indent="-38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	</a:t>
            </a:r>
            <a:r>
              <a:rPr b="1" i="1" lang="en-US" sz="1000" spc="-1" strike="noStrike">
                <a:solidFill>
                  <a:srgbClr val="000000"/>
                </a:solidFill>
                <a:latin typeface="Verdana"/>
              </a:rPr>
              <a:t>A Series of Topics on ICD-10 for State Medicaid Agencies</a:t>
            </a:r>
            <a:r>
              <a:rPr b="0" lang="en-US" sz="1000" spc="-1" strike="noStrike">
                <a:solidFill>
                  <a:srgbClr val="000000"/>
                </a:solidFill>
                <a:latin typeface="Verdana"/>
              </a:rPr>
              <a:t>:</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is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0504d"/>
                </a:solidFill>
                <a:uFillTx/>
                <a:latin typeface="Verdana"/>
              </a:rPr>
              <a:t>Regulatory Requirement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nefits of Using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rther Movement along the MITA Road Map - Use of clinical data and interoperability</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ffective Implementation of ICD-10 </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tential Programmatic and Technical Problem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act on MITA Business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ming the Implementation Team</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MIS Funding Opportuniti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ducation and Training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tner and Vendor Consideration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ing Progress and Post Compliance Date Actions</a:t>
            </a:r>
            <a:endParaRPr b="0" lang="en-US" sz="1000" spc="-1" strike="noStrike">
              <a:solidFill>
                <a:srgbClr val="000000"/>
              </a:solidFill>
              <a:latin typeface="Arial"/>
            </a:endParaRPr>
          </a:p>
        </p:txBody>
      </p:sp>
      <p:sp>
        <p:nvSpPr>
          <p:cNvPr id="806" name="TextBox 10"/>
          <p:cNvSpPr/>
          <p:nvPr/>
        </p:nvSpPr>
        <p:spPr>
          <a:xfrm>
            <a:off x="4876920" y="684360"/>
            <a:ext cx="3733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ICD-10</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lanning an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A9DEC-48FE-490D-B316-27DACB06B31D}"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848"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Arial"/>
            </a:endParaRPr>
          </a:p>
        </p:txBody>
      </p:sp>
      <p:sp>
        <p:nvSpPr>
          <p:cNvPr id="849"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96790-1204-4E1A-86BF-A123498966E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50" name=""/>
          <p:cNvSpPr txBox="1"/>
          <p:nvPr/>
        </p:nvSpPr>
        <p:spPr>
          <a:xfrm>
            <a:off x="457200" y="1905120"/>
            <a:ext cx="8229600" cy="372096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fter the final rules were published and compliance dates set, a major HIT event occurr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ITECH was included in the ARRA package enacted on February 17, 2009</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included many HIT initiatives for providers and State Medicaid agenci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uch of this work will need to be accomplished before the compliance date for ICD-10</a:t>
            </a:r>
            <a:endParaRPr b="0" lang="en-US" sz="2200" spc="-1" strike="noStrike">
              <a:solidFill>
                <a:srgbClr val="000000"/>
              </a:solidFill>
              <a:latin typeface="Verdana"/>
            </a:endParaRPr>
          </a:p>
        </p:txBody>
      </p:sp>
      <p:sp>
        <p:nvSpPr>
          <p:cNvPr id="851" name="Text Box 6"/>
          <p:cNvSpPr/>
          <p:nvPr/>
        </p:nvSpPr>
        <p:spPr>
          <a:xfrm>
            <a:off x="914400" y="1143000"/>
            <a:ext cx="6934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ARRA Impac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4C268-B02B-4D6E-AE7D-FB7355AFF909}"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853"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Arial"/>
            </a:endParaRPr>
          </a:p>
        </p:txBody>
      </p:sp>
      <p:sp>
        <p:nvSpPr>
          <p:cNvPr id="854"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DAE2-3ACC-4882-9F81-3A73F841EF0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55" name=""/>
          <p:cNvSpPr txBox="1"/>
          <p:nvPr/>
        </p:nvSpPr>
        <p:spPr>
          <a:xfrm>
            <a:off x="457200" y="1905120"/>
            <a:ext cx="8229600" cy="40384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ate Medicaid Agencies will provide incentives to providers who can demonstrate meaningful use of an EHR.  Payments will also be cut for those who do no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ile providers may be focused on EHRs, they must also make the transition to ICD-10</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hoped that ICD-10 will facilitate meaningful use of EHRs by providing additional information for quality measurement and patient care management</a:t>
            </a:r>
            <a:endParaRPr b="0" lang="en-US" sz="2200" spc="-1" strike="noStrike">
              <a:solidFill>
                <a:srgbClr val="000000"/>
              </a:solidFill>
              <a:latin typeface="Verdana"/>
            </a:endParaRPr>
          </a:p>
        </p:txBody>
      </p:sp>
      <p:sp>
        <p:nvSpPr>
          <p:cNvPr id="856" name="Text Box 6"/>
          <p:cNvSpPr/>
          <p:nvPr/>
        </p:nvSpPr>
        <p:spPr>
          <a:xfrm>
            <a:off x="914400" y="1143000"/>
            <a:ext cx="6934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ARRA Impac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Date Placeholder 3"/>
          <p:cNvSpPr/>
          <p:nvPr/>
        </p:nvSpPr>
        <p:spPr>
          <a:xfrm>
            <a:off x="7315200" y="6477120"/>
            <a:ext cx="1066680" cy="15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B2FF-4022-43F8-8D0D-85715FA9BCA2}"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858"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Arial"/>
            </a:endParaRPr>
          </a:p>
        </p:txBody>
      </p:sp>
      <p:sp>
        <p:nvSpPr>
          <p:cNvPr id="859"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E90A-785A-4CAD-BF30-6A00DB47C33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60" name="PlaceHolder 1"/>
          <p:cNvSpPr>
            <a:spLocks noGrp="1"/>
          </p:cNvSpPr>
          <p:nvPr>
            <p:ph/>
          </p:nvPr>
        </p:nvSpPr>
        <p:spPr>
          <a:xfrm>
            <a:off x="457200" y="19807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ederal regulations mandate the use of ICD-10 codes on HIPAA transactions for services on and after Oct 1, 2013</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 health plans, clearinghouses, and providers using electronic transactions must transition to the ICD-10 code set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transition impacts MMIS systems, EHRs, and other system conversion projects between now and 2013</a:t>
            </a:r>
            <a:endParaRPr b="0" lang="en-US" sz="2200" spc="-1" strike="noStrike">
              <a:solidFill>
                <a:srgbClr val="000000"/>
              </a:solidFill>
              <a:latin typeface="Verdana"/>
            </a:endParaRPr>
          </a:p>
        </p:txBody>
      </p:sp>
      <p:sp>
        <p:nvSpPr>
          <p:cNvPr id="861" name="TextBox 6"/>
          <p:cNvSpPr/>
          <p:nvPr/>
        </p:nvSpPr>
        <p:spPr>
          <a:xfrm>
            <a:off x="2971800" y="968400"/>
            <a:ext cx="426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Verdana"/>
              </a:rPr>
              <a:t>Summa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650F-C7F8-44DF-9FD6-219FE9541C68}"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808"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Arial"/>
            </a:endParaRPr>
          </a:p>
        </p:txBody>
      </p:sp>
      <p:sp>
        <p:nvSpPr>
          <p:cNvPr id="809"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F827E-2BB2-4F5D-9707-BDC8C877BAF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10" name="Text Box 7"/>
          <p:cNvSpPr/>
          <p:nvPr/>
        </p:nvSpPr>
        <p:spPr>
          <a:xfrm>
            <a:off x="1104840" y="990720"/>
            <a:ext cx="69343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Segment 2 – Regulatory Requiremen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Objectives of this Segment</a:t>
            </a:r>
            <a:endParaRPr b="0" lang="en-US" sz="2400" spc="-1" strike="noStrike">
              <a:solidFill>
                <a:srgbClr val="000000"/>
              </a:solidFill>
              <a:latin typeface="Arial"/>
            </a:endParaRPr>
          </a:p>
        </p:txBody>
      </p:sp>
      <p:sp>
        <p:nvSpPr>
          <p:cNvPr id="811" name="Content Placeholder 1"/>
          <p:cNvSpPr/>
          <p:nvPr/>
        </p:nvSpPr>
        <p:spPr>
          <a:xfrm>
            <a:off x="457200" y="2133720"/>
            <a:ext cx="8229600" cy="3657600"/>
          </a:xfrm>
          <a:prstGeom prst="rect">
            <a:avLst/>
          </a:prstGeom>
          <a:noFill/>
          <a:ln w="0">
            <a:noFill/>
          </a:ln>
        </p:spPr>
        <p:style>
          <a:lnRef idx="0"/>
          <a:fillRef idx="0"/>
          <a:effectRef idx="0"/>
          <a:fontRef idx="minor"/>
        </p:style>
        <p:txBody>
          <a:bodyPr lIns="90000" rIns="90000" tIns="46800" bIns="46800" anchor="t">
            <a:noAutofit/>
          </a:bodyPr>
          <a:p>
            <a:pPr lvl="1" marL="620640" indent="-228600">
              <a:lnSpc>
                <a:spcPct val="100000"/>
              </a:lnSpc>
              <a:spcBef>
                <a:spcPts val="326"/>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Explain the Federal Regulation regarding the implementation and use of the ICD-10 code se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3D45-3887-4DB9-9483-D368F6F7E9BD}"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813"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Arial"/>
            </a:endParaRPr>
          </a:p>
        </p:txBody>
      </p:sp>
      <p:sp>
        <p:nvSpPr>
          <p:cNvPr id="814"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8CA6F-8C4E-4DB5-9A81-4ED8EE2C374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15" name=""/>
          <p:cNvSpPr txBox="1"/>
          <p:nvPr/>
        </p:nvSpPr>
        <p:spPr>
          <a:xfrm>
            <a:off x="457200" y="1980720"/>
            <a:ext cx="8229600" cy="37213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nal regulation (45 CFR 162.1002) published January 16, 2009</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a compliance date for using ICD-10-CM for diagnoses and ICD-10-PCS for inpatient hospital procedure codes of Oct 1, 2013</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 per all medical code sets under HIPAA, compliance date requires services performed on and after that date be coded using the new codes</a:t>
            </a:r>
            <a:endParaRPr b="0" lang="en-US" sz="2200" spc="-1" strike="noStrike">
              <a:solidFill>
                <a:srgbClr val="000000"/>
              </a:solidFill>
              <a:latin typeface="Verdana"/>
            </a:endParaRPr>
          </a:p>
        </p:txBody>
      </p:sp>
      <p:sp>
        <p:nvSpPr>
          <p:cNvPr id="816" name="Text Box 6"/>
          <p:cNvSpPr/>
          <p:nvPr/>
        </p:nvSpPr>
        <p:spPr>
          <a:xfrm>
            <a:off x="914400" y="1219320"/>
            <a:ext cx="6934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The ICD-10 Reg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8F5B-FF64-4D34-8B7E-FCE19E866C9E}"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818"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Arial"/>
            </a:endParaRPr>
          </a:p>
        </p:txBody>
      </p:sp>
      <p:sp>
        <p:nvSpPr>
          <p:cNvPr id="819"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F75C8-0E62-4F52-AB08-BF539FC905F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20" name=""/>
          <p:cNvSpPr txBox="1"/>
          <p:nvPr/>
        </p:nvSpPr>
        <p:spPr>
          <a:xfrm>
            <a:off x="457200" y="1980720"/>
            <a:ext cx="8229600" cy="37213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ote the single compliance date of Oct 1, 2013</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l covered entities are subject to that date</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re is no “transition” time</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rvices prior to Oct 1, 2013 must be coded with ICD-9 codes; services on and after Oct 1, 2013 must be coded with ICD-10 code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ote that transactions for service prior to Oct 1, 2013 will continue to be sent or received for some time</a:t>
            </a:r>
            <a:endParaRPr b="0" lang="en-US" sz="2100" spc="-1" strike="noStrike">
              <a:solidFill>
                <a:srgbClr val="000000"/>
              </a:solidFill>
              <a:latin typeface="Verdana"/>
            </a:endParaRPr>
          </a:p>
        </p:txBody>
      </p:sp>
      <p:sp>
        <p:nvSpPr>
          <p:cNvPr id="821" name="Text Box 6"/>
          <p:cNvSpPr/>
          <p:nvPr/>
        </p:nvSpPr>
        <p:spPr>
          <a:xfrm>
            <a:off x="914400" y="1143000"/>
            <a:ext cx="693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f497d"/>
                </a:solidFill>
                <a:latin typeface="Verdana"/>
              </a:rPr>
              <a:t>Impact of Regulation Dat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09EB-BE1F-40B1-824A-2BDF1DE21F22}"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823"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Arial"/>
            </a:endParaRPr>
          </a:p>
        </p:txBody>
      </p:sp>
      <p:sp>
        <p:nvSpPr>
          <p:cNvPr id="824"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4701-1E00-4CDB-9D77-6C78218F921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25" name=""/>
          <p:cNvSpPr txBox="1"/>
          <p:nvPr/>
        </p:nvSpPr>
        <p:spPr>
          <a:xfrm>
            <a:off x="457200" y="2209320"/>
            <a:ext cx="8229600" cy="3886200"/>
          </a:xfrm>
          <a:prstGeom prst="rect">
            <a:avLst/>
          </a:prstGeom>
          <a:noFill/>
          <a:ln w="0">
            <a:noFill/>
          </a:ln>
        </p:spPr>
        <p:txBody>
          <a:bodyPr anchor="t">
            <a:normAutofit/>
          </a:bodyPr>
          <a:p>
            <a:pPr marL="365040" indent="-255600">
              <a:lnSpc>
                <a:spcPct val="8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ms like plenty of time – Oct 1, 2013 is about 4 years away</a:t>
            </a:r>
            <a:endParaRPr b="0" lang="en-US" sz="2200" spc="-1" strike="noStrike">
              <a:solidFill>
                <a:srgbClr val="000000"/>
              </a:solidFill>
              <a:latin typeface="Verdana"/>
            </a:endParaRPr>
          </a:p>
          <a:p>
            <a:pPr marL="365040" indent="-255600">
              <a:lnSpc>
                <a:spcPct val="8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ustry requested the extending of the compliance date from the proposed rule’s Oct 1, 2011 to the 2013 date adopted in the final rule</a:t>
            </a:r>
            <a:endParaRPr b="0" lang="en-US" sz="2200" spc="-1" strike="noStrike">
              <a:solidFill>
                <a:srgbClr val="000000"/>
              </a:solidFill>
              <a:latin typeface="Verdana"/>
            </a:endParaRPr>
          </a:p>
          <a:p>
            <a:pPr marL="365040" indent="-255600">
              <a:lnSpc>
                <a:spcPct val="8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nalysis of the implementation workload by WEDI and others indicated the need for the extended timeline</a:t>
            </a:r>
            <a:endParaRPr b="0" lang="en-US" sz="2200" spc="-1" strike="noStrike">
              <a:solidFill>
                <a:srgbClr val="000000"/>
              </a:solidFill>
              <a:latin typeface="Verdana"/>
            </a:endParaRPr>
          </a:p>
          <a:p>
            <a:pPr lvl="1" marL="620640" indent="-228600">
              <a:lnSpc>
                <a:spcPct val="8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iderable time needed for assessment of changes</a:t>
            </a:r>
            <a:endParaRPr b="0" lang="en-US" sz="2200" spc="-1" strike="noStrike">
              <a:solidFill>
                <a:srgbClr val="000000"/>
              </a:solidFill>
              <a:latin typeface="Verdana"/>
            </a:endParaRPr>
          </a:p>
          <a:p>
            <a:pPr lvl="1" marL="620640" indent="-228600">
              <a:lnSpc>
                <a:spcPct val="8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sive testing</a:t>
            </a:r>
            <a:endParaRPr b="0" lang="en-US" sz="2200" spc="-1" strike="noStrike">
              <a:solidFill>
                <a:srgbClr val="000000"/>
              </a:solidFill>
              <a:latin typeface="Verdana"/>
            </a:endParaRPr>
          </a:p>
          <a:p>
            <a:pPr lvl="1" marL="620640" indent="-228600">
              <a:lnSpc>
                <a:spcPct val="8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sive training</a:t>
            </a:r>
            <a:endParaRPr b="0" lang="en-US" sz="2200" spc="-1" strike="noStrike">
              <a:solidFill>
                <a:srgbClr val="000000"/>
              </a:solidFill>
              <a:latin typeface="Verdana"/>
            </a:endParaRPr>
          </a:p>
          <a:p>
            <a:pPr lvl="1" marL="620640" indent="-228600">
              <a:lnSpc>
                <a:spcPct val="8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sive provider outreach</a:t>
            </a:r>
            <a:endParaRPr b="0" lang="en-US" sz="2200" spc="-1" strike="noStrike">
              <a:solidFill>
                <a:srgbClr val="000000"/>
              </a:solidFill>
              <a:latin typeface="Verdana"/>
            </a:endParaRPr>
          </a:p>
        </p:txBody>
      </p:sp>
      <p:sp>
        <p:nvSpPr>
          <p:cNvPr id="826" name="Text Box 6"/>
          <p:cNvSpPr/>
          <p:nvPr/>
        </p:nvSpPr>
        <p:spPr>
          <a:xfrm>
            <a:off x="914400" y="1143000"/>
            <a:ext cx="693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f497d"/>
                </a:solidFill>
                <a:latin typeface="Verdana"/>
              </a:rPr>
              <a:t>Time to Implement ICD-10</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0FEF8-85A3-4AA5-9949-9310F8DBAA2F}"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828"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Arial"/>
            </a:endParaRPr>
          </a:p>
        </p:txBody>
      </p:sp>
      <p:sp>
        <p:nvSpPr>
          <p:cNvPr id="829"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3169-0F0A-4DBD-8700-FB24AE60267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30" name=""/>
          <p:cNvSpPr txBox="1"/>
          <p:nvPr/>
        </p:nvSpPr>
        <p:spPr>
          <a:xfrm>
            <a:off x="457200" y="1904760"/>
            <a:ext cx="8229600" cy="20574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veloped by a representative team of providers, health plans, and vendor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cates the need to get started ASAP to accomplish all of the necessary tasks for use of ICD-10</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ter chapters will go into the timeline details</a:t>
            </a:r>
            <a:endParaRPr b="0" lang="en-US" sz="2200" spc="-1" strike="noStrike">
              <a:solidFill>
                <a:srgbClr val="000000"/>
              </a:solidFill>
              <a:latin typeface="Verdana"/>
            </a:endParaRPr>
          </a:p>
        </p:txBody>
      </p:sp>
      <p:sp>
        <p:nvSpPr>
          <p:cNvPr id="831" name="Text Box 6"/>
          <p:cNvSpPr/>
          <p:nvPr/>
        </p:nvSpPr>
        <p:spPr>
          <a:xfrm>
            <a:off x="914400" y="1143000"/>
            <a:ext cx="6934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WEDI/NCHICA Time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FA24-0EDE-4840-B716-E1619EE32FEF}"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833"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Arial"/>
            </a:endParaRPr>
          </a:p>
        </p:txBody>
      </p:sp>
      <p:sp>
        <p:nvSpPr>
          <p:cNvPr id="834"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17CF-B72E-4E03-925F-35871CED934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35" name=""/>
          <p:cNvSpPr txBox="1"/>
          <p:nvPr/>
        </p:nvSpPr>
        <p:spPr>
          <a:xfrm>
            <a:off x="457200" y="1904760"/>
            <a:ext cx="8229600" cy="281916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nal regulation for HIPAA transaction updates (X12 Version 5010, NCPDP Version D.0) published on same day as ICD-10 final rul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liance date Jan 1, 2012</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requisite for ICD-10</a:t>
            </a:r>
            <a:endParaRPr b="0" lang="en-US" sz="2200" spc="-1" strike="noStrike">
              <a:solidFill>
                <a:srgbClr val="000000"/>
              </a:solidFill>
              <a:latin typeface="Verdana"/>
            </a:endParaRPr>
          </a:p>
        </p:txBody>
      </p:sp>
      <p:sp>
        <p:nvSpPr>
          <p:cNvPr id="836" name="Text Box 6"/>
          <p:cNvSpPr/>
          <p:nvPr/>
        </p:nvSpPr>
        <p:spPr>
          <a:xfrm>
            <a:off x="914400" y="1143000"/>
            <a:ext cx="6934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Other Concurrent Pro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31C58-F9B6-42A6-B29A-B5C2709B0719}"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838"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Arial"/>
            </a:endParaRPr>
          </a:p>
        </p:txBody>
      </p:sp>
      <p:sp>
        <p:nvSpPr>
          <p:cNvPr id="839"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A04F-27CE-4E36-AF69-E59378F6F48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40" name=""/>
          <p:cNvSpPr txBox="1"/>
          <p:nvPr/>
        </p:nvSpPr>
        <p:spPr>
          <a:xfrm>
            <a:off x="457200" y="1905120"/>
            <a:ext cx="8229600" cy="40384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actions will accommodate ICD-10</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me work for this implementation may overlap ICD-10 implementation work</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sizing</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play screen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terfac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ut in many operations, same people may need to be used to concurrently implement HIPAA changes and ICD-10</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is a management and resource issue</a:t>
            </a:r>
            <a:endParaRPr b="0" lang="en-US" sz="2200" spc="-1" strike="noStrike">
              <a:solidFill>
                <a:srgbClr val="000000"/>
              </a:solidFill>
              <a:latin typeface="Verdana"/>
            </a:endParaRPr>
          </a:p>
        </p:txBody>
      </p:sp>
      <p:sp>
        <p:nvSpPr>
          <p:cNvPr id="841" name="Text Box 6"/>
          <p:cNvSpPr/>
          <p:nvPr/>
        </p:nvSpPr>
        <p:spPr>
          <a:xfrm>
            <a:off x="914400" y="1143000"/>
            <a:ext cx="6934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HIPAA Upgrade Impa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A2423-BD60-4F91-B128-51A9CC51A8D2}"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843"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Arial"/>
            </a:endParaRPr>
          </a:p>
        </p:txBody>
      </p:sp>
      <p:sp>
        <p:nvSpPr>
          <p:cNvPr id="844"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BDFC-E8F8-472F-BAB4-FD6C80B78AB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45" name=""/>
          <p:cNvSpPr txBox="1"/>
          <p:nvPr/>
        </p:nvSpPr>
        <p:spPr>
          <a:xfrm>
            <a:off x="457200" y="1905120"/>
            <a:ext cx="8229600" cy="372096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MIS upgrades must be able to handle the new HIPAA transactions and ICD-10</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 “waivers” or extensions to the compliance date are expect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ider the timing carefully in your planning and APD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ider breaking down tasks to match the national timelines for implementing ICD-10</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gular rules for enhanced matching will apply for system upgrades for ICD-10</a:t>
            </a:r>
            <a:endParaRPr b="0" lang="en-US" sz="2200" spc="-1" strike="noStrike">
              <a:solidFill>
                <a:srgbClr val="000000"/>
              </a:solidFill>
              <a:latin typeface="Verdana"/>
            </a:endParaRPr>
          </a:p>
        </p:txBody>
      </p:sp>
      <p:sp>
        <p:nvSpPr>
          <p:cNvPr id="846" name="Text Box 6"/>
          <p:cNvSpPr/>
          <p:nvPr/>
        </p:nvSpPr>
        <p:spPr>
          <a:xfrm>
            <a:off x="914400" y="1143000"/>
            <a:ext cx="6934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MMIS Upgr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23:03:16Z</dcterms:created>
  <dc:creator>snachimson</dc:creator>
  <dc:description/>
  <dc:language>en-US</dc:language>
  <cp:lastModifiedBy>Sherry Scott</cp:lastModifiedBy>
  <dcterms:modified xsi:type="dcterms:W3CDTF">2009-11-02T16:35:18Z</dcterms:modified>
  <cp:revision>41</cp:revision>
  <dc:subject/>
  <dc:title>ICD-10 Plannng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0">
    <vt:lpwstr>Collateral Materials</vt:lpwstr>
  </property>
  <property fmtid="{D5CDD505-2E9C-101B-9397-08002B2CF9AE}" pid="3" name="Owner">
    <vt:lpwstr>10</vt:lpwstr>
  </property>
  <property fmtid="{D5CDD505-2E9C-101B-9397-08002B2CF9AE}" pid="4" name="Status">
    <vt:lpwstr>Draft</vt:lpwstr>
  </property>
</Properties>
</file>