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294813"/>
</p:presentation>
</file>

<file path=ppt/commentAuthors.xml><?xml version="1.0" encoding="utf-8"?>
<p:cmAuthorLst xmlns:p="http://schemas.openxmlformats.org/presentationml/2006/main">
  <p:cmAuthor id="0" name="Trish Bunch" initials="TB"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Relationship Id="rId35" Type="http://schemas.openxmlformats.org/officeDocument/2006/relationships/commentAuthors" Target="commentAuthors.xml"/>
</Relationships>
</file>

<file path=ppt/comments/comment14.xml><?xml version="1.0" encoding="utf-8"?>
<p:cmLst xmlns:p="http://schemas.openxmlformats.org/presentationml/2006/main">
  <p:cm authorId="0" dt="2009-10-28T14:04:42.446000000" idx="1">
    <p:pos x="10" y="10"/>
    <p:text>Trish Bunch	10/28/2009
Stanley, please help on the notes below!  They are incomplete.</p:text>
  </p:cm>
</p:cmLst>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4"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06280" y="696960"/>
            <a:ext cx="464796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297"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8" name="PlaceHolder 5"/>
          <p:cNvSpPr>
            <a:spLocks noGrp="1"/>
          </p:cNvSpPr>
          <p:nvPr>
            <p:ph type="ftr" idx="23"/>
          </p:nvPr>
        </p:nvSpPr>
        <p:spPr>
          <a:xfrm>
            <a:off x="-360" y="882972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3A045AF-A705-4EE0-A12A-D583A41F9F8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B300E9F-8B3C-48D4-9978-CD64EB7428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06640" y="696960"/>
            <a:ext cx="4647960" cy="3486240"/>
          </a:xfrm>
          <a:prstGeom prst="rect">
            <a:avLst/>
          </a:prstGeom>
          <a:ln w="0">
            <a:noFill/>
          </a:ln>
        </p:spPr>
      </p:sp>
      <p:sp>
        <p:nvSpPr>
          <p:cNvPr id="42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Training Segments in the entire program.</a:t>
            </a:r>
            <a:endParaRPr b="0" lang="en-US" sz="1200" spc="-1" strike="noStrike">
              <a:solidFill>
                <a:srgbClr val="000000"/>
              </a:solidFill>
              <a:latin typeface="Calibri"/>
            </a:endParaRPr>
          </a:p>
        </p:txBody>
      </p:sp>
      <p:sp>
        <p:nvSpPr>
          <p:cNvPr id="4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2E2092A-05DA-4C50-A131-71823BE6A9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41066B4-9BD3-44E0-809E-A3020C95F7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06640" y="696960"/>
            <a:ext cx="4647960" cy="3486240"/>
          </a:xfrm>
          <a:prstGeom prst="rect">
            <a:avLst/>
          </a:prstGeom>
          <a:ln w="0">
            <a:noFill/>
          </a:ln>
        </p:spPr>
      </p:sp>
      <p:sp>
        <p:nvSpPr>
          <p:cNvPr id="46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Contractor Communication – For contractors conducting healthcare-related business for the state, communications may involve reference to diagnoses and procedure codes.  There will be a transition period for existing contractors as that communication language is changed to ICD-10 from the existing code struct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 Contractor Outreach – The transition from existing code structures to ICD-10 and all of the changes in related business processes may require special skills and specialized contractors, such as consultants or specific software vendors.  Targeted outreach to these contractors may be necessary to accommodate the need.</a:t>
            </a:r>
            <a:endParaRPr b="0" lang="en-US" sz="1200" spc="-1" strike="noStrike">
              <a:solidFill>
                <a:srgbClr val="000000"/>
              </a:solidFill>
              <a:latin typeface="Calibri"/>
            </a:endParaRPr>
          </a:p>
        </p:txBody>
      </p:sp>
      <p:sp>
        <p:nvSpPr>
          <p:cNvPr id="46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1143FEB-B874-4C5D-93D9-80152F18AF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2081DA8-47EA-4FB4-B142-F4DAC283BE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06640" y="696960"/>
            <a:ext cx="4647960" cy="3486240"/>
          </a:xfrm>
          <a:prstGeom prst="rect">
            <a:avLst/>
          </a:prstGeom>
          <a:ln w="0">
            <a:noFill/>
          </a:ln>
        </p:spPr>
      </p:sp>
      <p:sp>
        <p:nvSpPr>
          <p:cNvPr id="46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rations Management business area deals with the daily operations of the Medicaid Enterprise, such as adjudicating claims and paying for services.  Many of these business processes will be dependent upon the information contained in ICD-10 diagnosis and hospital procedure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horize Referral – In states where referrals to specialists must be authorized, the authorization will be dependent upon the diagnosispresent or the hospital procedure anticipated.  Authorizing entities or contractors must be able to transition to ICD-10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horize Service – Although a referral may not be necessary, some services do require prior authorization.  In some cases, the detail provided by ICD-10 may eliminate the need for some of these prior authorizations as the information received in the diagnosis or procedure code clearly spells the need for the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horize Treatment Plan – Many waiver services require a treatment plan.  Although the treatment plan may detail some social services, such as transportation, that are not healthcare-related; some services within a treatment plan may be diagnosis dependent, such as those authorized for behavioral health.</a:t>
            </a:r>
            <a:endParaRPr b="0" lang="en-US" sz="1200" spc="-1" strike="noStrike">
              <a:solidFill>
                <a:srgbClr val="000000"/>
              </a:solidFill>
              <a:latin typeface="Calibri"/>
            </a:endParaRPr>
          </a:p>
        </p:txBody>
      </p:sp>
      <p:sp>
        <p:nvSpPr>
          <p:cNvPr id="4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9BDFA05-9566-4691-B663-F8898B8475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7671916-6E5F-45BC-885D-A0E6B8468D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06640" y="696960"/>
            <a:ext cx="4647960" cy="3486240"/>
          </a:xfrm>
          <a:prstGeom prst="rect">
            <a:avLst/>
          </a:prstGeom>
          <a:ln w="0">
            <a:noFill/>
          </a:ln>
        </p:spPr>
      </p:sp>
      <p:sp>
        <p:nvSpPr>
          <p:cNvPr id="46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it Claim/Encounter Process – Many decisions will have to be made by the Medicaid Enterprise about how ICD-10 will impact the claim edit process.  Will diagnoses be matched against procedure codes?  Will diagnoses be matched against provider types?  Will diagnoses be matched against prescriptions written?  Each state must develop its own business rules and system edits related to diagnosis and hospital procedure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e Claim/Value Encounter – More complex care may deserve more appropriate payment.  Groupers for hospital inpatient care and for ambulatory payment processes are all significantly dependent upon submitted diagn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t Claim/Encounter – As claims move further through the system, the diagnoses and procedure information may additionally impact audit functions.  Without attention to diagnoses or specific hospital procedures, it will be much more difficult to match care provided through managed care organizations with that supplied by fee-for-service providers to establish a standard of equitable care for Medicaid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e Remittance Advice – Encounter Report – Hospital procedure codes submitted on the claim, as well as DRG payment information, will be used on the remittance advice.   If encounters are not reported on 837 format, then it will be difficult to compare value and payment for similar procedures.</a:t>
            </a:r>
            <a:endParaRPr b="0" lang="en-US" sz="1200" spc="-1" strike="noStrike">
              <a:solidFill>
                <a:srgbClr val="000000"/>
              </a:solidFill>
              <a:latin typeface="Calibri"/>
            </a:endParaRPr>
          </a:p>
        </p:txBody>
      </p:sp>
      <p:sp>
        <p:nvSpPr>
          <p:cNvPr id="4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E2761F8-B18A-494D-90F5-1296A690AF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70E7FC7-80A7-46E7-AD90-6F681CBCD8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06640" y="696960"/>
            <a:ext cx="4647960" cy="3486240"/>
          </a:xfrm>
          <a:prstGeom prst="rect">
            <a:avLst/>
          </a:prstGeom>
          <a:ln w="0">
            <a:noFill/>
          </a:ln>
        </p:spPr>
      </p:sp>
      <p:sp>
        <p:nvSpPr>
          <p:cNvPr id="47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e COB – Coordination of Benefits processes will be impacted by ICD-10 because they must carry the submitted information, as well as the adjudicated information (if completed), to the other payer.  For pay and chase activities, for instance, it may be necessary to assure that submitted hospital procedure codes carry the same meaning if payers resort to crosswalks within their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Payment Information – What was received on the claim, what was adjudicated from the claim, and what was paid are all part of the historical claim record.  Again, crosswalks may cause confusion between what was submitted and what was paid.  Such crosswalks, with many-to-one matches, may also make it difficult to use payment information for other studies, such as care management, program integrity, or monitoring of program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quire Payment Status – ICD-10 hospital procedure code is an optional item for providers to submit to inquire regarding the payment of a claim.  The Medicaid Enterprise must be able to use that data to locate a claim within its system.</a:t>
            </a:r>
            <a:endParaRPr b="0" lang="en-US" sz="1200" spc="-1" strike="noStrike">
              <a:solidFill>
                <a:srgbClr val="000000"/>
              </a:solidFill>
              <a:latin typeface="Calibri"/>
            </a:endParaRPr>
          </a:p>
        </p:txBody>
      </p:sp>
      <p:sp>
        <p:nvSpPr>
          <p:cNvPr id="47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7B7787E-CEB6-4327-B986-D8098049E7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D56F9DF-2C78-45B4-93B5-3E7F93C242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06640" y="696960"/>
            <a:ext cx="4647960" cy="3486240"/>
          </a:xfrm>
          <a:prstGeom prst="rect">
            <a:avLst/>
          </a:prstGeom>
          <a:ln w="0">
            <a:noFill/>
          </a:ln>
        </p:spPr>
      </p:sp>
      <p:sp>
        <p:nvSpPr>
          <p:cNvPr id="47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Recoupment – Medicaid may use specific hospital procedure codes or diagnosis codes to determine that overpayment has occurred and must be recou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Manage Cost Settlement – Most states do not use diagnosis or procedure codes for cost settlement purposes.  If they do, this will be impacted by ICD-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TPL Recovery – ICD-10 hospital procedure codes and diagnosis codes may be used to better manage TPL recoveries.  For example, injury codes  may prompt a Medicaid Enterprise to explore other payers, such as Workers Compensation or automobile liability insurance.</a:t>
            </a:r>
            <a:endParaRPr b="0" lang="en-US" sz="1200" spc="-1" strike="noStrike">
              <a:solidFill>
                <a:srgbClr val="000000"/>
              </a:solidFill>
              <a:latin typeface="Calibri"/>
            </a:endParaRPr>
          </a:p>
        </p:txBody>
      </p:sp>
      <p:sp>
        <p:nvSpPr>
          <p:cNvPr id="4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294BC72-00C8-4909-A2E4-79DD151B4A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58D1A22-3231-4AF6-9F88-B3B638FD36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06640" y="696960"/>
            <a:ext cx="4647960" cy="3486240"/>
          </a:xfrm>
          <a:prstGeom prst="rect">
            <a:avLst/>
          </a:prstGeom>
          <a:ln w="0">
            <a:noFill/>
          </a:ln>
        </p:spPr>
      </p:sp>
      <p:sp>
        <p:nvSpPr>
          <p:cNvPr id="48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am Management business area deals with the business decisions about programs, benefit packages, and payment sources.  ICD-10 will impact these dec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ate Approved Service and Drug Formulary – Because of the extent of the ICD-10 diagnosis and procedure codes, Medicaids will have to review more codes and more detail to determine what services will be part of the program and how they will be managed.  New opportunities may arise to monitor drug utilization against more detailed diagnosis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and Maintain Benefit Package – The detail of ICD-10 enables Medicaids to develop more specific benefit packages that meet the needs of smaller groups of individuals.  For example, diabetes management programs can be tailored to diabetics with eye involvement or diabetics with nerve problems, rather than just diabetics in gene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Rate Setting – Significant program involvement must center around decisions regarding how complications and risks impact the rates paid to providers.  Some states may pay providers an enhanced rate for care of individuals with multiple chronic conditions, which supplies an incentive for providers to treat these patients rather than avoiding them.</a:t>
            </a:r>
            <a:endParaRPr b="0" lang="en-US" sz="1200" spc="-1" strike="noStrike">
              <a:solidFill>
                <a:srgbClr val="000000"/>
              </a:solidFill>
              <a:latin typeface="Calibri"/>
            </a:endParaRPr>
          </a:p>
        </p:txBody>
      </p:sp>
      <p:sp>
        <p:nvSpPr>
          <p:cNvPr id="4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4001520-3B53-4F46-8B91-EB0EC704BC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6BF0889-862E-438B-AA86-A8D1575659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06640" y="696960"/>
            <a:ext cx="4647960" cy="3486240"/>
          </a:xfrm>
          <a:prstGeom prst="rect">
            <a:avLst/>
          </a:prstGeom>
          <a:ln w="0">
            <a:noFill/>
          </a:ln>
        </p:spPr>
      </p:sp>
      <p:sp>
        <p:nvSpPr>
          <p:cNvPr id="48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and Maintain Program Policy – Many types of program policy will be impacted by ICD-10.  Should certain diseases be covered, should risks be assessed and compensated, and should evidence-based standards of care be rewarded?  These policies will require informed leadership and program management invol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State Funds – The coverage of certain diagnoses or procedures with a greater percentage of state funds will also be a program policy decision or may be driven by legislative involvement.</a:t>
            </a:r>
            <a:endParaRPr b="0" lang="en-US" sz="1200" spc="-1" strike="noStrike">
              <a:solidFill>
                <a:srgbClr val="000000"/>
              </a:solidFill>
              <a:latin typeface="Calibri"/>
            </a:endParaRPr>
          </a:p>
        </p:txBody>
      </p:sp>
      <p:sp>
        <p:nvSpPr>
          <p:cNvPr id="48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321B8B6-5FCD-48F7-85B7-3190D41623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ED43AD3-C8E6-426E-BDDA-BE0D709935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06640" y="696960"/>
            <a:ext cx="4647960" cy="3486240"/>
          </a:xfrm>
          <a:prstGeom prst="rect">
            <a:avLst/>
          </a:prstGeom>
          <a:ln w="0">
            <a:noFill/>
          </a:ln>
        </p:spPr>
      </p:sp>
      <p:sp>
        <p:nvSpPr>
          <p:cNvPr id="48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te Financial and Program Analysis Reports – There is no doubt that ICD-10 will afford the Medicaid Enterprise with an opportunity to evaluate programs and costs at a much greater level of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tain Benefits – Reference Information – The reference information file will carry the ICD-10 diagnosis and procedure codes.  Additional references to edits and benefits must be carefully documented, as the intensity of these codes and the opportunities may become overwhel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Program Information – The ICD-10 codes will offer a much greater opportunity to monitor program statistics based upon more detail in diagnosis and hospital-based procedures.</a:t>
            </a:r>
            <a:endParaRPr b="0" lang="en-US" sz="1200" spc="-1" strike="noStrike">
              <a:solidFill>
                <a:srgbClr val="000000"/>
              </a:solidFill>
              <a:latin typeface="Calibri"/>
            </a:endParaRPr>
          </a:p>
        </p:txBody>
      </p:sp>
      <p:sp>
        <p:nvSpPr>
          <p:cNvPr id="4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F9CA268-40E3-4FF6-938D-9EF23B777D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9ACEE91-4162-4FED-8245-159293AAFB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06640" y="696960"/>
            <a:ext cx="4647960" cy="3486240"/>
          </a:xfrm>
          <a:prstGeom prst="rect">
            <a:avLst/>
          </a:prstGeom>
          <a:ln w="0">
            <a:noFill/>
          </a:ln>
        </p:spPr>
      </p:sp>
      <p:sp>
        <p:nvSpPr>
          <p:cNvPr id="49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and Manage Performance Measures and Reporting – ICD-10 will present many opportunities to manage performance of providers, contractors, benefit plans, incentive programs, disease management programs, costs, etc.   The Medicaid Enterprise may develop a number of criteria that more accurately measures performance than the more global codes used curr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itor Performance and Business Activity – Because of the increased data available on claim transactions, ongoing business activity and performance standards can be monitored over short periods or longer periods of time.</a:t>
            </a:r>
            <a:endParaRPr b="0" lang="en-US" sz="1200" spc="-1" strike="noStrike">
              <a:solidFill>
                <a:srgbClr val="000000"/>
              </a:solidFill>
              <a:latin typeface="Calibri"/>
            </a:endParaRPr>
          </a:p>
        </p:txBody>
      </p:sp>
      <p:sp>
        <p:nvSpPr>
          <p:cNvPr id="4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A7D839C-9B35-43AD-BCB1-2BD19D9A99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BC60136-AFFF-42EB-A3ED-A0C1084D5C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06640" y="696960"/>
            <a:ext cx="4647960" cy="3486240"/>
          </a:xfrm>
          <a:prstGeom prst="rect">
            <a:avLst/>
          </a:prstGeom>
          <a:ln w="0">
            <a:noFill/>
          </a:ln>
        </p:spPr>
      </p:sp>
      <p:sp>
        <p:nvSpPr>
          <p:cNvPr id="49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Relationship Management business area deals with relationships that are not necessarily contractual, but that enrich the Medicaid Enterprise.  Such relationships may involve the exchange of health information via electronic health records (EH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 Business Relationships – States are currently working to collaborate with Regional Health Information Organizations (RHIOs) for the exchange of EHRs.  Administrative clinical data as found in ICD-10 diagnoses and procedure codes are a significant piece of that data.  Knowing when a patient was seen, what procedures were performed, and what prescriptions were filled, is very valuable in managing patient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Business Relationships – Part of establishing and participating in these relationships will be the rules that govern how this clinical information is exchanged.  If multiple partners manage ICD-10 differently, the resulting exchange may be impacted.</a:t>
            </a:r>
            <a:endParaRPr b="0" lang="en-US" sz="1200" spc="-1" strike="noStrike">
              <a:solidFill>
                <a:srgbClr val="000000"/>
              </a:solidFill>
              <a:latin typeface="Calibri"/>
            </a:endParaRPr>
          </a:p>
        </p:txBody>
      </p:sp>
      <p:sp>
        <p:nvSpPr>
          <p:cNvPr id="4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D940166-0A07-4148-9B5E-D1CD6E8245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30CFF1F-C7AE-475A-B8F6-AA7D886319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06640" y="696960"/>
            <a:ext cx="4647960" cy="3486240"/>
          </a:xfrm>
          <a:prstGeom prst="rect">
            <a:avLst/>
          </a:prstGeom>
          <a:ln w="0">
            <a:noFill/>
          </a:ln>
        </p:spPr>
      </p:sp>
      <p:sp>
        <p:nvSpPr>
          <p:cNvPr id="42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MITA business processes and all of the MITA business areas will see some impact related to the implementation of ICD-10 diagnoses and hospital procedure codes.  The slides in this segment will elaborate on some of those impacts; however, it must be understood that some impacts will result from decisions made by the state regarding their own ICD-10 implementation.</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2001A3A-D0A6-4291-B5A2-8914E6129F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06640" y="696960"/>
            <a:ext cx="4647960" cy="3486240"/>
          </a:xfrm>
          <a:prstGeom prst="rect">
            <a:avLst/>
          </a:prstGeom>
          <a:ln w="0">
            <a:noFill/>
          </a:ln>
        </p:spPr>
      </p:sp>
      <p:sp>
        <p:nvSpPr>
          <p:cNvPr id="50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inate Business Relationship – Since ICD-10 will be part of data exchanged through business relationships, it must be part of the process for terminating such relationships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Business Relationship Communications – ICD-10 information will often be part of HIE exchanges of health information.</a:t>
            </a:r>
            <a:endParaRPr b="0" lang="en-US" sz="1200" spc="-1" strike="noStrike">
              <a:solidFill>
                <a:srgbClr val="000000"/>
              </a:solidFill>
              <a:latin typeface="Calibri"/>
            </a:endParaRPr>
          </a:p>
        </p:txBody>
      </p:sp>
      <p:sp>
        <p:nvSpPr>
          <p:cNvPr id="5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920EED5-B394-415D-9F8C-FB52886EF1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AAC62F0-2390-4411-9CA0-B40EDB1FC7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06640" y="696960"/>
            <a:ext cx="4647960" cy="3486240"/>
          </a:xfrm>
          <a:prstGeom prst="rect">
            <a:avLst/>
          </a:prstGeom>
          <a:ln w="0">
            <a:noFill/>
          </a:ln>
        </p:spPr>
      </p:sp>
      <p:sp>
        <p:nvSpPr>
          <p:cNvPr id="50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am Integrity Management business area deals with those monitoring processes that maintain the integrity of the Medicaid Program.  They locate potential fraud and abuse and monitor programs to assure that goals of the program are m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Candidate Case – ICD-10 may be used to locate all procedures of a particular type or all diagnoses of a type for review for program integrity.  Edits that may appear as adjudicated claims may indicate a need to look further into specific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Case – Once particular trends are identified, the ICD-10 diagnosis or procedure codes can be used to continue to monitor activity related to particular providers or members. </a:t>
            </a:r>
            <a:endParaRPr b="0" lang="en-US" sz="1200" spc="-1" strike="noStrike">
              <a:solidFill>
                <a:srgbClr val="000000"/>
              </a:solidFill>
              <a:latin typeface="Calibri"/>
            </a:endParaRPr>
          </a:p>
        </p:txBody>
      </p:sp>
      <p:sp>
        <p:nvSpPr>
          <p:cNvPr id="5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CC7AE2B-D734-4431-A106-56E016B077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F23D82C-82E0-4108-850F-289831F9CB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06640" y="696960"/>
            <a:ext cx="4647960" cy="3486240"/>
          </a:xfrm>
          <a:prstGeom prst="rect">
            <a:avLst/>
          </a:prstGeom>
          <a:ln w="0">
            <a:noFill/>
          </a:ln>
        </p:spPr>
      </p:sp>
      <p:sp>
        <p:nvSpPr>
          <p:cNvPr id="50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e Management business area deals with the types of care delivered to Medicaid members and the actions of the state to assure that care is rendered appropri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 Case – ICD-10 enables the Medicaid Enterprise to look for diseases or procedures that warrant additional management.  Many of the chronic diseases or multiple chronic diseases can have far better outcomes if they are managed proper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Case – As chronic disease processes are identified, it is much easier to follow the care provided to these individuals by sorting administrative data by clear and accurate diagnosis and procedure codes available in ICD-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Medicaid Population Health – While individual cases can be identified and managed according to diagnoses or procedures, the larger issue of population health is also better managed with the ability to identify practice patterns and outcomes as they relate to specific diagnoses and procedures.  This data can then be used to formulate Medicaid policy.</a:t>
            </a:r>
            <a:endParaRPr b="0" lang="en-US" sz="1200" spc="-1" strike="noStrike">
              <a:solidFill>
                <a:srgbClr val="000000"/>
              </a:solidFill>
              <a:latin typeface="Calibri"/>
            </a:endParaRPr>
          </a:p>
        </p:txBody>
      </p:sp>
      <p:sp>
        <p:nvSpPr>
          <p:cNvPr id="50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A92563B-4231-417D-A157-8BEC09F056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3B10A43-E706-4BCB-BBA1-A04D915DA1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06640" y="696960"/>
            <a:ext cx="4647960" cy="3486240"/>
          </a:xfrm>
          <a:prstGeom prst="rect">
            <a:avLst/>
          </a:prstGeom>
          <a:ln w="0">
            <a:noFill/>
          </a:ln>
        </p:spPr>
      </p:sp>
      <p:sp>
        <p:nvSpPr>
          <p:cNvPr id="51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Registry – Although many Medicaid Enterprises do not directly manage registries, they may be included in some cases.  ICD-10 diagnosis and procedure codes will be a significant part of any ongoing registry.  The conversion from ICD-9 to ICD-10 may pose some challenges for the aggregation of data across the transition period.</a:t>
            </a:r>
            <a:endParaRPr b="0" lang="en-US" sz="1200" spc="-1" strike="noStrike">
              <a:solidFill>
                <a:srgbClr val="000000"/>
              </a:solidFill>
              <a:latin typeface="Calibri"/>
            </a:endParaRPr>
          </a:p>
        </p:txBody>
      </p:sp>
      <p:sp>
        <p:nvSpPr>
          <p:cNvPr id="5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1AEC709-C231-48C8-A690-8F7AD7D706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2BB7597-10E7-4940-BD8B-DFAE860EBF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06640" y="696960"/>
            <a:ext cx="4647960" cy="3486240"/>
          </a:xfrm>
          <a:prstGeom prst="rect">
            <a:avLst/>
          </a:prstGeom>
          <a:ln w="0">
            <a:noFill/>
          </a:ln>
        </p:spPr>
      </p:sp>
      <p:sp>
        <p:nvSpPr>
          <p:cNvPr id="51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im of MITA is to create a Medicaid program focusing on clients, improving care, and managing costs more effectively.  ICD-10 codes, with their improved identification of diseases and procedures, provide a tool to improve business processes.  Using the information in the codes to its fullest extent will move states toward the aim of MITA.</a:t>
            </a:r>
            <a:endParaRPr b="0" lang="en-US" sz="1200" spc="-1" strike="noStrike">
              <a:solidFill>
                <a:srgbClr val="000000"/>
              </a:solidFill>
              <a:latin typeface="Calibri"/>
            </a:endParaRPr>
          </a:p>
        </p:txBody>
      </p:sp>
      <p:sp>
        <p:nvSpPr>
          <p:cNvPr id="5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0243EC6-6DC0-4D81-8DDB-9619BECADA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F93D6F9-3F8F-461F-9919-82A9ECE221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06640" y="696960"/>
            <a:ext cx="4647960" cy="3486240"/>
          </a:xfrm>
          <a:prstGeom prst="rect">
            <a:avLst/>
          </a:prstGeom>
          <a:ln w="0">
            <a:noFill/>
          </a:ln>
        </p:spPr>
      </p:sp>
      <p:sp>
        <p:nvSpPr>
          <p:cNvPr id="43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TA has established the eight business areas that describe the functioning of Medicaid Enterprises.  In this segment, we will explore each of those business areas and the business processes that are impacted by ICD-10.  Without question, most business processes will be impacted in some manner as Medicaid Enterprises move toward better management of member care.</a:t>
            </a:r>
            <a:endParaRPr b="0" lang="en-US" sz="1200" spc="-1" strike="noStrike">
              <a:solidFill>
                <a:srgbClr val="000000"/>
              </a:solidFill>
              <a:latin typeface="Calibri"/>
            </a:endParaRPr>
          </a:p>
        </p:txBody>
      </p:sp>
      <p:sp>
        <p:nvSpPr>
          <p:cNvPr id="43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F64ECB7-856C-41C9-99F9-5739B8BE61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BBE1C5C-1422-4478-8457-28905CADB3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06640" y="696960"/>
            <a:ext cx="4647960" cy="3486240"/>
          </a:xfrm>
          <a:prstGeom prst="rect">
            <a:avLst/>
          </a:prstGeom>
          <a:ln w="0">
            <a:noFill/>
          </a:ln>
        </p:spPr>
      </p:sp>
      <p:sp>
        <p:nvSpPr>
          <p:cNvPr id="43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MITA Business Areas.  In the following slides, we will discuss impacts on business processes within each of these business areas.</a:t>
            </a:r>
            <a:endParaRPr b="0" lang="en-US" sz="1200" spc="-1" strike="noStrike">
              <a:solidFill>
                <a:srgbClr val="000000"/>
              </a:solidFill>
              <a:latin typeface="Calibri"/>
            </a:endParaRPr>
          </a:p>
        </p:txBody>
      </p:sp>
      <p:sp>
        <p:nvSpPr>
          <p:cNvPr id="4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D605398-08F7-40D3-98E2-ABDEBE118D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9F2362D-9830-485A-A2A6-4FFE9AF96B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06640" y="696960"/>
            <a:ext cx="4647960" cy="3486240"/>
          </a:xfrm>
          <a:prstGeom prst="rect">
            <a:avLst/>
          </a:prstGeom>
          <a:ln w="0">
            <a:noFill/>
          </a:ln>
        </p:spPr>
      </p:sp>
      <p:sp>
        <p:nvSpPr>
          <p:cNvPr id="44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 Management involves decisions made regarding eligibility for Medicaid and specific enrollment in Medicaid programs.  Without question, many of these decisions are related to diagnoses or conditions of the member.  In the next two slides, we will discuss the specific impacts on the business processes within this business ar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Eligibility – While much of the eligibility determination stems from income and resource issues, some decisions are directly as a result of diagnoses.  For example, many states have disability programs for which the member must qualify by conditions evaluated by a health professional.  Still other programs, such as mental health or specific types of cancer may have different income eligibility criteria, but are reliant on diagnoses to establish the primary eligibility crite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roll Member – In some states, members are enrolled into separate waiver programs or benefit packages based on presenting diagnosis.  For example, the benefit package for a pregnant woman may be different from the same benefit package if she were not pregn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enroll Member – For the same reasons that a particular diagnosis might enroll a member in a benefit package, it is as likely that a change in that diagnosis might disenroll the same member.  A pregnant woman will no longer qualify for the same benefits once she has delivered.  Cancer patients may no longer qualify for a specific cancer treatment benefit once their cancer is in re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quire Member Eligibility – While most states can return an X12 271 response to an eligibility inquiry, they often provide only the minimum information.  Thus, providers may need to call to confirm the existence of certain benefits.  ICD-10 will enable the payer to send additional information about benefit packages so that it can reduce the number of phone calls for eligibility inquiries.</a:t>
            </a:r>
            <a:endParaRPr b="0" lang="en-US" sz="1200" spc="-1" strike="noStrike">
              <a:solidFill>
                <a:srgbClr val="000000"/>
              </a:solidFill>
              <a:latin typeface="Calibri"/>
            </a:endParaRPr>
          </a:p>
        </p:txBody>
      </p:sp>
      <p:sp>
        <p:nvSpPr>
          <p:cNvPr id="4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EB58C73-91D6-4AFD-BDBC-7C9A240E9A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BAFFBBC-C9A2-4FFA-9B48-83F780E8E4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06640" y="696960"/>
            <a:ext cx="4647960" cy="3486240"/>
          </a:xfrm>
          <a:prstGeom prst="rect">
            <a:avLst/>
          </a:prstGeom>
          <a:ln w="0">
            <a:noFill/>
          </a:ln>
        </p:spPr>
      </p:sp>
      <p:sp>
        <p:nvSpPr>
          <p:cNvPr id="44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Member Information – Once diagnosis information has been obtained to design specific benefit packages or to place members in programs, that information may be kept in the member file.  If the information is stored as ICD-10, it becomes possible to search member files to aggregate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 Population and Member Outreach – Again, the ability to store diagnosis information enables the Medicaid Enterprise to perform outreach to specific populations to improve the care delivery.</a:t>
            </a:r>
            <a:endParaRPr b="0" lang="en-US" sz="1200" spc="-1" strike="noStrike">
              <a:solidFill>
                <a:srgbClr val="000000"/>
              </a:solidFill>
              <a:latin typeface="Calibri"/>
            </a:endParaRPr>
          </a:p>
        </p:txBody>
      </p:sp>
      <p:sp>
        <p:nvSpPr>
          <p:cNvPr id="4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553666A-1290-42BA-8E34-B7DC6EE6C8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1546314-DFAF-42C4-8A77-245497D4A8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06640" y="696960"/>
            <a:ext cx="4647960" cy="3486240"/>
          </a:xfrm>
          <a:prstGeom prst="rect">
            <a:avLst/>
          </a:prstGeom>
          <a:ln w="0">
            <a:noFill/>
          </a:ln>
        </p:spPr>
      </p:sp>
      <p:sp>
        <p:nvSpPr>
          <p:cNvPr id="44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vider Management business area deals with the establishment and maintenance of a provider network to serve the Medicaid population.  ICD-10 diagnoses and hospital procedure codes may impact those netwo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roll Provider – As providers enroll in Medicaid with specialty/taxonomy, it is possible that they could be limited in some way to treatment of the diseases that fit within their specialty.  If the diseases they treat fall outside of their specialty, this could be a program integrity issue.  As some providers limit their own practice (e.g., OB/GYN providers quit delivering babies), those diagnoses could be removed from the provider prof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Provider Communication – Based upon a provider profile, specific communications could be targeted to providers related to specific diseases identified by ICD-10.  For example, the state might use the decision support system to look up all cases of diabetes with eye problems because there are new evidence-based guidelines for treatment.  It then might target specific communications to providers with specialties, such as family practice, endocrinology, internal medicine, and ophthalmology.</a:t>
            </a:r>
            <a:endParaRPr b="0" lang="en-US" sz="1200" spc="-1" strike="noStrike">
              <a:solidFill>
                <a:srgbClr val="000000"/>
              </a:solidFill>
              <a:latin typeface="Calibri"/>
            </a:endParaRPr>
          </a:p>
        </p:txBody>
      </p:sp>
      <p:sp>
        <p:nvSpPr>
          <p:cNvPr id="4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5947A61-5065-4422-A864-37EB9D65EC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691CF6A-0844-4BB4-B5F3-C367EF8F09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06640" y="696960"/>
            <a:ext cx="4647960" cy="3486240"/>
          </a:xfrm>
          <a:prstGeom prst="rect">
            <a:avLst/>
          </a:prstGeom>
          <a:ln w="0">
            <a:noFill/>
          </a:ln>
        </p:spPr>
      </p:sp>
      <p:sp>
        <p:nvSpPr>
          <p:cNvPr id="45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Provider Information – If providers are in any restricted or permitted-to-perform services based on diagnoses, then that information must be carried in some form along with other provider information.  States can choose whether any limitations are related to categories of diagnoses or primary diagnosis, or other variations of that process.  Any of these decisions will be impacted by ICD-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Provider Grievance and Appeal – As more states are developing performance-based or risk-based payment processes, it is likely that providers will expect to be compensated differently for assuming care of higher-risk clients with multiple chronic conditions.  States will need to define these processes carefully, but may expect an increase in provider grievances.  Grievances will likely be based on multiple diagnoses supplied by the provider to document the risks associated with this client.</a:t>
            </a:r>
            <a:endParaRPr b="0" lang="en-US" sz="1200" spc="-1" strike="noStrike">
              <a:solidFill>
                <a:srgbClr val="000000"/>
              </a:solidFill>
              <a:latin typeface="Calibri"/>
            </a:endParaRPr>
          </a:p>
        </p:txBody>
      </p:sp>
      <p:sp>
        <p:nvSpPr>
          <p:cNvPr id="4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69AF0EF-1457-4045-A9F0-B710CF270F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1331003-AB56-467A-8E79-99BE7E9DA8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06640" y="696960"/>
            <a:ext cx="4647960" cy="3486240"/>
          </a:xfrm>
          <a:prstGeom prst="rect">
            <a:avLst/>
          </a:prstGeom>
          <a:ln w="0">
            <a:noFill/>
          </a:ln>
        </p:spPr>
      </p:sp>
      <p:sp>
        <p:nvSpPr>
          <p:cNvPr id="45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ractor Management business area deals with the various types of administrative and health services contracts necessary for a State Medicaid Enterprise to conduct its business.  ICD-10 will necessarily become part of the expectations of some of those contract relation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dministrative or Health Services RFP – States will produce a significant number of RFPs in the next few years.  Many of these will be for contractors who will deal with the management of health information, such as prior authorization, quality assurance, fiscal agent, etc.  The contractor’s management of ICD-10 diagnoses and inpatient procedures must match the decisions made by the state and must be clearly spelled out in the RFP.  Some particularly sensitive contracts, such as for a fiscal agent, may need to require specific skill sets for code set expertise within the contract personn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Administrative or Health Services Contracts – As ICD–10 expectations are spelled out in RFPs, that language must be continued in the contract.  Such expectations may include the requirement to receive ICD-10 as submitted or convert through a crosswalk process, may detail expectations of how many diagnosis or procedure codes must be received and processed, and may include how such information is exchanged with the state and its systems.</a:t>
            </a:r>
            <a:endParaRPr b="0" lang="en-US" sz="1200" spc="-1" strike="noStrike">
              <a:solidFill>
                <a:srgbClr val="000000"/>
              </a:solidFill>
              <a:latin typeface="Calibri"/>
            </a:endParaRPr>
          </a:p>
        </p:txBody>
      </p:sp>
      <p:sp>
        <p:nvSpPr>
          <p:cNvPr id="4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4C0ED59-3AFD-48FE-8349-86FF9BA51F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FBED8-A85C-4E9A-8B5D-D2FA0D7DA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C1877-5C9D-4080-85A9-DDA1F9227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52342-0D7E-4E46-BAD4-B627D152B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1F124-0BFF-47E2-BC42-5143611DF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FB52C-6406-49C2-BD85-0935D401F2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0542F-8565-4B23-9C22-666B8264C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FA3DF-5760-441B-A4FF-C29305EBC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3FEE2-F00D-4640-A2EC-52FB5D4CD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E9356-AD19-4E21-B9EF-827928CD8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2358C-F3E3-401A-B37C-D5CDE60D6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ABCF0-6CEB-42DF-AE5E-CA30BFA58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A576D-F758-41B1-BB9F-F62F7295B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7BDEB-A1B4-4957-B6A5-C97546381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2A275-869A-4D87-82A3-B0B3C2E19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8E8D2-90D7-49A7-956C-B15967094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EB996C-0876-4873-82AE-8B69696201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F34634-A41D-4634-AD82-D22B542AD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F97759-6AF2-43E9-A288-2B1E7DFA8D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76CE90-F11F-4544-94F5-ADB221CB52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AFD38C-F14C-4109-B079-C07C912982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516297-4E13-4E1B-A91B-1A5A7810AB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6888C7-6ACA-417B-8EB6-D3FE0763C5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8BA49-6AAF-4FA0-A0DF-BC75B1D31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C4B288-2330-4507-81E7-BCCEB84118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D6AAAD-BF36-4299-AE09-D73CA1D1B6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94E0E3-9A3E-4851-8A32-0E4E2D532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29F861-4A1E-49B6-8E56-10D9FA3AEB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100E50-F367-4BF8-AB9C-99E1FD3ADB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5ECEDE-DE44-4FBF-A245-0C5DFDA220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781C4A-D521-49AB-90D6-746BF28D3B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03D9DD-2896-4AC8-8515-7293FBEF79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99D342-5CAC-4C15-9ED0-9FE9FD0C0C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916161-1079-4B62-A70F-25EC228CD3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B7B9B-5E00-4E44-BA2C-A80E88A8A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ECB141-E5AA-4864-8BEE-73B925EB1E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F77848-F318-4E26-BB1E-930DC89F0A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593E7D-1512-4EA9-8A9C-8A6ADC7EDB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25D600-F900-45FF-8BD1-8DEA455A9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2F2604-FA49-4D33-AB0E-0B21E592C8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670ECC-5FCC-48A3-8F2B-3E425325EE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AAB58A-701B-4062-B672-87F6CB9F27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70BF54-52BF-4C3B-9959-4D30FCB13B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6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3303BF-47B6-4326-83CA-B2227C7590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7316A5-E2F6-4D90-9DC2-BB96176E83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E192D-F592-46DC-B86E-4C0DC7312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1070DF-20AE-4494-BCB4-E1245F6696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CB0BC1-4518-400C-A1B9-7C773E1697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D5394F-DBD1-44F9-A7E8-2ED4CBA99E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CE8988-B12C-4F44-83F0-CDDA6BA4E3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966BD2-6F53-4E76-B7AA-C250457864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83DD8E-B3B4-4430-B070-E35D4D16A8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527912-7B1B-43B3-9FE9-1628D09F43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F3DA98-89FC-4BB3-B075-B1CE1CC156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2C8D64-B2ED-4313-8C29-14AAB68045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6F63AE-590F-4DD1-AF8E-27E0FC2863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8AC13-9E8A-47F3-AFF7-6750CC412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0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C9AF5D-6566-44DC-856B-F50C5828CE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286004-E7D4-404E-A3C2-FA74DEC691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2E9772-A94D-4857-852C-1A5ADECB79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C9B5BF-26CC-46F5-BA64-54AABCD4E7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AF4814-DB44-4D94-BCFB-C07AED315C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E6F235-B1E1-4549-83B4-0C6BC425D0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F0AB2B-47BD-40B0-811D-3FFE0D7C1D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9E2DAD-EBC1-4336-BB52-19B538D578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C79D11-D8BB-453E-A482-553C3069F6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8E1634-173E-4658-AB19-0439B970B0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E4009-A644-4A8A-9E1B-6BE681340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8EF632-63C7-44EB-B958-4D58BAAE53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9B2EEB-C954-4C3D-8E5E-F483FA399A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204692-1967-4018-8816-33CB1CD071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0C7EAA-6EAB-4AB8-BF10-E113DE6417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58"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F8D1C7-5F3D-4B9E-A41A-69B023C6DB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0"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55071A-7621-4D33-9EF2-08E1123C71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5EC346-FB3E-4467-BD4A-6451FED5A8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9D1A9E-8CCA-4D52-995B-E9745EFF0A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26AC3D-6A42-41EC-88AF-9FD3EDD5F7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48F252-5E39-42F7-9CDF-722AC1C79C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825AF-0C66-49B6-9ADE-C3E36D264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5E9D51-FDBB-42D7-9144-291956AB5C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B04FBF-2173-48DE-9692-C39EBD025C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9"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6FBD74-3C32-412C-B1B1-3F603E1619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2B577A-4F36-4ABD-95BF-04CE4D57AA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7"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966C25-836A-4FE9-9935-A2E9266710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10E4E-76A4-4019-9087-A78CE271F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3" name="Picture 8" descr="CMS_logo"/>
          <p:cNvPicPr/>
          <p:nvPr/>
        </p:nvPicPr>
        <p:blipFill>
          <a:blip r:embed="rId2"/>
          <a:stretch/>
        </p:blipFill>
        <p:spPr>
          <a:xfrm>
            <a:off x="152280" y="152280"/>
            <a:ext cx="1976400" cy="735120"/>
          </a:xfrm>
          <a:prstGeom prst="rect">
            <a:avLst/>
          </a:prstGeom>
          <a:ln w="0">
            <a:noFill/>
          </a:ln>
        </p:spPr>
      </p:pic>
      <p:pic>
        <p:nvPicPr>
          <p:cNvPr id="4" name="Picture 5" descr="HHS"/>
          <p:cNvPicPr/>
          <p:nvPr/>
        </p:nvPicPr>
        <p:blipFill>
          <a:blip r:embed="rId3"/>
          <a:stretch/>
        </p:blipFill>
        <p:spPr>
          <a:xfrm>
            <a:off x="8077320" y="152280"/>
            <a:ext cx="685800" cy="682920"/>
          </a:xfrm>
          <a:prstGeom prst="rect">
            <a:avLst/>
          </a:prstGeom>
          <a:ln w="0">
            <a:noFill/>
          </a:ln>
        </p:spPr>
      </p:pic>
      <p:sp>
        <p:nvSpPr>
          <p:cNvPr id="5" name="PlaceHolder 3"/>
          <p:cNvSpPr>
            <a:spLocks noGrp="1"/>
          </p:cNvSpPr>
          <p:nvPr>
            <p:ph type="dt" idx="1"/>
          </p:nvPr>
        </p:nvSpPr>
        <p:spPr>
          <a:xfrm>
            <a:off x="746748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7C22-F085-46AD-A9A8-72BC3A9949B0}"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343040" y="6476760"/>
            <a:ext cx="28954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C40D-2290-41CE-AF25-9AE41759E600}"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FA56C-0CF5-4B71-B44C-A00661404C92}"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7 - Impact on MITA BPSegment 3 - Benefits of Using ICD-10</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F60A-88A6-40D2-99C1-47965EFFDB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F8E7-B2C0-47DF-B7E8-627F4C0EEAB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7 - Impact on MITA BPSegment 3 - Benefits of Using ICD-10</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4BA3-EC45-4141-B628-D211DDA883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336B-32AA-46C6-BE69-1DED57ED49A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7 - Impact on MITA BPSegment 3 - Benefits of Using ICD-10</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7ECCA-D0D8-42FD-B8D5-37F8745EBD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8D96C-1EC3-4746-92E5-67E090552898}"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7 - Impact on MITA BPSegment 3 - Benefits of Using ICD-10</a:t>
            </a:r>
            <a:endParaRPr b="0" lang="en-US" sz="1200" spc="-1" strike="noStrike">
              <a:solidFill>
                <a:srgbClr val="000000"/>
              </a:solidFill>
              <a:latin typeface="Times New Roman"/>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F78A8-AF44-4C58-959F-5619B88E42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D699-0405-4AA8-B93D-00C78C33CC71}"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7 - Impact on MITA BPSegment 3 - Benefits of Using ICD-10</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E57B3-0C7C-454D-87D5-36A28583BE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250" name="Picture 8" descr="CMS_logo"/>
          <p:cNvPicPr/>
          <p:nvPr/>
        </p:nvPicPr>
        <p:blipFill>
          <a:blip r:embed="rId2"/>
          <a:stretch/>
        </p:blipFill>
        <p:spPr>
          <a:xfrm>
            <a:off x="152280" y="152280"/>
            <a:ext cx="1976400" cy="735120"/>
          </a:xfrm>
          <a:prstGeom prst="rect">
            <a:avLst/>
          </a:prstGeom>
          <a:ln w="0">
            <a:noFill/>
          </a:ln>
        </p:spPr>
      </p:pic>
      <p:pic>
        <p:nvPicPr>
          <p:cNvPr id="251" name="Picture 5" descr="HHS"/>
          <p:cNvPicPr/>
          <p:nvPr/>
        </p:nvPicPr>
        <p:blipFill>
          <a:blip r:embed="rId3"/>
          <a:stretch/>
        </p:blipFill>
        <p:spPr>
          <a:xfrm>
            <a:off x="8077320" y="152280"/>
            <a:ext cx="685800" cy="682920"/>
          </a:xfrm>
          <a:prstGeom prst="rect">
            <a:avLst/>
          </a:prstGeom>
          <a:ln w="0">
            <a:noFill/>
          </a:ln>
        </p:spPr>
      </p:pic>
      <p:sp>
        <p:nvSpPr>
          <p:cNvPr id="2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253"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54" name="PlaceHolder 3"/>
          <p:cNvSpPr>
            <a:spLocks noGrp="1"/>
          </p:cNvSpPr>
          <p:nvPr>
            <p:ph type="dt" idx="19"/>
          </p:nvPr>
        </p:nvSpPr>
        <p:spPr>
          <a:xfrm>
            <a:off x="7314840" y="6476760"/>
            <a:ext cx="10666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A3F2-4252-4321-ABD5-3CAEF4725698}"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255" name="PlaceHolder 4"/>
          <p:cNvSpPr>
            <a:spLocks noGrp="1"/>
          </p:cNvSpPr>
          <p:nvPr>
            <p:ph type="ftr" idx="20"/>
          </p:nvPr>
        </p:nvSpPr>
        <p:spPr>
          <a:xfrm>
            <a:off x="4343040" y="6476760"/>
            <a:ext cx="28954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Times New Roman"/>
            </a:endParaRPr>
          </a:p>
        </p:txBody>
      </p:sp>
      <p:sp>
        <p:nvSpPr>
          <p:cNvPr id="256" name="PlaceHolder 5"/>
          <p:cNvSpPr>
            <a:spLocks noGrp="1"/>
          </p:cNvSpPr>
          <p:nvPr>
            <p:ph type="sldNum" idx="21"/>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8171-1BDA-42F3-AAEA-CF99A9109406}"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comments" Target="../comments/commen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FC5D8-C8FF-4A44-BD2A-5191165CCB54}"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01"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02"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E4B15-1CE9-4F70-A455-E78A6C2E0E4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3" name="Rectangle 3"/>
          <p:cNvSpPr/>
          <p:nvPr/>
        </p:nvSpPr>
        <p:spPr>
          <a:xfrm>
            <a:off x="4572000" y="4191120"/>
            <a:ext cx="411480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7</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Verdana"/>
              </a:rPr>
              <a:t>Impact on MITA Business Processes</a:t>
            </a:r>
            <a:endParaRPr b="0" lang="en-US" sz="2800" spc="-1" strike="noStrike">
              <a:solidFill>
                <a:srgbClr val="000000"/>
              </a:solidFill>
              <a:latin typeface="Arial"/>
            </a:endParaRPr>
          </a:p>
        </p:txBody>
      </p:sp>
      <p:sp>
        <p:nvSpPr>
          <p:cNvPr id="304"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305" name="Rectangle 6"/>
          <p:cNvSpPr/>
          <p:nvPr/>
        </p:nvSpPr>
        <p:spPr>
          <a:xfrm>
            <a:off x="403848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504d"/>
                </a:solidFill>
                <a:uFillTx/>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
        <p:nvSpPr>
          <p:cNvPr id="307" name="TextBox 10"/>
          <p:cNvSpPr/>
          <p:nvPr/>
        </p:nvSpPr>
        <p:spPr>
          <a:xfrm>
            <a:off x="4191120" y="1141560"/>
            <a:ext cx="472428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ICD-10 Planning and 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FBCE-25E0-4ACF-91B0-2626927B6FBB}"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4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5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AD91-540D-4AA4-A705-7B126BAC5A8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1" name=""/>
          <p:cNvSpPr txBox="1"/>
          <p:nvPr/>
        </p:nvSpPr>
        <p:spPr>
          <a:xfrm>
            <a:off x="457200" y="190476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Contractor Communication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munications between the state and the contractor may include ICD-10 referenc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 Contractor Outreach</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As states pursue their response to and implementation of ICD-10, they may need to outreach to contractors with demonstrated expertise in managing the ICD-10 transition</a:t>
            </a:r>
            <a:endParaRPr b="0" lang="en-US" sz="2200" spc="-1" strike="noStrike">
              <a:solidFill>
                <a:srgbClr val="000000"/>
              </a:solidFill>
              <a:latin typeface="Verdana"/>
            </a:endParaRPr>
          </a:p>
        </p:txBody>
      </p:sp>
      <p:sp>
        <p:nvSpPr>
          <p:cNvPr id="352"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Contractor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7133-F729-4E31-A676-D6BA6115D7F1}"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5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5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26414-CA86-4422-A1BF-4405BA84EA0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6" name=""/>
          <p:cNvSpPr txBox="1"/>
          <p:nvPr/>
        </p:nvSpPr>
        <p:spPr>
          <a:xfrm>
            <a:off x="457200" y="1752120"/>
            <a:ext cx="8229600" cy="4343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horize Referral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may be used to create an authorization process to refer to a specialist depending upon the diagnosi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horize Service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agnosis codes will be involved in any prior authorization (PA) process and are used to determine medical necessity and appropriateness of service </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horize Treatment Plan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eatment plans will be created for specific diagnoses or multiple diagnoses</a:t>
            </a:r>
            <a:endParaRPr b="0" lang="en-US" sz="2200" spc="-1" strike="noStrike">
              <a:solidFill>
                <a:srgbClr val="000000"/>
              </a:solidFill>
              <a:latin typeface="Verdana"/>
            </a:endParaRPr>
          </a:p>
        </p:txBody>
      </p:sp>
      <p:sp>
        <p:nvSpPr>
          <p:cNvPr id="357"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Operations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C83BC-42DC-462C-B7EA-8D2E7EC46A34}"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5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6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6474-3627-4584-8C73-56EAF7F68D0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61" name=""/>
          <p:cNvSpPr txBox="1"/>
          <p:nvPr/>
        </p:nvSpPr>
        <p:spPr>
          <a:xfrm>
            <a:off x="457200" y="1676520"/>
            <a:ext cx="8229600" cy="441936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dit Claim</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counter Process – ICD-10 will be used to develop and implement claim edits</a:t>
            </a:r>
            <a:endParaRPr b="0" lang="en-US" sz="18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ce Claim</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alue Encounter – ICD-10 will be used to price or risk adjust claims based on diagnosis or hospital procedure codes or to improve grouper capabilities</a:t>
            </a:r>
            <a:endParaRPr b="0" lang="en-US" sz="18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dit Claim-Encounter </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CD-10 will be used to apply further audits after initial editing of claims or encounters</a:t>
            </a:r>
            <a:endParaRPr b="0" lang="en-US" sz="18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pare Remittance Advice</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counter Report –ICD-10 procedure codes will be used on the 5010 remittance advice for hospital inpatient procedures and DRG determination</a:t>
            </a:r>
            <a:endParaRPr b="0" lang="en-US" sz="1800" spc="-1" strike="noStrike">
              <a:solidFill>
                <a:srgbClr val="000000"/>
              </a:solidFill>
              <a:latin typeface="Verdana"/>
            </a:endParaRPr>
          </a:p>
        </p:txBody>
      </p:sp>
      <p:sp>
        <p:nvSpPr>
          <p:cNvPr id="362"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Operations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D305-F082-4B82-8F87-C942DC579198}"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6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6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763AD-B7EC-47CE-BC36-5B72D1BF206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66" name=""/>
          <p:cNvSpPr txBox="1"/>
          <p:nvPr/>
        </p:nvSpPr>
        <p:spPr>
          <a:xfrm>
            <a:off x="457200" y="17521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pare COB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diagnosis or procedure codes may be used to determine what claims to pull and submit for COB activiti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Payment Information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cedure and diagnosis code information is part of claim record information in histor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quire Payment Status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rs may inquire on claims by diagnosis code and the information on status must be returned</a:t>
            </a:r>
            <a:endParaRPr b="0" lang="en-US" sz="2200" spc="-1" strike="noStrike">
              <a:solidFill>
                <a:srgbClr val="000000"/>
              </a:solidFill>
              <a:latin typeface="Verdana"/>
            </a:endParaRPr>
          </a:p>
        </p:txBody>
      </p:sp>
      <p:sp>
        <p:nvSpPr>
          <p:cNvPr id="367"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Operations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7203-FBB6-40A8-A117-16580174CE0B}"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6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7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5B01-9384-4001-BA36-E625AC44076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71" name=""/>
          <p:cNvSpPr txBox="1"/>
          <p:nvPr/>
        </p:nvSpPr>
        <p:spPr>
          <a:xfrm>
            <a:off x="457200" y="1904760"/>
            <a:ext cx="8229600" cy="34290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Recoupment – Hospital procedure code and diagnosis code information may be used in the determination of an overpay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Cost Settlement – Diagnosis and procedure codes may be included as data related to cost settlement process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TPL Recovery – ICD-10 hospital procedure codes and diagnosis codes may be used to determine what claims to pull for TPL recoveries</a:t>
            </a:r>
            <a:endParaRPr b="0" lang="en-US" sz="2200" spc="-1" strike="noStrike">
              <a:solidFill>
                <a:srgbClr val="000000"/>
              </a:solidFill>
              <a:latin typeface="Verdana"/>
            </a:endParaRPr>
          </a:p>
        </p:txBody>
      </p:sp>
      <p:sp>
        <p:nvSpPr>
          <p:cNvPr id="372"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Operations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CFDC-4CF3-457B-AC2C-73AE0E4F0212}"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7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7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2309-D246-41B2-AA7B-9A487AEA14F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76" name=""/>
          <p:cNvSpPr txBox="1"/>
          <p:nvPr/>
        </p:nvSpPr>
        <p:spPr>
          <a:xfrm>
            <a:off x="457200" y="1905120"/>
            <a:ext cx="8229600" cy="40384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signate Approved Service and Drug Formulary – ICD-10 diagnosis and procedure codes will help determine what services are approved and what drugs may be necessary to treat such condition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velop and Maintain Benefit Package – Benefit packages may be designed around specific diagnoses or conditions represented by ICD-10 code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 Rate Setting – Rates for inpatient hospital procedures will be set by ICD-10 procedure codes.  Rates for other procedures will be altered by complications or risk factors indicated by diagnoses</a:t>
            </a:r>
            <a:endParaRPr b="0" lang="en-US" sz="2100" spc="-1" strike="noStrike">
              <a:solidFill>
                <a:srgbClr val="000000"/>
              </a:solidFill>
              <a:latin typeface="Verdana"/>
            </a:endParaRPr>
          </a:p>
        </p:txBody>
      </p:sp>
      <p:sp>
        <p:nvSpPr>
          <p:cNvPr id="377"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Program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7947-A4DB-4280-A94B-8FAE3D3C0EE2}"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7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8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D5DA4-C5BB-47E5-89E6-9401A9CF175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81" name=""/>
          <p:cNvSpPr txBox="1"/>
          <p:nvPr/>
        </p:nvSpPr>
        <p:spPr>
          <a:xfrm>
            <a:off x="457200" y="1828800"/>
            <a:ext cx="8229600" cy="36576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velop and Maintain Program Policy </a:t>
            </a:r>
            <a:r>
              <a:rPr b="0" lang="en-US" sz="2000" spc="-1" strike="noStrike">
                <a:solidFill>
                  <a:srgbClr val="000000"/>
                </a:solidFill>
                <a:latin typeface="Verdana"/>
              </a:rPr>
              <a:t>–</a:t>
            </a:r>
            <a:r>
              <a:rPr b="0" lang="en-US" sz="2200" spc="-1" strike="noStrike">
                <a:solidFill>
                  <a:srgbClr val="000000"/>
                </a:solidFill>
                <a:latin typeface="Verdana"/>
              </a:rPr>
              <a:t> Procedure code and diagnosis codes are used in the analysis necessary to determine and maintain program policies.  They may also be used in specific cases, such as Pay for Performance (P4P), also established in program polic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State Funds </a:t>
            </a:r>
            <a:r>
              <a:rPr b="0" lang="en-US" sz="2000" spc="-1" strike="noStrike">
                <a:solidFill>
                  <a:srgbClr val="000000"/>
                </a:solidFill>
                <a:latin typeface="Verdana"/>
              </a:rPr>
              <a:t>–</a:t>
            </a:r>
            <a:r>
              <a:rPr b="0" lang="en-US" sz="2200" spc="-1" strike="noStrike">
                <a:solidFill>
                  <a:srgbClr val="000000"/>
                </a:solidFill>
                <a:latin typeface="Verdana"/>
              </a:rPr>
              <a:t> A variety of programs may be funded to a greater extent by state funds depending on the diagnosis, e.g., breast / cervical / prostate cancer programs or behavioral health programs</a:t>
            </a:r>
            <a:endParaRPr b="0" lang="en-US" sz="2200" spc="-1" strike="noStrike">
              <a:solidFill>
                <a:srgbClr val="000000"/>
              </a:solidFill>
              <a:latin typeface="Verdana"/>
            </a:endParaRPr>
          </a:p>
        </p:txBody>
      </p:sp>
      <p:sp>
        <p:nvSpPr>
          <p:cNvPr id="382"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Program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FF04-CF66-4B34-A612-B431EA6BF976}"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8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8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7F89F-6DB4-4B29-A0CE-479D17BAD25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86" name=""/>
          <p:cNvSpPr txBox="1"/>
          <p:nvPr/>
        </p:nvSpPr>
        <p:spPr>
          <a:xfrm>
            <a:off x="457200" y="182844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Financial and Program Analysis Reports </a:t>
            </a:r>
            <a:r>
              <a:rPr b="0" lang="en-US" sz="2000" spc="-1" strike="noStrike">
                <a:solidFill>
                  <a:srgbClr val="000000"/>
                </a:solidFill>
                <a:latin typeface="Verdana"/>
              </a:rPr>
              <a:t>–</a:t>
            </a:r>
            <a:r>
              <a:rPr b="0" lang="en-US" sz="2200" spc="-1" strike="noStrike">
                <a:solidFill>
                  <a:srgbClr val="000000"/>
                </a:solidFill>
                <a:latin typeface="Verdana"/>
              </a:rPr>
              <a:t> Many program analysis reports may be generated based on the diagnoses of the beneficiary.  Financial reports may differentiate types of payment for certain disease based program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ain Benefits – Reference Information </a:t>
            </a:r>
            <a:r>
              <a:rPr b="0" lang="en-US" sz="2000" spc="-1" strike="noStrike">
                <a:solidFill>
                  <a:srgbClr val="000000"/>
                </a:solidFill>
                <a:latin typeface="Verdana"/>
              </a:rPr>
              <a:t>–</a:t>
            </a:r>
            <a:r>
              <a:rPr b="0" lang="en-US" sz="2200" spc="-1" strike="noStrike">
                <a:solidFill>
                  <a:srgbClr val="000000"/>
                </a:solidFill>
                <a:latin typeface="Verdana"/>
              </a:rPr>
              <a:t> Procedure code and diagnosis codes are carried within the reference information</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Program Information </a:t>
            </a:r>
            <a:r>
              <a:rPr b="0" lang="en-US" sz="2000" spc="-1" strike="noStrike">
                <a:solidFill>
                  <a:srgbClr val="000000"/>
                </a:solidFill>
                <a:latin typeface="Verdana"/>
              </a:rPr>
              <a:t>–</a:t>
            </a:r>
            <a:r>
              <a:rPr b="0" lang="en-US" sz="2200" spc="-1" strike="noStrike">
                <a:solidFill>
                  <a:srgbClr val="000000"/>
                </a:solidFill>
                <a:latin typeface="Verdana"/>
              </a:rPr>
              <a:t> Program statistics may be developed or monitored based on member conditions or diagnoses</a:t>
            </a:r>
            <a:endParaRPr b="0" lang="en-US" sz="2200" spc="-1" strike="noStrike">
              <a:solidFill>
                <a:srgbClr val="000000"/>
              </a:solidFill>
              <a:latin typeface="Verdana"/>
            </a:endParaRPr>
          </a:p>
        </p:txBody>
      </p:sp>
      <p:sp>
        <p:nvSpPr>
          <p:cNvPr id="387"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Program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5581-C248-407D-8793-3FFDBAE54DFA}"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8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9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9E0A-8144-4214-8669-418000F0D79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91" name=""/>
          <p:cNvSpPr txBox="1"/>
          <p:nvPr/>
        </p:nvSpPr>
        <p:spPr>
          <a:xfrm>
            <a:off x="457200" y="205704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velop and Manage Performance Measures and Reporting </a:t>
            </a:r>
            <a:r>
              <a:rPr b="0" lang="en-US" sz="2000" spc="-1" strike="noStrike">
                <a:solidFill>
                  <a:srgbClr val="000000"/>
                </a:solidFill>
                <a:latin typeface="Verdana"/>
              </a:rPr>
              <a:t>–</a:t>
            </a:r>
            <a:r>
              <a:rPr b="0" lang="en-US" sz="2200" spc="-1" strike="noStrike">
                <a:solidFill>
                  <a:srgbClr val="000000"/>
                </a:solidFill>
                <a:latin typeface="Verdana"/>
              </a:rPr>
              <a:t> </a:t>
            </a:r>
            <a:r>
              <a:rPr b="0" lang="en-US" sz="2100" spc="-1" strike="noStrike">
                <a:solidFill>
                  <a:srgbClr val="000000"/>
                </a:solidFill>
                <a:latin typeface="Verdana"/>
              </a:rPr>
              <a:t>Performance measures related to managing health outcomes for members may be based on diagnoses or risk management of multiple diagnose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 Performance and Business Activity </a:t>
            </a:r>
            <a:r>
              <a:rPr b="0" lang="en-US" sz="2000" spc="-1" strike="noStrike">
                <a:solidFill>
                  <a:srgbClr val="000000"/>
                </a:solidFill>
                <a:latin typeface="Verdana"/>
              </a:rPr>
              <a:t>–</a:t>
            </a:r>
            <a:r>
              <a:rPr b="0" lang="en-US" sz="2100" spc="-1" strike="noStrike">
                <a:solidFill>
                  <a:srgbClr val="000000"/>
                </a:solidFill>
                <a:latin typeface="Verdana"/>
              </a:rPr>
              <a:t> Provider performance may be determined by evidence-based treatment of specific diagnoses.  Business activity may be monitored by diagnosis or condition, e.g., breast / cervical / prostate cancer programs</a:t>
            </a:r>
            <a:endParaRPr b="0" lang="en-US" sz="2100" spc="-1" strike="noStrike">
              <a:solidFill>
                <a:srgbClr val="000000"/>
              </a:solidFill>
              <a:latin typeface="Verdana"/>
            </a:endParaRPr>
          </a:p>
        </p:txBody>
      </p:sp>
      <p:sp>
        <p:nvSpPr>
          <p:cNvPr id="392"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Program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51CA-2411-4A12-AC2B-600073075C90}"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9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9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8DD7-666D-41C9-996E-899A45AEDE5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96" name=""/>
          <p:cNvSpPr txBox="1"/>
          <p:nvPr/>
        </p:nvSpPr>
        <p:spPr>
          <a:xfrm>
            <a:off x="457200" y="1904760"/>
            <a:ext cx="8229600" cy="33526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stablish Business Relationships </a:t>
            </a:r>
            <a:r>
              <a:rPr b="0" lang="en-US" sz="2000" spc="-1" strike="noStrike">
                <a:solidFill>
                  <a:srgbClr val="000000"/>
                </a:solidFill>
                <a:latin typeface="Verdana"/>
              </a:rPr>
              <a:t>–</a:t>
            </a:r>
            <a:r>
              <a:rPr b="0" lang="en-US" sz="2200" spc="-1" strike="noStrike">
                <a:solidFill>
                  <a:srgbClr val="000000"/>
                </a:solidFill>
                <a:latin typeface="Verdana"/>
              </a:rPr>
              <a:t> Business relationships may be established to exchange data related to specific conditions or electronic health records (EHRs).  These will include diagnos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Business Relationships </a:t>
            </a:r>
            <a:r>
              <a:rPr b="0" lang="en-US" sz="2000" spc="-1" strike="noStrike">
                <a:solidFill>
                  <a:srgbClr val="000000"/>
                </a:solidFill>
                <a:latin typeface="Verdana"/>
              </a:rPr>
              <a:t>–</a:t>
            </a:r>
            <a:r>
              <a:rPr b="0" lang="en-US" sz="2200" spc="-1" strike="noStrike">
                <a:solidFill>
                  <a:srgbClr val="000000"/>
                </a:solidFill>
                <a:latin typeface="Verdana"/>
              </a:rPr>
              <a:t> Rules will be established related to what data is exchanged and how that is managed.  Varying use of crosswalks among BR partners may influence the management of these relationships.</a:t>
            </a:r>
            <a:endParaRPr b="0" lang="en-US" sz="2200" spc="-1" strike="noStrike">
              <a:solidFill>
                <a:srgbClr val="000000"/>
              </a:solidFill>
              <a:latin typeface="Verdana"/>
            </a:endParaRPr>
          </a:p>
        </p:txBody>
      </p:sp>
      <p:sp>
        <p:nvSpPr>
          <p:cNvPr id="397"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Business Relationship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F277-A53F-41CA-AC4A-60C9F5E9CC87}"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0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1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A68C-E2E0-443A-8D2A-F30AA7104DD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1" name="PlaceHolder 1"/>
          <p:cNvSpPr>
            <a:spLocks noGrp="1"/>
          </p:cNvSpPr>
          <p:nvPr>
            <p:ph/>
          </p:nvPr>
        </p:nvSpPr>
        <p:spPr>
          <a:xfrm>
            <a:off x="457200" y="2638440"/>
            <a:ext cx="8229600" cy="208584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monstrate relationship between MITA Framework and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cuss the impact of ICD-10 on MITA Business Area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laborate on the impact of ICD-10 on MITA Business Processes</a:t>
            </a:r>
            <a:endParaRPr b="0" lang="en-US" sz="2200" spc="-1" strike="noStrike">
              <a:solidFill>
                <a:srgbClr val="000000"/>
              </a:solidFill>
              <a:latin typeface="Verdana"/>
            </a:endParaRPr>
          </a:p>
        </p:txBody>
      </p:sp>
      <p:sp>
        <p:nvSpPr>
          <p:cNvPr id="312" name="Text Box 5"/>
          <p:cNvSpPr/>
          <p:nvPr/>
        </p:nvSpPr>
        <p:spPr>
          <a:xfrm>
            <a:off x="762120" y="1143000"/>
            <a:ext cx="761976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egment 7 – Impact on MITA BP</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Objectives of this Seg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3BC8-F057-47C2-A554-DD6F4FFC8370}"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9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40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A4BE-5DD2-4B11-9FB3-E48098B9DDF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01" name=""/>
          <p:cNvSpPr txBox="1"/>
          <p:nvPr/>
        </p:nvSpPr>
        <p:spPr>
          <a:xfrm>
            <a:off x="457200" y="190476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minate Business Relationship </a:t>
            </a:r>
            <a:r>
              <a:rPr b="0" lang="en-US" sz="2000" spc="-1" strike="noStrike">
                <a:solidFill>
                  <a:srgbClr val="000000"/>
                </a:solidFill>
                <a:latin typeface="Verdana"/>
              </a:rPr>
              <a:t>–</a:t>
            </a:r>
            <a:r>
              <a:rPr b="0" lang="en-US" sz="2200" spc="-1" strike="noStrike">
                <a:solidFill>
                  <a:srgbClr val="000000"/>
                </a:solidFill>
                <a:latin typeface="Verdana"/>
              </a:rPr>
              <a:t> Procedures need to be in place for retrieval or destruction of data with the termination of business relationships.  Research relationships or global studies may include diagnosis information </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Business Relationship Communications – Health Information Exchanges (HIE) communications will likely involve diagnosis-related information </a:t>
            </a:r>
            <a:endParaRPr b="0" lang="en-US" sz="2200" spc="-1" strike="noStrike">
              <a:solidFill>
                <a:srgbClr val="000000"/>
              </a:solidFill>
              <a:latin typeface="Verdana"/>
            </a:endParaRPr>
          </a:p>
        </p:txBody>
      </p:sp>
      <p:sp>
        <p:nvSpPr>
          <p:cNvPr id="402" name="Text Box 6"/>
          <p:cNvSpPr/>
          <p:nvPr/>
        </p:nvSpPr>
        <p:spPr>
          <a:xfrm>
            <a:off x="380880" y="1143000"/>
            <a:ext cx="83059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Business Relationship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D041-47B6-4D51-86EF-BD8A8DBAFEA7}"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0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40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9FDC-E346-4290-8C91-F5FD26FD873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06" name=""/>
          <p:cNvSpPr txBox="1"/>
          <p:nvPr/>
        </p:nvSpPr>
        <p:spPr>
          <a:xfrm>
            <a:off x="457200" y="1904760"/>
            <a:ext cx="8229600" cy="28954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Candidate Case </a:t>
            </a:r>
            <a:r>
              <a:rPr b="0" lang="en-US" sz="2000" spc="-1" strike="noStrike">
                <a:solidFill>
                  <a:srgbClr val="000000"/>
                </a:solidFill>
                <a:latin typeface="Verdana"/>
              </a:rPr>
              <a:t>–</a:t>
            </a:r>
            <a:r>
              <a:rPr b="0" lang="en-US" sz="2200" spc="-1" strike="noStrike">
                <a:solidFill>
                  <a:srgbClr val="000000"/>
                </a:solidFill>
                <a:latin typeface="Verdana"/>
              </a:rPr>
              <a:t> Procedure code and diagnosis code information may be used in the analysis to determine or confirm possible program integrity cas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Case </a:t>
            </a:r>
            <a:r>
              <a:rPr b="0" lang="en-US" sz="2000" spc="-1" strike="noStrike">
                <a:solidFill>
                  <a:srgbClr val="000000"/>
                </a:solidFill>
                <a:latin typeface="Verdana"/>
              </a:rPr>
              <a:t>–</a:t>
            </a:r>
            <a:r>
              <a:rPr b="0" lang="en-US" sz="2200" spc="-1" strike="noStrike">
                <a:solidFill>
                  <a:srgbClr val="000000"/>
                </a:solidFill>
                <a:latin typeface="Verdana"/>
              </a:rPr>
              <a:t> Procedure codes and diagnosis codes will continue to be monitored for specific providers or members to manage program integrit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07"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Program Integrity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8FFE-1053-40E7-A126-2AFB30E5276D}"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0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41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81A6-9AE5-4F58-B6A5-D8F55A6A995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11" name=""/>
          <p:cNvSpPr txBox="1"/>
          <p:nvPr/>
        </p:nvSpPr>
        <p:spPr>
          <a:xfrm>
            <a:off x="457200" y="1828800"/>
            <a:ext cx="8229600" cy="41148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stablish Case </a:t>
            </a:r>
            <a:r>
              <a:rPr b="0" lang="en-US" sz="2000" spc="-1" strike="noStrike">
                <a:solidFill>
                  <a:srgbClr val="000000"/>
                </a:solidFill>
                <a:latin typeface="Verdana"/>
              </a:rPr>
              <a:t>–</a:t>
            </a:r>
            <a:r>
              <a:rPr b="0" lang="en-US" sz="2100" spc="-1" strike="noStrike">
                <a:solidFill>
                  <a:srgbClr val="000000"/>
                </a:solidFill>
                <a:latin typeface="Verdana"/>
              </a:rPr>
              <a:t> May be used to identify cases that should receive additional care management, e.g., diabetes, asthma, hypertension, obesity, etc. </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 Case </a:t>
            </a:r>
            <a:r>
              <a:rPr b="0" lang="en-US" sz="2000" spc="-1" strike="noStrike">
                <a:solidFill>
                  <a:srgbClr val="000000"/>
                </a:solidFill>
                <a:latin typeface="Verdana"/>
              </a:rPr>
              <a:t>–</a:t>
            </a:r>
            <a:r>
              <a:rPr b="0" lang="en-US" sz="2100" spc="-1" strike="noStrike">
                <a:solidFill>
                  <a:srgbClr val="000000"/>
                </a:solidFill>
                <a:latin typeface="Verdana"/>
              </a:rPr>
              <a:t> May be used to track health care outcomes and monitor case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 Medicaid Population Health </a:t>
            </a:r>
            <a:r>
              <a:rPr b="0" lang="en-US" sz="2000" spc="-1" strike="noStrike">
                <a:solidFill>
                  <a:srgbClr val="000000"/>
                </a:solidFill>
                <a:latin typeface="Verdana"/>
              </a:rPr>
              <a:t>–</a:t>
            </a:r>
            <a:r>
              <a:rPr b="0" lang="en-US" sz="2100" spc="-1" strike="noStrike">
                <a:solidFill>
                  <a:srgbClr val="000000"/>
                </a:solidFill>
                <a:latin typeface="Verdana"/>
              </a:rPr>
              <a:t> May be used in the analysis of overall population health and to identify possible cases or areas to be targeted for improved coverage, or to establish population evidence of improvement after interventions, e.g., reduced incidence of heart attacks after initiation of primary care case management </a:t>
            </a:r>
            <a:endParaRPr b="0" lang="en-US" sz="2100" spc="-1" strike="noStrike">
              <a:solidFill>
                <a:srgbClr val="000000"/>
              </a:solidFill>
              <a:latin typeface="Verdana"/>
            </a:endParaRPr>
          </a:p>
        </p:txBody>
      </p:sp>
      <p:sp>
        <p:nvSpPr>
          <p:cNvPr id="412"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Care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5C820-A63E-4878-8A61-4B77F1A902FE}"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1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41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1FAA-25BE-4868-A54C-AB3C424A3D2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16" name=""/>
          <p:cNvSpPr txBox="1"/>
          <p:nvPr/>
        </p:nvSpPr>
        <p:spPr>
          <a:xfrm>
            <a:off x="457200" y="2209680"/>
            <a:ext cx="8229600" cy="198144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Registry </a:t>
            </a:r>
            <a:r>
              <a:rPr b="0" lang="en-US" sz="2000" spc="-1" strike="noStrike">
                <a:solidFill>
                  <a:srgbClr val="000000"/>
                </a:solidFill>
                <a:latin typeface="Verdana"/>
              </a:rPr>
              <a:t>–</a:t>
            </a:r>
            <a:r>
              <a:rPr b="0" lang="en-US" sz="2200" spc="-1" strike="noStrike">
                <a:solidFill>
                  <a:srgbClr val="000000"/>
                </a:solidFill>
                <a:latin typeface="Verdana"/>
              </a:rPr>
              <a:t> Procedure codes and diagnosis codes will be a significant piece of any registry supported in any state, e.g., cancer registry, death registry, immunization registry, etc. </a:t>
            </a:r>
            <a:endParaRPr b="0" lang="en-US" sz="2200" spc="-1" strike="noStrike">
              <a:solidFill>
                <a:srgbClr val="000000"/>
              </a:solidFill>
              <a:latin typeface="Verdana"/>
            </a:endParaRPr>
          </a:p>
        </p:txBody>
      </p:sp>
      <p:sp>
        <p:nvSpPr>
          <p:cNvPr id="417"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Care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5552-800C-48E4-83E4-6B8B7A3AA13F}"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1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42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B242-B545-4C91-9879-79AB80F3B74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21" name=""/>
          <p:cNvSpPr txBox="1"/>
          <p:nvPr/>
        </p:nvSpPr>
        <p:spPr>
          <a:xfrm>
            <a:off x="457200" y="190476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is an integral part of meeting the goals and managing the business processes of the MITA structur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usiness processes will improve when Medicaid Enterprises make the most effective use of the increased detail in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eroperability and clinical data enable a more client-centric Medicaid program that improves care while managing costs effectively</a:t>
            </a:r>
            <a:endParaRPr b="0" lang="en-US" sz="2200" spc="-1" strike="noStrike">
              <a:solidFill>
                <a:srgbClr val="000000"/>
              </a:solidFill>
              <a:latin typeface="Verdana"/>
            </a:endParaRPr>
          </a:p>
        </p:txBody>
      </p:sp>
      <p:sp>
        <p:nvSpPr>
          <p:cNvPr id="422" name="Text Box 7"/>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umma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DB31-EC02-4467-9319-5889BF32CF42}"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1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1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AB24-580B-4FC2-9908-A0A2DD39680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6" name=""/>
          <p:cNvSpPr txBox="1"/>
          <p:nvPr/>
        </p:nvSpPr>
        <p:spPr>
          <a:xfrm>
            <a:off x="457200" y="2209320"/>
            <a:ext cx="8229600" cy="2057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ight major business areas  </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with 2-26 business processes relating to it </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will impact one or more of these business processes within each business area</a:t>
            </a:r>
            <a:endParaRPr b="0" lang="en-US" sz="2200" spc="-1" strike="noStrike">
              <a:solidFill>
                <a:srgbClr val="000000"/>
              </a:solidFill>
              <a:latin typeface="Verdana"/>
            </a:endParaRPr>
          </a:p>
        </p:txBody>
      </p:sp>
      <p:sp>
        <p:nvSpPr>
          <p:cNvPr id="317" name="Text Box 7"/>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MITA Business Are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8498-8372-419B-A394-CC57572F04B7}"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1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2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E59D-3138-4166-BD66-F3B42F46D91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1" name=""/>
          <p:cNvSpPr txBox="1"/>
          <p:nvPr/>
        </p:nvSpPr>
        <p:spPr>
          <a:xfrm>
            <a:off x="457200" y="2209680"/>
            <a:ext cx="8229600" cy="32767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mber Manage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r Manage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actor Manage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erations Manage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gram Manage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usiness Relationship Manage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gram Integrity Manage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 Management</a:t>
            </a:r>
            <a:endParaRPr b="0" lang="en-US" sz="2200" spc="-1" strike="noStrike">
              <a:solidFill>
                <a:srgbClr val="000000"/>
              </a:solidFill>
              <a:latin typeface="Verdana"/>
            </a:endParaRPr>
          </a:p>
        </p:txBody>
      </p:sp>
      <p:sp>
        <p:nvSpPr>
          <p:cNvPr id="322"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MITA Business Are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64CF-B00D-4E67-A215-E801368A65E8}"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2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2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5D69D-64E8-4AB4-890F-9F66FA7EE97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6" name=""/>
          <p:cNvSpPr txBox="1"/>
          <p:nvPr/>
        </p:nvSpPr>
        <p:spPr>
          <a:xfrm>
            <a:off x="457200" y="190476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termine Eligibility</a:t>
            </a:r>
            <a:endParaRPr b="0" lang="en-US" sz="17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Establish eligibility for programs with exclusive membership, e.g., disability, mental health, cancer, etc.</a:t>
            </a:r>
            <a:endParaRPr b="0" lang="en-US" sz="17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xample – More specific ICD-10 codes can better identify beneficiaries to include in targeted education or case management</a:t>
            </a:r>
            <a:endParaRPr b="0" lang="en-US" sz="17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nroll Member</a:t>
            </a:r>
            <a:endParaRPr b="0" lang="en-US" sz="17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Determine appropriate enrollment to a benefit package or waiver</a:t>
            </a:r>
            <a:endParaRPr b="0" lang="en-US" sz="17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enroll Member </a:t>
            </a:r>
            <a:endParaRPr b="0" lang="en-US" sz="17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enroll from a particular benefit package to another program or out of Medicaid</a:t>
            </a:r>
            <a:endParaRPr b="0" lang="en-US" sz="17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quire Member Eligibility</a:t>
            </a:r>
            <a:endParaRPr b="0" lang="en-US" sz="17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Increase the functionality of the eligibility inquiry by responding to specific procedure or diagnosis code combinations</a:t>
            </a:r>
            <a:endParaRPr b="0" lang="en-US" sz="1700" spc="-1" strike="noStrike">
              <a:solidFill>
                <a:srgbClr val="000000"/>
              </a:solidFill>
              <a:latin typeface="Verdana"/>
            </a:endParaRPr>
          </a:p>
        </p:txBody>
      </p:sp>
      <p:sp>
        <p:nvSpPr>
          <p:cNvPr id="327" name="Text Box 7"/>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Member Management Impac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BAC7-BCDC-4C8C-9304-6A2BE6B6EE7F}"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2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3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7A198-12E5-4845-9C4F-FACE08A7790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1" name=""/>
          <p:cNvSpPr txBox="1"/>
          <p:nvPr/>
        </p:nvSpPr>
        <p:spPr>
          <a:xfrm>
            <a:off x="457200" y="190476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Member Information</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Diagnosis or condition information may be stored in the member file to designate specific eligibility or benefit package enroll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 Population and Member Outreach</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Diagnosis or condition information may be used to target specific populations, e.g., pregnant women, individuals with specific cancer, children with AIDS, etc.</a:t>
            </a:r>
            <a:endParaRPr b="0" lang="en-US" sz="2200" spc="-1" strike="noStrike">
              <a:solidFill>
                <a:srgbClr val="000000"/>
              </a:solidFill>
              <a:latin typeface="Verdana"/>
            </a:endParaRPr>
          </a:p>
        </p:txBody>
      </p:sp>
      <p:sp>
        <p:nvSpPr>
          <p:cNvPr id="332"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Member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5B3F-B619-4262-A6DC-B0FD6FE3BE07}"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3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3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0ECC-5E89-4EEA-AE9F-9AB66F6FD67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6" name=""/>
          <p:cNvSpPr txBox="1"/>
          <p:nvPr/>
        </p:nvSpPr>
        <p:spPr>
          <a:xfrm>
            <a:off x="457200" y="2209680"/>
            <a:ext cx="8229600" cy="3200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roll Provider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rs may be restricted to treatment of specific conditions or ranges of diagnosis cod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Provider Communication</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agnoses may be used to target messages to specific providers of services, e.g., new evidence-based guidelines to providers treating members with diabetes</a:t>
            </a:r>
            <a:endParaRPr b="0" lang="en-US" sz="2200" spc="-1" strike="noStrike">
              <a:solidFill>
                <a:srgbClr val="000000"/>
              </a:solidFill>
              <a:latin typeface="Verdana"/>
            </a:endParaRPr>
          </a:p>
        </p:txBody>
      </p:sp>
      <p:sp>
        <p:nvSpPr>
          <p:cNvPr id="337"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Provi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D478-CAFF-43C5-947A-42907A457D11}"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3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4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EDEB-89D7-4E00-9133-B465E95F1DF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1" name=""/>
          <p:cNvSpPr txBox="1"/>
          <p:nvPr/>
        </p:nvSpPr>
        <p:spPr>
          <a:xfrm>
            <a:off x="457200" y="1904760"/>
            <a:ext cx="8229600" cy="34290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Provider Information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providers are limited to the types of diagnoses they can treat, this information will be stored in the provider fil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Provider Grievance and Appeal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rs may believe they should be compensated differently based on the complexity of cases with multiple diagnoses.  They may grieve payment that does not consider the risk adjustment of such cases</a:t>
            </a:r>
            <a:endParaRPr b="0" lang="en-US" sz="2200" spc="-1" strike="noStrike">
              <a:solidFill>
                <a:srgbClr val="000000"/>
              </a:solidFill>
              <a:latin typeface="Verdana"/>
            </a:endParaRPr>
          </a:p>
        </p:txBody>
      </p:sp>
      <p:sp>
        <p:nvSpPr>
          <p:cNvPr id="342"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Provider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63C6-DF1F-46BC-99A1-14A69BE8CBE0}"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4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4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88BF-D8CE-4517-B6C9-3D3669A9744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6" name=""/>
          <p:cNvSpPr txBox="1"/>
          <p:nvPr/>
        </p:nvSpPr>
        <p:spPr>
          <a:xfrm>
            <a:off x="457200" y="1905120"/>
            <a:ext cx="8229600" cy="350496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duce Administrative or Health Services RFP</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uture RFPs issued by the state will need to specify if and how a contractor will be expected to accommodate ICD-10 diagnoses and inpatient procedur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Administrative or Health Services Contracts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 of managing the contracts will be to assure that the contractor accommodates ICD-10 in the manner that the state expects</a:t>
            </a:r>
            <a:endParaRPr b="0" lang="en-US" sz="2200" spc="-1" strike="noStrike">
              <a:solidFill>
                <a:srgbClr val="000000"/>
              </a:solidFill>
              <a:latin typeface="Verdana"/>
            </a:endParaRPr>
          </a:p>
        </p:txBody>
      </p:sp>
      <p:sp>
        <p:nvSpPr>
          <p:cNvPr id="347"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Contracto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Sherry Scott</cp:lastModifiedBy>
  <dcterms:modified xsi:type="dcterms:W3CDTF">2009-11-02T17:13:56Z</dcterms:modified>
  <cp:revision>423</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