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commentAuthors.xml><?xml version="1.0" encoding="utf-8"?>
<p:cmAuthorLst xmlns:p="http://schemas.openxmlformats.org/presentationml/2006/main">
  <p:cmAuthor id="0" name="snachimson"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0.xml><?xml version="1.0" encoding="utf-8"?>
<p:cmLst xmlns:p="http://schemas.openxmlformats.org/presentationml/2006/main">
  <p:cm authorId="0" dt="2009-09-29T14:18:01.352000000" idx="1">
    <p:pos x="10" y="10"/>
    <p:text>Include information about ICD-10 withing the context of overall system desig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2A6E-A20C-42A7-BE17-03F9CB07461D}"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E82F-DF17-413B-AEF8-012C03D06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4BC8-44B1-475D-A63D-96B323938CE1}"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5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190B36-BA64-45EE-A952-AFD33DBC5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444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6CA754-DF5A-4652-8855-5DB380FA9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01DB-FD84-44D6-A37E-8BAF24CA6FC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need to submit two types of Advanced Planning Documents (APDs) for their ICD-10 implementation project.  The first submittal should be a Planning APD, which will be reviewed by the CMS Regional Office.  The second type of APD is the Implementation A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Offices have a set number of days to review and pass judgment on the APDs.  States should be aware that the ICD-10 implementation will be required in all states, so many APDs are expected to be submitted.</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7AFC-6E82-4665-A1BA-6DB31DC3A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78F1-CB6D-408B-8E31-D602B6D94B2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length of the approval process and the CMS Regional Office workload, we recommend the following dates for submittal of AP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ing APDs should be submitted 60 days prior to initiating planning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APDs should be submitted 60 days prior to initiating implementation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b050"/>
                </a:solidFill>
                <a:latin typeface="Calibri"/>
              </a:rPr>
              <a:t>States may wish to work with their regional office in reviewing APD drafts prior to submission of the state’s official APD request.  This may facilitate improved timeliness of the review and decis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7F33-EEF7-4C80-B2A8-01E18CFA7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2487-F270-4219-85A3-B80112C44B1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remember that not all of the costs of the ICD-10 implementation project will be matched at the enhanced level of 90 percent.  States should review the rules and discuss them with Regional Office staff, so they can effectively plan their budgets for this project.   Submit APDs with enough time to allow you to meet the ICD-10 compliance deadlin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D085-C04C-40EA-B627-683B88A95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1AFD-0354-4FF0-99C2-4B274DE300B4}"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6F86FB-AC65-4DF8-B616-1DFB8CC6B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 will focus on how the State Medicaid Agency can monitor its implementation process, determine if there are any issues, and stay on a path to timely compliance.  We will also discuss some ICD-10 activities that will take place after the compliance dat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FA38-E8E3-4118-AE17-9613816AA81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5" name="PlaceHolder 1"/>
          <p:cNvSpPr>
            <a:spLocks noGrp="1"/>
          </p:cNvSpPr>
          <p:nvPr>
            <p:ph type="sldImg"/>
          </p:nvPr>
        </p:nvSpPr>
        <p:spPr>
          <a:xfrm>
            <a:off x="1066680" y="685800"/>
            <a:ext cx="4572000" cy="3429000"/>
          </a:xfrm>
          <a:prstGeom prst="rect">
            <a:avLst/>
          </a:prstGeom>
          <a:ln w="0">
            <a:noFill/>
          </a:ln>
        </p:spPr>
      </p:sp>
      <p:sp>
        <p:nvSpPr>
          <p:cNvPr id="166" name="PlaceHolder 2"/>
          <p:cNvSpPr>
            <a:spLocks noGrp="1"/>
          </p:cNvSpPr>
          <p:nvPr>
            <p:ph type="body"/>
          </p:nvPr>
        </p:nvSpPr>
        <p:spPr>
          <a:xfrm>
            <a:off x="304920" y="4190760"/>
            <a:ext cx="6248160" cy="4800600"/>
          </a:xfrm>
          <a:prstGeom prst="rect">
            <a:avLst/>
          </a:prstGeom>
          <a:noFill/>
          <a:ln w="0">
            <a:noFill/>
          </a:ln>
        </p:spPr>
        <p:txBody>
          <a:bodyPr anchor="t">
            <a:noAutofit/>
          </a:bodyPr>
          <a:p>
            <a:pPr indent="0">
              <a:lnSpc>
                <a:spcPct val="12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the rules from the State Medicaid Manual regarding MMIS project costs.  Note that 90 percent  federal financial participation (FFP) is only available for the direct cost of design, development, implementation, and enhancement of the MMIS.  Personnel  costs for these tasks are also matched at 90 percent.  </a:t>
            </a:r>
            <a:endParaRPr b="0" lang="en-US" sz="10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F99D-D95B-4747-9CA9-49212795B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D442-6E72-4EC5-B64D-9039F8FFAC9B}"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9" name="PlaceHolder 1"/>
          <p:cNvSpPr>
            <a:spLocks noGrp="1"/>
          </p:cNvSpPr>
          <p:nvPr>
            <p:ph type="sldImg"/>
          </p:nvPr>
        </p:nvSpPr>
        <p:spPr>
          <a:xfrm>
            <a:off x="1066680" y="685800"/>
            <a:ext cx="4572000" cy="3429000"/>
          </a:xfrm>
          <a:prstGeom prst="rect">
            <a:avLst/>
          </a:prstGeom>
          <a:ln w="0">
            <a:noFill/>
          </a:ln>
        </p:spPr>
      </p:sp>
      <p:sp>
        <p:nvSpPr>
          <p:cNvPr id="170" name="PlaceHolder 2"/>
          <p:cNvSpPr>
            <a:spLocks noGrp="1"/>
          </p:cNvSpPr>
          <p:nvPr>
            <p:ph type="body"/>
          </p:nvPr>
        </p:nvSpPr>
        <p:spPr>
          <a:xfrm>
            <a:off x="304920" y="4190760"/>
            <a:ext cx="6248160" cy="4800600"/>
          </a:xfrm>
          <a:prstGeom prst="rect">
            <a:avLst/>
          </a:prstGeom>
          <a:noFill/>
          <a:ln w="0">
            <a:noFill/>
          </a:ln>
        </p:spPr>
        <p:txBody>
          <a:bodyPr anchor="t">
            <a:noAutofit/>
          </a:bodyPr>
          <a:p>
            <a:pPr indent="0">
              <a:lnSpc>
                <a:spcPct val="12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ining costs are matched at different levels  depending on the staff being trained.  For staff directly engaged in the operation of the MMIS, training costs are matched at 75 percent FFP.  For training of other staff ,  including the state project management team assigned for design, development, and implementation (DDI)  and work related to Medicaid policy and procedures, costs are matched at 50 percent.</a:t>
            </a:r>
            <a:endParaRPr b="0" lang="en-US" sz="10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D6E9-280B-48A4-805E-9E5577401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641E-5248-471D-84A2-A4955E3ED10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o understand that program management costs are not reimbursable at enhanced FFP rates unless they are directly related to claims processing or information retreival.</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F0AE-F5AF-4239-A4BC-2046217F6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D3C1-BBD6-4710-AF9B-52139F47BF4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component, it should be thought of as supporting the business transition to ICD-10.  The list of business areas affected is not all-inclusive, but you can see that it reaches throughout the organization.  Critical business decisions on how ICD-10 will be implemented must be made in these areas as the project progresses, so that IT system changes can be made to support the business areas.  Because of this, much of the work involved in ICD-10 implementation may not be matched at 90 percent, as it would not be </a:t>
            </a:r>
            <a:r>
              <a:rPr b="0" lang="en-US" sz="1200" spc="-1" strike="noStrike" u="sng">
                <a:solidFill>
                  <a:srgbClr val="000000"/>
                </a:solidFill>
                <a:uFillTx/>
                <a:latin typeface="Calibri"/>
              </a:rPr>
              <a:t>directly attributable</a:t>
            </a:r>
            <a:r>
              <a:rPr b="0" lang="en-US" sz="1200" spc="-1" strike="noStrike">
                <a:solidFill>
                  <a:srgbClr val="000000"/>
                </a:solidFill>
                <a:latin typeface="Calibri"/>
              </a:rPr>
              <a:t> to the Medicaid program for the design, development, implementation (DDI), and enhancement of the MMIS.  However, the work involved in DDI should be matched at 90 percent.</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9BD5-6B27-40E5-8736-3916A3909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57DF-D8DC-4437-B55E-04CDBF91464F}"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how matching rates will be applied to ICD-10 implementation activities.  These are only examples, and specific approval for any enhanced matching will rest with the CMS Regional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analysis of coverage edits in the MMIS and how they may change based on ICD-10 codes,  the policy work involved will only be matched at 50 percent, while the system design, development, and implementation work will be matched at 90 percent.</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0409-CD4F-4B6C-82B2-2832891C1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8C6F-3556-475E-AD64-814E088F381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costs will differ depending on the staff being trained.  For those staff directly engaged in MMIS operation, FFP would be 75 percent.  For the project management team, policy, and other administrative staff, FFP would be 50 per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internal and external testing of the new MMIS ICD-10 functionality, FFP would be 90 percen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7360-7657-4368-AE33-834956380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A42B-AC6D-4600-8319-D8035E85790A}"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re are three categories of costs that will be incurred in the ICD-10 implementation, each with its own set of matching rules.  Most of the costs that are attributable to MMIS system changes are going to be matched at 90 percent.  However, there are restrictions on certain costs – training and other non-MMIS costs, such as buying new computers, and costs for revising Medicaid policy.  These costs will be matched at less than 90 percent.</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BEFE-7C9B-494A-BF4A-5F850C7DA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76D63-5D7D-4945-8D4B-00C6004EB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BB28-1657-4705-BBF7-BE89ABDA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C34E0-A5E1-44AB-B84F-C9797775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E4253-A4E1-4EF2-99F4-7A0748E2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044EE-05BA-4728-8C2C-9C01F2337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99731-8A37-4BCF-99A2-B6886D89C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74588-789C-4F0D-8287-B18456F2E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88D47-1D76-40D5-9909-F54F6E489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CED00-E575-4A44-8E6D-926B8A877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CB23D-4F36-4D9E-BA86-A145C41F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512FB-133D-4B67-9AFC-BA714A427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A8B3-50B6-4EAF-9A5C-3D03D2EE3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461D-DDF9-4D9F-9290-307D2A2D8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E94DD-A48C-426C-B3ED-69F1C067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F926-D311-4B2F-9B4E-02DB82D27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0DCA5-5DA4-440A-BC0D-19A661ACE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E63EC-5E56-4365-86BA-FA7C9BE4D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BDD1-AB30-45D4-8C65-6F49EEBF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0C5AF-0202-4389-9107-F904380F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83C73-0E17-4CD7-9811-6FCB5B68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16A4-482F-49A6-8CCA-77955BE7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1FE4-549A-4B76-9954-F0232423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FD8D-EB93-45D0-9600-8BC0CF8B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CAF3-565D-4167-BBB2-24E6808E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391520" y="6381360"/>
            <a:ext cx="12189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F67F-6050-4945-8597-3C9F5AADDD4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6" name="PlaceHolder 4"/>
          <p:cNvSpPr>
            <a:spLocks noGrp="1"/>
          </p:cNvSpPr>
          <p:nvPr>
            <p:ph type="ftr" idx="2"/>
          </p:nvPr>
        </p:nvSpPr>
        <p:spPr>
          <a:xfrm>
            <a:off x="4267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305560" y="6381360"/>
            <a:ext cx="6858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E630-FA56-4F7C-B18D-C4193D3D38E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C5A1-4C1A-4F69-8410-F0F98643B0DC}" type="datetime">
              <a:rPr b="0" lang="en-US" sz="1200" spc="-1" strike="noStrike">
                <a:solidFill>
                  <a:srgbClr val="898989"/>
                </a:solidFill>
                <a:latin typeface="Arial"/>
              </a:rPr>
              <a:t>07/30/26</a:t>
            </a:fld>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9 - MMIS Funding OpportunitiesSegment 11 - Partner and Vendor Considera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352C-9CB8-4683-9559-28A115D868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B014-E7E2-446F-8A08-B78CDCAF579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93"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94"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1756-230F-4C83-B580-B9B6D22134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5" name="Rectangle 3"/>
          <p:cNvSpPr/>
          <p:nvPr/>
        </p:nvSpPr>
        <p:spPr>
          <a:xfrm>
            <a:off x="4419720" y="4191120"/>
            <a:ext cx="449568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9</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504d"/>
                </a:solidFill>
                <a:latin typeface="Verdana"/>
              </a:rPr>
              <a:t>MMIS Funding Opportunities</a:t>
            </a:r>
            <a:endParaRPr b="0" lang="en-US" sz="2300" spc="-1" strike="noStrike">
              <a:solidFill>
                <a:srgbClr val="000000"/>
              </a:solidFill>
              <a:latin typeface="Arial"/>
            </a:endParaRPr>
          </a:p>
        </p:txBody>
      </p:sp>
      <p:sp>
        <p:nvSpPr>
          <p:cNvPr id="96"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97"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99" name="TextBox 9"/>
          <p:cNvSpPr/>
          <p:nvPr/>
        </p:nvSpPr>
        <p:spPr>
          <a:xfrm>
            <a:off x="4495680" y="114156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8F75-1C87-4E46-91A5-2B9B477CC61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4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4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8108-8201-4E36-93EF-AF70750E2A9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3"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wo types of APDs that may be submitted:</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PD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APD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lanning APD is not required if a state has already done a requirements analysi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must be submitted to the CMS Regional Office for approval before work can begin</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S has  60 days to review and make a determination on the APDs</a:t>
            </a:r>
            <a:endParaRPr b="0" lang="en-US" sz="20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iming of AP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0296-637F-4E4A-AB8B-38D3C0D431F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4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4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E870-BBE8-4DDC-8136-E4CB6855AF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8" name=""/>
          <p:cNvSpPr txBox="1"/>
          <p:nvPr/>
        </p:nvSpPr>
        <p:spPr>
          <a:xfrm>
            <a:off x="457200" y="16761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PD -  60 days prior to initiating planning activ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APD - 60 days prior to initiating implementation activ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commended Submittal Ti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6651-9BAE-4325-9FED-128EE3011B2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5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5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061C-644A-4ACB-9F74-443E44F7E5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3"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ll ICD-10 implementation costs will be matched at 90%</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 should review rules (SMM 11276.11) and determine what matching rates apply to each of their activiti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the ICD-10 compliance deadline and plan for APD submission to allow you to comfortably meet that deadline</a:t>
            </a:r>
            <a:endParaRPr b="0" lang="en-US" sz="2000" spc="-1" strike="noStrike">
              <a:solidFill>
                <a:srgbClr val="000000"/>
              </a:solidFill>
              <a:latin typeface="Verdana"/>
            </a:endParaRPr>
          </a:p>
        </p:txBody>
      </p:sp>
      <p:sp>
        <p:nvSpPr>
          <p:cNvPr id="15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FA00-105C-4B27-B077-6BA12D8FD4D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0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38E7-DA17-41BF-81A6-3A8CD35115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PlaceHolder 1"/>
          <p:cNvSpPr>
            <a:spLocks noGrp="1"/>
          </p:cNvSpPr>
          <p:nvPr>
            <p:ph/>
          </p:nvPr>
        </p:nvSpPr>
        <p:spPr>
          <a:xfrm>
            <a:off x="457200" y="251316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rules for MMIS funding</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rules to ICD-10 Implementation Projec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iming of APD submission</a:t>
            </a:r>
            <a:endParaRPr b="0" lang="en-US" sz="2400" spc="-1" strike="noStrike">
              <a:solidFill>
                <a:srgbClr val="000000"/>
              </a:solidFill>
              <a:latin typeface="Verdana"/>
            </a:endParaRPr>
          </a:p>
        </p:txBody>
      </p:sp>
      <p:sp>
        <p:nvSpPr>
          <p:cNvPr id="104" name="Text Box 5"/>
          <p:cNvSpPr/>
          <p:nvPr/>
        </p:nvSpPr>
        <p:spPr>
          <a:xfrm>
            <a:off x="457200" y="1143000"/>
            <a:ext cx="830592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9 – MMIS Funding Opportuniti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431B-0034-4FDB-9DDD-C6A67710452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0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0F70-7B1D-4F89-914C-54DC6958FD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
          <p:cNvSpPr txBox="1"/>
          <p:nvPr/>
        </p:nvSpPr>
        <p:spPr>
          <a:xfrm>
            <a:off x="457200" y="1726920"/>
            <a:ext cx="8229600" cy="3606840"/>
          </a:xfrm>
          <a:prstGeom prst="rect">
            <a:avLst/>
          </a:prstGeom>
          <a:noFill/>
          <a:ln w="0">
            <a:noFill/>
          </a:ln>
        </p:spPr>
        <p:txBody>
          <a:bodyPr anchor="t">
            <a:normAutofit fontScale="98000"/>
          </a:bodyPr>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0 percent FFP is available for costs </a:t>
            </a:r>
            <a:r>
              <a:rPr b="0" lang="en-US" sz="1800" spc="-1" strike="noStrike" u="sng">
                <a:solidFill>
                  <a:srgbClr val="000000"/>
                </a:solidFill>
                <a:uFillTx/>
                <a:latin typeface="Verdana"/>
              </a:rPr>
              <a:t>directly attributable</a:t>
            </a:r>
            <a:r>
              <a:rPr b="0" lang="en-US" sz="1800" spc="-1" strike="noStrike">
                <a:solidFill>
                  <a:srgbClr val="000000"/>
                </a:solidFill>
                <a:latin typeface="Verdana"/>
              </a:rPr>
              <a:t> to the Medicaid program for the design, development, implementation (DDI), and enhancement of the MMIS</a:t>
            </a:r>
            <a:endParaRPr b="0" lang="en-US" sz="1800" spc="-1" strike="noStrike">
              <a:solidFill>
                <a:srgbClr val="000000"/>
              </a:solidFill>
              <a:latin typeface="Verdana"/>
            </a:endParaRPr>
          </a:p>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d are resources for systems requirements analysis, design definition, programming, unit and integration testing, conversion, hardware/software necessary for DDI, and supplies for the above</a:t>
            </a:r>
            <a:endParaRPr b="0" lang="en-US" sz="1800" spc="-1" strike="noStrike">
              <a:solidFill>
                <a:srgbClr val="000000"/>
              </a:solidFill>
              <a:latin typeface="Verdana"/>
            </a:endParaRPr>
          </a:p>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nd other </a:t>
            </a:r>
            <a:r>
              <a:rPr b="0" lang="en-US" sz="1800" spc="-1" strike="noStrike" u="sng">
                <a:solidFill>
                  <a:srgbClr val="000000"/>
                </a:solidFill>
                <a:uFillTx/>
                <a:latin typeface="Verdana"/>
              </a:rPr>
              <a:t>direct costs,</a:t>
            </a:r>
            <a:r>
              <a:rPr b="0" lang="en-US" sz="1800" spc="-1" strike="noStrike">
                <a:solidFill>
                  <a:srgbClr val="000000"/>
                </a:solidFill>
                <a:latin typeface="Verdana"/>
              </a:rPr>
              <a:t> including personnel costs of the state project management team specifically assigned for the development and installation effort, are matched at 90 percent federal financial participation (FFP)</a:t>
            </a:r>
            <a:endParaRPr b="0" lang="en-US" sz="1800" spc="-1" strike="noStrike">
              <a:solidFill>
                <a:srgbClr val="000000"/>
              </a:solidFill>
              <a:latin typeface="Verdana"/>
            </a:endParaRPr>
          </a:p>
        </p:txBody>
      </p:sp>
      <p:sp>
        <p:nvSpPr>
          <p:cNvPr id="109" name="Text Box 5"/>
          <p:cNvSpPr/>
          <p:nvPr/>
        </p:nvSpPr>
        <p:spPr>
          <a:xfrm>
            <a:off x="228600" y="11430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87D4-493B-4943-8AFC-0D1AD403D4E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1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8BD9-34BB-45A8-8FE6-A3150DCB7F5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3" name=""/>
          <p:cNvSpPr txBox="1"/>
          <p:nvPr/>
        </p:nvSpPr>
        <p:spPr>
          <a:xfrm>
            <a:off x="457200" y="1828440"/>
            <a:ext cx="8229600" cy="3505320"/>
          </a:xfrm>
          <a:prstGeom prst="rect">
            <a:avLst/>
          </a:prstGeom>
          <a:noFill/>
          <a:ln w="0">
            <a:noFill/>
          </a:ln>
        </p:spPr>
        <p:txBody>
          <a:bodyPr anchor="t">
            <a:normAutofit/>
          </a:bodyPr>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ining of personnel </a:t>
            </a:r>
            <a:r>
              <a:rPr b="0" lang="en-US" sz="1800" spc="-1" strike="noStrike" u="sng">
                <a:solidFill>
                  <a:srgbClr val="000000"/>
                </a:solidFill>
                <a:uFillTx/>
                <a:latin typeface="Verdana"/>
              </a:rPr>
              <a:t>directly engaged in the operation</a:t>
            </a:r>
            <a:r>
              <a:rPr b="0" lang="en-US" sz="1800" spc="-1" strike="noStrike">
                <a:solidFill>
                  <a:srgbClr val="000000"/>
                </a:solidFill>
                <a:latin typeface="Verdana"/>
              </a:rPr>
              <a:t> of an MMIS are matched at 75 percent FFP</a:t>
            </a:r>
            <a:endParaRPr b="0" lang="en-US" sz="1800" spc="-1" strike="noStrike">
              <a:solidFill>
                <a:srgbClr val="000000"/>
              </a:solidFill>
              <a:latin typeface="Verdana"/>
            </a:endParaRPr>
          </a:p>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sts of training the state project management team specifically assigned for the development and installation effort are matched at 50 percent FFP</a:t>
            </a:r>
            <a:endParaRPr b="0" lang="en-US" sz="1800" spc="-1" strike="noStrike">
              <a:solidFill>
                <a:srgbClr val="000000"/>
              </a:solidFill>
              <a:latin typeface="Verdana"/>
            </a:endParaRPr>
          </a:p>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ther administrative activities, including training of personnel engaged in the design, development, or implementation (DDI) of an MMIS and work related to Medicaid policy and procedures, are matched at 50 percent</a:t>
            </a:r>
            <a:endParaRPr b="0" lang="en-US" sz="1800" spc="-1" strike="noStrike">
              <a:solidFill>
                <a:srgbClr val="000000"/>
              </a:solidFill>
              <a:latin typeface="Verdana"/>
            </a:endParaRPr>
          </a:p>
        </p:txBody>
      </p:sp>
      <p:sp>
        <p:nvSpPr>
          <p:cNvPr id="114" name="Text Box 5"/>
          <p:cNvSpPr/>
          <p:nvPr/>
        </p:nvSpPr>
        <p:spPr>
          <a:xfrm>
            <a:off x="380880" y="114300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9036-852E-41E5-9E5B-9F464CC3667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1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7D66-BFF2-4D67-B9D0-750921BD28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8" name=""/>
          <p:cNvSpPr txBox="1"/>
          <p:nvPr/>
        </p:nvSpPr>
        <p:spPr>
          <a:xfrm>
            <a:off x="457200" y="19047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of program management required to operate a Medicaid program are </a:t>
            </a:r>
            <a:r>
              <a:rPr b="0" lang="en-US" sz="2400" spc="-1" strike="noStrike" u="sng">
                <a:solidFill>
                  <a:srgbClr val="000000"/>
                </a:solidFill>
                <a:uFillTx/>
                <a:latin typeface="Verdana"/>
              </a:rPr>
              <a:t>not reimbursable at the enhanced MMIS FFP</a:t>
            </a:r>
            <a:r>
              <a:rPr b="0" lang="en-US" sz="2400" spc="-1" strike="noStrike">
                <a:solidFill>
                  <a:srgbClr val="000000"/>
                </a:solidFill>
                <a:latin typeface="Verdana"/>
              </a:rPr>
              <a:t> rates unless directly related to claims processing or information retrieval</a:t>
            </a:r>
            <a:endParaRPr b="0" lang="en-US" sz="2400" spc="-1" strike="noStrike">
              <a:solidFill>
                <a:srgbClr val="000000"/>
              </a:solidFill>
              <a:latin typeface="Verdana"/>
            </a:endParaRPr>
          </a:p>
        </p:txBody>
      </p:sp>
      <p:sp>
        <p:nvSpPr>
          <p:cNvPr id="119" name="Text Box 5"/>
          <p:cNvSpPr/>
          <p:nvPr/>
        </p:nvSpPr>
        <p:spPr>
          <a:xfrm>
            <a:off x="380880" y="114300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D3DE-326B-42B7-8B6B-81EB2D0B7D2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2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2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8D28-BCBE-4057-BE20-AB7DDE8C51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3" name=""/>
          <p:cNvSpPr txBox="1"/>
          <p:nvPr/>
        </p:nvSpPr>
        <p:spPr>
          <a:xfrm>
            <a:off x="457200" y="1980720"/>
            <a:ext cx="8229600" cy="3962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Implementation is not just an IT project</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Implementation affects a wide range of business area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nefit coverag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yment policie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r relation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ims processing</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istical trending</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ud and Abus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dget estimation</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measurement</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ver programs and case management</a:t>
            </a:r>
            <a:endParaRPr b="0" lang="en-US" sz="1800" spc="-1" strike="noStrike">
              <a:solidFill>
                <a:srgbClr val="000000"/>
              </a:solidFill>
              <a:latin typeface="Verdana"/>
            </a:endParaRPr>
          </a:p>
        </p:txBody>
      </p:sp>
      <p:sp>
        <p:nvSpPr>
          <p:cNvPr id="124" name="Text Box 5"/>
          <p:cNvSpPr/>
          <p:nvPr/>
        </p:nvSpPr>
        <p:spPr>
          <a:xfrm>
            <a:off x="380880" y="914400"/>
            <a:ext cx="8382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Application of Rules to ICD-10 Implementation Pro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CFDE-BB04-4C91-8B12-7410C2D2FF2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2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2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F7D2-07B5-4DB9-B207-C9FC634861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
          <p:cNvSpPr txBox="1"/>
          <p:nvPr/>
        </p:nvSpPr>
        <p:spPr>
          <a:xfrm>
            <a:off x="457200" y="175212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viewing and changing coverage edits for ICD-10</a:t>
            </a:r>
            <a:endParaRPr b="0" lang="en-US" sz="23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D-10 coverage edits for the claims processing system to implement program policies (e.g., a limitation of a service) is allowable at 90 percent FFP for system design, development, and implementation, as these are directly attributable to MMIS </a:t>
            </a:r>
            <a:endParaRPr b="0" lang="en-US" sz="1800" spc="-1" strike="noStrike">
              <a:solidFill>
                <a:srgbClr val="000000"/>
              </a:solidFill>
              <a:latin typeface="Verdana"/>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st of the program management staff that developed the policy is allowable </a:t>
            </a:r>
            <a:r>
              <a:rPr b="0" lang="en-US" sz="1800" spc="-1" strike="noStrike" u="sng">
                <a:solidFill>
                  <a:srgbClr val="000000"/>
                </a:solidFill>
                <a:uFillTx/>
                <a:latin typeface="Verdana"/>
              </a:rPr>
              <a:t>only at the regular 50 percent rate, as these are administrative activities</a:t>
            </a:r>
            <a:endParaRPr b="0" lang="en-US" sz="1800" spc="-1" strike="noStrike">
              <a:solidFill>
                <a:srgbClr val="000000"/>
              </a:solidFill>
              <a:latin typeface="Verdana"/>
            </a:endParaRPr>
          </a:p>
        </p:txBody>
      </p:sp>
      <p:sp>
        <p:nvSpPr>
          <p:cNvPr id="12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Examples of Matching Fu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3E62-37C3-4BC1-BE8C-4B5A5B1ADBC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3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3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3930-4EFF-484C-9DE7-7F057987ED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
          <p:cNvSpPr txBox="1"/>
          <p:nvPr/>
        </p:nvSpPr>
        <p:spPr>
          <a:xfrm>
            <a:off x="304920" y="182880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Train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ersonnel directly engaged in MMIS operation, FFP would be 75% (per SMM 11276.11)</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roject management team, FFP would be 50%</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olicy and other administrative staff, FFP would be 50%</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Cost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internal testing and trading partner testing of the MMIS system enhancements for ICD-10, FFP would be 90%</a:t>
            </a:r>
            <a:endParaRPr b="0" lang="en-US" sz="1800" spc="-1" strike="noStrike">
              <a:solidFill>
                <a:srgbClr val="000000"/>
              </a:solidFill>
              <a:latin typeface="Verdana"/>
            </a:endParaRPr>
          </a:p>
        </p:txBody>
      </p:sp>
      <p:sp>
        <p:nvSpPr>
          <p:cNvPr id="13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Examples of Matching Fu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AFB8-D066-4AF9-9511-9937E2F979D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3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3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C938-FD15-4D76-A060-4268AB28C6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
          <p:cNvSpPr txBox="1"/>
          <p:nvPr/>
        </p:nvSpPr>
        <p:spPr>
          <a:xfrm>
            <a:off x="457200" y="1752120"/>
            <a:ext cx="8229600" cy="3124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sts associated with the </a:t>
            </a:r>
            <a:r>
              <a:rPr b="1" lang="en-US" sz="2000" spc="-1" strike="noStrike">
                <a:solidFill>
                  <a:srgbClr val="000000"/>
                </a:solidFill>
                <a:latin typeface="Verdana"/>
              </a:rPr>
              <a:t>MMIS system changes </a:t>
            </a:r>
            <a:r>
              <a:rPr b="0" lang="en-US" sz="2000" spc="-1" strike="noStrike">
                <a:solidFill>
                  <a:srgbClr val="000000"/>
                </a:solidFill>
                <a:latin typeface="Verdana"/>
              </a:rPr>
              <a:t>are going to be 90% matched</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ain costs are restricted (such as training and other non-MMIS costs, such as buying new computers for the SMA staff who may need a stronger/faster PC  to do ICD-10 work) </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s for revising Medicaid policy and training of Medicaid staff around ICD-10 that are not related to MMIS system remediation may be included, but will be matched at 50%.</a:t>
            </a:r>
            <a:endParaRPr b="0" lang="en-US" sz="2000" spc="-1" strike="noStrike">
              <a:solidFill>
                <a:srgbClr val="000000"/>
              </a:solidFill>
              <a:latin typeface="Verdana"/>
            </a:endParaRPr>
          </a:p>
        </p:txBody>
      </p:sp>
      <p:sp>
        <p:nvSpPr>
          <p:cNvPr id="13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General Guide for Fu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48:57Z</dcterms:modified>
  <cp:revision>462</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