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7"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458"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9" name="PlaceHolder 5"/>
          <p:cNvSpPr>
            <a:spLocks noGrp="1"/>
          </p:cNvSpPr>
          <p:nvPr>
            <p:ph type="ftr" idx="35"/>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57E32A-BCF2-4DFE-9626-FC031F5052B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81BB99-996A-4591-B81C-F1B808B15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06640" y="696960"/>
            <a:ext cx="464796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5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E94B3D-0222-4BC8-BE3B-681C424DE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CEFDF2-5390-4DC9-BE59-A498BBF9B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06640" y="696960"/>
            <a:ext cx="4647960" cy="3486240"/>
          </a:xfrm>
          <a:prstGeom prst="rect">
            <a:avLst/>
          </a:prstGeom>
          <a:ln w="0">
            <a:noFill/>
          </a:ln>
        </p:spPr>
      </p:sp>
      <p:sp>
        <p:nvSpPr>
          <p:cNvPr id="5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step in the implementation process is to test the changes made with trading partners.  Because of the vast array of changes throughout the Medicaid Agency, it is critical that end-to-end testing – running processes from the beginning of a transaction throughout its lifetime to the end – be done, and that all system interfaces be tested.  The national timelines also estimate that external partner testing will take 10 months, so that means all internal testing must be finished at least 10 months before Oct 1,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D01E56-B821-41E4-812C-D58891272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368729-2117-4B4F-B0EA-C0FB17B76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06640" y="696960"/>
            <a:ext cx="4647960" cy="3486240"/>
          </a:xfrm>
          <a:prstGeom prst="rect">
            <a:avLst/>
          </a:prstGeom>
          <a:ln w="0">
            <a:noFill/>
          </a:ln>
        </p:spPr>
      </p:sp>
      <p:sp>
        <p:nvSpPr>
          <p:cNvPr id="56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mmarize, a thorough business and technical assessment should be done first.  This will involve the entire agency – it is not just a systems change or an IT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 cadre of trained experts to do your assessments and perhaps lead strategy and project teams.  This is a long-term project, and needs to be effectively managed.  Try to spread out the resource and budget commitments over the long-term – don’t wait until one year before compliance to start this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nd-to-end external testing with partners is critical to assuring that your systems are working correctly!</a:t>
            </a:r>
            <a:endParaRPr b="0" lang="en-US" sz="1200" spc="-1" strike="noStrike">
              <a:solidFill>
                <a:srgbClr val="000000"/>
              </a:solidFill>
              <a:latin typeface="Calibri"/>
            </a:endParaRPr>
          </a:p>
        </p:txBody>
      </p:sp>
      <p:sp>
        <p:nvSpPr>
          <p:cNvPr id="5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DFC4FE1-990B-417C-8FAE-8D11B8AE6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E8E71D-F32D-4A3C-B0BD-876FFDBF1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06640" y="696960"/>
            <a:ext cx="4647960" cy="3486240"/>
          </a:xfrm>
          <a:prstGeom prst="rect">
            <a:avLst/>
          </a:prstGeom>
          <a:ln w="0">
            <a:noFill/>
          </a:ln>
        </p:spPr>
      </p:sp>
      <p:sp>
        <p:nvSpPr>
          <p:cNvPr id="5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provide the pathway for agencies to implement ICD-10.  We will discuss specific implementation steps, who should be involved, and the timing of each step.</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4B5AB9-41A6-4BF4-AF0B-65A9F01CA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06640" y="696960"/>
            <a:ext cx="4647960" cy="3486240"/>
          </a:xfrm>
          <a:prstGeom prst="rect">
            <a:avLst/>
          </a:prstGeom>
          <a:ln w="0">
            <a:noFill/>
          </a:ln>
        </p:spPr>
      </p:sp>
      <p:sp>
        <p:nvSpPr>
          <p:cNvPr id="5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compliance date of Oct 1, 2013 refers to services performed on and after that date.  This means that ICD-10-CM diagnosis codes, and ICD-10-PCS inpatient hospital procedure codes must be used on transactions related to services performed on and after the compliance date.    Any transactions for services prior to Oct 1, 2013 will continue to use ICD-9 codes.  So, you will be getting transactions with ICD-9 codes for quite a while after October 1, 2013.   Note that the Oct 1, 2013 date is a single transaction date and applies to all covered entities.  There is no “transition period” that allows a choice of ICD-9 or 10 codes for a transaction.</a:t>
            </a:r>
            <a:endParaRPr b="0" lang="en-US" sz="1200" spc="-1" strike="noStrike">
              <a:solidFill>
                <a:srgbClr val="000000"/>
              </a:solidFill>
              <a:latin typeface="Calibri"/>
            </a:endParaRPr>
          </a:p>
        </p:txBody>
      </p:sp>
      <p:sp>
        <p:nvSpPr>
          <p:cNvPr id="5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2A727D-B687-4387-9CDD-105ADAE63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263595-9930-4C89-8EB2-BCD7B916D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06640" y="696960"/>
            <a:ext cx="4647960" cy="3486240"/>
          </a:xfrm>
          <a:prstGeom prst="rect">
            <a:avLst/>
          </a:prstGeom>
          <a:ln w="0">
            <a:noFill/>
          </a:ln>
        </p:spPr>
      </p:sp>
      <p:sp>
        <p:nvSpPr>
          <p:cNvPr id="5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DI and NCHICA (the </a:t>
            </a:r>
            <a:r>
              <a:rPr b="1" lang="en-US" sz="1200" spc="-1" strike="noStrike">
                <a:solidFill>
                  <a:srgbClr val="000000"/>
                </a:solidFill>
                <a:latin typeface="Calibri"/>
              </a:rPr>
              <a:t>North Carolina Healthcare Information and Communications Alliance</a:t>
            </a:r>
            <a:r>
              <a:rPr b="0" lang="en-US" sz="1200" spc="-1" strike="noStrike">
                <a:solidFill>
                  <a:srgbClr val="000000"/>
                </a:solidFill>
                <a:latin typeface="Calibri"/>
              </a:rPr>
              <a:t>, Inc.) have created a joint workgroup to develop industry timelines for the implementation of major health IT projects.  The intent was to provide guidance on realistic implementation timelines,  and show overlaps and resource constraints from overlapping projects.  The workgroup is overseen  by a steering committee consisting of plan, provider, and vendor representatives.  Two major project timelines have already been completed, one from 5010 implementation and a second for ICD-10 implementation.  The ICD-10 timeline was developed by groups of plans, providers, and vendors representing a broad spectrum of the industry.   The timelines are developed using Microsoft Project, and are available at the NCHICA web site in both Project and PDF format.  The general timelines can be used as the basis for a more detailed work plan by individual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lines are built to assure adequate planning, development, and testing time while meeting regulatory deadlines.</a:t>
            </a:r>
            <a:endParaRPr b="0" lang="en-US" sz="1200" spc="-1" strike="noStrike">
              <a:solidFill>
                <a:srgbClr val="000000"/>
              </a:solidFill>
              <a:latin typeface="Calibri"/>
            </a:endParaRPr>
          </a:p>
        </p:txBody>
      </p:sp>
      <p:sp>
        <p:nvSpPr>
          <p:cNvPr id="5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8C3E55-5552-4AFB-A1E1-7C10B59A9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6C46EF-6753-43DB-BE0D-9503AF79A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6960"/>
            <a:ext cx="4647960" cy="3486240"/>
          </a:xfrm>
          <a:prstGeom prst="rect">
            <a:avLst/>
          </a:prstGeom>
          <a:ln w="0">
            <a:noFill/>
          </a:ln>
        </p:spPr>
      </p:sp>
      <p:sp>
        <p:nvSpPr>
          <p:cNvPr id="5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click the timeline document and it will open.) This is the PDF version of the ICD-10 timeline.  It provides dates and steps for vendors, health plans (such as Medicaid State agencies), and providers.  As you can see, it provides steps and start and end dates.</a:t>
            </a:r>
            <a:endParaRPr b="0" lang="en-US" sz="1200" spc="-1" strike="noStrike">
              <a:solidFill>
                <a:srgbClr val="000000"/>
              </a:solidFill>
              <a:latin typeface="Calibri"/>
            </a:endParaRPr>
          </a:p>
        </p:txBody>
      </p:sp>
      <p:sp>
        <p:nvSpPr>
          <p:cNvPr id="5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1076FF-DBC6-428E-A562-8AFBD70D9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38D99E-1F2F-416C-9FB1-9C261B1EB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06640" y="696960"/>
            <a:ext cx="4647960" cy="3486240"/>
          </a:xfrm>
          <a:prstGeom prst="rect">
            <a:avLst/>
          </a:prstGeom>
          <a:ln w="0">
            <a:noFill/>
          </a:ln>
        </p:spPr>
      </p:sp>
      <p:sp>
        <p:nvSpPr>
          <p:cNvPr id="5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use the health plan steps in the timeline for guidance  (Steps 26-57).  The first, and critical, step, is to perform a complete assessment of your business processes to determine several items.  First, where are diagnosis and inpatient hospital codes currently received and used?   Not only do you have to make the necessary modifications to accommodate the ICD-10 codes in systems and processes, but you now have the opportunity to determine if and how the use of ICD-10 codes can improve those processes.  Secondly, look at your processes and systems to determine where the improved coding can provide improvements where codes have not yet been used.  For example, there may be some claims processing edits that now can be created to better make coverage decisions using co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ritical time.  It is important to take advantage of this time, before system changes are being made, to make some good decisions regarding the use of ICD-10 codes.</a:t>
            </a:r>
            <a:endParaRPr b="0" lang="en-US" sz="1200" spc="-1" strike="noStrike">
              <a:solidFill>
                <a:srgbClr val="000000"/>
              </a:solidFill>
              <a:latin typeface="Calibri"/>
            </a:endParaRPr>
          </a:p>
        </p:txBody>
      </p:sp>
      <p:sp>
        <p:nvSpPr>
          <p:cNvPr id="5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5C6979-0FD6-4A27-9CAE-2A30E1B0F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B732CA-342C-439A-95B6-842FA19B6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06640" y="696960"/>
            <a:ext cx="4647960" cy="3486240"/>
          </a:xfrm>
          <a:prstGeom prst="rect">
            <a:avLst/>
          </a:prstGeom>
          <a:ln w="0">
            <a:noFill/>
          </a:ln>
        </p:spPr>
      </p:sp>
      <p:sp>
        <p:nvSpPr>
          <p:cNvPr id="54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ssessment process should last around six months.  A small group of experts is recommended to conduct this assessment.  The experts need to be familiar with ICD-10, so make sure that you provide some training to them.  The group needs to get input from all across the  Medicaid program, and should have access to documentation and staff from all business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timeline, you should have already completed this.  If not, you need to start ASAP!   This is the time to make sure that your implementation process will impact all necessary areas.</a:t>
            </a:r>
            <a:endParaRPr b="0" lang="en-US" sz="1200" spc="-1" strike="noStrike">
              <a:solidFill>
                <a:srgbClr val="000000"/>
              </a:solidFill>
              <a:latin typeface="Calibri"/>
            </a:endParaRPr>
          </a:p>
        </p:txBody>
      </p:sp>
      <p:sp>
        <p:nvSpPr>
          <p:cNvPr id="5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1BCDA65-06CB-4815-897D-1F86BAFBD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31B99E-D785-4FC2-B26D-27464EC91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6960"/>
            <a:ext cx="4647960" cy="3486240"/>
          </a:xfrm>
          <a:prstGeom prst="rect">
            <a:avLst/>
          </a:prstGeom>
          <a:ln w="0">
            <a:noFill/>
          </a:ln>
        </p:spPr>
      </p:sp>
      <p:sp>
        <p:nvSpPr>
          <p:cNvPr id="5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major step in the timeline is the Business and Technical Strategy Development.  Drawing on your assessment, you will determine a project governance structure (PMO, steering committees, etc.), develop the business strategy for the use of ICD-10 codes and the conversion process,  then develop the technical strategy for each system that needs to be converted.  This should be based on your business strategies (i.e., how ICD-10 will be used in each business process).  The technical strategy will be a critical piece.  A key determination that must also be made is if and how to convert history files, and how to migrate processes from the old systems to the new.  The strategy step is where you determine which processes will change based on the conversion to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line has a target completion date of July 2010.  This provides enough time for the following steps of implementation, internal testing, and external partner testing.</a:t>
            </a:r>
            <a:endParaRPr b="0" lang="en-US" sz="1200" spc="-1" strike="noStrike">
              <a:solidFill>
                <a:srgbClr val="000000"/>
              </a:solidFill>
              <a:latin typeface="Calibri"/>
            </a:endParaRPr>
          </a:p>
        </p:txBody>
      </p:sp>
      <p:sp>
        <p:nvSpPr>
          <p:cNvPr id="5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057CD7-86AA-4F0E-A2C9-6637A63A4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1127CA-12D1-4CAC-BC6F-A5F9D2D13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06640" y="696960"/>
            <a:ext cx="4647960" cy="3486240"/>
          </a:xfrm>
          <a:prstGeom prst="rect">
            <a:avLst/>
          </a:prstGeom>
          <a:ln w="0">
            <a:noFill/>
          </a:ln>
        </p:spPr>
      </p:sp>
      <p:sp>
        <p:nvSpPr>
          <p:cNvPr id="55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he process is the actual implementation step, which covers requirements preparation (6 months),  business design and development (9 months), system design and development (18 months),  and deployment and internal testing of internal systems and vendor systems  (9-12 months). These time frames have been developed by large groups reaching a consensus, based on prior experience with major system changes.  Timely completion of the internal deployment and testing is crucial – all partners are expected to be ready by late 2012 to do external t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oth the internal and external testing, end-to-end testing (from the beginning of a transaction, through processing, and to final determination) is critical.  There are many moving parts to this implementation, and the only way to know if the systems are truly working correctly is to do the end-to-end te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ould suggest that an overall Project Management Office be created to oversee the project, as it impacts your entire program and virtually all of your systems.  No one department should be tasked with this responsibility.</a:t>
            </a:r>
            <a:endParaRPr b="0" lang="en-US" sz="1200" spc="-1" strike="noStrike">
              <a:solidFill>
                <a:srgbClr val="000000"/>
              </a:solidFill>
              <a:latin typeface="Calibri"/>
            </a:endParaRPr>
          </a:p>
        </p:txBody>
      </p:sp>
      <p:sp>
        <p:nvSpPr>
          <p:cNvPr id="5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58CFBC-D815-4AD5-877F-CB729CF61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FED85-A5B0-4601-AE38-0C422E906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5EA24-4BFE-416D-A9F9-5F20F5CFE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8F3B1-5F94-4DA3-927C-7D4C6C651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956704-5B40-48C6-84BE-2839238235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FF325F-AA96-49B1-9766-E9073AE070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CBB35-EAAD-4BE3-A026-7665E3A3F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BBF842-76DF-40E8-A07D-E12ABD3E4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B29759-4E20-4D2B-B903-071C33C92A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662230-3F3F-43D2-8BB2-E760040C2E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4F93D1-0871-4FAD-AEA0-1E4C76AD02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01802A-5229-41D0-86A0-A60124F8D4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4205A6-A114-42EF-BC3A-705C13B85F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9DB57-36FF-4B09-A4C8-6A79606E6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7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352F05-E436-423F-BD2A-8F7BD271BB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47FAE5-C544-408A-A747-20AA954FBF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B33B1E-090E-4701-8CA5-BDBB9FDBAF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CDC2A5-18CB-4107-8C72-3C39254D7A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E5AFD2-6273-4A50-8AD0-1BCE1AF55E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D4179A-31CD-47F7-BF5B-F38B775566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FFCDE6-1057-4324-AF18-34CC53175E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C62080-3E65-454A-A6D2-6E0D3A4E0A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83468A-1080-42F0-A5EC-6AE0918CCB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F210D1-0E48-401B-A5E4-3F84815071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CEB76-DB48-4E72-8E60-36AC3CBED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A42C31-4911-4C1C-B62F-002A30E7A2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62FF15-AE14-4150-AB81-43989C6F1EA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1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625FD4-3CF9-4011-8AC7-0780C82C0B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F67587-CB86-4424-B341-2B2563B8EF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4256FE-AA6B-4B07-B3C5-5FCF3E1EB2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5A34E1-2AA7-4CDE-BC83-8D2D7476D0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64751E-01A3-4035-BF46-B1197488FB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40F0CA-B917-40B6-A4D9-3EAA712004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AB0149-CCCC-4911-A4AD-B8AC273456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129765-66E7-465D-B7FC-F0C0F2A423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C9B66-406D-4875-BCFB-B57E202D7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DC62F0-F916-494D-A380-9F03850469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7B1D40-7997-43CD-A3D8-D008DD0DC6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D85077-EC2D-4467-8321-10D80632DB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B89DB-911C-4D83-82A2-8927A48BC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DC120-635E-4407-8CD4-001256081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D296A-C85D-4E9A-AB4E-FEF751134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DEC90-79AA-4A55-A512-C1D39A4C1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1632C-E0D4-48CA-B6C6-5C3A008FF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30E6D-6D74-48B0-9BED-925A6877E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5B5B0-89D7-4163-AC33-C7542DF71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584BE-EAE7-4436-871B-E7D6301A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3F5FB-D7AD-4E82-8110-F5FDAA32B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020B3-18F0-49D3-B0D7-3C9557500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C2998-D25B-4027-90CE-393A29781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34C82-AAFB-41D2-84A0-B1EF3B907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886819-E6E8-4D2E-9011-125FA5B097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CE366-5A6C-40B9-878C-C838ABFC4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C6BFF-22AD-4BD1-961D-395DD80F8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347E1-ACAF-48F2-B811-7A036A292F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1ECB5-4A28-4834-BD6E-212FAF5D2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8A125-CE23-46EA-824C-C7F7825B3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B781A-1FC8-4246-ACA5-7A1C35741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9CE0B-BB05-4A8D-AE04-3DD24C4CF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8BCE4-C687-4F06-B1CC-0F30BD5A8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C571C-1DD5-41A8-98F1-050CFEE62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10600-0752-48DE-8A7C-95131B843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9C0919-30B0-43FD-BD94-9D0EE0F24B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EBA61A-9BD0-409B-A520-C8B60E1BC7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F4EEC0-5A3D-47AC-929C-09DDA4F57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76B0D7-AFBD-4848-A61D-B379977EE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0E854-7B3B-4EAF-A2D8-70B1BF30C3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31FE0-8964-44E6-AB9F-91DBC706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40D32-E907-4D6D-AAF9-1D0791A6E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BFB39-A7EE-49B7-8E75-9640B1A97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FA538-DBA9-4C21-B441-6608CA636C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E2CCB-93A0-4A71-9398-86E11724E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ED48E-6A20-4DA6-A934-288E2B3C8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4EE1F-05DD-49D4-B2C3-900A00F73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6504B-F60D-4795-827A-BE4EE9B618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16C531-525D-419F-918B-5F089A60B9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BA860E-E312-4C24-BEED-DEAC07F2CE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908A89-95ED-420A-A3BC-783DE599B8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4DF2A-B8F6-4985-AECE-0AA315CB7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692B0-8013-4551-B1AD-B471F6790B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815D82-F3C8-453B-B018-BFFE55057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46F14F-5522-4CA4-89C0-08E67CAC46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DADE95-BADD-40E3-993C-EFAA38F6AF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0C7DE-2FC0-4191-91AF-97F27AE2BE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B8464-21D3-4CE0-8F29-B87739D5C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412F7-3F48-43D8-BB78-51538B876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7B6E4-1A06-4053-831A-BB92D6DA9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7238A6-994A-4C62-A61A-ED2E70A4DD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79E3DC-311A-43C7-B05C-090BD53A4E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2DC6C-FC89-4B93-95F1-DE1CFDE70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880782-8D0B-46B1-AA09-14CF79CC7F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B1B90A-07AF-42FF-8AF8-19433131E8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BC7BB-816F-4A95-9B83-7D0B2874A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DC095-29C3-4E14-BEF2-6D97365334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CB4A27-7C09-4F3E-B804-94F80302C3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2DF48-60A3-48A6-BB62-8A6AAFE4A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A6490-1ECF-45DF-ABA8-9EC079B784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995C5B-CE24-47EE-8C59-9362951CB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F8780-E576-4A66-8840-85FBBB838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BDF77-389E-4B74-BDE2-0C68436DEB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57460-42D9-4FAD-A270-79F427A99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414B08-7C79-4DDE-AABB-CE24F93393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FDC131-7061-41B2-98A7-2D2634A881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F2EA87-D73D-4BC5-9AB0-50BB3E74DF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07C003-247E-4CF3-8529-A9CB0A962B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5"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267437-D766-4C82-A3B2-FE8A60EBAF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7"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B9C66B-CE6A-468A-A800-3AF765729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AAB707-4633-403A-B682-5208461AA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65F3D0-98BA-4C89-B8C7-D86790A203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38E60-5BA7-4B61-AEE2-72D415C176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FB7FB-3B2D-4C54-9DC1-9D556159A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901A0-6EE9-4D4F-A3FC-8210DE968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0E7F0-E7CB-4B6D-89D8-DEF59F89B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4109D-A692-45B9-A713-A8B0899F87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6"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BA937F-2B96-444A-AEF5-2A1D3EB71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7C1312-3874-42EE-92D5-5E5D67A65D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4"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40CD67-30C8-4035-92F4-E8E0FBC4D0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FE4010-6436-43FF-B1F3-8D295332E9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96"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2CC266-5E05-48B3-A5AB-B612BEF576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9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68AD2-A0A6-494F-BDA7-113C706242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6BDA0-9523-4214-A84C-9918708179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C83913-AF2A-4BF0-96B5-FF736CAF34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F1E8-9A10-4CDB-A8B2-9ABB6AABF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379E15-18F8-425B-8658-BA74D3C54D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27687-331D-4A31-9331-B317E0274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D0433-4118-473F-AFEB-38142382FA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2E835F-904F-444B-8F17-89627C2F0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7"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7FC9F4-A714-4412-B896-E1531D0C54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934407-1838-452A-AE49-608A2219AC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5"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70F73D-DFDA-49E9-9275-CAFF7A77A5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86C801-A026-4C26-9968-6F7105C05F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2D8318-C751-4EFF-BE32-D02189BB18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CA3CCA-D967-4C1E-9692-1C2706CF76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B6DA-4905-49E0-B881-7748F533F12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B6DE-11C1-4794-A1C1-C31FACB989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FF1D-5682-4474-811F-AC03EB861A8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7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37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6801-EDDF-4A58-A299-BCBA752018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1DC2-4F07-4DCB-B406-7CEF4ABDE8B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1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41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300E-2DC2-4F9A-B39B-A01C60A058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2203-7DF8-45E6-ABA9-D28295F6566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1CB4-F576-49A1-BB8F-1092E1B81A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FD5C-94AC-4499-B4D4-99957BDBA8F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D435-BDD6-4F31-B674-A61D46CC8F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32E9-E1E7-41D8-8A58-A48188D264E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F7C8-EA22-4B95-812B-275A6A4E6A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6BEA-2BFD-40C3-8B33-35A8E710F40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6793-AF68-4310-9DA3-372EAA20C4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06"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07"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08" name="Picture 8" descr="CMS_logo"/>
          <p:cNvPicPr/>
          <p:nvPr/>
        </p:nvPicPr>
        <p:blipFill>
          <a:blip r:embed="rId2"/>
          <a:stretch/>
        </p:blipFill>
        <p:spPr>
          <a:xfrm>
            <a:off x="152280" y="152280"/>
            <a:ext cx="1976400" cy="735120"/>
          </a:xfrm>
          <a:prstGeom prst="rect">
            <a:avLst/>
          </a:prstGeom>
          <a:ln w="0">
            <a:noFill/>
          </a:ln>
        </p:spPr>
      </p:pic>
      <p:pic>
        <p:nvPicPr>
          <p:cNvPr id="209" name="Picture 5" descr="HHS"/>
          <p:cNvPicPr/>
          <p:nvPr/>
        </p:nvPicPr>
        <p:blipFill>
          <a:blip r:embed="rId3"/>
          <a:stretch/>
        </p:blipFill>
        <p:spPr>
          <a:xfrm>
            <a:off x="8077320" y="152280"/>
            <a:ext cx="685800" cy="682920"/>
          </a:xfrm>
          <a:prstGeom prst="rect">
            <a:avLst/>
          </a:prstGeom>
          <a:ln w="0">
            <a:noFill/>
          </a:ln>
        </p:spPr>
      </p:pic>
      <p:sp>
        <p:nvSpPr>
          <p:cNvPr id="210" name="PlaceHolder 3"/>
          <p:cNvSpPr>
            <a:spLocks noGrp="1"/>
          </p:cNvSpPr>
          <p:nvPr>
            <p:ph type="dt" idx="16"/>
          </p:nvPr>
        </p:nvSpPr>
        <p:spPr>
          <a:xfrm>
            <a:off x="73915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2641-69DE-4280-B6F3-E30AE5EABEAE}"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211" name="PlaceHolder 4"/>
          <p:cNvSpPr>
            <a:spLocks noGrp="1"/>
          </p:cNvSpPr>
          <p:nvPr>
            <p:ph type="ftr" idx="17"/>
          </p:nvPr>
        </p:nvSpPr>
        <p:spPr>
          <a:xfrm>
            <a:off x="4191120" y="6476760"/>
            <a:ext cx="3200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Times New Roman"/>
            </a:endParaRPr>
          </a:p>
        </p:txBody>
      </p:sp>
      <p:sp>
        <p:nvSpPr>
          <p:cNvPr id="212" name="PlaceHolder 5"/>
          <p:cNvSpPr>
            <a:spLocks noGrp="1"/>
          </p:cNvSpPr>
          <p:nvPr>
            <p:ph type="sldNum" idx="18"/>
          </p:nvPr>
        </p:nvSpPr>
        <p:spPr>
          <a:xfrm>
            <a:off x="838188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85EB-7DA1-42FD-B221-D94726BD66A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AD58-07F8-4000-BEAB-7C255CC6C03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05C0-92E8-4020-873D-706715EABB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FEC2-1299-4321-BF1F-25823B27235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2668-C5D6-4933-BB3A-64EC0A585D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9423-CE37-4E23-894C-379B3FBAAA6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3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33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3B91-FDD2-43F2-AA57-831BDFF978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chica.org/" TargetMode="External"/><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Date Placeholder 1"/>
          <p:cNvSpPr/>
          <p:nvPr/>
        </p:nvSpPr>
        <p:spPr>
          <a:xfrm>
            <a:off x="746748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0C7D-382F-4289-9877-377E2E1D434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62"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63"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B1AD-442F-4E24-A030-799FDE8517A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64" name="Rectangle 3"/>
          <p:cNvSpPr/>
          <p:nvPr/>
        </p:nvSpPr>
        <p:spPr>
          <a:xfrm>
            <a:off x="4572000" y="4038480"/>
            <a:ext cx="411480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5</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Effective Implementation of ICD-10</a:t>
            </a:r>
            <a:endParaRPr b="0" lang="en-US" sz="2800" spc="-1" strike="noStrike">
              <a:solidFill>
                <a:srgbClr val="000000"/>
              </a:solidFill>
              <a:latin typeface="Arial"/>
            </a:endParaRPr>
          </a:p>
        </p:txBody>
      </p:sp>
      <p:sp>
        <p:nvSpPr>
          <p:cNvPr id="465"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466" name="Rectangle 10"/>
          <p:cNvSpPr/>
          <p:nvPr/>
        </p:nvSpPr>
        <p:spPr>
          <a:xfrm>
            <a:off x="396252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468" name="TextBox 10"/>
          <p:cNvSpPr/>
          <p:nvPr/>
        </p:nvSpPr>
        <p:spPr>
          <a:xfrm>
            <a:off x="4267080" y="1065240"/>
            <a:ext cx="40388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ICD-10 Planning and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61F3-6DA9-4F49-847A-1F5DB49A4C5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51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511" name=""/>
          <p:cNvSpPr txBox="1"/>
          <p:nvPr/>
        </p:nvSpPr>
        <p:spPr>
          <a:xfrm>
            <a:off x="457200" y="1980720"/>
            <a:ext cx="8229600" cy="2551320"/>
          </a:xfrm>
          <a:prstGeom prst="rect">
            <a:avLst/>
          </a:prstGeom>
          <a:noFill/>
          <a:ln w="0">
            <a:noFill/>
          </a:ln>
        </p:spPr>
        <p:txBody>
          <a:bodyPr anchor="t">
            <a:normAutofit/>
          </a:bodyPr>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xt Steps:</a:t>
            </a:r>
            <a:endParaRPr b="0" lang="en-US" sz="2200" spc="-1" strike="noStrike">
              <a:solidFill>
                <a:srgbClr val="000000"/>
              </a:solidFill>
              <a:latin typeface="Verdana"/>
            </a:endParaRPr>
          </a:p>
          <a:p>
            <a:pPr marL="666720" indent="-55728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d-to-end testing critical</a:t>
            </a:r>
            <a:endParaRPr b="0" lang="en-US" sz="2200" spc="-1" strike="noStrike">
              <a:solidFill>
                <a:srgbClr val="000000"/>
              </a:solidFill>
              <a:latin typeface="Verdana"/>
            </a:endParaRPr>
          </a:p>
          <a:p>
            <a:pPr marL="666720" indent="-55728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imate 10 months for external partner testing</a:t>
            </a:r>
            <a:endParaRPr b="0" lang="en-US" sz="2200" spc="-1" strike="noStrike">
              <a:solidFill>
                <a:srgbClr val="000000"/>
              </a:solidFill>
              <a:latin typeface="Verdana"/>
            </a:endParaRPr>
          </a:p>
          <a:p>
            <a:pPr marL="666720" indent="-55728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ggest a Project Management Office (PMO) to oversee this project.  </a:t>
            </a:r>
            <a:r>
              <a:rPr b="1" i="1" lang="en-US" sz="2200" spc="-1" strike="noStrike" u="sng">
                <a:solidFill>
                  <a:srgbClr val="000000"/>
                </a:solidFill>
                <a:uFillTx/>
                <a:latin typeface="Verdana"/>
              </a:rPr>
              <a:t>It is huge.</a:t>
            </a:r>
            <a:endParaRPr b="0" lang="en-US" sz="2200" spc="-1" strike="noStrike">
              <a:solidFill>
                <a:srgbClr val="000000"/>
              </a:solidFill>
              <a:latin typeface="Verdana"/>
            </a:endParaRPr>
          </a:p>
        </p:txBody>
      </p:sp>
      <p:sp>
        <p:nvSpPr>
          <p:cNvPr id="512"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F850-182E-4663-B20B-82966956D61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13" name="Text Box 6"/>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1B0E-ADD5-42D1-9968-B2B049AF42D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51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516" name=""/>
          <p:cNvSpPr txBox="1"/>
          <p:nvPr/>
        </p:nvSpPr>
        <p:spPr>
          <a:xfrm>
            <a:off x="457200" y="1829880"/>
            <a:ext cx="8229600" cy="3195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essment must be done firs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olves the entire agenc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a business and a technical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rained experts early 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management is critical</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spread out” the resource and budget commitments over a long perio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nal and external testing is critical</a:t>
            </a:r>
            <a:endParaRPr b="0" lang="en-US" sz="2200" spc="-1" strike="noStrike">
              <a:solidFill>
                <a:srgbClr val="000000"/>
              </a:solidFill>
              <a:latin typeface="Verdana"/>
            </a:endParaRPr>
          </a:p>
        </p:txBody>
      </p:sp>
      <p:sp>
        <p:nvSpPr>
          <p:cNvPr id="517"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DBEF-A8A3-49E5-9198-838330B5D9D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18" name="Text Box 6"/>
          <p:cNvSpPr/>
          <p:nvPr/>
        </p:nvSpPr>
        <p:spPr>
          <a:xfrm>
            <a:off x="990720" y="990720"/>
            <a:ext cx="716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C79A-FD2A-44E9-818E-9EE79B6F3D9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7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71" name="PlaceHolder 1"/>
          <p:cNvSpPr>
            <a:spLocks noGrp="1"/>
          </p:cNvSpPr>
          <p:nvPr>
            <p:ph/>
          </p:nvPr>
        </p:nvSpPr>
        <p:spPr>
          <a:xfrm>
            <a:off x="457200" y="2743200"/>
            <a:ext cx="8229600" cy="1752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how necessary steps for a Medicaid State Agency to effectively implement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guidance on who needs to be involved and when steps need to be taken</a:t>
            </a:r>
            <a:endParaRPr b="0" lang="en-US" sz="2200" spc="-1" strike="noStrike">
              <a:solidFill>
                <a:srgbClr val="000000"/>
              </a:solidFill>
              <a:latin typeface="Verdana"/>
            </a:endParaRPr>
          </a:p>
        </p:txBody>
      </p:sp>
      <p:sp>
        <p:nvSpPr>
          <p:cNvPr id="472" name="Slide Number Placeholder 4"/>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9646-E07A-4806-BD47-FDB743B7362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73" name="Text Box 8"/>
          <p:cNvSpPr/>
          <p:nvPr/>
        </p:nvSpPr>
        <p:spPr>
          <a:xfrm>
            <a:off x="762120" y="990720"/>
            <a:ext cx="76197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Segment 5 – Effective Implementation of ICD-10</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 </a:t>
            </a:r>
            <a:r>
              <a:rPr b="1" lang="en-US" sz="2800" spc="-1" strike="noStrike">
                <a:solidFill>
                  <a:srgbClr val="1f497d"/>
                </a:solidFill>
                <a:latin typeface="Verdana"/>
              </a:rPr>
              <a:t>Objectives of this Seg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A4EC-F87A-4CA9-9B37-DEB201DF16E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7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76" name="PlaceHolder 1"/>
          <p:cNvSpPr>
            <a:spLocks noGrp="1"/>
          </p:cNvSpPr>
          <p:nvPr>
            <p:ph/>
          </p:nvPr>
        </p:nvSpPr>
        <p:spPr>
          <a:xfrm>
            <a:off x="457200" y="2057040"/>
            <a:ext cx="8229600" cy="3195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CM and ICD-10-PCS must be used on all transactions for services performed on and after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date based, not transaction date bas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st continue to handle ICD-9 codes for services prior to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e implementation date for all entit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transition period”</a:t>
            </a:r>
            <a:endParaRPr b="0" lang="en-US" sz="2200" spc="-1" strike="noStrike">
              <a:solidFill>
                <a:srgbClr val="000000"/>
              </a:solidFill>
              <a:latin typeface="Verdana"/>
            </a:endParaRPr>
          </a:p>
        </p:txBody>
      </p:sp>
      <p:sp>
        <p:nvSpPr>
          <p:cNvPr id="477"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9DFF-2780-455B-9B08-00EF1CDA89C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78" name="Text Box 8"/>
          <p:cNvSpPr/>
          <p:nvPr/>
        </p:nvSpPr>
        <p:spPr>
          <a:xfrm>
            <a:off x="990720" y="1143000"/>
            <a:ext cx="6858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Regulatory Requirement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3A2D-429C-46AA-BC2E-06030CC158A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8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81" name=""/>
          <p:cNvSpPr txBox="1"/>
          <p:nvPr/>
        </p:nvSpPr>
        <p:spPr>
          <a:xfrm>
            <a:off x="457200" y="2057040"/>
            <a:ext cx="8229600" cy="2421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ed to provide guidance to industr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d on realistic steps and time to implement by the compliance dat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put from plans, providers, and vendo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at </a:t>
            </a:r>
            <a:r>
              <a:rPr b="0" lang="en-US" sz="2200" spc="-1" strike="noStrike" u="sng">
                <a:solidFill>
                  <a:srgbClr val="0000ff"/>
                </a:solidFill>
                <a:uFillTx/>
                <a:latin typeface="Verdana"/>
                <a:hlinkClick r:id="rId1"/>
              </a:rPr>
              <a:t>www.nchica.org</a:t>
            </a:r>
            <a:endParaRPr b="0" lang="en-US" sz="2200" spc="-1" strike="noStrike">
              <a:solidFill>
                <a:srgbClr val="000000"/>
              </a:solidFill>
              <a:latin typeface="Verdana"/>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2"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F761-F09F-4AF6-A28C-7E291D65440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83" name="Text Box 5"/>
          <p:cNvSpPr/>
          <p:nvPr/>
        </p:nvSpPr>
        <p:spPr>
          <a:xfrm>
            <a:off x="990720" y="1143000"/>
            <a:ext cx="6858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NCHICA/WEDI Timelin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Date Placeholder 1"/>
          <p:cNvSpPr/>
          <p:nvPr/>
        </p:nvSpPr>
        <p:spPr>
          <a:xfrm>
            <a:off x="7391520" y="6477120"/>
            <a:ext cx="1143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340F-3B16-4BDE-ACE6-B619B59F2F7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8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86"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A361-0AD0-4679-91EE-575915B41FC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87" name="Text Box 5"/>
          <p:cNvSpPr/>
          <p:nvPr/>
        </p:nvSpPr>
        <p:spPr>
          <a:xfrm>
            <a:off x="990720" y="990720"/>
            <a:ext cx="68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Overall Timeline</a:t>
            </a:r>
            <a:endParaRPr b="0" lang="en-US" sz="3600" spc="-1" strike="noStrike">
              <a:solidFill>
                <a:srgbClr val="000000"/>
              </a:solidFill>
              <a:latin typeface="Arial"/>
            </a:endParaRPr>
          </a:p>
        </p:txBody>
      </p:sp>
      <p:pic>
        <p:nvPicPr>
          <p:cNvPr id="488" name="Picture 7" descr="Overall Timeline"/>
          <p:cNvPicPr/>
          <p:nvPr/>
        </p:nvPicPr>
        <p:blipFill>
          <a:blip r:embed="rId1"/>
          <a:stretch/>
        </p:blipFill>
        <p:spPr>
          <a:xfrm>
            <a:off x="1685880" y="1571760"/>
            <a:ext cx="5772240" cy="46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Date Placeholder 1"/>
          <p:cNvSpPr/>
          <p:nvPr/>
        </p:nvSpPr>
        <p:spPr>
          <a:xfrm>
            <a:off x="7391520" y="6477120"/>
            <a:ext cx="1143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0345-8CC9-457A-93D2-BE5791C0A0D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9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91" name=""/>
          <p:cNvSpPr txBox="1"/>
          <p:nvPr/>
        </p:nvSpPr>
        <p:spPr>
          <a:xfrm>
            <a:off x="457200" y="1726920"/>
            <a:ext cx="8229600" cy="40640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itical First Step is the Assessment Proc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s not an IT-only project</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look at your business processes first</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ere are diagnosis and inpatient hospital codes currently received and used?</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w can the ICD-10 codes improve those processes?</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ere else can the codes be used to improve business process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ke advantage of this time to determine what needs to be changed!</a:t>
            </a:r>
            <a:endParaRPr b="0" lang="en-US" sz="2200" spc="-1" strike="noStrike">
              <a:solidFill>
                <a:srgbClr val="000000"/>
              </a:solidFill>
              <a:latin typeface="Verdana"/>
            </a:endParaRPr>
          </a:p>
        </p:txBody>
      </p:sp>
      <p:sp>
        <p:nvSpPr>
          <p:cNvPr id="492"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7800-7EEC-4302-8C16-0AEFC603F5D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93" name="Text Box 5"/>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Date Placeholder 1"/>
          <p:cNvSpPr/>
          <p:nvPr/>
        </p:nvSpPr>
        <p:spPr>
          <a:xfrm>
            <a:off x="7391520" y="6477120"/>
            <a:ext cx="121896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00C5-1C6A-4C48-8788-5ECBA3833F9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9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96" name=""/>
          <p:cNvSpPr txBox="1"/>
          <p:nvPr/>
        </p:nvSpPr>
        <p:spPr>
          <a:xfrm>
            <a:off x="457200" y="1829880"/>
            <a:ext cx="8229600" cy="3195720"/>
          </a:xfrm>
          <a:prstGeom prst="rect">
            <a:avLst/>
          </a:prstGeom>
          <a:noFill/>
          <a:ln w="0">
            <a:noFill/>
          </a:ln>
        </p:spPr>
        <p:txBody>
          <a:bodyPr anchor="t">
            <a:normAutofit/>
          </a:bodyPr>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essment timeframe – 6 months</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olvement</a:t>
            </a:r>
            <a:endParaRPr b="0" lang="en-US" sz="2200" spc="-1" strike="noStrike">
              <a:solidFill>
                <a:srgbClr val="000000"/>
              </a:solidFill>
              <a:latin typeface="Verdana"/>
            </a:endParaRPr>
          </a:p>
          <a:p>
            <a:pPr lvl="1" marL="830160" indent="-4381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group of experts</a:t>
            </a:r>
            <a:endParaRPr b="0" lang="en-US" sz="2200" spc="-1" strike="noStrike">
              <a:solidFill>
                <a:srgbClr val="000000"/>
              </a:solidFill>
              <a:latin typeface="Verdana"/>
            </a:endParaRPr>
          </a:p>
          <a:p>
            <a:pPr lvl="1" marL="830160" indent="-4381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be familiar with ICD-10</a:t>
            </a:r>
            <a:endParaRPr b="0" lang="en-US" sz="2200" spc="-1" strike="noStrike">
              <a:solidFill>
                <a:srgbClr val="000000"/>
              </a:solidFill>
              <a:latin typeface="Verdana"/>
            </a:endParaRPr>
          </a:p>
          <a:p>
            <a:pPr lvl="1" marL="830160" indent="-4381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nput from all across the program</a:t>
            </a:r>
            <a:endParaRPr b="0" lang="en-US" sz="2200" spc="-1" strike="noStrike">
              <a:solidFill>
                <a:srgbClr val="000000"/>
              </a:solidFill>
              <a:latin typeface="Verdana"/>
            </a:endParaRPr>
          </a:p>
          <a:p>
            <a:pPr lvl="1" marL="830160" indent="-4381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access to all business areas</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hould have already completed this step!</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ust start ASAP, if not started already</a:t>
            </a:r>
            <a:endParaRPr b="0" lang="en-US" sz="2200" spc="-1" strike="noStrike">
              <a:solidFill>
                <a:srgbClr val="000000"/>
              </a:solidFill>
              <a:latin typeface="Verdana"/>
            </a:endParaRPr>
          </a:p>
        </p:txBody>
      </p:sp>
      <p:sp>
        <p:nvSpPr>
          <p:cNvPr id="497"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55F2-9BC3-4C15-B4F5-470F012FCF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98" name="Text Box 6"/>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Date Placeholder 1"/>
          <p:cNvSpPr/>
          <p:nvPr/>
        </p:nvSpPr>
        <p:spPr>
          <a:xfrm>
            <a:off x="7391520" y="6477120"/>
            <a:ext cx="1066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6716-FF3E-4B5C-AAEE-6F0694F5966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50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501" name=""/>
          <p:cNvSpPr txBox="1"/>
          <p:nvPr/>
        </p:nvSpPr>
        <p:spPr>
          <a:xfrm>
            <a:off x="457200" y="1828440"/>
            <a:ext cx="8229600" cy="3467160"/>
          </a:xfrm>
          <a:prstGeom prst="rect">
            <a:avLst/>
          </a:prstGeom>
          <a:noFill/>
          <a:ln w="0">
            <a:noFill/>
          </a:ln>
        </p:spPr>
        <p:txBody>
          <a:bodyPr anchor="t">
            <a:normAutofit/>
          </a:bodyPr>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xt Suggested Step – Business and Technical Strategy</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ected Timeframe – 1 year</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es setting up governance structure, developing and finalizing strategies, securing budgets, and starting your implementation teams</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rget completion date: July 2010</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olves entire agency – Need for trained experts</a:t>
            </a:r>
            <a:endParaRPr b="0" lang="en-US" sz="2200" spc="-1" strike="noStrike">
              <a:solidFill>
                <a:srgbClr val="000000"/>
              </a:solidFill>
              <a:latin typeface="Verdana"/>
            </a:endParaRPr>
          </a:p>
        </p:txBody>
      </p:sp>
      <p:sp>
        <p:nvSpPr>
          <p:cNvPr id="502"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919C-ED26-41B5-96BC-D03842102E1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03" name="Text Box 7"/>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30BD-0061-4992-B090-909C0777456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50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506" name=""/>
          <p:cNvSpPr txBox="1"/>
          <p:nvPr/>
        </p:nvSpPr>
        <p:spPr>
          <a:xfrm>
            <a:off x="457200" y="1828800"/>
            <a:ext cx="8229600" cy="2813040"/>
          </a:xfrm>
          <a:prstGeom prst="rect">
            <a:avLst/>
          </a:prstGeom>
          <a:noFill/>
          <a:ln w="0">
            <a:noFill/>
          </a:ln>
        </p:spPr>
        <p:txBody>
          <a:bodyPr anchor="t">
            <a:normAutofit/>
          </a:bodyPr>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ual Implementation</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me Frame – January 2010 – Oct 1, 2013</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ncludes preparing requirements, system design and development, remediating provider contracts, vendor code deployment, and internal/external testing</a:t>
            </a:r>
            <a:endParaRPr b="0" lang="en-US" sz="2200" spc="-1" strike="noStrike">
              <a:solidFill>
                <a:srgbClr val="000000"/>
              </a:solidFill>
              <a:latin typeface="Verdana"/>
            </a:endParaRPr>
          </a:p>
        </p:txBody>
      </p:sp>
      <p:sp>
        <p:nvSpPr>
          <p:cNvPr id="507"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078D-754E-4B36-B0DD-C1431B520FF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08" name="Text Box 7"/>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7:30:49Z</dcterms:modified>
  <cp:revision>81</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