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Lst>
  <p:sldSz cx="9144000" cy="6858000"/>
  <p:notesSz cx="6858000" cy="9294813"/>
</p:presentation>
</file>

<file path=ppt/commentAuthors.xml><?xml version="1.0" encoding="utf-8"?>
<p:cmAuthorLst xmlns:p="http://schemas.openxmlformats.org/presentationml/2006/main">
  <p:cmAuthor id="0" name="snachimson"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6.xml><?xml version="1.0" encoding="utf-8"?>
<p:cmLst xmlns:p="http://schemas.openxmlformats.org/presentationml/2006/main">
  <p:cm authorId="0" dt="2009-09-29T14:10:46.253000000" idx="1">
    <p:pos x="10" y="10"/>
    <p:text>Ponters to ICD-10 segments.</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9"/>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53"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20"/>
          </p:nvPr>
        </p:nvSpPr>
        <p:spPr>
          <a:xfrm>
            <a:off x="-360" y="882972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21"/>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58B0A7-78D8-4E45-BC52-B4BCF678A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B8B966-3B94-4BD9-99B9-599898D94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06640" y="696960"/>
            <a:ext cx="464796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3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019CD4-3E10-4A09-99CB-6F8BF8A2C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56638BB-8392-4E96-9BF3-9224CEDFE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6640" y="696960"/>
            <a:ext cx="464796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provide specific guidance on the education and training processes for Medicaid staff.  We will discuss the types of training, who should be trained, and when the training should take plac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E8D261-0331-4AA5-B52E-526B0C92F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6640" y="696960"/>
            <a:ext cx="464796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reiterate that this implementation project is not, and should not be thought of, as an IT project.  As we have previously shown, the transition to ICD-10 affects a wide range of business areas in the Medicaid program. While the IT work is a necessary component, it should be thought of as supporting the business transition to ICD-10.  The list of business areas affected is not all-inclusive, but you can see that it reaches throughout the organization.  This again indicates the need for training throughout the organization.  We emphasize this, because ICD-10 implementation will touch almost every person working for,  and interacting with, Medicaid.</a:t>
            </a:r>
            <a:endParaRPr b="0" lang="en-US" sz="1200" spc="-1" strike="noStrike">
              <a:solidFill>
                <a:srgbClr val="000000"/>
              </a:solidFill>
              <a:latin typeface="Calibri"/>
            </a:endParaRPr>
          </a:p>
        </p:txBody>
      </p:sp>
      <p:sp>
        <p:nvSpPr>
          <p:cNvPr id="3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5A9CCF-1999-445A-896E-D5A79803B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FB8B01-15DE-4299-92AF-2BF5960CD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06640" y="696960"/>
            <a:ext cx="464796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wide range of information that must be disseminated throughout the organization (and perhaps beyond it) to assure a successful implementation process.  Training will be needed to provide this information to the right people.  Different training courses will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Understanding of the ICD-10 code set – This would provide an explanation of ICD-10: what does it look like, how does it differ from ICD-9, how is it used, why is it being used, and provide some examples of the codes and their us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Diagnoses and Inpatient Hospital Procedures – This would be a detailed course that explains how an ICD-10 code would be produced from medical documentation.  It should be taught by an experienced code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Definitions and Terms in ICD-10 – This provides a more thorough explanation of ICD-10 terminology, with an emphasis  on the clinical terms and meaning throughout the code se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Impacts on Business Processes  – This would take a practical look at the business processes throughout the organization, and provide an explanation of how ICD-10 could impact business processes. It is a precursor to the organization deciding exactly how they will change business processes to accommodate the new cod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CD-10 Implementation Project – Once the agency has decided how ICD-10 will be implemented and developed a project plan, this training course would present the plan and explain how it will be executed throughout the organiz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New Business Processes – Once the new processes have been developed, it will be important to train staff on them.  It is expected that some major changes will occur, and that there will be some implications of the new processes.  The changes, the justification for those changes, and any implications should all be explain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Systems Updated for ICD-10 – This is another training that must be done so that updated or new systems based on ICD-10 will be effectively used.  We try here to separate the system from the business process in the training, so that the training can be focused on the appropriate audienc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642182-0FFC-4335-93D6-E468ADB8F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51F49C-0E2A-447C-9A64-B21CA102B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06640" y="696960"/>
            <a:ext cx="464796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everyone in the organization needs training on ICD-10 and its implementation.  Top-level executives and managers need to understand the basics of the code set and why changes are being made.  They should also be aware of the overall implementation plan.  Its priority should be str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staff - those that determine coverage, payment, medical review, and other relevant policies - will need some more detailed training, as well as the basics.  Those who have a clinical background and make decisions based on clinical information will need to understand how providers are coding claims, and what the clinical terms in the code set mean.  Knowledge of how and why business processes are changing will also be useful.</a:t>
            </a: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E49938-CCD9-4BBA-A4FC-CDBF96FD9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6640" y="696960"/>
            <a:ext cx="464796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staff, those who execute the day-to-day functions, also need to be well-trained.  In addition to the basics of ICD-10, they need to understand the business process impacts, how the implementation plan works, and how it will impact them.  Once the changes are in place, training must be provided so they understand how their functions are imp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taff will benefit from knowing the basics of ICD-10 so they can react to the changes.  They should also understand the implementation process, especially the timing of their part.  Once systems are developed, all users should be trained on those systems.</a:t>
            </a:r>
            <a:endParaRPr b="0" lang="en-US" sz="1200" spc="-1" strike="noStrike">
              <a:solidFill>
                <a:srgbClr val="000000"/>
              </a:solidFill>
              <a:latin typeface="Calibri"/>
            </a:endParaRPr>
          </a:p>
        </p:txBody>
      </p:sp>
      <p:sp>
        <p:nvSpPr>
          <p:cNvPr id="3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5DB269-2217-4E69-A331-7BC735918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475A6B-79B7-428F-813F-BB7C66D8C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6640" y="696960"/>
            <a:ext cx="464796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for ICD-10 will be ongoing throughout the implementation process.  The first sets of training should happen relatively soon, with the basic ICD-10 training starting right away.  Business process impacts and clinical training should follow soon thereafter, as the implementation plan is being developed, and before decisions on business and technical changes are made.  Once the complete project plan is developed, training should begin on that, and be quickly spread throughout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on new business processes and systems should wait until just before the processes are put into place.</a:t>
            </a:r>
            <a:endParaRPr b="0" lang="en-US" sz="1200" spc="-1" strike="noStrike">
              <a:solidFill>
                <a:srgbClr val="000000"/>
              </a:solidFill>
              <a:latin typeface="Calibri"/>
            </a:endParaRPr>
          </a:p>
        </p:txBody>
      </p:sp>
      <p:sp>
        <p:nvSpPr>
          <p:cNvPr id="3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F3DD9A-146C-4407-AB55-0E79F00C6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9CD44E-3C1B-45F0-B09F-EAC1301DD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06640" y="696960"/>
            <a:ext cx="4647960" cy="3486240"/>
          </a:xfrm>
          <a:prstGeom prst="rect">
            <a:avLst/>
          </a:prstGeom>
          <a:ln w="0">
            <a:noFill/>
          </a:ln>
        </p:spPr>
      </p:sp>
      <p:sp>
        <p:nvSpPr>
          <p:cNvPr id="3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ized training plan would be an importance piece of this project and will give the project manager an overall tool to track agency training.  The plan should be specific in identifying training courses, stating who should be trained, and when the training will take place.  As training occurs, results should be tracked against the plan to assure that all staff are appropriately trained.</a:t>
            </a:r>
            <a:endParaRPr b="0" lang="en-US" sz="1200" spc="-1" strike="noStrike">
              <a:solidFill>
                <a:srgbClr val="000000"/>
              </a:solidFill>
              <a:latin typeface="Calibri"/>
            </a:endParaRPr>
          </a:p>
        </p:txBody>
      </p:sp>
      <p:sp>
        <p:nvSpPr>
          <p:cNvPr id="3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5E5811-A7D5-45CE-B056-2A6F47C34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A885A1-FC3A-4709-81E7-03337A378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06640" y="696960"/>
            <a:ext cx="4647960" cy="3486240"/>
          </a:xfrm>
          <a:prstGeom prst="rect">
            <a:avLst/>
          </a:prstGeom>
          <a:ln w="0">
            <a:noFill/>
          </a:ln>
        </p:spPr>
      </p:sp>
      <p:sp>
        <p:nvSpPr>
          <p:cNvPr id="3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wide range of information that must be conveyed.  It is expected that all staff will need some training, and that there will be training occurring throughout the course of the project. A key recommendation is to develop a training plan, put it in place, and track it, to make sure that everyone who needs training gets it in a timely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6E7661-D0B9-4EB4-9B6F-5F1E851CE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9F823-7B77-46C0-BD26-61EE44111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6B155-CF34-4936-AD6B-62B3B2B39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95505-4279-47B8-A704-BB73EC736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6933D-B4B9-42D9-BBB1-A992A1D07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32068-983B-4435-85F6-555E3FADC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CB40F-4D55-4A67-98C2-F16B25B3D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33E33-A5E0-4BB0-9077-D6AE258B5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ADFBE-3D09-4585-AB87-548B43CC9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E76DC-D3D3-4BF1-AC11-F8A1891CF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2138F-1B0C-415E-A476-DCB2B7AAF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7BFD4-7E11-48B0-A5BC-05D6DF965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4F8DA-D7F3-446F-9534-B893AEEB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61017-C7B2-4F2B-8693-53E93F4FD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B26DA-6997-40BD-977B-B0813B27B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CC990-D2C2-4F2E-BFC3-DB6DBAE43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8A36D-60B2-4E64-A23F-1FE105138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2AC4B-18EA-46FC-A45E-667705A8A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820EC-97CB-4545-AD78-8BA598EB5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CC81C-6C01-49F2-8C33-5F280E942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2A0F12-D0E5-4C34-954E-DA8607BB03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CB8CF-EEAE-43C6-B454-BB92AA8A2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5C137-8BEB-491C-857F-AE07F5C24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702A-6127-4A03-92C2-1824623A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E1A14-869A-44E0-BEB0-D1608CCC3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F4FF8-EFB0-4611-8520-FC6A572C8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21109-6460-4BB9-BC31-FE8F7BF2F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6B8B8-C1BA-46DE-B85B-44B060444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39175-1945-40D1-8007-814A0A862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64F37D-4A26-4B00-A1F2-B9B2A8A31A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ACA47-A3DA-46EC-AD7B-39F1FF0739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1843DF-8B96-4287-AED1-10011AFC5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E5600-89F0-4DD5-9E12-298BF47DB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692F1-8CD1-4BC9-94E1-97726F1D2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F8ACB-3661-4FC6-ABFE-776F71E8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7EFF7-761F-4346-A146-B0B79AE7B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475E1-B62D-43FD-ADE1-386A73C0B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2AD9B-E711-403B-B904-0A815AA7A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E1083-B3E5-43D6-9D5D-D774F3A58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C3AEC-0BDF-45A7-9B88-B0C648D10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E865B-23BF-4B03-8571-F674D6171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59A30-E283-4F2F-B555-619CC4712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1B81D-4C1E-40AC-8D4E-C71005FAB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BBBE1B-0DF2-468F-BF87-8AAD91E742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E869AF-5C63-4BEF-8D12-B48FA2880F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B35D-081D-49FD-A421-01F64D4AF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AA65B-C674-4487-9E6B-AF73FB6E9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B2B88-0065-4B55-BE0E-F44A3FC34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84B287-BAE7-418D-9C0E-7F3861898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CF989-F1C7-4817-A165-05D354CCA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1F905-6820-4B27-8CDD-9E43E6C27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88B78-4055-43FC-9A42-224A3410A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65F87-9312-4F87-AE70-8BCD9806C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7D106-B545-4DC6-A093-855864A9D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78EE6-57F3-478C-A835-9EB3EB734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D75670-6134-4A8B-8E9B-6769B79E0A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15016-9D8E-4C4A-9B8B-DA2798C08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947267-02F5-4C14-A012-B31158EA95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481FD2-E91D-43FB-BB99-AFF7285FC3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7D7D8D-C4CB-458C-9018-EEF64B1A9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86369-D2B2-4E9A-B76E-6F660E823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5E552-9752-4D30-987E-E314130A2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3869A-0D5D-4103-869C-8B004CDD8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4ABA0-3AE5-428E-B124-4A1F6FCDD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D3D9B-63AD-4F17-96D1-B67D9D4E0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79026-850D-4A6F-A815-1B9645506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B9EAE-740E-4380-A195-0AB8BE753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2233-F8E3-44EE-9FA9-0D709B83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35FDB5-9B67-4FCF-8F3E-9A94203643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2AF931-D5A3-4F90-BB1A-6522AF641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4D25B8-184F-4B8A-8D48-E2810175FF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762A-9FC9-4163-8034-EE7D1AFA3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5CC5-DB77-4451-B9AF-724AA7C5B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6" name="PlaceHolder 4"/>
          <p:cNvSpPr>
            <a:spLocks noGrp="1"/>
          </p:cNvSpPr>
          <p:nvPr>
            <p:ph type="ftr" idx="2"/>
          </p:nvPr>
        </p:nvSpPr>
        <p:spPr>
          <a:xfrm>
            <a:off x="4191120" y="647676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464B-333B-4925-90A6-5A00D0F71FE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B26A-9F87-4B77-AC14-BEA70AC014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E695-A75D-4BD2-8846-A3B394FAAC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3A9-B8C9-446C-9D81-7C72FF92E4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039D-BAD7-4866-8CD3-0A2C793925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7B4A-12C0-44A7-A129-602521647B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57"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58"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9401-D9CE-4EDD-B9C1-7B9F22546FA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9"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0</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Education and Training Processes</a:t>
            </a:r>
            <a:endParaRPr b="0" lang="en-US" sz="2600" spc="-1" strike="noStrike">
              <a:solidFill>
                <a:srgbClr val="000000"/>
              </a:solidFill>
              <a:latin typeface="Arial"/>
            </a:endParaRPr>
          </a:p>
        </p:txBody>
      </p:sp>
      <p:sp>
        <p:nvSpPr>
          <p:cNvPr id="260"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261"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263" name="TextBox 10"/>
          <p:cNvSpPr/>
          <p:nvPr/>
        </p:nvSpPr>
        <p:spPr>
          <a:xfrm>
            <a:off x="4495680" y="836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6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6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C745-C940-4930-8A63-8EC40FF37D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7" name="PlaceHolder 1"/>
          <p:cNvSpPr>
            <a:spLocks noGrp="1"/>
          </p:cNvSpPr>
          <p:nvPr>
            <p:ph/>
          </p:nvPr>
        </p:nvSpPr>
        <p:spPr>
          <a:xfrm>
            <a:off x="457200" y="281952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need for training and the types of train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who should be train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when training should take place</a:t>
            </a:r>
            <a:endParaRPr b="0" lang="en-US" sz="2200" spc="-1" strike="noStrike">
              <a:solidFill>
                <a:srgbClr val="000000"/>
              </a:solidFill>
              <a:latin typeface="Verdana"/>
            </a:endParaRPr>
          </a:p>
        </p:txBody>
      </p:sp>
      <p:sp>
        <p:nvSpPr>
          <p:cNvPr id="268"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10 – Education and Training Processe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7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7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9CA5-7624-4497-BBA5-744D13308F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
          <p:cNvSpPr txBox="1"/>
          <p:nvPr/>
        </p:nvSpPr>
        <p:spPr>
          <a:xfrm>
            <a:off x="457200" y="1752120"/>
            <a:ext cx="8229600" cy="4295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is not just an IT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affects a wide range of business area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coverag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ment policie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r relation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ims process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trend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ud and Abus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estima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measurement</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ver programs and case management</a:t>
            </a:r>
            <a:endParaRPr b="0" lang="en-US" sz="2000" spc="-1" strike="noStrike">
              <a:solidFill>
                <a:srgbClr val="000000"/>
              </a:solidFill>
              <a:latin typeface="Verdana"/>
            </a:endParaRPr>
          </a:p>
        </p:txBody>
      </p:sp>
      <p:sp>
        <p:nvSpPr>
          <p:cNvPr id="273"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view of Impact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7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7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670D-46B0-4F71-AAB1-E3E266B8618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7" name=""/>
          <p:cNvSpPr txBox="1"/>
          <p:nvPr/>
        </p:nvSpPr>
        <p:spPr>
          <a:xfrm>
            <a:off x="457200" y="182880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ic Understanding of the ICD-10 Code Set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ding Diagnoses and Inpatient Hospital Procedur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nical Definitions and Terms in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acts on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CD-10 Implementation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ing New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ing Systems Updated for ICD-10</a:t>
            </a:r>
            <a:endParaRPr b="0" lang="en-US" sz="2200" spc="-1" strike="noStrike">
              <a:solidFill>
                <a:srgbClr val="000000"/>
              </a:solidFill>
              <a:latin typeface="Verdana"/>
            </a:endParaRPr>
          </a:p>
        </p:txBody>
      </p:sp>
      <p:sp>
        <p:nvSpPr>
          <p:cNvPr id="278" name="Text Box 9"/>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ypes of ICD-10 Trai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8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8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F4FB-5F4D-48B4-98BB-FF1AF3AE222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2" name=""/>
          <p:cNvSpPr txBox="1"/>
          <p:nvPr/>
        </p:nvSpPr>
        <p:spPr>
          <a:xfrm>
            <a:off x="457200" y="1371240"/>
            <a:ext cx="8229600" cy="4762440"/>
          </a:xfrm>
          <a:prstGeom prst="rect">
            <a:avLst/>
          </a:prstGeom>
          <a:noFill/>
          <a:ln w="0">
            <a:noFill/>
          </a:ln>
        </p:spPr>
        <p:txBody>
          <a:bodyPr anchor="t">
            <a:normAutofit fontScale="98000"/>
          </a:bodyPr>
          <a:p>
            <a:pPr marL="357480" indent="-2502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ives – Managers  (this whole package)</a:t>
            </a:r>
            <a:endParaRPr b="0" lang="en-US" sz="22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basics of ICD-10</a:t>
            </a:r>
            <a:endParaRPr b="0" lang="en-US" sz="2000" spc="-1" strike="noStrike">
              <a:solidFill>
                <a:srgbClr val="000000"/>
              </a:solidFill>
              <a:latin typeface="Verdana"/>
            </a:endParaRPr>
          </a:p>
          <a:p>
            <a:pPr lvl="2" marL="841680" indent="-22392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gments 1 and 3</a:t>
            </a:r>
            <a:endParaRPr b="0" lang="en-US" sz="19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know impacts (costs, benefits) </a:t>
            </a:r>
            <a:endParaRPr b="0" lang="en-US" sz="20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overall implementation plan when it is developed</a:t>
            </a:r>
            <a:endParaRPr b="0" lang="en-US" sz="2000" spc="-1" strike="noStrike">
              <a:solidFill>
                <a:srgbClr val="000000"/>
              </a:solidFill>
              <a:latin typeface="Verdana"/>
            </a:endParaRPr>
          </a:p>
          <a:p>
            <a:pPr marL="357480" indent="-2502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licy Staff</a:t>
            </a:r>
            <a:endParaRPr b="0" lang="en-US" sz="22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basics of ICD-10</a:t>
            </a:r>
            <a:endParaRPr b="0" lang="en-US" sz="20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potential impacts on business processes </a:t>
            </a:r>
            <a:endParaRPr b="0" lang="en-US" sz="2000" spc="-1" strike="noStrike">
              <a:solidFill>
                <a:srgbClr val="000000"/>
              </a:solidFill>
              <a:latin typeface="Verdana"/>
            </a:endParaRPr>
          </a:p>
          <a:p>
            <a:pPr lvl="2" marL="841680" indent="-22392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gment 7</a:t>
            </a:r>
            <a:endParaRPr b="0" lang="en-US" sz="19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changes in business processes impacting their areas</a:t>
            </a:r>
            <a:endParaRPr b="0" lang="en-US" sz="20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ff with clinical expertise should understand the ICD-10 clinical background, and may need coding training</a:t>
            </a:r>
            <a:endParaRPr b="0" lang="en-US" sz="2000" spc="-1" strike="noStrike">
              <a:solidFill>
                <a:srgbClr val="000000"/>
              </a:solidFill>
              <a:latin typeface="Verdana"/>
            </a:endParaRPr>
          </a:p>
        </p:txBody>
      </p:sp>
      <p:sp>
        <p:nvSpPr>
          <p:cNvPr id="283" name="Text Box 8"/>
          <p:cNvSpPr/>
          <p:nvPr/>
        </p:nvSpPr>
        <p:spPr>
          <a:xfrm>
            <a:off x="762120" y="83808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o Should Be Train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erational Staff</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CD-10 basic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business process impact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mplementation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how to use the new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staff</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CD-10 basic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mplementation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how to use new systems</a:t>
            </a:r>
            <a:endParaRPr b="0" lang="en-US" sz="2200" spc="-1" strike="noStrike">
              <a:solidFill>
                <a:srgbClr val="000000"/>
              </a:solidFill>
              <a:latin typeface="Verdana"/>
            </a:endParaRPr>
          </a:p>
        </p:txBody>
      </p:sp>
      <p:sp>
        <p:nvSpPr>
          <p:cNvPr id="285"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86"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87"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940B-D401-474D-90F5-AB48F916C9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o Should Be Train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9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9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D76F-6180-4F35-9854-EC82ACC0DBE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2" name=""/>
          <p:cNvSpPr txBox="1"/>
          <p:nvPr/>
        </p:nvSpPr>
        <p:spPr>
          <a:xfrm>
            <a:off x="457200" y="1828440"/>
            <a:ext cx="8229600" cy="3809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basic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AP, familiarize everyone with what is going on</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ing/Clinical impacts/business process impact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prior to doing the business process analys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 Project</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the project plan is crea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new business processes/system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before the new processes and systems are put into place</a:t>
            </a:r>
            <a:endParaRPr b="0" lang="en-US" sz="2200" spc="-1" strike="noStrike">
              <a:solidFill>
                <a:srgbClr val="000000"/>
              </a:solidFill>
              <a:latin typeface="Verdana"/>
            </a:endParaRPr>
          </a:p>
        </p:txBody>
      </p:sp>
      <p:sp>
        <p:nvSpPr>
          <p:cNvPr id="293"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en To Train Staf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9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9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88C3-39DF-489C-9BE1-73F7257E0F6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7" name=""/>
          <p:cNvSpPr txBox="1"/>
          <p:nvPr/>
        </p:nvSpPr>
        <p:spPr>
          <a:xfrm>
            <a:off x="457200" y="1828800"/>
            <a:ext cx="8229600" cy="2743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important piece of a successful implementation project will be a training pla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an should state what training will be provided, who will be trained, and whe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l results should be tracked against the plan to assure that all staff get all of the appropriate training</a:t>
            </a:r>
            <a:endParaRPr b="0" lang="en-US" sz="2200" spc="-1" strike="noStrike">
              <a:solidFill>
                <a:srgbClr val="000000"/>
              </a:solidFill>
              <a:latin typeface="Verdana"/>
            </a:endParaRPr>
          </a:p>
        </p:txBody>
      </p:sp>
      <p:sp>
        <p:nvSpPr>
          <p:cNvPr id="298"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reating a Training Pl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30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30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71C3-BE6A-4736-9ED4-F4CB44A75C7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2"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is a wide range of information that must be convey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staff will need some train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ining will be ongo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ood training plan should be developed, put in place, and tracked</a:t>
            </a:r>
            <a:endParaRPr b="0" lang="en-US" sz="2200" spc="-1" strike="noStrike">
              <a:solidFill>
                <a:srgbClr val="000000"/>
              </a:solidFill>
              <a:latin typeface="Verdana"/>
            </a:endParaRPr>
          </a:p>
        </p:txBody>
      </p:sp>
      <p:sp>
        <p:nvSpPr>
          <p:cNvPr id="303"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5:58:22Z</dcterms:modified>
  <cp:revision>445</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