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7.wmf" ContentType="image/x-wmf"/>
  <Override PartName="/ppt/media/image1.png" ContentType="image/png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0058400" cy="77724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7A89-04EE-4438-983A-3423136512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9000" y="715680"/>
            <a:ext cx="4497480" cy="347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95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37F2-1688-4D01-B301-004DA6752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7A8A-2433-4EA0-9048-6D8B99F2D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228600" y="4368600"/>
            <a:ext cx="640080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ldImg"/>
          </p:nvPr>
        </p:nvSpPr>
        <p:spPr>
          <a:xfrm>
            <a:off x="1201680" y="717480"/>
            <a:ext cx="4452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9AD1-456A-46CC-94A4-E283E147F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88620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8739360"/>
            <a:ext cx="297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8748-558D-44EE-97C3-2CB88E26D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97000" y="690480"/>
            <a:ext cx="4465440" cy="34498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2140-CAEA-46E1-8059-129136787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89080" y="714240"/>
            <a:ext cx="4478400" cy="34624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95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9A39-6778-4B3B-AB22-80961298D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body"/>
          </p:nvPr>
        </p:nvSpPr>
        <p:spPr>
          <a:xfrm>
            <a:off x="914400" y="4395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D94C-5B24-476E-B22A-D584E807F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914400" y="4395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863D-830B-49F5-9F75-3D1F134ED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F6EA-642A-4759-91B4-D0087A0B2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3F73-8D5B-408A-AE6E-C83C54950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7BCA-E8E5-4150-9948-3246A36C5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44672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88584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65E0-DBDA-4FB1-B7CC-6526E1F71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8688240"/>
            <a:ext cx="297180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ldImg"/>
          </p:nvPr>
        </p:nvSpPr>
        <p:spPr>
          <a:xfrm>
            <a:off x="1182600" y="717480"/>
            <a:ext cx="449100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855000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4200" y="4375440"/>
            <a:ext cx="855000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5400" y="22442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4200" y="43754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5400" y="43754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275292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000" y="2244240"/>
            <a:ext cx="275292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36160" y="2244240"/>
            <a:ext cx="275292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4200" y="4375440"/>
            <a:ext cx="275292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000" y="4375440"/>
            <a:ext cx="275292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36160" y="4375440"/>
            <a:ext cx="275292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4200" y="2244240"/>
            <a:ext cx="855000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8550000" cy="407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4172040" cy="407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5400" y="2244240"/>
            <a:ext cx="4172040" cy="407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400" y="2244240"/>
            <a:ext cx="4172040" cy="407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4200" y="43754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4172040" cy="407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400" y="22442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5400" y="43754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4200" y="22442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5400" y="2244240"/>
            <a:ext cx="417204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4200" y="4375440"/>
            <a:ext cx="8550000" cy="194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240"/>
            <a:ext cx="8550000" cy="4079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8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275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7720" indent="-221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0880" indent="-2206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4400" indent="-2210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4400" indent="-2210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4400" indent="-2210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971800" y="7162560"/>
            <a:ext cx="403848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lnSpc>
                <a:spcPct val="15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1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4360" y="455760"/>
            <a:ext cx="8683560" cy="662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23880" y="7162920"/>
            <a:ext cx="19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I. Page </a:t>
            </a:r>
            <a:fld id="{96DC862B-B481-43F1-8750-2888F38B1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5160" y="7162920"/>
            <a:ext cx="140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002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ms.hhs.gov/charts/series/default.asp" TargetMode="External"/><Relationship Id="rId2" Type="http://schemas.openxmlformats.org/officeDocument/2006/relationships/hyperlink" Target="http://www.cms.hhs.gov/charts/series/sec2.ppt" TargetMode="Externa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0058400" cy="77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CMSlogo" descr=""/>
          <p:cNvPicPr/>
          <p:nvPr/>
        </p:nvPicPr>
        <p:blipFill>
          <a:blip r:embed="rId1"/>
          <a:stretch/>
        </p:blipFill>
        <p:spPr>
          <a:xfrm>
            <a:off x="7794720" y="6477120"/>
            <a:ext cx="1780920" cy="772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87520" y="690480"/>
            <a:ext cx="89676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727280"/>
            <a:ext cx="10058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4800" y="258840"/>
            <a:ext cx="9472680" cy="4232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RDIlogcol" descr=""/>
          <p:cNvPicPr/>
          <p:nvPr/>
        </p:nvPicPr>
        <p:blipFill>
          <a:blip r:embed="rId2"/>
          <a:stretch/>
        </p:blipFill>
        <p:spPr>
          <a:xfrm>
            <a:off x="471600" y="6559560"/>
            <a:ext cx="1288800" cy="663480"/>
          </a:xfrm>
          <a:prstGeom prst="rect">
            <a:avLst/>
          </a:prstGeom>
          <a:ln w="0">
            <a:noFill/>
          </a:ln>
        </p:spPr>
      </p:pic>
      <p:pic>
        <p:nvPicPr>
          <p:cNvPr id="55" name="WideCMS(800x75)" descr=""/>
          <p:cNvPicPr/>
          <p:nvPr/>
        </p:nvPicPr>
        <p:blipFill>
          <a:blip r:embed="rId3"/>
          <a:stretch/>
        </p:blipFill>
        <p:spPr>
          <a:xfrm>
            <a:off x="0" y="5354640"/>
            <a:ext cx="10058400" cy="971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Program Information</a:t>
            </a:r>
            <a:br>
              <a:rPr sz="3600"/>
            </a:br>
            <a:br>
              <a:rPr sz="1800"/>
            </a:br>
            <a:br>
              <a:rPr sz="3600"/>
            </a:b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on Medicare, Medicaid, SCHIP,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and other programs of the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Centers for Medicare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&amp;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 Medicaid Servi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7080" y="7167600"/>
            <a:ext cx="15213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une 2002 Edi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96920" y="1311120"/>
            <a:ext cx="223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608120" y="933480"/>
          <a:ext cx="714384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8120" y="933480"/>
                    <a:ext cx="714384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012680" y="1225440"/>
            <a:ext cx="22392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1468440"/>
            <a:ext cx="85503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6391440"/>
            <a:ext cx="853416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Other spending includes dentist services, other professional services, home health, durable medical products, over-the-counter medicines and sundries, public health, research and constru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990720"/>
            <a:ext cx="85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ospital and physician spending accounts for more than half of all health spending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5791320"/>
            <a:ext cx="35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Health Spending = $1.3 Tril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68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ation’s Health Dollar, CY 2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914400" y="1905120"/>
          <a:ext cx="8599320" cy="45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8599320" cy="45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10058400" cy="69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nditures for Health Services, by All Pay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896760" y="3562200"/>
            <a:ext cx="155412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 S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7920" y="2462040"/>
            <a:ext cx="16714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2160" y="6781680"/>
            <a:ext cx="83804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Centers for Medicare &amp; Medicaid Services, Office of the Actuary, National 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5880" y="1314360"/>
            <a:ext cx="858672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 recent years, the hospital share of total spending has decreased while the prescription drug share has increas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14560" y="1709640"/>
            <a:ext cx="2235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914400" y="2233440"/>
          <a:ext cx="7961400" cy="39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33440"/>
                    <a:ext cx="7961400" cy="39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 rot="16200000">
            <a:off x="26280" y="3677400"/>
            <a:ext cx="208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1295280"/>
            <a:ext cx="8550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5800" y="1617840"/>
            <a:ext cx="68900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6160" y="6708600"/>
            <a:ext cx="989784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6781680"/>
            <a:ext cx="85341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22560" y="5983200"/>
            <a:ext cx="1517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230760" y="3744000"/>
            <a:ext cx="209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0160" y="6195960"/>
            <a:ext cx="131652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519840" y="3723120"/>
            <a:ext cx="76320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9960" y="1380960"/>
            <a:ext cx="855036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73840" y="5613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45480" y="5076720"/>
            <a:ext cx="117972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re of N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3678120"/>
            <a:ext cx="73800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790960" y="3943440"/>
            <a:ext cx="25236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6851520" y="4836600"/>
            <a:ext cx="82800" cy="3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96120" y="7234200"/>
            <a:ext cx="203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130824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harply rising prescription drug expenditure growth nationwide in the mid- to late 1990s caused noticeable growth in prescription drugs as a share of total health spe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564040" y="28195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459640" y="403848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4960" y="35812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1640" y="472428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87360" y="456840"/>
            <a:ext cx="739944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cription Drug Expenditure Growth and Share of National Health Expendi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85800" y="2133720"/>
          <a:ext cx="47242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47242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995400" y="5730840"/>
            <a:ext cx="220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561960"/>
            <a:ext cx="853416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419720" y="1371600"/>
          <a:ext cx="5259240" cy="446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1371600"/>
                    <a:ext cx="5259240" cy="44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6167520" y="1989000"/>
            <a:ext cx="183348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5120" y="1981080"/>
            <a:ext cx="201132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57720" y="2344680"/>
            <a:ext cx="10605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5181120"/>
            <a:ext cx="76824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22440" y="2742840"/>
            <a:ext cx="120060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-of-p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48720" y="2895120"/>
            <a:ext cx="1828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te Health In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3080" y="2734920"/>
            <a:ext cx="120060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-of-p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03240" y="5174640"/>
            <a:ext cx="7876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4335120"/>
            <a:ext cx="15238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te Health In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6800" y="6553440"/>
            <a:ext cx="852948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Data are Calendar Ye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101916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financing of prescription drug expenditures has rapidly shifted from consumer out-of-pocket spending to private health insuran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68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nditures for Prescription Drugs, by Source of Fu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53416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in Prescription Drug Out-of-Pocket and Private Health Insurance Spe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54200" y="2244600"/>
          <a:ext cx="855000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2244600"/>
                    <a:ext cx="855000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754200" y="690480"/>
            <a:ext cx="8550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1371600"/>
            <a:ext cx="84582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 an effort to control rising drug spending, insurers implemented tiered co-pays that shifted part of spending growth back to consumers. This contributed to a smaller gap between the rate of out-of-pocket and private health insurance spending growth in recent yea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6781680"/>
            <a:ext cx="85341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754200" y="517680"/>
            <a:ext cx="85500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106640" y="1697040"/>
          <a:ext cx="7275240" cy="478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6640" y="1697040"/>
                    <a:ext cx="727524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762120" y="6819840"/>
            <a:ext cx="85341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8640" y="2346120"/>
            <a:ext cx="204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88640" y="2803320"/>
            <a:ext cx="204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55760" y="112536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4200" y="1415880"/>
            <a:ext cx="85359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igher public payments have offset lower private payments in the past deca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4200" y="60912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nditures for Hospital Services by Source of Fu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2057400" y="2057400"/>
          <a:ext cx="6114960" cy="40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611496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 rot="16200000">
            <a:off x="1122120" y="3709800"/>
            <a:ext cx="17362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harges per 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6215000">
            <a:off x="7963200" y="3705120"/>
            <a:ext cx="57024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660240"/>
            <a:ext cx="853416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6400800"/>
            <a:ext cx="8534160" cy="6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This chart captures discharges and length of stay for all patients of all payers in non-federal hospitals with average lengths of stays of less than 30 day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U.S National Center for Health Statistics,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Vital and Health Statistic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, Series 13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121932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implementation of the Medicare prospective payment system and the rise of manag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re have contributed to a noticeable decline in both discharges and average length of st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762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-Stay Hospitals: Discharges and Length of Stay for All Pay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5480" y="2482920"/>
            <a:ext cx="9572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95720" y="7140600"/>
            <a:ext cx="166212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9960" y="345960"/>
            <a:ext cx="855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54200" y="1468440"/>
            <a:ext cx="85500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24080" y="1628640"/>
            <a:ext cx="795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533520"/>
            <a:ext cx="85341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523880" y="1905120"/>
          <a:ext cx="7066080" cy="47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7066080" cy="47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762120" y="6553080"/>
            <a:ext cx="853416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Community hospitals are all non-federal, short-term general, and special hospitals whose activities are available to the publi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129528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ver the last 20 years there has been a significant shift in the composition of heal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rvices as more treatments are performed in the outpatient sett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739800" y="363312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ty Hospital Expenditures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atient and Outpatient Shares for All Pay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1143000" y="1863720"/>
          <a:ext cx="755316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3720"/>
                    <a:ext cx="755316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4637880" y="6248520"/>
            <a:ext cx="123336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40200" y="507960"/>
            <a:ext cx="2034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05040" y="4114800"/>
            <a:ext cx="96660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ut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95760" y="5257800"/>
            <a:ext cx="8398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20000" y="2048040"/>
            <a:ext cx="1217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re P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60720" y="2589120"/>
            <a:ext cx="0" cy="11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72080" y="2733840"/>
            <a:ext cx="1216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d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5400000">
            <a:off x="6743160" y="3085920"/>
            <a:ext cx="533520" cy="15238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7010280" y="3279600"/>
            <a:ext cx="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7120" y="1222200"/>
            <a:ext cx="85932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naged care contributed to the slower pace in inpatient expenditure growth and the continued move of services to outpatient settings that began with the introduction of Medicare P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7720" y="6553080"/>
            <a:ext cx="823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Community hospitals are all non-federal, short-term general and special hospitals whose facilities are available to the publi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04760" y="461520"/>
            <a:ext cx="61722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in Inpatient and Outpatient Expenditures in Community Hospitals for All Payers, 1980-2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517680"/>
            <a:ext cx="8534160" cy="777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ion of Funding for Freestand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rsing Home Expenditures for All Payers, CY 2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914400" y="1752480"/>
          <a:ext cx="8229600" cy="480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8229600" cy="48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762120" y="6559560"/>
            <a:ext cx="853416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Hospital-based Skilled Nursing Facilities are exclud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24480" y="3200400"/>
            <a:ext cx="115884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c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22600" y="4191120"/>
            <a:ext cx="80640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98920" y="1974960"/>
            <a:ext cx="973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82960" y="5715000"/>
            <a:ext cx="1084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 Other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13716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dicaid remains the largest single payer of nursing home c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6280" y="282384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.  U.S. Health Care Syst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4200" y="380880"/>
            <a:ext cx="8550000" cy="99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ual Growth in Public and Private Sources of Home Health Spending:  CY 1990-2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219320" y="2057400"/>
          <a:ext cx="7503840" cy="40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750384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762120" y="129528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apid growth in public spending for home health ceased in the late 1990s with the BBA’s interim payment system plus increased fraud and abuse efforts under Medica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1880" y="6781680"/>
            <a:ext cx="856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  Note:  BBA indicates the Balanced Budget Act of 1997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200000">
            <a:off x="1062720" y="39657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515960" y="517680"/>
            <a:ext cx="72471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6819840"/>
            <a:ext cx="85341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04400" y="2439000"/>
            <a:ext cx="2044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ctr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55760" y="1127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47920" y="1371600"/>
            <a:ext cx="746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ver the decade, out-of-pocket payments declined while private insurance payments increas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838080" y="2133720"/>
          <a:ext cx="817272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817272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746784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e of Expenditures for Physician and Clinical Services, by Source of Fu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1376280" y="1752480"/>
          <a:ext cx="7145280" cy="45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6280" y="1752480"/>
                    <a:ext cx="714528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762120" y="609480"/>
            <a:ext cx="8534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2120" y="6553080"/>
            <a:ext cx="853416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 Percent change from the same period of previous ye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U.S. Department of Labor, Bureau of Labor Statistic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05360" y="2724120"/>
            <a:ext cx="568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67280" y="4908600"/>
            <a:ext cx="1144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lth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6370200" y="4145040"/>
            <a:ext cx="250920" cy="60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951160" y="2849400"/>
            <a:ext cx="75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1155600"/>
            <a:ext cx="8534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upturn in health spending in 2000 is expected to continue in 2001, as reflected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mployment statistics; health care employment continues to increase while employ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 the overall economy fall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16200000">
            <a:off x="880920" y="3614040"/>
            <a:ext cx="11127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in Total and Health Services Employment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14560" y="1709640"/>
            <a:ext cx="2235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225440" y="1986120"/>
          <a:ext cx="7801200" cy="40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5440" y="1986120"/>
                    <a:ext cx="7801200" cy="40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 rot="16200000">
            <a:off x="26280" y="3677400"/>
            <a:ext cx="208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1143000"/>
            <a:ext cx="855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8080" y="1295280"/>
            <a:ext cx="8550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6160" y="6708600"/>
            <a:ext cx="989784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2120" y="6324480"/>
            <a:ext cx="853416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 Nominal: values expressed in current dollar terms (not adjusted for inflation). Real: values deflated by the GDP chain-weighted price index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22560" y="5983200"/>
            <a:ext cx="1517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343400" y="5945040"/>
            <a:ext cx="162072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16200000">
            <a:off x="848520" y="3604680"/>
            <a:ext cx="76320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1371600"/>
            <a:ext cx="796284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685800"/>
            <a:ext cx="85359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839080" y="4648320"/>
            <a:ext cx="527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717040" y="4059360"/>
            <a:ext cx="1003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6118200" y="2417400"/>
            <a:ext cx="0" cy="31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8550360" y="4232160"/>
            <a:ext cx="30312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8632440" y="4835520"/>
            <a:ext cx="252360" cy="8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382480" y="3236760"/>
            <a:ext cx="20160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22320" y="1238400"/>
            <a:ext cx="82216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ominal health expenditure growth is projected to exceed the growth of the mid- to late 1990s, but fall short of the growth experienced in the late 1980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51160" y="2168640"/>
            <a:ext cx="2034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602520" y="2500200"/>
            <a:ext cx="6706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368760" y="2500200"/>
            <a:ext cx="9010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in National Health Expenditures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14560" y="1709640"/>
            <a:ext cx="2235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060560" y="2514600"/>
          <a:ext cx="7510320" cy="36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2514600"/>
                    <a:ext cx="751032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757080" y="457200"/>
            <a:ext cx="85424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38080" y="1295280"/>
            <a:ext cx="8550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0200" y="6629400"/>
            <a:ext cx="98982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2120" y="6789600"/>
            <a:ext cx="85341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6200000">
            <a:off x="230760" y="3744000"/>
            <a:ext cx="209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16480" y="6195960"/>
            <a:ext cx="131652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16200000">
            <a:off x="470520" y="3947760"/>
            <a:ext cx="132264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 of G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" y="1371600"/>
            <a:ext cx="855036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73840" y="5613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951520" y="2325600"/>
            <a:ext cx="0" cy="354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02520" y="2894040"/>
            <a:ext cx="6706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72040" y="2894040"/>
            <a:ext cx="90108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14400" y="137160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tween 2001 and 2011, health spending is projected to grow 2.5 percent per year faster than GDP, so that by 2011 it will constitute 17 percent of GDP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54200" y="614520"/>
            <a:ext cx="8550000" cy="909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Health Expenditures as a Share 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ss Domestic Product (GDP)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371600" y="3124080"/>
            <a:ext cx="7315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rId1"/>
          </p:cNvPr>
          <p:cNvSpPr/>
          <p:nvPr/>
        </p:nvSpPr>
        <p:spPr>
          <a:xfrm>
            <a:off x="1219320" y="6172200"/>
            <a:ext cx="533160" cy="6858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80">
                <a:moveTo>
                  <a:pt x="0" y="0"/>
                </a:moveTo>
                <a:lnTo>
                  <a:pt x="21600" y="0"/>
                </a:lnTo>
                <a:lnTo>
                  <a:pt x="21600" y="27780"/>
                </a:lnTo>
                <a:lnTo>
                  <a:pt x="0" y="27780"/>
                </a:lnTo>
                <a:close/>
              </a:path>
              <a:path fill="lightenLess" w="21600" h="277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80">
                <a:moveTo>
                  <a:pt x="21600" y="0"/>
                </a:moveTo>
                <a:lnTo>
                  <a:pt x="21600" y="27780"/>
                </a:lnTo>
                <a:lnTo>
                  <a:pt x="20200" y="26380"/>
                </a:lnTo>
                <a:lnTo>
                  <a:pt x="20200" y="1400"/>
                </a:lnTo>
                <a:close/>
              </a:path>
              <a:path fill="darkenLess" w="21600" h="27780">
                <a:moveTo>
                  <a:pt x="21600" y="27780"/>
                </a:moveTo>
                <a:lnTo>
                  <a:pt x="0" y="27780"/>
                </a:lnTo>
                <a:lnTo>
                  <a:pt x="1400" y="26380"/>
                </a:lnTo>
                <a:lnTo>
                  <a:pt x="20200" y="26380"/>
                </a:lnTo>
                <a:close/>
              </a:path>
              <a:path fill="lighten" w="21600" h="27780">
                <a:moveTo>
                  <a:pt x="0" y="277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80"/>
                </a:lnTo>
                <a:close/>
              </a:path>
              <a:path fill="darken" w="21600" h="27780">
                <a:moveTo>
                  <a:pt x="3794" y="13890"/>
                </a:moveTo>
                <a:lnTo>
                  <a:pt x="17806" y="6883"/>
                </a:lnTo>
                <a:lnTo>
                  <a:pt x="17806" y="2089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>
            <a:hlinkClick r:id="rId2"/>
          </p:cNvPr>
          <p:cNvSpPr/>
          <p:nvPr/>
        </p:nvSpPr>
        <p:spPr>
          <a:xfrm>
            <a:off x="8305920" y="6172200"/>
            <a:ext cx="533160" cy="6858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80">
                <a:moveTo>
                  <a:pt x="0" y="0"/>
                </a:moveTo>
                <a:lnTo>
                  <a:pt x="21600" y="0"/>
                </a:lnTo>
                <a:lnTo>
                  <a:pt x="21600" y="27780"/>
                </a:lnTo>
                <a:lnTo>
                  <a:pt x="0" y="27780"/>
                </a:lnTo>
                <a:close/>
              </a:path>
              <a:path fill="lightenLess" w="21600" h="277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80">
                <a:moveTo>
                  <a:pt x="21600" y="0"/>
                </a:moveTo>
                <a:lnTo>
                  <a:pt x="21600" y="27780"/>
                </a:lnTo>
                <a:lnTo>
                  <a:pt x="20200" y="26380"/>
                </a:lnTo>
                <a:lnTo>
                  <a:pt x="20200" y="1400"/>
                </a:lnTo>
                <a:close/>
              </a:path>
              <a:path fill="darkenLess" w="21600" h="27780">
                <a:moveTo>
                  <a:pt x="21600" y="27780"/>
                </a:moveTo>
                <a:lnTo>
                  <a:pt x="0" y="27780"/>
                </a:lnTo>
                <a:lnTo>
                  <a:pt x="1400" y="26380"/>
                </a:lnTo>
                <a:lnTo>
                  <a:pt x="20200" y="26380"/>
                </a:lnTo>
                <a:close/>
              </a:path>
              <a:path fill="lighten" w="21600" h="27780">
                <a:moveTo>
                  <a:pt x="0" y="277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80"/>
                </a:lnTo>
                <a:close/>
              </a:path>
              <a:path fill="darken" w="21600" h="27780">
                <a:moveTo>
                  <a:pt x="3794" y="6883"/>
                </a:moveTo>
                <a:lnTo>
                  <a:pt x="17806" y="13890"/>
                </a:lnTo>
                <a:lnTo>
                  <a:pt x="3794" y="2089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28800" y="6172200"/>
            <a:ext cx="373392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eturn to Main Men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WWW.CMS.HHS.GOV/CHARTS/SE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95680" y="6324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ext Chap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54200" y="918720"/>
            <a:ext cx="8550000" cy="4643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 of Chap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14560" y="1709640"/>
            <a:ext cx="2235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990720" y="2573280"/>
          <a:ext cx="77324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73280"/>
                    <a:ext cx="77324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838080" y="1295280"/>
            <a:ext cx="8550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85800" y="1617840"/>
            <a:ext cx="68900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200" y="6629400"/>
            <a:ext cx="98982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6789600"/>
            <a:ext cx="85341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22560" y="5983200"/>
            <a:ext cx="1517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230760" y="3744000"/>
            <a:ext cx="209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6480" y="6195960"/>
            <a:ext cx="131652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470520" y="3947760"/>
            <a:ext cx="132264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 of G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371600"/>
            <a:ext cx="855036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73840" y="5613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7360" y="2379600"/>
            <a:ext cx="1597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eriod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ccelerated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86600" y="2344680"/>
            <a:ext cx="150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eriod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tab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095880" y="2268360"/>
            <a:ext cx="0" cy="354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1295280"/>
            <a:ext cx="85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apid growth in the health spending share of GDP stabilized beginning in 199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909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Health Expenditures as a Share 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ss Domestic Product (GD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4200" y="7081920"/>
            <a:ext cx="209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36920" y="7081920"/>
            <a:ext cx="3184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14560" y="1709640"/>
            <a:ext cx="2235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76520" y="1905120"/>
          <a:ext cx="7688160" cy="39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05120"/>
                    <a:ext cx="7688160" cy="39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 rot="16200000">
            <a:off x="26280" y="3677400"/>
            <a:ext cx="208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1143000"/>
            <a:ext cx="855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295280"/>
            <a:ext cx="8550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1600200"/>
            <a:ext cx="68914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6160" y="6708600"/>
            <a:ext cx="989784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6400800"/>
            <a:ext cx="853416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 Deflated using the GDP chain weighted price index. Nominal: values expressed in current dollar terms (not adjusted for inflation). Real: values adjusted for economy-wide infl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22560" y="5983200"/>
            <a:ext cx="1517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5943600"/>
            <a:ext cx="16192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1207440" y="3668040"/>
            <a:ext cx="76320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371600"/>
            <a:ext cx="796284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0840" y="4800600"/>
            <a:ext cx="52740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4191120"/>
            <a:ext cx="100332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o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019920" y="1980720"/>
            <a:ext cx="0" cy="371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772040" y="4419720"/>
            <a:ext cx="30492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772040" y="5029200"/>
            <a:ext cx="252360" cy="8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382480" y="3236760"/>
            <a:ext cx="20160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990720"/>
            <a:ext cx="8534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ealth spending growth slowed between 1993 and 2000 to an average incre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f 5.6 percent, about half the rate of increase between 1980 and 199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4200" y="304920"/>
            <a:ext cx="8550000" cy="909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in National Health Expendi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905120" y="1676520"/>
          <a:ext cx="655308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76520"/>
                    <a:ext cx="655308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3840" y="441000"/>
            <a:ext cx="8535960" cy="77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tors Accounting for Growth in Personal Health Care</a:t>
            </a:r>
            <a:r>
              <a:rPr b="1" lang="en-US" sz="2000" spc="-1" strike="noStrike" baseline="42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nditures Per Capi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23720" y="5129280"/>
            <a:ext cx="25066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ected Calendar Year Peri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1084320" y="3182760"/>
            <a:ext cx="256356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erage Annual Percent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3280" y="1380960"/>
            <a:ext cx="8800920" cy="53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8480" y="2057400"/>
            <a:ext cx="241200" cy="2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5410080"/>
            <a:ext cx="8764560" cy="16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Personal health care spending comprises therapeutic goods or services rendered to treat or prevent a specific disease or condition in a specific person.</a:t>
            </a: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Utilization includes quantity, quality, and mix of services.  As a residual, this factor also includes any errors in measuring prices or total spend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Medical prices are calculated using the personal health care chain-type index constructed from the producer price index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hospital care, nursing home input price index for nursing home care, and consumer price indexes specific to each of the remaining personal health care component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171440"/>
            <a:ext cx="85341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most important factor accounting for the slowdown in personal health care expendi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rowth after 1993 was the decline in medical price growth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133720" y="1371600"/>
          <a:ext cx="70038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371600"/>
                    <a:ext cx="70038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508040" y="1122480"/>
            <a:ext cx="729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4200" y="5962680"/>
            <a:ext cx="85420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ther public includes programs such as workers’ compensation, public health activity, Department of Defense, Department of Veterans Affairs, Indian Health Service, and State and local hospital subsidies and school heal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ther private includes industrial in-plant, privately funded construction, and non-patient revenues, including philanthrop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 Numbers shown may not sum due to round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276720"/>
            <a:ext cx="144144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699400" y="7061040"/>
            <a:ext cx="203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1111320"/>
            <a:ext cx="85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dicare, Medicaid, and SCHIP account for one-third of national health spe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00480" y="556272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National Health Spending = $1.3 Tril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743200" y="2690640"/>
            <a:ext cx="639720" cy="17290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4200" y="456840"/>
            <a:ext cx="8550000" cy="68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ation’s Health Dollar, CY 2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61960"/>
            <a:ext cx="8534160" cy="690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Annual Growth in Per-Enrolle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care and Private Health Insurance Benef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95280" y="2081160"/>
          <a:ext cx="789804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081160"/>
                    <a:ext cx="789804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 rot="16200000">
            <a:off x="826200" y="3920400"/>
            <a:ext cx="76320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6424560"/>
            <a:ext cx="183996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endar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6781680"/>
            <a:ext cx="85341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60200" y="2666880"/>
            <a:ext cx="143532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ected Peri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040" y="2666880"/>
            <a:ext cx="115344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ire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86600" y="2819520"/>
            <a:ext cx="117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885840" y="2819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132408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dicare grew slightly slower than private health insurance over the 30-year period, though growth rates diverged significantly in selected perio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542080" cy="72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in Aggregate Medicare Personal Health Care Spe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066680" y="2216160"/>
          <a:ext cx="7778880" cy="41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16160"/>
                    <a:ext cx="7778880" cy="41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762120" y="6781680"/>
            <a:ext cx="85341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, National Health Statistics Grou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108800">
            <a:off x="880200" y="3844080"/>
            <a:ext cx="963360" cy="2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066680"/>
            <a:ext cx="853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llowing rapid growth in expenditures in the early 1990s, the Balanced Budget 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duced the rate of spending growth between 1997 and 1999.  The Balanced Budget Refinement Act contributed to a resurgence of spending in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53416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 in Medicaid Spe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6388200"/>
            <a:ext cx="8534160" cy="6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 DSH is disproportionate share hospital. SCHIP is the State Children’s Health Insurance Program. For a discussion of changing eligibility policies, see K. Levit et al., “Health Spending in 1998: Signals of Change,”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Health Affair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Jan/Feb 2000): 124-132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MS, Office of the Actuary , National Health Statistics Grou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93640" y="1852560"/>
          <a:ext cx="870264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1852560"/>
                    <a:ext cx="870264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762120" y="99072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anging Medicaid eligibility rules and a spillover effect from outreach efforts under S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ed to increasing Medicaid spending in 1998 and 1999 followed by stabilization in 200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65840" y="281952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fare to Work poli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7374960" y="3276720"/>
            <a:ext cx="75960" cy="1218960"/>
          </a:xfrm>
          <a:custGeom>
            <a:avLst/>
            <a:gdLst/>
            <a:ahLst/>
            <a:rect l="l" t="t" r="r" b="b"/>
            <a:pathLst>
              <a:path w="60" h="696">
                <a:moveTo>
                  <a:pt x="0" y="0"/>
                </a:moveTo>
                <a:lnTo>
                  <a:pt x="60" y="6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46680" y="2209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ak in D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37040" y="2362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80240" y="3352680"/>
            <a:ext cx="1524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IP outreach and upper payment limit effects boosts sp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7908840" y="43434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5:16:25Z</dcterms:created>
  <dc:creator>HCFA Software Control</dc:creator>
  <dc:description/>
  <dc:language>en-US</dc:language>
  <cp:lastModifiedBy>CMS</cp:lastModifiedBy>
  <cp:lastPrinted>2002-03-29T22:39:14Z</cp:lastPrinted>
  <dcterms:modified xsi:type="dcterms:W3CDTF">2002-06-14T19:12:46Z</dcterms:modified>
  <cp:revision>377</cp:revision>
  <dc:subject/>
  <dc:title>Medicare and Medicaid Expenditures as a Percent of All National Health Expenditures, Calendar Year 1998</dc:title>
</cp:coreProperties>
</file>