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58400" cy="77724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AEA5-7695-4A88-AED9-CBED945B7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9000" y="715680"/>
            <a:ext cx="4497480" cy="347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95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6CDC-75BD-4491-861B-7F52711D5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4EE4-99E1-438D-B42F-166FAF5AD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228600" y="4368600"/>
            <a:ext cx="640080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ldImg"/>
          </p:nvPr>
        </p:nvSpPr>
        <p:spPr>
          <a:xfrm>
            <a:off x="1201680" y="717480"/>
            <a:ext cx="4452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3E8C-C32F-438F-A4DD-6F4008628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599D-6849-4FA5-80DD-607E273A3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465440" cy="3449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9E70-F9E7-40B6-827D-2DE599530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89080" y="714240"/>
            <a:ext cx="4478400" cy="34624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95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BCB5-A014-4B2F-8BFD-CB85EAE74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914400" y="4395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4132-D12C-4662-9D48-A36E5D9DF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914400" y="4395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09A6-7793-4193-BEF6-BD19C190C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352C-0C1A-40B4-8C4A-8BD3087F4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3DE0-FDB8-452A-B8C2-C7DB27D36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23A4-C613-4453-847A-F845F5796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124C-31E8-4AEA-A4AB-C9E309D57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ldImg"/>
          </p:nvPr>
        </p:nvSpPr>
        <p:spPr>
          <a:xfrm>
            <a:off x="1182600" y="717480"/>
            <a:ext cx="449100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4200" y="4375440"/>
            <a:ext cx="855000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4200" y="43754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5400" y="43754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22442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36160" y="22442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4200" y="43754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43754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36160" y="43754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4200" y="2244240"/>
            <a:ext cx="8550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4200" y="43754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5400" y="43754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4200" y="4375440"/>
            <a:ext cx="855000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240"/>
            <a:ext cx="855000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8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275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7720" indent="-221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0880" indent="-2206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4400" indent="-2210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4400" indent="-2210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4400" indent="-2210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971800" y="7162560"/>
            <a:ext cx="403848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lnSpc>
                <a:spcPct val="15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1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4360" y="455760"/>
            <a:ext cx="8683560" cy="662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23880" y="7162920"/>
            <a:ext cx="19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I. Page </a:t>
            </a:r>
            <a:fld id="{45FF4673-951B-43D2-9650-C161C33BF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5160" y="7162920"/>
            <a:ext cx="140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002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ms.hhs.gov/charts/series/default.asp" TargetMode="External"/><Relationship Id="rId2" Type="http://schemas.openxmlformats.org/officeDocument/2006/relationships/hyperlink" Target="http://www.cms.hhs.gov/charts/series/sec2.ppt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0058400" cy="77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CMSlogo" descr=""/>
          <p:cNvPicPr/>
          <p:nvPr/>
        </p:nvPicPr>
        <p:blipFill>
          <a:blip r:embed="rId1"/>
          <a:stretch/>
        </p:blipFill>
        <p:spPr>
          <a:xfrm>
            <a:off x="7794720" y="6477120"/>
            <a:ext cx="1780920" cy="772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7520" y="690480"/>
            <a:ext cx="8967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727280"/>
            <a:ext cx="10058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4800" y="258840"/>
            <a:ext cx="9472680" cy="4232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RDIlogcol" descr=""/>
          <p:cNvPicPr/>
          <p:nvPr/>
        </p:nvPicPr>
        <p:blipFill>
          <a:blip r:embed="rId2"/>
          <a:stretch/>
        </p:blipFill>
        <p:spPr>
          <a:xfrm>
            <a:off x="471600" y="6559560"/>
            <a:ext cx="1288800" cy="663480"/>
          </a:xfrm>
          <a:prstGeom prst="rect">
            <a:avLst/>
          </a:prstGeom>
          <a:ln w="0">
            <a:noFill/>
          </a:ln>
        </p:spPr>
      </p:pic>
      <p:pic>
        <p:nvPicPr>
          <p:cNvPr id="55" name="WideCMS(800x75)" descr=""/>
          <p:cNvPicPr/>
          <p:nvPr/>
        </p:nvPicPr>
        <p:blipFill>
          <a:blip r:embed="rId3"/>
          <a:stretch/>
        </p:blipFill>
        <p:spPr>
          <a:xfrm>
            <a:off x="0" y="5354640"/>
            <a:ext cx="10058400" cy="971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Program Information</a:t>
            </a:r>
            <a:br>
              <a:rPr sz="3600"/>
            </a:br>
            <a:br>
              <a:rPr sz="1800"/>
            </a:br>
            <a:br>
              <a:rPr sz="3600"/>
            </a:b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on Medicare, Medicaid, SCHIP,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and other programs of the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Centers for Medicare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&amp;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Medicaid Ser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7080" y="7167600"/>
            <a:ext cx="15213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ne 2002 Ed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96920" y="1311120"/>
            <a:ext cx="223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608120" y="933480"/>
          <a:ext cx="714384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8120" y="933480"/>
                    <a:ext cx="714384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012680" y="1225440"/>
            <a:ext cx="22392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1468440"/>
            <a:ext cx="85503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6391440"/>
            <a:ext cx="853416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Other spending includes dentist services, other professional services, home health, durable medical products, over-the-counter medicines and sundries, public health, research and constru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99072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spital and physician spending accounts for more than half of all health spending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5791320"/>
            <a:ext cx="35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Health Spending = $1.3 Tril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68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ation’s Health Dollar, CY 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914400" y="1905120"/>
          <a:ext cx="8599320" cy="45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8599320" cy="45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10058400" cy="69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nditures for Health Services, by All Pay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896760" y="3562200"/>
            <a:ext cx="155412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 S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7920" y="2462040"/>
            <a:ext cx="16714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2160" y="6781680"/>
            <a:ext cx="83804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Centers for Medicare &amp; Medicaid Services, Office of the Actuary, National 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5880" y="1314360"/>
            <a:ext cx="85867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recent years, the hospital share of total spending has decreased while the prescription drug share has increas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14560" y="1709640"/>
            <a:ext cx="223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14400" y="2233440"/>
          <a:ext cx="7961400" cy="39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33440"/>
                    <a:ext cx="7961400" cy="39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 rot="16200000">
            <a:off x="26280" y="3677400"/>
            <a:ext cx="208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1295280"/>
            <a:ext cx="855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5800" y="1617840"/>
            <a:ext cx="68900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6160" y="6708600"/>
            <a:ext cx="98978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6781680"/>
            <a:ext cx="8534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22560" y="5983200"/>
            <a:ext cx="1517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230760" y="3744000"/>
            <a:ext cx="20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0160" y="6195960"/>
            <a:ext cx="13165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519840" y="3723120"/>
            <a:ext cx="7632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9960" y="1380960"/>
            <a:ext cx="855036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73840" y="5613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45480" y="5076720"/>
            <a:ext cx="117972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re of N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3678120"/>
            <a:ext cx="73800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790960" y="3943440"/>
            <a:ext cx="25236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6851520" y="4836600"/>
            <a:ext cx="82800" cy="3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96120" y="7234200"/>
            <a:ext cx="203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130824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harply rising prescription drug expenditure growth nationwide in the mid- to late 1990s caused noticeable growth in prescription drugs as a share of total health s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564040" y="28195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59640" y="403848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4960" y="35812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1640" y="472428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87360" y="456840"/>
            <a:ext cx="739944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cription Drug Expenditure Growth and Share of National Health Expendi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85800" y="2133720"/>
          <a:ext cx="47242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47242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995400" y="5730840"/>
            <a:ext cx="220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561960"/>
            <a:ext cx="853416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419720" y="1371600"/>
          <a:ext cx="5259240" cy="446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371600"/>
                    <a:ext cx="5259240" cy="44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6167520" y="1989000"/>
            <a:ext cx="183348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1981080"/>
            <a:ext cx="201132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7720" y="2344680"/>
            <a:ext cx="10605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5181120"/>
            <a:ext cx="7682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22440" y="2742840"/>
            <a:ext cx="120060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-of-p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2895120"/>
            <a:ext cx="1828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te Health In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3080" y="2734920"/>
            <a:ext cx="120060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-of-p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03240" y="5174640"/>
            <a:ext cx="7876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4335120"/>
            <a:ext cx="1523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te Health In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6800" y="6553440"/>
            <a:ext cx="852948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Data are Calendar 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01916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financing of prescription drug expenditures has rapidly shifted from consumer out-of-pocket spending to private health insuran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68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nditures for Prescription Drugs, by Source of Fu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Prescription Drug Out-of-Pocket and Private Health Insurance Sp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54200" y="2244600"/>
          <a:ext cx="855000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2244600"/>
                    <a:ext cx="855000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754200" y="690480"/>
            <a:ext cx="8550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1371600"/>
            <a:ext cx="84582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an effort to control rising drug spending, insurers implemented tiered co-pays that shifted part of spending growth back to consumers. This contributed to a smaller gap between the rate of out-of-pocket and private health insurance spending growth in recent yea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6781680"/>
            <a:ext cx="8534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54200" y="517680"/>
            <a:ext cx="85500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106640" y="1697040"/>
          <a:ext cx="7275240" cy="478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1697040"/>
                    <a:ext cx="727524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762120" y="6819840"/>
            <a:ext cx="85341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8640" y="2346120"/>
            <a:ext cx="204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88640" y="2803320"/>
            <a:ext cx="204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55760" y="112536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4200" y="1415880"/>
            <a:ext cx="8535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igher public payments have offset lower private payments in the past deca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4200" y="609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nditures for Hospital Services by Source of Fu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2057400" y="2057400"/>
          <a:ext cx="6114960" cy="40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61149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 rot="16200000">
            <a:off x="1122120" y="3709800"/>
            <a:ext cx="17362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harges per 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6215000">
            <a:off x="7963200" y="3705120"/>
            <a:ext cx="57024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660240"/>
            <a:ext cx="85341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6400800"/>
            <a:ext cx="8534160" cy="6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This chart captures discharges and length of stay for all patients of all payers in non-federal hospitals with average lengths of stays of less than 30 day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U.S National Center for Health Statistics,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Vital and Health Statistic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, Series 13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121932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implementation of the Medicare prospective payment system and the rise of manag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re have contributed to a noticeable decline in both discharges and average length of st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-Stay Hospitals: Discharges and Length of Stay for All Pay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5480" y="2482920"/>
            <a:ext cx="9572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95720" y="7140600"/>
            <a:ext cx="166212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9960" y="345960"/>
            <a:ext cx="855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4200" y="1468440"/>
            <a:ext cx="8550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24080" y="1628640"/>
            <a:ext cx="795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533520"/>
            <a:ext cx="8534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523880" y="1905120"/>
          <a:ext cx="7066080" cy="47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7066080" cy="47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762120" y="6553080"/>
            <a:ext cx="853416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Community hospitals are all non-federal, short-term general, and special hospitals whose activities are available to the publi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12952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ver the last 20 years there has been a significant shift in the composition of heal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rvices as more treatments are performed in the outpatient set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739800" y="36331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ty Hospital Expenditures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atient and Outpatient Shares for All Pay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143000" y="1863720"/>
          <a:ext cx="75531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3720"/>
                    <a:ext cx="75531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4637880" y="6248520"/>
            <a:ext cx="123336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40200" y="507960"/>
            <a:ext cx="2034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05040" y="4114800"/>
            <a:ext cx="96660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ut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95760" y="5257800"/>
            <a:ext cx="8398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20000" y="2048040"/>
            <a:ext cx="1217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re P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60720" y="2589120"/>
            <a:ext cx="0" cy="11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72080" y="2733840"/>
            <a:ext cx="1216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d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6743160" y="3085920"/>
            <a:ext cx="533520" cy="1523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010280" y="32796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7120" y="1222200"/>
            <a:ext cx="85932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naged care contributed to the slower pace in inpatient expenditure growth and the continued move of services to outpatient settings that began with the introduction of Medicare P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7720" y="6553080"/>
            <a:ext cx="823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Community hospitals are all non-federal, short-term general and special hospitals whose facilities are available to the publi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04760" y="461520"/>
            <a:ext cx="61722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Inpatient and Outpatient Expenditures in Community Hospitals for All Payers, 1980-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517680"/>
            <a:ext cx="8534160" cy="777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ion of Funding for Freestand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rsing Home Expenditures for All Payers, CY 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914400" y="1752480"/>
          <a:ext cx="8229600" cy="480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8229600" cy="48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762120" y="6559560"/>
            <a:ext cx="853416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Hospital-based Skilled Nursing Facilities are exclud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24480" y="3200400"/>
            <a:ext cx="11588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22600" y="4191120"/>
            <a:ext cx="80640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98920" y="1974960"/>
            <a:ext cx="973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82960" y="5715000"/>
            <a:ext cx="1084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 Other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13716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dicaid remains the largest single payer of nursing home c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6280" y="282384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.  U.S. Health Care 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4200" y="380880"/>
            <a:ext cx="8550000" cy="99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ual Growth in Public and Private Sources of Home Health Spending:  CY 1990-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219320" y="2057400"/>
          <a:ext cx="750384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50384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762120" y="12952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apid growth in public spending for home health ceased in the late 1990s with the BBA’s interim payment system plus increased fraud and abuse efforts under Medic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1880" y="6781680"/>
            <a:ext cx="856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  Note:  BBA indicates the Balanced Budget Act of 1997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1062720" y="39657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515960" y="517680"/>
            <a:ext cx="72471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6819840"/>
            <a:ext cx="85341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04400" y="2439000"/>
            <a:ext cx="2044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55760" y="1127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47920" y="1371600"/>
            <a:ext cx="74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ver the decade, out-of-pocket payments declined while private insurance payments increas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838080" y="2133720"/>
          <a:ext cx="817272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817272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746784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 of Expenditures for Physician and Clinical Services, by Source of Fu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1376280" y="1752480"/>
          <a:ext cx="714528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6280" y="1752480"/>
                    <a:ext cx="714528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62120" y="609480"/>
            <a:ext cx="8534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6553080"/>
            <a:ext cx="853416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 Percent change from the same period of previous 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U.S. Department of Labor, Bureau of Labor Statistic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05360" y="2724120"/>
            <a:ext cx="568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67280" y="4908600"/>
            <a:ext cx="1144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lth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6370200" y="4145040"/>
            <a:ext cx="250920" cy="60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951160" y="2849400"/>
            <a:ext cx="75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1155600"/>
            <a:ext cx="8534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upturn in health spending in 2000 is expected to continue in 2001, as reflected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mployment statistics; health care employment continues to increase while employ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the overall economy fall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6200000">
            <a:off x="880920" y="3614040"/>
            <a:ext cx="1112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Total and Health Services Employment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14560" y="1709640"/>
            <a:ext cx="223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25440" y="1986120"/>
          <a:ext cx="7801200" cy="40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5440" y="1986120"/>
                    <a:ext cx="7801200" cy="40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 rot="16200000">
            <a:off x="26280" y="3677400"/>
            <a:ext cx="208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1143000"/>
            <a:ext cx="855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1295280"/>
            <a:ext cx="855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6160" y="6708600"/>
            <a:ext cx="98978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120" y="6324480"/>
            <a:ext cx="853416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 Nominal: values expressed in current dollar terms (not adjusted for inflation). Real: values deflated by the GDP chain-weighted price index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22560" y="5983200"/>
            <a:ext cx="1517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43400" y="5945040"/>
            <a:ext cx="16207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16200000">
            <a:off x="848520" y="3604680"/>
            <a:ext cx="7632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1371600"/>
            <a:ext cx="796284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685800"/>
            <a:ext cx="8535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839080" y="4648320"/>
            <a:ext cx="527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717040" y="4059360"/>
            <a:ext cx="1003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6118200" y="2417400"/>
            <a:ext cx="0" cy="31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8550360" y="4232160"/>
            <a:ext cx="30312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8632440" y="4835520"/>
            <a:ext cx="252360" cy="8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382480" y="3236760"/>
            <a:ext cx="20160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22320" y="1238400"/>
            <a:ext cx="82216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minal health expenditure growth is projected to exceed the growth of the mid- to late 1990s, but fall short of the growth experienced in the late 1980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51160" y="2168640"/>
            <a:ext cx="2034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02520" y="2500200"/>
            <a:ext cx="6706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68760" y="2500200"/>
            <a:ext cx="9010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National Health Expenditures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14560" y="1709640"/>
            <a:ext cx="223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60560" y="2514600"/>
          <a:ext cx="7510320" cy="36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2514600"/>
                    <a:ext cx="751032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57080" y="457200"/>
            <a:ext cx="85424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38080" y="1295280"/>
            <a:ext cx="855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0200" y="6629400"/>
            <a:ext cx="98982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2120" y="6789600"/>
            <a:ext cx="85341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230760" y="3744000"/>
            <a:ext cx="20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16480" y="6195960"/>
            <a:ext cx="13165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470520" y="3947760"/>
            <a:ext cx="132264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 of G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1371600"/>
            <a:ext cx="855036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73840" y="5613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951520" y="2325600"/>
            <a:ext cx="0" cy="354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02520" y="2894040"/>
            <a:ext cx="6706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72040" y="2894040"/>
            <a:ext cx="9010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14400" y="137160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tween 2001 and 2011, health spending is projected to grow 2.5 percent per year faster than GDP, so that by 2011 it will constitute 17 percent of GDP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54200" y="614520"/>
            <a:ext cx="8550000" cy="909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Health Expenditures as a Share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ss Domestic Product (GDP)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371600" y="3124080"/>
            <a:ext cx="7315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rId1"/>
          </p:cNvPr>
          <p:cNvSpPr/>
          <p:nvPr/>
        </p:nvSpPr>
        <p:spPr>
          <a:xfrm>
            <a:off x="1219320" y="6172200"/>
            <a:ext cx="533160" cy="6858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80">
                <a:moveTo>
                  <a:pt x="0" y="0"/>
                </a:moveTo>
                <a:lnTo>
                  <a:pt x="21600" y="0"/>
                </a:lnTo>
                <a:lnTo>
                  <a:pt x="21600" y="27780"/>
                </a:lnTo>
                <a:lnTo>
                  <a:pt x="0" y="27780"/>
                </a:lnTo>
                <a:close/>
              </a:path>
              <a:path fill="lightenLess" w="21600" h="27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80">
                <a:moveTo>
                  <a:pt x="21600" y="0"/>
                </a:moveTo>
                <a:lnTo>
                  <a:pt x="21600" y="27780"/>
                </a:lnTo>
                <a:lnTo>
                  <a:pt x="20200" y="26380"/>
                </a:lnTo>
                <a:lnTo>
                  <a:pt x="20200" y="1400"/>
                </a:lnTo>
                <a:close/>
              </a:path>
              <a:path fill="darkenLess" w="21600" h="27780">
                <a:moveTo>
                  <a:pt x="21600" y="27780"/>
                </a:moveTo>
                <a:lnTo>
                  <a:pt x="0" y="27780"/>
                </a:lnTo>
                <a:lnTo>
                  <a:pt x="1400" y="26380"/>
                </a:lnTo>
                <a:lnTo>
                  <a:pt x="20200" y="26380"/>
                </a:lnTo>
                <a:close/>
              </a:path>
              <a:path fill="lighten" w="21600" h="27780">
                <a:moveTo>
                  <a:pt x="0" y="27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80"/>
                </a:lnTo>
                <a:close/>
              </a:path>
              <a:path fill="darken" w="21600" h="27780">
                <a:moveTo>
                  <a:pt x="3794" y="13890"/>
                </a:moveTo>
                <a:lnTo>
                  <a:pt x="17806" y="6883"/>
                </a:lnTo>
                <a:lnTo>
                  <a:pt x="17806" y="2089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>
            <a:hlinkClick r:id="rId2"/>
          </p:cNvPr>
          <p:cNvSpPr/>
          <p:nvPr/>
        </p:nvSpPr>
        <p:spPr>
          <a:xfrm>
            <a:off x="8305920" y="6172200"/>
            <a:ext cx="533160" cy="6858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80">
                <a:moveTo>
                  <a:pt x="0" y="0"/>
                </a:moveTo>
                <a:lnTo>
                  <a:pt x="21600" y="0"/>
                </a:lnTo>
                <a:lnTo>
                  <a:pt x="21600" y="27780"/>
                </a:lnTo>
                <a:lnTo>
                  <a:pt x="0" y="27780"/>
                </a:lnTo>
                <a:close/>
              </a:path>
              <a:path fill="lightenLess" w="21600" h="27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80">
                <a:moveTo>
                  <a:pt x="21600" y="0"/>
                </a:moveTo>
                <a:lnTo>
                  <a:pt x="21600" y="27780"/>
                </a:lnTo>
                <a:lnTo>
                  <a:pt x="20200" y="26380"/>
                </a:lnTo>
                <a:lnTo>
                  <a:pt x="20200" y="1400"/>
                </a:lnTo>
                <a:close/>
              </a:path>
              <a:path fill="darkenLess" w="21600" h="27780">
                <a:moveTo>
                  <a:pt x="21600" y="27780"/>
                </a:moveTo>
                <a:lnTo>
                  <a:pt x="0" y="27780"/>
                </a:lnTo>
                <a:lnTo>
                  <a:pt x="1400" y="26380"/>
                </a:lnTo>
                <a:lnTo>
                  <a:pt x="20200" y="26380"/>
                </a:lnTo>
                <a:close/>
              </a:path>
              <a:path fill="lighten" w="21600" h="27780">
                <a:moveTo>
                  <a:pt x="0" y="27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80"/>
                </a:lnTo>
                <a:close/>
              </a:path>
              <a:path fill="darken" w="21600" h="27780">
                <a:moveTo>
                  <a:pt x="3794" y="6883"/>
                </a:moveTo>
                <a:lnTo>
                  <a:pt x="17806" y="13890"/>
                </a:lnTo>
                <a:lnTo>
                  <a:pt x="3794" y="2089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28800" y="6172200"/>
            <a:ext cx="373392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turn to Main Men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WWW.CMS.HHS.GOV/CHARTS/S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95680" y="6324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xt Chap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54200" y="918720"/>
            <a:ext cx="8550000" cy="4643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 of Chap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14560" y="1709640"/>
            <a:ext cx="223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990720" y="2573280"/>
          <a:ext cx="77324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73280"/>
                    <a:ext cx="77324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838080" y="1295280"/>
            <a:ext cx="855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85800" y="1617840"/>
            <a:ext cx="68900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200" y="6629400"/>
            <a:ext cx="98982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6789600"/>
            <a:ext cx="8534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22560" y="5983200"/>
            <a:ext cx="1517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230760" y="3744000"/>
            <a:ext cx="20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6480" y="6195960"/>
            <a:ext cx="13165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470520" y="3947760"/>
            <a:ext cx="132264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 of G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371600"/>
            <a:ext cx="855036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73840" y="5613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7360" y="2379600"/>
            <a:ext cx="1597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riod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ccelerated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2344680"/>
            <a:ext cx="150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riod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tab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095880" y="2268360"/>
            <a:ext cx="0" cy="354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29528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apid growth in the health spending share of GDP stabilized beginning in 199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Health Expenditures as a Share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ss Domestic Product (GD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14560" y="1709640"/>
            <a:ext cx="223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76520" y="1905120"/>
          <a:ext cx="7688160" cy="39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7688160" cy="39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 rot="16200000">
            <a:off x="26280" y="3677400"/>
            <a:ext cx="208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143000"/>
            <a:ext cx="855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295280"/>
            <a:ext cx="855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1600200"/>
            <a:ext cx="68914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6160" y="6708600"/>
            <a:ext cx="98978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6400800"/>
            <a:ext cx="853416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 Deflated using the GDP chain weighted price index. Nominal: values expressed in current dollar terms (not adjusted for inflation). Real: values adjusted for economy-wide infl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22560" y="5983200"/>
            <a:ext cx="1517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5943600"/>
            <a:ext cx="16192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1207440" y="3668040"/>
            <a:ext cx="7632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371600"/>
            <a:ext cx="796284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0840" y="4800600"/>
            <a:ext cx="52740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4191120"/>
            <a:ext cx="100332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19920" y="1980720"/>
            <a:ext cx="0" cy="371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772040" y="4419720"/>
            <a:ext cx="30492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772040" y="5029200"/>
            <a:ext cx="252360" cy="8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382480" y="3236760"/>
            <a:ext cx="20160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990720"/>
            <a:ext cx="8534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ealth spending growth slowed between 1993 and 2000 to an average incre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f 5.6 percent, about half the rate of increase between 1980 and 199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4200" y="304920"/>
            <a:ext cx="8550000" cy="909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National Health Expendi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905120" y="1676520"/>
          <a:ext cx="65530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76520"/>
                    <a:ext cx="65530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3840" y="441000"/>
            <a:ext cx="8535960" cy="77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s Accounting for Growth in Personal Health Care</a:t>
            </a:r>
            <a:r>
              <a:rPr b="1" lang="en-US" sz="2000" spc="-1" strike="noStrike" baseline="42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nditures Per Capi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23720" y="5129280"/>
            <a:ext cx="25066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ed Calendar Year Peri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084320" y="3182760"/>
            <a:ext cx="256356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age Annual Percent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3280" y="1380960"/>
            <a:ext cx="8800920" cy="53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8480" y="2057400"/>
            <a:ext cx="241200" cy="2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5410080"/>
            <a:ext cx="876456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Personal health care spending comprises therapeutic goods or services rendered to treat or prevent a specific disease or condition in a specific person.</a:t>
            </a: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Utilization includes quantity, quality, and mix of services.  As a residual, this factor also includes any errors in measuring prices or total spend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Medical prices are calculated using the personal health care chain-type index constructed from the producer price index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hospital care, nursing home input price index for nursing home care, and consumer price indexes specific to each of the remaining personal health care component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171440"/>
            <a:ext cx="85341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most important factor accounting for the slowdown in personal health care expendi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owth after 1993 was the decline in medical price growt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133720" y="1371600"/>
          <a:ext cx="70038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371600"/>
                    <a:ext cx="70038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508040" y="1122480"/>
            <a:ext cx="729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4200" y="5962680"/>
            <a:ext cx="85420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ther public includes programs such as workers’ compensation, public health activity, Department of Defense, Department of Veterans Affairs, Indian Health Service, and State and local hospital subsidies and school heal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ther private includes industrial in-plant, privately funded construction, and non-patient revenues, including philanthrop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 Numbers shown may not sum due to round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276720"/>
            <a:ext cx="144144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699400" y="7061040"/>
            <a:ext cx="203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11132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dicare, Medicaid, and SCHIP account for one-third of national health s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00480" y="556272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National Health Spending = $1.3 Tril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743200" y="2690640"/>
            <a:ext cx="639720" cy="1729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68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ation’s Health Dollar, CY 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61960"/>
            <a:ext cx="8534160" cy="6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Annual Growth in Per-Enrolle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care and Private Health Insurance Benef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95280" y="2081160"/>
          <a:ext cx="789804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81160"/>
                    <a:ext cx="789804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 rot="16200000">
            <a:off x="826200" y="3920400"/>
            <a:ext cx="7632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6424560"/>
            <a:ext cx="183996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6781680"/>
            <a:ext cx="8534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0200" y="2666880"/>
            <a:ext cx="14353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ed Peri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040" y="2666880"/>
            <a:ext cx="115344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ire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2819520"/>
            <a:ext cx="117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885840" y="2819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3240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dicare grew slightly slower than private health insurance over the 30-year period, though growth rates diverged significantly in selected perio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542080" cy="72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Aggregate Medicare Personal Health Care Sp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066680" y="2216160"/>
          <a:ext cx="7778880" cy="41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16160"/>
                    <a:ext cx="777888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762120" y="6781680"/>
            <a:ext cx="8534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108800">
            <a:off x="880200" y="3844080"/>
            <a:ext cx="96336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066680"/>
            <a:ext cx="853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llowing rapid growth in expenditures in the early 1990s, the Balanced Budget 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duced the rate of spending growth between 1997 and 1999.  The Balanced Budget Refinement Act contributed to a resurgence of spending in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53416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Medicaid Sp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6388200"/>
            <a:ext cx="8534160" cy="6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 DSH is disproportionate share hospital. SCHIP is the State Children’s Health Insurance Program. For a discussion of changing eligibility policies, see K. Levit et al., “Health Spending in 1998: Signals of Change,”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Health Affair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Jan/Feb 2000): 124-132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 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93640" y="1852560"/>
          <a:ext cx="870264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1852560"/>
                    <a:ext cx="87026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762120" y="99072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anging Medicaid eligibility rules and a spillover effect from outreach efforts under S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ed to increasing Medicaid spending in 1998 and 1999 followed by stabilization in 200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65840" y="28195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fare to Work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374960" y="3276720"/>
            <a:ext cx="75960" cy="1218960"/>
          </a:xfrm>
          <a:custGeom>
            <a:avLst/>
            <a:gdLst/>
            <a:ahLst/>
            <a:rect l="l" t="t" r="r" b="b"/>
            <a:pathLst>
              <a:path w="60" h="696">
                <a:moveTo>
                  <a:pt x="0" y="0"/>
                </a:moveTo>
                <a:lnTo>
                  <a:pt x="60" y="6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46680" y="2209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ak in D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7040" y="2362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80240" y="3352680"/>
            <a:ext cx="1524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IP outreach and upper payment limit effects boosts sp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908840" y="43434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5:16:25Z</dcterms:created>
  <dc:creator>HCFA Software Control</dc:creator>
  <dc:description/>
  <dc:language>en-US</dc:language>
  <cp:lastModifiedBy>CMS</cp:lastModifiedBy>
  <cp:lastPrinted>2002-03-29T22:39:14Z</cp:lastPrinted>
  <dcterms:modified xsi:type="dcterms:W3CDTF">2002-06-14T19:12:46Z</dcterms:modified>
  <cp:revision>377</cp:revision>
  <dc:subject/>
  <dc:title>Medicare and Medicaid Expenditures as a Percent of All National Health Expenditures, Calendar Year 1998</dc:title>
</cp:coreProperties>
</file>