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C50-1C5D-4A10-85CF-76B113434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08983-B283-4D71-9D01-3FC01C849A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Hospital is the heart of the Rural Community; export wheat all over the world, our hospital is the largest employer in Lincoln Coun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1E96-5A09-470F-AFDC-A7F0E55CC5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369: Subcutaneous infusion for therapy or prophylaxis (specify substance or drug); initial, up to 1 hour, including pump set up and establishment of subcutaneou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usion site(s) NSED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370: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bcutaneous infusion for therapy or prophylaxis (specify substance or drug); additional pump setup with establishment of new subcutaneous infusion site(s) (List separately in addition to code for primary procedure) NSED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6371: Subcutaneous infusion for therapy or prophylaxis (specify substance or drug); additional pump setup with establishment of new subcutaneous infusion site(s) (List separately in addition to code for primary procedur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 Point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lexity of Servic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uity of the patients receiving the servic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bability of unexpected or adverse patient even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ectation of rapid clinical changes during the therapeutic service or procedu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nt changes in technology or practice patterns that affect a procedure’s safe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linical context in which the service is delivered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C0C60-AA8B-44F7-AC4C-BC9637EAEF8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rontier hospital it means patients will be required to travel long distances for outpatient services to an urban facility.  This will increase cost to the patient; transportation and possibly lodging.  At times the patient must be transferred via ambulance for safety.  This will increase costs to patient, Medicare and Private insu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t for patients: transportation, lodging, meals, finding someone to take patient or go by ambula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C6F3-89D4-4A80-9363-BA2D8F6AB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BC3-041D-4648-B11F-4C835A16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406C-AFF6-4D81-81CE-7F36C82FF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E284-69A3-4E67-B59D-06343A6A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67B44-9552-4DDB-82F9-FC8EC46D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11A9-F56E-4953-90D9-316B8804E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10A1-0DD9-4C6C-84A7-9C4A81C7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8006-A932-419D-9A3F-0E5A35217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3DF60-BA91-4B3E-9827-1E53DDEF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C248-7C3A-4001-94A4-D3404FA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097DA-4A33-40D6-9D79-5EE35FF0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266F-A915-4116-B2C6-C327C5B7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AE57-CF4A-4AA0-9A12-2C29932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9EB-A9FE-4453-9617-E50631D1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FC33-B847-4823-899B-AE2CED94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0393-ADC2-44F2-917D-A8D3CDF04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0969-8A10-4E79-AD12-C5DCD5318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3ED1-6E49-4400-ADEA-4E015040D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A3D1-C357-4F84-980E-605E13E5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F82-B86C-4A4B-8CA3-383426E2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E3E-BE03-4506-A842-92810DDE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7766-9996-42ED-98AC-799FF185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2F4-AA8F-4C59-B4C8-F9070C4D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5707-619C-4EBA-9804-AD72D715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7445-6231-4677-A936-CB27DDB1F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C334-A91F-4971-A4C2-E17EB46821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09480" y="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upervision of Hospital Outpatient Therapeutic Servic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5029200" y="2362320"/>
            <a:ext cx="32004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r. Robert St. Clair, M.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mary Care Provi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ncoln Hospital District #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venport, Washingt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5 beds, 3 Rural Health Clinics and Medical H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ritical Access Hospi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7" descr="doc pic"/>
          <p:cNvPicPr/>
          <p:nvPr/>
        </p:nvPicPr>
        <p:blipFill>
          <a:blip r:embed="rId1"/>
          <a:stretch/>
        </p:blipFill>
        <p:spPr>
          <a:xfrm>
            <a:off x="685800" y="2522520"/>
            <a:ext cx="3429000" cy="30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Direct and NSEDTS Supervision Cod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403848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36430-Blood Transfu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7597-Pulse Lavage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9211-Treatment Room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1447560"/>
            <a:ext cx="40384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6369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6370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9637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533520" y="1600200"/>
            <a:ext cx="809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 Supervisio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SED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33520" y="1600200"/>
            <a:ext cx="7696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Patient Imp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cost for patients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onvenience for Patients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 of End of Life Care Close to Ho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tient Transfers to other facili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bul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The Facility Imp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ss to facility over $500,000 &amp; Cost to facility $655,20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nic Clos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ll generate an increase in ER vis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conomic Sustainability for the communities we ser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atient Safety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 staff are ACLS and PALS trai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n call physicians are less than 10 minutes from fac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rtual Hospitalist 24/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utting edge equipment in 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9T21:54:01Z</dcterms:created>
  <dc:creator>spanglerc</dc:creator>
  <dc:description/>
  <dc:language>en-US</dc:language>
  <cp:lastModifiedBy>Chuck Braver</cp:lastModifiedBy>
  <dcterms:modified xsi:type="dcterms:W3CDTF">2014-02-12T17:04:48Z</dcterms:modified>
  <cp:revision>15</cp:revision>
  <dc:subject/>
  <dc:title>Slide 1</dc:title>
</cp:coreProperties>
</file>