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008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D34-93E7-4033-BACB-408278F3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544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5507640"/>
            <a:ext cx="544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DF6-8ACF-429E-9D43-D2E20B5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808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550764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68080" y="550764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88B-401A-44FC-B1E9-D2C2B0DE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19480" y="264168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59800" y="264168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550764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19480" y="550764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59800" y="5507640"/>
            <a:ext cx="1752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E5C-3ABA-4C75-8207-6A50DA08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641680"/>
            <a:ext cx="5441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97D-082E-4DE1-A24F-DB00916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544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226-BF4A-4E94-B122-18E0466A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2655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68080" y="2641680"/>
            <a:ext cx="2655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5E5-B8F3-4076-95A0-4437D98F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304-B33B-4E7B-A208-57E9A52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812520"/>
            <a:ext cx="54417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3D0-3B81-4639-ADF1-C5D410B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68080" y="2641680"/>
            <a:ext cx="2655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550764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825-81C7-45BD-AB60-401ADF7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2655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6808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68080" y="550764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E06-E6AC-453E-85C1-056A313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68080" y="2641680"/>
            <a:ext cx="2655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5507640"/>
            <a:ext cx="544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F48-B311-48C3-B648-90CE68E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812520"/>
            <a:ext cx="544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641680"/>
            <a:ext cx="544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8331120"/>
            <a:ext cx="1333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87720" y="8331120"/>
            <a:ext cx="2025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87840" y="8331120"/>
            <a:ext cx="1333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745F-BEA4-49A3-82B6-0A62A2A4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0" y="0"/>
            <a:ext cx="6400800" cy="236232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14960"/>
            <a:ext cx="6400800" cy="236232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Garamond"/>
              </a:rPr>
              <a:t>D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Garamond"/>
              </a:rPr>
              <a:t>Time: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Garamond"/>
              </a:rPr>
              <a:t>Place:</a:t>
            </a:r>
            <a:r>
              <a:rPr b="0" lang="en-US" sz="13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Garamond"/>
              </a:rPr>
              <a:t>Local Point of Contact:</a:t>
            </a:r>
            <a:r>
              <a:rPr b="0" lang="en-US" sz="13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Garamond"/>
              </a:rPr>
              <a:t>Telephone Number:</a:t>
            </a:r>
            <a:r>
              <a:rPr b="0" lang="en-US" sz="1300" spc="-1" strike="noStrike">
                <a:solidFill>
                  <a:srgbClr val="000066"/>
                </a:solidFill>
                <a:latin typeface="Garamond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5800" y="293760"/>
            <a:ext cx="58215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aramond"/>
              </a:rPr>
              <a:t>MED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Resident, Practicing Physician, and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Health Care Professional Tra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aramond"/>
              </a:rPr>
              <a:t>is coming to</a:t>
            </a: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[Insert Name of Organizatio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Medicare Learning Network"/>
          <p:cNvPicPr/>
          <p:nvPr/>
        </p:nvPicPr>
        <p:blipFill>
          <a:blip r:embed="rId1"/>
          <a:stretch/>
        </p:blipFill>
        <p:spPr>
          <a:xfrm>
            <a:off x="2943360" y="290520"/>
            <a:ext cx="55080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44720" y="406872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6400" y="388620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MS log Blk IBM " descr=""/>
          <p:cNvPicPr/>
          <p:nvPr/>
        </p:nvPicPr>
        <p:blipFill>
          <a:blip r:embed="rId2"/>
          <a:stretch/>
        </p:blipFill>
        <p:spPr>
          <a:xfrm>
            <a:off x="303120" y="263520"/>
            <a:ext cx="1147680" cy="527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82840"/>
            <a:ext cx="6400800" cy="388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ATTENTION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entury Gothic"/>
              </a:rPr>
              <a:t>FINISHING RESIDENTS AND OTHER HEALTH C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entury Gothic"/>
              </a:rPr>
              <a:t>PROFESSIONALS WHO ARE NEW TO MEDIC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                           </a:t>
            </a: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Reserve Your Seat Now For This Educational Program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Objectives of pro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entury Gothic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This program will introduce you to Medica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provide you with many resources that will assis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as you prepare to establish your own medical practice</a:t>
            </a:r>
            <a:r>
              <a:rPr b="0" lang="en-US" sz="1400" spc="-1" strike="noStrike">
                <a:solidFill>
                  <a:srgbClr val="000066"/>
                </a:solidFill>
                <a:latin typeface="Arial Narrow"/>
              </a:rPr>
              <a:t>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07200" y="33984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613320" y="3467160"/>
            <a:ext cx="2787480" cy="180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8526600"/>
            <a:ext cx="429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velopers of this program 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onflicts of interests disclo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3 Promotional Fl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8:06:02Z</dcterms:created>
  <dc:creator>James W. Griffith</dc:creator>
  <dc:description/>
  <dc:language>en-US</dc:language>
  <cp:lastModifiedBy>CMS</cp:lastModifiedBy>
  <dcterms:modified xsi:type="dcterms:W3CDTF">2007-07-23T18:08:58Z</dcterms:modified>
  <cp:revision>60</cp:revision>
  <dc:subject>Advertising Flyer </dc:subject>
  <dc:title>Medicare Resident &amp; New Physician Training</dc:title>
</cp:coreProperties>
</file>