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D57-A57A-4FD9-BB1E-1F149F83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597-A9CE-4198-95BC-0C6978CC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CDC-48B1-4DDD-BB17-D882F33F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94D-8B24-4D6E-9580-D7125572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E0F-EC1F-42B1-8325-86D9BB21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656-A1F4-45A3-97D0-125DE73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38A-87AF-4E21-8B7F-373F84C5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D64-6C15-4834-BC4D-229B58EA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9E7-00EB-4261-A0D1-E300EBEC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349-DE53-4500-9F97-17A67A7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6CD-AA0E-446F-91B1-21FF146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5C7-ED18-4640-94BF-B291A6F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542E-DEED-4A7E-8CA5-5C72A9708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ason.kerr@cms.hhs.gov" TargetMode="External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indy.murphy@cms.hhs.gov" TargetMode="External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arah.shirey-losso@cms.hhs.gov" TargetMode="External"/><Relationship Id="rId3" Type="http://schemas.openxmlformats.org/officeDocument/2006/relationships/hyperlink" Target="mailto:joseph.bryson@cms.hhs.gov" TargetMode="External"/><Relationship Id="rId4" Type="http://schemas.openxmlformats.org/officeDocument/2006/relationships/hyperlink" Target="mailto:valeri.ritter@cms.hhs.gov" TargetMode="External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arah.shirey-losso@cms.hhs.gov" TargetMode="External"/><Relationship Id="rId3" Type="http://schemas.openxmlformats.org/officeDocument/2006/relationships/hyperlink" Target="mailto:joseph.bryson@cms.hhs.gov" TargetMode="External"/><Relationship Id="rId4" Type="http://schemas.openxmlformats.org/officeDocument/2006/relationships/hyperlink" Target="mailto:valeri.ritter@cms.hhs.gov" TargetMode="External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arah.shirey-losso@cms.hhs.gov" TargetMode="External"/><Relationship Id="rId3" Type="http://schemas.openxmlformats.org/officeDocument/2006/relationships/hyperlink" Target="mailto:joseph.bryson@cms.hhs.gov" TargetMode="External"/><Relationship Id="rId4" Type="http://schemas.openxmlformats.org/officeDocument/2006/relationships/hyperlink" Target="mailto:valeri.ritter@cms.hhs.gov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arah.shirey-losso@cms.hhs.gov" TargetMode="External"/><Relationship Id="rId3" Type="http://schemas.openxmlformats.org/officeDocument/2006/relationships/hyperlink" Target="mailto:joseph.bryson@cms.hhs.gov" TargetMode="External"/><Relationship Id="rId4" Type="http://schemas.openxmlformats.org/officeDocument/2006/relationships/hyperlink" Target="mailto:valeri.ritter@cms.hhs.gov" TargetMode="External"/><Relationship Id="rId5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dicare Pricing for Indian Health Services (IHS) Under the Medicare-Like Rate (MLR)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4282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rah Shirey-Lo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e Bry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ep 2: Select PC Pr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349280"/>
            <a:ext cx="9144000" cy="5508720"/>
            <a:chOff x="0" y="1349280"/>
            <a:chExt cx="9144000" cy="55087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1349280"/>
              <a:ext cx="9144000" cy="55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0" y="1349280"/>
              <a:ext cx="9144000" cy="550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5562720"/>
            <a:ext cx="23623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NF PPS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F and Swing Bed (SB) facilities are paid under thi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Access Hospital Swing Beds are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NF PPS: Background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ackground on SNF PPS, se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center/snf.as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. 100-04, Chapter 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/www.cms.hhs.gov/manuals/downloads/clm104c06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. 100-04, Chapter 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manuals/downloads/clm104c06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THE SNF PPS PA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djusted federal per diem rate (basic payment am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index to account for differences in area wage levels (Note: Hospital wage data is us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mix relative weights, which account for differences in the mix of patients treated across SNFs and S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-on payment for patients with AIDS, made after all other adjustments (wage and case-m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THE SNF PPS PAYMEN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NF PPS is updated annually every 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S has created a web-based Pricer program to calculate the claim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Guide and Implementation instructions are located at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PCPr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additional assistance please conta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on Kerr (410)786-2123 o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ason.kerr@cms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Outpatient Prospective Payment System (OPPS) Pri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 Br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OPPS: Co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patient PPS cover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outpatient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Part B services furnished to inpatients with no Part A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hospitalization services furnished by Community Mental Health Centers (CMH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vacc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nts, casts and antigens for Hospic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OPP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verage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provided from a clinic/unit ONLY if the clinic/unit is billing under the hospital’s Medicare provider number (i.e., OSCAR) and the services were billed on a 13x Type of Bill (TOB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services and professional components are NOT covered under M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OPPS: Key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care Common Procedure Coding System (HCPCS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that is billed on the claim to represent a procedure, item or service. Each HCPCS is mapped to an APC for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bulatory Payment Classification (APCs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ment group for services that are clinically similar and require similar resourc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insur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patient responsibility taken out of the total APC pay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mburs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paid to hospital minus all applicable coinsurance and deduct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OPPS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yment Adjus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kag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undling of items and services that are considered to be an integral part of another billed service paid under the OPPS. No separate APC payment is made for packag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unt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tion in APC payment due to multiple procedures on the same day or due to a terminate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 3: Install PC Pricer version based on claim’s Through 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124000"/>
            <a:ext cx="8001000" cy="473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5943600"/>
            <a:ext cx="3886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647960" y="4572000"/>
            <a:ext cx="68580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4191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-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OPPS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yment Adjustment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payment made for extraordinarily high cos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graph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adjustment to account for differences in wages across geographical areas.  Sixty percent of the total OPPS payment is wage-adjusted by multiplying payment by the hospital’s wag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OPPS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u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view detailed claim processing instructions, go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ation 100-04 (Claims Processing), Chapter 4 a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manuals/downloads/clm104c04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PS Pricing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PPS Pricer determines payment by using inputs from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clai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atient Code Editor (OCE)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 specific data (pulled from the Outpatient Provider Specific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PS Pricing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patient Code Editor (O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wo major functions of the O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t claim data to identify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payment flags to direct the OPPS Pricer on how to price a particular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PS Pricing: Pr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OPPS PC Pr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posted at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PCPricer/08_OPPS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cing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C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ge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ment adjustment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 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ssist in manual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PS Pricing: Pricer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are the filenames and descriptions of the Pricer files that can be downloa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eap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readable AP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ewinx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readable MSA 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ewnxc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readable CBS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v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list of devices for devic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sacp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mpressed AP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s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ricer calculation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so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mpressed list of devices for off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swinxc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mpressed MS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pswnxc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mpressed CBS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sf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rovider-Specific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PS Pricing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taining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a vendor/contractor to obtain OPPS pricing software or to simply contract this work o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of a vendor is based on your individual tribe’s preference and resources.  Vendor information can be obtained via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PS Pricing: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patient Code Edi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formation regarding the OCE can be found at the following website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OutpatientCodeEdit/01_Overview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PS Pri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OPPS Pricer files can be obtained by selecting the applicable quarterly link at the following site and downloading the files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PCPricer/08_OPPS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asonable Cost Reimbur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 Br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asonable Cos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Access Hospitals (CA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care provider number (also known as OSCAR) range: xx1300 – xx13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F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ldren’s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 number range: xx3300 – xx33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cer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ritory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ollowing window will appear.  Double-click on th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38280" y="971640"/>
            <a:ext cx="3848400" cy="268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4192560"/>
            <a:ext cx="6629400" cy="2436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457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receive the following window.  Select “Ope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209680"/>
            <a:ext cx="9907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715000"/>
            <a:ext cx="2057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 Reimbursement under IHS/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st report settlement under IHS/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the hospital’s Cost-to-Charge Ratio (CCR) to the billed “covered” charges on the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do I obtain a hospital’s Cost-to-Charge Ration (CC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the servicing hospital’s Medicare Fiscal Intermediary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sonable Cost: TEFRA Payme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’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7/1/07 – 7/5/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overed Charges = $12,0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R = 0.6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ltiply total covered charges by CC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$12,000 x .62 = $7,44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sonable Cost: CAH Payme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7/1/07 – 7/3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Covered Charges = $2,935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R = .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ultiply total covered charges by CCR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,935.60 x .62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1,820.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ultiply Cost by 101%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820.07 x 101%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1,838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*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formula applies to outpatient CA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additional assistance, please contact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dy Murphy at (410)786-5733 o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ndy.murphy@cms.hhs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647800" y="838080"/>
            <a:ext cx="3848400" cy="2533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92040" y="30492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ollowing will appear.  Select “Ru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666880" y="3962520"/>
            <a:ext cx="384840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ollowing will appear.  Select “Ru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205740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41008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09680" y="1987560"/>
            <a:ext cx="4343400" cy="266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457200"/>
            <a:ext cx="8305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window will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nzip to the default C: drive on your PC, select “Unzip.”  To unzip to another drive, first replace the “C” with the letter of the drive you wish to unzip to.  Then, select “Unzi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a few seconds, you will receive the following window.  Click “OK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00400" y="5227560"/>
            <a:ext cx="2590920" cy="1478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4120" y="2286000"/>
            <a:ext cx="12952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 4: Opening the PC Pri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479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to the PC Pricer folder you extracted and saved to your PC.  Below is what an idea of what the IPPS Pricer Folder look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2487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029200"/>
            <a:ext cx="1676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219320" y="5638680"/>
            <a:ext cx="91440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0199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uble-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304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window will appear.  Select the “.exe” formatted fi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05120" y="685800"/>
            <a:ext cx="521172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4114800"/>
            <a:ext cx="20574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11360" y="517680"/>
            <a:ext cx="42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window will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287360"/>
            <a:ext cx="91440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5: Running the PC Pr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129528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 in the letter of the drive you unzip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C Pricer to (such as, F) to initiate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278080"/>
            <a:ext cx="9144000" cy="4579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05920" y="2057400"/>
            <a:ext cx="0" cy="4038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5880"/>
            <a:ext cx="914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17680"/>
            <a:ext cx="769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e following PC Pricer HOME screen will appear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‘Y’ if you would like to calculate pa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‘V’ if you would like to view provider 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‘Q’ to quit and exit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092320"/>
            <a:ext cx="9144000" cy="4689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924680" y="624852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434340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is presentation, you will be able 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how MLR affects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what payments fall under the MLR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road understanding of various Medicare pay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 obtaining PPS Pric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 how to navigate PC Pric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how to enter necessary pricing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where to go to obtain necessary pric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lculating Pa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ng payment is specific to each 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we will provide you with specific instructions on how to enter data for calculation among the following PC Pr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Rehabilitation Facility 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Psychiatric Facility 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patient Prospective Payment System (IPPS) Pri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Shirey-Lo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Acute Care Hospitals are paid under this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’s Hospitals, Cancer Hospitals, Critical Access hospitals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ackground on IPPS, se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AcutInpatientPPS/01_overview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Only Manual (IOM) Pub. 100-04, Chapter 3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manuals/downloads/clm104c03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THE IPPS PA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ized amounts, which are the basic payment am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age index to account for differences in hospital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G relative weights, which account for differences in the mix of patients treated across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d-on payment for hospitals that serve a disproportionate share of low-income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THE IPPS PAYMEN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d-on payment for hospitals that incur indirect costs of medical education (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ditional payment for cases that are unusually costly, called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ditional payment for cases that have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PPS is updated annually every 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S has created a web-based Pricer program to calculate the claim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IPPS PC Pr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2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lculating Payment Using the IPPS PC Pr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077320" y="5486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495288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6172200"/>
            <a:ext cx="457200" cy="3808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4495680"/>
            <a:ext cx="1447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‘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715000" y="2971800"/>
            <a:ext cx="281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OSCAR #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886200" y="1523520"/>
            <a:ext cx="182880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143000"/>
            <a:ext cx="129528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15000" y="2819520"/>
            <a:ext cx="281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Patient ID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58000" y="1447920"/>
            <a:ext cx="30492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1143000"/>
            <a:ext cx="205740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ayments fall under the MLR Poli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Acute Care Prospective Payment System (P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Psychiatric P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Rehabilitation 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Term Care Hospital 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atient 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Nursing Facility 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able Cost Reimbursement to non-PPS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2819520"/>
            <a:ext cx="2133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From Date on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267080" y="1980720"/>
            <a:ext cx="144792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1447920" cy="4572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4120" y="2819520"/>
            <a:ext cx="3124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rough Date on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05720" y="1980720"/>
            <a:ext cx="3808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1676520"/>
            <a:ext cx="152388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715000" y="281952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D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809880" y="2666520"/>
            <a:ext cx="19051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438280"/>
            <a:ext cx="685800" cy="381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114800" y="2438280"/>
            <a:ext cx="1219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81280" y="2666880"/>
            <a:ext cx="53352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2895480"/>
            <a:ext cx="533520" cy="381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14800" y="24382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504960" y="2666880"/>
            <a:ext cx="60948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3200400"/>
            <a:ext cx="53352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343400" y="2362320"/>
            <a:ext cx="3962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Y’ if Patient Status Code =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80920" y="2743200"/>
            <a:ext cx="76212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429000"/>
            <a:ext cx="53352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15000" y="2895480"/>
            <a:ext cx="2819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Y’ if PS Code is: 03, 05, 06, 62, 63, or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0920" y="3276720"/>
            <a:ext cx="213372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3657600"/>
            <a:ext cx="53352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867280" y="380988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otal Covered Charges on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00240" y="411480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3886200"/>
            <a:ext cx="175248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019920" y="3352680"/>
            <a:ext cx="2514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Y’ if Procedure Code is 86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3733920"/>
            <a:ext cx="251460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191120"/>
            <a:ext cx="53352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3352680"/>
            <a:ext cx="2819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Y’ if Procedure Code 39.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580920" y="3733920"/>
            <a:ext cx="259092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4419720"/>
            <a:ext cx="53352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can I identify claims from the various prov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dicare Provider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know as the OSCA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715000" y="3616200"/>
            <a:ext cx="2819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Y’ if Procedure Code is 84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80920" y="3886200"/>
            <a:ext cx="221004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4648320"/>
            <a:ext cx="53352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43600" y="3429000"/>
            <a:ext cx="2819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Y’ if Procedure Code is 52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581280" y="3809880"/>
            <a:ext cx="236232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952880"/>
            <a:ext cx="533520" cy="381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638680" y="2884320"/>
            <a:ext cx="28195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how many times Procedure Code 52.85 is reported (max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3809880"/>
            <a:ext cx="121896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4952880"/>
            <a:ext cx="533520" cy="381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791320" y="3505320"/>
            <a:ext cx="2819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‘Y’ to calculate PPS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4191120"/>
            <a:ext cx="838080" cy="19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6172200"/>
            <a:ext cx="533160" cy="380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4800600"/>
            <a:ext cx="3276360" cy="685800"/>
          </a:xfrm>
          <a:prstGeom prst="ellipse">
            <a:avLst/>
          </a:prstGeom>
          <a:noFill/>
          <a:ln w="57240">
            <a:solidFill>
              <a:srgbClr val="e6fc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3664080"/>
            <a:ext cx="2514600" cy="825480"/>
          </a:xfrm>
          <a:prstGeom prst="rect">
            <a:avLst/>
          </a:prstGeom>
          <a:solidFill>
            <a:srgbClr val="e6fc1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IPPS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71800" y="3962520"/>
            <a:ext cx="2362320" cy="914400"/>
          </a:xfrm>
          <a:prstGeom prst="line">
            <a:avLst/>
          </a:prstGeom>
          <a:ln w="57240">
            <a:solidFill>
              <a:srgbClr val="e6fc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additional assistance please conta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h Shirey-Losso (410)786-0187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rah.shirey-loss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e Bryson (410)786-2986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oseph.bryson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ri Ritter (410)786-8652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aleri.ritter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patient Rehabilitation Facility Prospective Payment System (IRF PPS) Pri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Shirey-Lo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d under the IRF P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standing inpatient rehab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hab units located in acute care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access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ackground, please refer to: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InpatientRehabFacPPS/01_Overview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Only Manual (IOM) Pub. 100-04, Chapter3, Section 140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manuals/downloads/clm104c03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RF PPS will utilize information from a patient assessment instrument (IRF PAI) to classify patients into distinct groups based on clinical characteristics and expected resourc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 hospitals have the IRF PAI in their facility and determine the case-mix group (CM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RE ELEMENTS of IRF 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ized amounts, which are the basic payment am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age index to account for differences in hospital labor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MG relative we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d-on payment to compensate hospitals for their percentage of low-income patients (L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d-on payment for hospitals located in rural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vider Number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care hospit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0001-XX08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iatric Hospit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4XXX, ‘S’ or ‘M’ in the third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abilitation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3025-XX3099, ‘T’ or ‘R’ in the third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Term Care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2000-XX2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Access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1300-XX139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IRF PP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d-on payment for hospitals that incur indirect costs of medical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ditional payment for cases that are unusually costly, called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adjustments are made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rupted st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stays of less than thre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s (defined as less than the average length of stay for the CM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F PPS is updated annually in 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slides demonstrates the IRF PPS PC Pr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lculating Payment Using the IRF PPS PC Pr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924680" y="6095880"/>
            <a:ext cx="60984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4876920"/>
            <a:ext cx="0" cy="1218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449568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‘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0" y="1143000"/>
            <a:ext cx="2705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Enter OSCAR Number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6415200" y="1066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990720"/>
            <a:ext cx="1066680" cy="6094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0" y="1371600"/>
            <a:ext cx="32385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Enter patient ID if desired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1523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1523880"/>
            <a:ext cx="1905120" cy="53352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029200" y="1730520"/>
            <a:ext cx="39718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Enter CMG (revenue code 0024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2057400"/>
            <a:ext cx="761760" cy="485640"/>
          </a:xfrm>
          <a:prstGeom prst="leftArrow">
            <a:avLst>
              <a:gd name="adj1" fmla="val 50000"/>
              <a:gd name="adj2" fmla="val 392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2057400"/>
            <a:ext cx="838440" cy="45720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419720" y="1752480"/>
            <a:ext cx="3657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Enter PS code from the claim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 rot="18797400">
            <a:off x="3873240" y="2542680"/>
            <a:ext cx="485640" cy="1054080"/>
          </a:xfrm>
          <a:prstGeom prst="upArrow">
            <a:avLst>
              <a:gd name="adj1" fmla="val 50000"/>
              <a:gd name="adj2" fmla="val 542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286000"/>
            <a:ext cx="533520" cy="45720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914400" y="3352680"/>
            <a:ext cx="905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Enter '0'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/>
          <p:nvPr/>
        </p:nvSpPr>
        <p:spPr>
          <a:xfrm rot="20133000">
            <a:off x="1899720" y="3180960"/>
            <a:ext cx="2327400" cy="622440"/>
          </a:xfrm>
          <a:custGeom>
            <a:avLst/>
            <a:gdLst>
              <a:gd name="textAreaLeft" fmla="*/ 407160 w 2327400"/>
              <a:gd name="textAreaRight" fmla="*/ 1687320 w 2327400"/>
              <a:gd name="textAreaTop" fmla="*/ 83160 h 622440"/>
              <a:gd name="textAreaBottom" fmla="*/ 539280 h 6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2590920"/>
            <a:ext cx="1676520" cy="3808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267080" y="3048120"/>
            <a:ext cx="24289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Enter covered day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3476520" y="32907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2819520"/>
            <a:ext cx="685800" cy="45720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ider Number Rang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ed Nursing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XX5XX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ng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’, ‘W’, ‘Y’, or ‘Z’ in the third di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's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X300-XX33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cer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271, 100079, 360242, 500138, 050146, 050660, 220162, 330154, 330354, 390196, 450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52280" y="3505320"/>
            <a:ext cx="2667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Not Applicable to IH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(tab through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3048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13716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276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77120" y="2895480"/>
            <a:ext cx="457200" cy="38124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2362320"/>
            <a:ext cx="457200" cy="3808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7467480" y="3962520"/>
            <a:ext cx="1295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Thru dat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581280"/>
            <a:ext cx="685800" cy="486000"/>
          </a:xfrm>
          <a:prstGeom prst="left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4343400"/>
            <a:ext cx="609840" cy="485640"/>
          </a:xfrm>
          <a:prstGeom prst="leftArrow">
            <a:avLst>
              <a:gd name="adj1" fmla="val 50000"/>
              <a:gd name="adj2" fmla="val 31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3657600"/>
            <a:ext cx="1523880" cy="3808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4419720"/>
            <a:ext cx="1524240" cy="3808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467480" y="32004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From dat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04920" y="4038480"/>
            <a:ext cx="28479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Enter covered charg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71" name=""/>
          <p:cNvSpPr/>
          <p:nvPr/>
        </p:nvSpPr>
        <p:spPr>
          <a:xfrm>
            <a:off x="6948360" y="48769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4876920"/>
            <a:ext cx="1600200" cy="45720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7315200" y="4397400"/>
            <a:ext cx="9334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Enter 'Y'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7848720" y="495288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848720" y="6172200"/>
            <a:ext cx="533160" cy="3808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410080" y="4572000"/>
            <a:ext cx="373392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324480" y="52578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otal IRF PPS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ayment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h Shirey-Losso (410)786-0187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rah.shirey-loss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e Bryson (410)786-2986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oseph.bryson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ri Ritter (410)786-8652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aleri.ritter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additional assistance please conta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patient Psychiatric Facility Prospective Payment System (IPF PPS) Pri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Shirey-Lo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patient Psychiatric Facility P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paid under the IPF P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standing inpatient psychiatric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 units located in acute care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access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ike IPPS, IRF, and LTCH, IPFs are paid on a per diem methodology at dis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RE ELEMENTS of IPF 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ackground on IPF PPS, refe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InpatientPsychFacilPPS/01_overview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. 100-04, Chapter 3, Section 1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manuals/downloads/clm104c03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E ELEMENTS of IPF 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IPF PPS, the Federal per diem rate includes inpatient operating and capital related costs (including routine and ancillary services) and is adjus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raphic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ge, Presence of specified comorbid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y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rural adjustment and indirect tea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s provi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iagnosis Related Group (DRG) classification, Length of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ctions for Downloading and Running CMS PPS PC Pri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 Br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IPF PP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payments are provided for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reated in IPFs that have a qualifying emergency department receive a higher payment for the first day of the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Electroconvulsive Therapy (ECT) treatments furnished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lier payments for cases that have extraordinarily high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IPF PP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 diem base rate excludes pass-through costs such as bad debts and graduate medical education (G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 Schedule for the IPF P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ual release occurs in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s are made in October for comorbidities and 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lculating Payment Using the IPF PPS Pr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467480" y="45720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‘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5029200"/>
            <a:ext cx="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1000" y="6095880"/>
            <a:ext cx="45720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514600" y="1600200"/>
            <a:ext cx="2809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provider number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04" name=""/>
          <p:cNvSpPr/>
          <p:nvPr/>
        </p:nvSpPr>
        <p:spPr>
          <a:xfrm>
            <a:off x="4219560" y="30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1066680"/>
            <a:ext cx="106704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1447920" y="1523880"/>
            <a:ext cx="378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patient ID if desire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1066680"/>
            <a:ext cx="160020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10680" y="3808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048120" y="1905120"/>
            <a:ext cx="91440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6200" y="2438280"/>
            <a:ext cx="2590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DRG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(15 valid DRGs for IPF)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1828800"/>
            <a:ext cx="1676520" cy="485640"/>
          </a:xfrm>
          <a:prstGeom prst="leftArrow">
            <a:avLst>
              <a:gd name="adj1" fmla="val 50000"/>
              <a:gd name="adj2" fmla="val 863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124080" y="2209680"/>
            <a:ext cx="9144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9880" y="274320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patient ag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(at admission)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2133720"/>
            <a:ext cx="1676520" cy="485640"/>
          </a:xfrm>
          <a:prstGeom prst="leftArrow">
            <a:avLst>
              <a:gd name="adj1" fmla="val 50000"/>
              <a:gd name="adj2" fmla="val 863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971800" y="2438280"/>
            <a:ext cx="12952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2362320"/>
            <a:ext cx="1523880" cy="485640"/>
          </a:xfrm>
          <a:prstGeom prst="leftArrow">
            <a:avLst>
              <a:gd name="adj1" fmla="val 50000"/>
              <a:gd name="adj2" fmla="val 784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1590840"/>
            <a:ext cx="448632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the billed length of stay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048120" y="2819520"/>
            <a:ext cx="8380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2280" y="5029200"/>
            <a:ext cx="6553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# of times 94.27 is on clai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3962520" y="2743200"/>
            <a:ext cx="1676160" cy="485640"/>
          </a:xfrm>
          <a:prstGeom prst="leftArrow">
            <a:avLst>
              <a:gd name="adj1" fmla="val 50000"/>
              <a:gd name="adj2" fmla="val 862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 1: Go to PC Pricer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PCPricer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tain all CMS PPS PC Pricer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For illustration purposes, we have included Inpatient PPS PC Pricer screen-shots, though these the steps will be the same for downloading any PC Pricer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762120" y="5181480"/>
            <a:ext cx="5638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the PS code from the clai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200400"/>
            <a:ext cx="60984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3095640"/>
            <a:ext cx="1371600" cy="485640"/>
          </a:xfrm>
          <a:prstGeom prst="leftArrow">
            <a:avLst>
              <a:gd name="adj1" fmla="val 50000"/>
              <a:gd name="adj2" fmla="val 706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124080" y="3429000"/>
            <a:ext cx="53352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981080"/>
            <a:ext cx="486000" cy="1433520"/>
          </a:xfrm>
          <a:prstGeom prst="downArrow">
            <a:avLst>
              <a:gd name="adj1" fmla="val 50000"/>
              <a:gd name="adj2" fmla="val 737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114800" y="27432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'N'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76320" y="5029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'N' unless source of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admission on the claim is 'D'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843200"/>
            <a:ext cx="486000" cy="1738080"/>
          </a:xfrm>
          <a:prstGeom prst="downArrow">
            <a:avLst>
              <a:gd name="adj1" fmla="val 50000"/>
              <a:gd name="adj2" fmla="val 89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3657600"/>
            <a:ext cx="3808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00400" y="4038480"/>
            <a:ext cx="114300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4114800"/>
            <a:ext cx="1447560" cy="485640"/>
          </a:xfrm>
          <a:prstGeom prst="leftArrow">
            <a:avLst>
              <a:gd name="adj1" fmla="val 50000"/>
              <a:gd name="adj2" fmla="val 745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9880" y="3048120"/>
            <a:ext cx="2819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discharge dat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304920" y="5257800"/>
            <a:ext cx="632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total covered charges billed on the clai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4619520"/>
            <a:ext cx="1600200" cy="486000"/>
          </a:xfrm>
          <a:prstGeom prst="leftArrow">
            <a:avLst>
              <a:gd name="adj1" fmla="val 50000"/>
              <a:gd name="adj2" fmla="val 823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00400" y="4648320"/>
            <a:ext cx="144792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7848720" y="1447920"/>
            <a:ext cx="1295280" cy="2438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371600" y="5172120"/>
            <a:ext cx="50292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all "other" DX on the clai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057400"/>
            <a:ext cx="2514600" cy="1676520"/>
          </a:xfrm>
          <a:prstGeom prst="rightArrow">
            <a:avLst>
              <a:gd name="adj1" fmla="val 50000"/>
              <a:gd name="adj2" fmla="val 3749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924680" y="3581280"/>
            <a:ext cx="1143000" cy="228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4114800"/>
            <a:ext cx="1676160" cy="1295280"/>
          </a:xfrm>
          <a:prstGeom prst="rightArrow">
            <a:avLst>
              <a:gd name="adj1" fmla="val 50000"/>
              <a:gd name="adj2" fmla="val 323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5334120"/>
            <a:ext cx="6505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primary procedure code followed by all other procedure codes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781280" y="5257800"/>
            <a:ext cx="46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nter 'Y' to calculate PPS paymen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6172200"/>
            <a:ext cx="6094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96240" y="51195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391520" y="4114800"/>
            <a:ext cx="144756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29600" y="48769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229360" y="5029200"/>
            <a:ext cx="2847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6fc14"/>
                </a:solidFill>
                <a:latin typeface="Arial Black"/>
              </a:rPr>
              <a:t>Total IPF PPS payment</a:t>
            </a:r>
            <a:endParaRPr b="0" lang="en-US" sz="1800" spc="1" strike="noStrike">
              <a:ln w="0">
                <a:noFill/>
              </a:ln>
              <a:solidFill>
                <a:srgbClr val="e6fc1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 additional assistance please conta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h Shirey-Losso (410)786-0187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rah.shirey-loss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e Bryson (410)786-2986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oseph.bryson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ri Ritter (410)786-8652 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aleri.ritter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ng Term Care Hospital 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Shirey-Lo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TCH PPS: De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ified under Medicare as short-term acute-care hospitals and for the purpose of Medicare payments in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as having an average inpatient length of stay of greater than 25 d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G based payment system (like IPPS); called LTC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TCH PPS: Backgro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ackground on IPF PPS, refe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LongTermCareHospitalPPS/01_overview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M Pub. 100-04, Chapter 3, Section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manuals/downloads/clm104c03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THE LTCH PPS PA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ized amounts, which are the basic payment am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age index to account for differences in hospital labor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TC-DRG relative weights, which account for differences in the mix of patients treated across hospitals.  LTC-DRGs are weighted to account for resources used for more medically complex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RE ELEMENTS OF THE LTCH PPS PAYMEN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ditional payment for cases that are unusually costly, called out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stments for short stay cases, interrupted stays, and co-located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TCH PPS Does Not Incl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Clotting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TCH PPS is updated annually every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Gs are updated in October of each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itional Inform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MS has created a web-based Pricer program to calculate the claim pay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Guide and Implementation instructions are locat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://www.cms.hhs.gov/PCPricer/07_LTCH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 additional assistance please 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Shirey-Losso (410) 786-0187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rah.shirey-losso@cms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 Bryson, (410) 786-2986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oseph.bryson@cms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ri Ritter, (410) 786-8652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aleri.ritter@cms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killed Nursing Facility Prospective Payment System (SNF PPS) Pricer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 Br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4:24:43Z</dcterms:created>
  <dc:creator>CMS VMCG</dc:creator>
  <dc:description/>
  <dc:language>en-US</dc:language>
  <cp:lastModifiedBy>Joseph Bryson</cp:lastModifiedBy>
  <dcterms:modified xsi:type="dcterms:W3CDTF">2007-07-30T16:42:3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68903797</vt:r8>
  </property>
  <property fmtid="{D5CDD505-2E9C-101B-9397-08002B2CF9AE}" pid="3" name="_AuthorEmail">
    <vt:lpwstr>Sandra.Farley@cms.hhs.gov</vt:lpwstr>
  </property>
  <property fmtid="{D5CDD505-2E9C-101B-9397-08002B2CF9AE}" pid="4" name="_AuthorEmailDisplayName">
    <vt:lpwstr>Farley, Sandra D. (CMS/OCSQ)</vt:lpwstr>
  </property>
  <property fmtid="{D5CDD505-2E9C-101B-9397-08002B2CF9AE}" pid="5" name="_EmailSubject">
    <vt:lpwstr>Handouts</vt:lpwstr>
  </property>
  <property fmtid="{D5CDD505-2E9C-101B-9397-08002B2CF9AE}" pid="6" name="_NewReviewCycle">
    <vt:lpwstr/>
  </property>
</Properties>
</file>