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DE32-97BC-4772-B859-09210A78B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354A-F146-4CFC-A948-98CEEA940E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66E45-D2AC-4A43-BEAB-30E9F632F7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ED229-FA56-4AFA-8556-B8CA16169E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10AAC-B7D0-4152-8AEE-09844B10DF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57127-8540-49EA-9585-11AC35949F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6B997-E11A-4EA9-9B41-BD17D222A1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BFDE6-7379-45F8-BEB3-9EDE1B2202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A1A9E-DBF5-41C0-B6C6-76DC556623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FFADE-897B-4236-B928-09FA57900C3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1860A-E2B4-4165-9570-D095524A9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8273-8728-48EE-919E-F0205C0904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B803E-BF86-4DDA-8ABB-10D54419A9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DDA93-004B-44B9-A06C-BA461597D3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141EE-8141-4CA8-AE5F-DC4D715B30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231AF-37B5-4574-AA7F-25C74C40920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6AD8A-0586-4556-B4EA-E45B5D1F33D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5357C-C083-4169-99C0-6A70D5B67E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966DF-DF33-48FA-ABCE-64D88DDB70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2A94A-90F3-41B2-99ED-C5BAE5EAA4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025F83-5EBB-45AF-B1C2-C2E4FBC8E2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5577F-7CAB-445A-8A38-C428D3D62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3D4B-BD7D-4433-BE76-D469F87133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2954CF-1D01-48CE-BC19-ACAE24CE36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78445-99FA-4655-96C8-70AB6E9AD0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987F5-8EAE-4699-AE0E-24B0F5DBB0D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57F0F-8751-4513-A010-EC87BC454B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90C1-CC30-46D6-9599-4BC3D86BE6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B3EC-C57D-4CE8-B56D-B1E205BB09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C7EE-3226-4A87-9846-A18C7A0EF1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5E1A1-24C9-477E-B92B-6253E5C8119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28DA-6734-42E0-A30A-1C6BA08861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6956-44DF-4DDB-AF1D-F3DD7A6C7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7892-8801-4BA8-9388-E2F3436ADE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75BE5-FB3C-4A8F-9D48-593DE3EA2C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E2BD-EEB4-428E-AC36-493F3E3356E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086ED-9856-4C63-8DC4-3E07DAD300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458DA-E550-4945-98C3-B5C701B1967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A6200-90C4-4C20-920A-552ED495E07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C3F296-CF21-42D4-850A-B436B5AD17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4C89E-BC05-461E-9B02-2403064F65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A1DAD-13B1-4D93-8FCD-DAF41AB4915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77703-9B25-42F1-9BF9-9DC6FA560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5A4EE-9782-473A-B961-977F57E7C51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97ADF-6F80-4001-8E34-68D7E3E79D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B5145-25B6-4245-96B4-EE80ABA69D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BEB1D-8AC5-478E-B2DF-03EF821E150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5AAED-D93F-45F9-A06C-D4583D9E5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270A-11CA-43C8-94A8-C2BFC7858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8A763-CA2C-421B-A459-9F0F3D7ADD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315DD-8F00-4BFB-B4C4-54A2209A8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299C-83BE-4F6D-B5B7-4A17193562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6A1A-FCC1-4AB3-B2CA-A632B45E06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B099F-D05C-4DE5-AB2B-4FEF45021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A5A5-3D4C-46DE-90F0-C9B9AD25E0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241E5-AA55-498D-8BF0-8C9C48D270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1B1C9-71CF-40AF-8571-4D8845533A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78639-35B0-47E1-896A-E08F53351A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F33CC-2E18-4BB5-937F-1991BE97DA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D7F4C-E9F9-42E7-BC37-54B832B023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8BFB-883F-4CE8-A1DE-AC738A5E30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3552D-2576-4D1E-AE45-1B98095D66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0B427-6AC0-4478-BA3F-AEEFD2BB10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49689-C4FE-462C-9517-C7EB805B23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9C079-648B-43D0-84ED-FF10CF434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59E3-DB5A-4AD2-A890-8BBFD362F0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41BDA-99C3-4C20-A909-993142ABF3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B2F22-F0C2-469F-BE1D-F2E0DBA1F0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B7F61-C119-4319-9C04-367ABE01AA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F433F-2B20-4E33-AB7E-3B7CFFF359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6A7BA-F1A2-4149-9D2D-FBF2789CEF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BDE80-E89D-4D0A-872F-6777A6923E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6430B-1429-443E-A865-DDAF52E5C2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81B8E-8C18-4848-A844-0352D3ED6C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20E05-C1AA-4340-BC3A-54B8D0E9AF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25A4-917F-4A5F-A7A6-EF0377FF6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D5FF-55A0-4273-B538-DBC9C83E8D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9B83-0546-452F-A4A2-BBA4118087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0A1F-70E0-4A98-AA53-6207B9B8EB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5EB6-D058-4925-8D80-7F8F4B849B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17B7-BC27-448D-84F1-8F6C11E58B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7987-41DD-43F0-BEE1-2983917076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0FAC-67DC-42F1-8253-ABC2CEA3F9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E202-C69B-43B8-8292-1253C8BDC1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CFA8-CA23-4B52-AD83-784C1B55A1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2CD2-A6C4-47E7-AAD4-5DB89C36CF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1713-FB9D-4DE4-AFDD-52A6641D7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A551-9621-412D-AA23-F1615531C2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9367-1F80-44AC-A70F-E140C9ADD6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CB3B5-F91D-49A3-841F-656F0F3D98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B3DBB-9505-4E2E-95F0-02DA0847F8C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0D0BA-6D5B-4874-A168-C2203880312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69324-299C-484F-9A81-7B2C297BFB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87ABD-9DCD-4F7E-B448-B21D79B2B4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79B4A-75AF-4B07-9E34-03534DD27C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2C6FD-CF7D-4B46-967D-AF0CE1C9A7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FCA9B-7E6E-4EF5-B69F-07F9073930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107D1-2223-4CCA-9E2A-29376BFA4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1F2F-92B0-457C-874C-A87CB9F8DE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5D0BF-710A-45A2-9796-71087D2E33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2F285-0B71-4A9E-BD6D-2AAF8D9796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20DAF-2504-43E3-B6E0-A93DA1304B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CAF17-5C51-4BDD-8278-3952CC8B89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73211-E796-4BD5-87E4-C3575FE556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64613F-9595-48C3-8343-3A2247F675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95239-55BD-4BA1-8696-C0C668E7BE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551DE-37D3-429A-B5B1-332A00A064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7AB9B-A9A7-4305-82CF-EC1BC2943D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9E3C5-451A-4222-A7C6-3C568D1D0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F38A-C265-4F14-9D2A-EF522202A2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DE058-3EC8-47D9-B4AC-CF625D1558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EC39B-42AD-4F7D-BA10-CF1AD21FA5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77A02A-7BD6-46A3-9D04-EA2EA63985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31D01-7607-4018-A72D-B1A5A4A8DD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36599-2550-4C10-A988-52ED829444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2021-B413-4DB6-9144-85CDB034FA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2558-A40D-4AA5-AA89-6C48EC1BC4B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7D43-A4A7-4234-8BB5-D6D3FA3151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9D6C-6010-4E74-948A-1B5A3EBCD7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6BF9-7950-4851-94BC-11F47BE17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F1CA-2B07-419A-95D3-220BF7D2C7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3FA7-CA62-4D7B-BB61-F3DA9E589F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4EBE-870F-4688-BFAC-259DBAE833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A530-FF3B-42E0-8BB1-62416A90C1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0D6C-C519-4175-B58D-7C90A5D1D3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D473-7167-49F1-B608-F451E1628B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AA10-C50B-483F-800B-212E13A32E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4B62-3434-4BFF-B9A1-F988EC009A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5BA82-05FE-4944-AF97-917CD145CD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88A0A-DCEC-43F2-B583-00DA3238CF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CBA38-CC71-48C0-8372-7C2BEA38D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543E-9CB8-4202-947A-50517486F11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61F-8440-40C5-8615-DA55B648F77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B09-9AD0-46ED-B3D0-BC0E2969CDA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70A-A0F4-4DD0-B612-61DCD400F32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1066680" y="6305040"/>
            <a:ext cx="701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6B4-128A-4DA6-8084-F69D29E0880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76A-B64F-46C0-BCA2-75B4BE198D0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2EA1-7D3A-4B76-8C6A-3382A7BF1C4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168-AFF2-4FA0-ABF9-2B22F3E37E0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027A-D7B6-434A-ABF2-C2DC48BEC6E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D55D-4346-4C32-A36D-D8A5A480E83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78AD-FF89-4208-B694-9CF3A59DD10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CMS Acknowledgements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Overview</a:t>
            </a:r>
            <a:endParaRPr b="1" lang="en-US" sz="2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EDI translator will perform all X12 syntax edits and CMS-selected HIPAA IG edits, and output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1 for rejected interchang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rejec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accep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11840" indent="-18720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structurally sound non-compliant business units will be passed to CEM for rejection at the individual claim level (Accept with Erro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CEM software will perform Medicare edits and CMS-selected IG edits, and produce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ssign claim control number to accepted claim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277CA for each accepted or rejected clai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his approach allows us to return individual claims as opposed to entire transactions sets when the error is not a syntactical structure issue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8734-B3BE-4957-B3B4-30A49E433E0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A - Information Sour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8610480" y="653724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334-A4E2-44A6-954A-9EAC0AF41F7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1066680"/>
          <a:ext cx="8381880" cy="466416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1&gt;&gt;20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Sour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AY&gt;2&gt;FIRST  CLEARINGHOUSE &gt;&gt;&gt;&gt;&gt;46&gt;CLHR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 Code (Clearinghou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 CLEARINGHO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HR0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200102051635S00001ABCD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Receipt Control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02051635S00001ABCDE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Application Trace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50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ceiv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09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ces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B - Information Receiver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622-3425-4657-AF1D-E2128668048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838080"/>
          <a:ext cx="8382240" cy="53038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2&gt;1&gt;2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Recei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41&gt;2&gt;BEST BILLING SERVICE&gt;&gt;&gt;&gt;&gt;46&gt;S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entifier Code (Submit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BILLING SERVI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2&gt;2002020542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Application Tra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ference transaction Trace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02054285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laim Transaction Batch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23&gt;20100624&gt;U&gt;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Status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to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tatus information Effectiv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AA&gt;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acknowledged Quant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C – Billing Provider of Servi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8AC-673D-433A-81E0-688DFD36AB3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4920" y="609480"/>
          <a:ext cx="8381880" cy="583740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3&gt;2&gt;19&gt;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Provider of Serv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 Subordinate levels ex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85&gt;2&gt;SMITH CLINIC&gt;&gt;&gt;&gt;&gt;XX&gt;123456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Billing Provider Name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 CLINIC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Billing Provid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ational Provider I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6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ederal Tax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SMITH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511&gt;&gt;U&gt;1000.00&gt;&gt;&gt;&gt;&gt;A7:504: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Status Information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’s Last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QC&gt;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Quantity Disapprov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 Segment I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20&gt;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Segment 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eview the Purpose of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TA1 is received, you will need to correct and resubmit the entire ISA – IEA Interchange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999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syntax errors occurred and begin a correct/resubmit action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277CA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business rule errors occurred and begin a correct/resubmit action on specific claims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returned claim numbers for future claim status inquir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4715-26CC-41AE-A9C2-A931307C208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Special Situa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business error is encountered, a claim will continue to be edited so that all Front End System errors are identified are returned to the submitter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fatal error is encountered with data at the provider level, claim editing is NOT continued; all claims for that provider are returned without edit results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BF2-9A77-4555-BAF5-FE4E2A255C1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w will you use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?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A1 and 999 reflect technical problems that must be addressed by the software preparing the EDI transmission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ouble Tickets” will likely be addressed by technical resources to identify corrections needed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277CA reflects a data problem that must be addressed by resources in the Billing area;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lling staff will likely need reports to be produced using the 277CA transaction in order to identify claim corrections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inghouses and Vendors may consider offering a 277CA reporting capabil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4A5-1FF1-41D2-93E0-B9513C6B631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dditional Information for X12 5010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Purchase of Implementation Guides and access to Technical Ques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X12: http://store.x12.org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X12 Responses to Technical Com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TransactionCodeSetsStands/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Other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quest Changes to standards: www.hipaa-dsmo.org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MS Website for industry wide information: http://www.cms.hhs.gov/Versions5010andD0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ElectronicBillingEDITrans/18_5010D0.as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FBB-4674-4C14-9131-9B8D8C9F791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ounded Rectangle 40"/>
          <p:cNvSpPr/>
          <p:nvPr/>
        </p:nvSpPr>
        <p:spPr>
          <a:xfrm>
            <a:off x="4267080" y="304920"/>
            <a:ext cx="213372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ounded Rectangle 2"/>
          <p:cNvSpPr/>
          <p:nvPr/>
        </p:nvSpPr>
        <p:spPr>
          <a:xfrm>
            <a:off x="533520" y="251460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ounded Rectangle 10"/>
          <p:cNvSpPr/>
          <p:nvPr/>
        </p:nvSpPr>
        <p:spPr>
          <a:xfrm>
            <a:off x="817560" y="4876920"/>
            <a:ext cx="2611440" cy="1500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3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ounded Rectangle 3"/>
          <p:cNvSpPr/>
          <p:nvPr/>
        </p:nvSpPr>
        <p:spPr>
          <a:xfrm>
            <a:off x="817560" y="2895480"/>
            <a:ext cx="2611440" cy="1981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ounded Rectangle 4"/>
          <p:cNvSpPr/>
          <p:nvPr/>
        </p:nvSpPr>
        <p:spPr>
          <a:xfrm>
            <a:off x="1181160" y="3270240"/>
            <a:ext cx="1790640" cy="768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ounded Rectangle 8"/>
          <p:cNvSpPr/>
          <p:nvPr/>
        </p:nvSpPr>
        <p:spPr>
          <a:xfrm>
            <a:off x="1181160" y="4038480"/>
            <a:ext cx="1790640" cy="63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ounded Rectangle 13"/>
          <p:cNvSpPr/>
          <p:nvPr/>
        </p:nvSpPr>
        <p:spPr>
          <a:xfrm>
            <a:off x="533520" y="457200"/>
            <a:ext cx="3124080" cy="20574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ounded Rectangle 17"/>
          <p:cNvSpPr/>
          <p:nvPr/>
        </p:nvSpPr>
        <p:spPr>
          <a:xfrm>
            <a:off x="762120" y="838080"/>
            <a:ext cx="266688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ounded Rectangle 18"/>
          <p:cNvSpPr/>
          <p:nvPr/>
        </p:nvSpPr>
        <p:spPr>
          <a:xfrm>
            <a:off x="1066680" y="11430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5" name="Straight Arrow Connector 60"/>
          <p:cNvCxnSpPr/>
          <p:nvPr/>
        </p:nvCxnSpPr>
        <p:spPr>
          <a:xfrm>
            <a:off x="3428640" y="121932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6" name="Rounded Rectangle 36"/>
          <p:cNvSpPr/>
          <p:nvPr/>
        </p:nvSpPr>
        <p:spPr>
          <a:xfrm>
            <a:off x="1171440" y="51814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3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ounded Rectangle 39"/>
          <p:cNvSpPr/>
          <p:nvPr/>
        </p:nvSpPr>
        <p:spPr>
          <a:xfrm>
            <a:off x="4495680" y="6094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8" name="Straight Arrow Connector 41"/>
          <p:cNvCxnSpPr/>
          <p:nvPr/>
        </p:nvCxnSpPr>
        <p:spPr>
          <a:xfrm>
            <a:off x="3657240" y="76212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Straight Arrow Connector 27"/>
          <p:cNvCxnSpPr>
            <a:endCxn id="500" idx="1"/>
          </p:cNvCxnSpPr>
          <p:nvPr/>
        </p:nvCxnSpPr>
        <p:spPr>
          <a:xfrm>
            <a:off x="2895120" y="1752480"/>
            <a:ext cx="388692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Rectangle 29"/>
          <p:cNvSpPr/>
          <p:nvPr/>
        </p:nvSpPr>
        <p:spPr>
          <a:xfrm>
            <a:off x="6781680" y="1752480"/>
            <a:ext cx="20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ue CEM processing and generation of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77 respon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01" name="Straight Arrow Connector 30"/>
          <p:cNvCxnSpPr/>
          <p:nvPr/>
        </p:nvCxnSpPr>
        <p:spPr>
          <a:xfrm>
            <a:off x="3657240" y="274320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8012-9A54-4095-A367-AA24FF21E2D4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ounded Rectangle 43"/>
          <p:cNvSpPr/>
          <p:nvPr/>
        </p:nvSpPr>
        <p:spPr>
          <a:xfrm>
            <a:off x="4267080" y="2057400"/>
            <a:ext cx="2133720" cy="22096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209680"/>
              <a:gd name="textAreaBottom" fmla="*/ 2105640 h 2209680"/>
            </a:gdLst>
            <a:ahLst/>
            <a:rect l="textAreaLeft" t="textAreaTop" r="textAreaRight" b="textAreaBottom"/>
            <a:pathLst>
              <a:path w="21600" h="22369">
                <a:moveTo>
                  <a:pt x="3600" y="0"/>
                </a:moveTo>
                <a:arcTo wR="3600" hR="3600" stAng="16200000" swAng="-5400000"/>
                <a:lnTo>
                  <a:pt x="0" y="18769"/>
                </a:lnTo>
                <a:arcTo wR="3600" hR="3600" stAng="10800000" swAng="-5400000"/>
                <a:lnTo>
                  <a:pt x="18000" y="2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ounded Rectangle 47"/>
          <p:cNvSpPr/>
          <p:nvPr/>
        </p:nvSpPr>
        <p:spPr>
          <a:xfrm>
            <a:off x="4495680" y="2514600"/>
            <a:ext cx="167652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ounded Rectangle 48"/>
          <p:cNvSpPr/>
          <p:nvPr/>
        </p:nvSpPr>
        <p:spPr>
          <a:xfrm>
            <a:off x="4495680" y="32767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3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ounded Rectangle 56"/>
          <p:cNvSpPr/>
          <p:nvPr/>
        </p:nvSpPr>
        <p:spPr>
          <a:xfrm>
            <a:off x="6705720" y="4208400"/>
            <a:ext cx="2133360" cy="2497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7320"/>
              <a:gd name="textAreaBottom" fmla="*/ 2393280 h 2497320"/>
            </a:gdLst>
            <a:ahLst/>
            <a:rect l="textAreaLeft" t="textAreaTop" r="textAreaRight" b="textAreaBottom"/>
            <a:pathLst>
              <a:path w="21600" h="25284">
                <a:moveTo>
                  <a:pt x="3600" y="0"/>
                </a:moveTo>
                <a:arcTo wR="3600" hR="3600" stAng="16200000" swAng="-5400000"/>
                <a:lnTo>
                  <a:pt x="0" y="21684"/>
                </a:lnTo>
                <a:arcTo wR="3600" hR="3600" stAng="10800000" swAng="-5400000"/>
                <a:lnTo>
                  <a:pt x="18000" y="25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ounded Rectangle 49"/>
          <p:cNvSpPr/>
          <p:nvPr/>
        </p:nvSpPr>
        <p:spPr>
          <a:xfrm>
            <a:off x="6934320" y="458964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ounded Rectangle 50"/>
          <p:cNvSpPr/>
          <p:nvPr/>
        </p:nvSpPr>
        <p:spPr>
          <a:xfrm>
            <a:off x="6934320" y="565632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T 277CA (TS 3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Box 58"/>
          <p:cNvSpPr/>
          <p:nvPr/>
        </p:nvSpPr>
        <p:spPr>
          <a:xfrm>
            <a:off x="7162920" y="135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1" name="Straight Arrow Connector 54"/>
          <p:cNvCxnSpPr>
            <a:endCxn id="504" idx="1"/>
          </p:cNvCxnSpPr>
          <p:nvPr/>
        </p:nvCxnSpPr>
        <p:spPr>
          <a:xfrm flipV="1">
            <a:off x="3428640" y="2894760"/>
            <a:ext cx="10674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65"/>
          <p:cNvCxnSpPr/>
          <p:nvPr/>
        </p:nvCxnSpPr>
        <p:spPr>
          <a:xfrm flipV="1">
            <a:off x="3427920" y="3733200"/>
            <a:ext cx="10674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46"/>
          <p:cNvCxnSpPr/>
          <p:nvPr/>
        </p:nvCxnSpPr>
        <p:spPr>
          <a:xfrm>
            <a:off x="2971800" y="3962160"/>
            <a:ext cx="4115520" cy="99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Straight Arrow Connector 52"/>
          <p:cNvCxnSpPr/>
          <p:nvPr/>
        </p:nvCxnSpPr>
        <p:spPr>
          <a:xfrm>
            <a:off x="2971800" y="4343400"/>
            <a:ext cx="403920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Straight Arrow Connector 59"/>
          <p:cNvCxnSpPr/>
          <p:nvPr/>
        </p:nvCxnSpPr>
        <p:spPr>
          <a:xfrm>
            <a:off x="2971800" y="5562720"/>
            <a:ext cx="4039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7" name="Straight Arrow Connector 84"/>
          <p:cNvCxnSpPr>
            <a:endCxn id="506" idx="1"/>
          </p:cNvCxnSpPr>
          <p:nvPr/>
        </p:nvCxnSpPr>
        <p:spPr>
          <a:xfrm>
            <a:off x="3657240" y="5334120"/>
            <a:ext cx="3048840" cy="124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ounded Rectangle 40"/>
          <p:cNvSpPr/>
          <p:nvPr/>
        </p:nvSpPr>
        <p:spPr>
          <a:xfrm>
            <a:off x="4191120" y="304920"/>
            <a:ext cx="213336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ounded Rectangle 2"/>
          <p:cNvSpPr/>
          <p:nvPr/>
        </p:nvSpPr>
        <p:spPr>
          <a:xfrm>
            <a:off x="457200" y="60948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ounded Rectangle 3"/>
          <p:cNvSpPr/>
          <p:nvPr/>
        </p:nvSpPr>
        <p:spPr>
          <a:xfrm>
            <a:off x="741240" y="990720"/>
            <a:ext cx="2611440" cy="19810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ounded Rectangle 4"/>
          <p:cNvSpPr/>
          <p:nvPr/>
        </p:nvSpPr>
        <p:spPr>
          <a:xfrm>
            <a:off x="1104840" y="1365120"/>
            <a:ext cx="1790640" cy="76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ounded Rectangle 8"/>
          <p:cNvSpPr/>
          <p:nvPr/>
        </p:nvSpPr>
        <p:spPr>
          <a:xfrm>
            <a:off x="1104840" y="2133720"/>
            <a:ext cx="1790640" cy="630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ounded Rectangle 17"/>
          <p:cNvSpPr/>
          <p:nvPr/>
        </p:nvSpPr>
        <p:spPr>
          <a:xfrm>
            <a:off x="762120" y="2971800"/>
            <a:ext cx="259056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ounded Rectangle 18"/>
          <p:cNvSpPr/>
          <p:nvPr/>
        </p:nvSpPr>
        <p:spPr>
          <a:xfrm>
            <a:off x="1066680" y="32767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ounded Rectangle 39"/>
          <p:cNvSpPr/>
          <p:nvPr/>
        </p:nvSpPr>
        <p:spPr>
          <a:xfrm>
            <a:off x="4419720" y="6094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3352680" y="1294920"/>
            <a:ext cx="1067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30"/>
          <p:cNvCxnSpPr/>
          <p:nvPr/>
        </p:nvCxnSpPr>
        <p:spPr>
          <a:xfrm>
            <a:off x="3581280" y="914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0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1DA-C423-41BD-8B73-31F43CEC71A0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ounded Rectangle 43"/>
          <p:cNvSpPr/>
          <p:nvPr/>
        </p:nvSpPr>
        <p:spPr>
          <a:xfrm>
            <a:off x="4191120" y="3429000"/>
            <a:ext cx="2133360" cy="16002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ounded Rectangle 47"/>
          <p:cNvSpPr/>
          <p:nvPr/>
        </p:nvSpPr>
        <p:spPr>
          <a:xfrm>
            <a:off x="4419720" y="3809880"/>
            <a:ext cx="1676160" cy="9907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9*R*1*1*0*1~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ounded Rectangle 56"/>
          <p:cNvSpPr/>
          <p:nvPr/>
        </p:nvSpPr>
        <p:spPr>
          <a:xfrm>
            <a:off x="6705720" y="1752480"/>
            <a:ext cx="2133360" cy="175284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ounded Rectangle 49"/>
          <p:cNvSpPr/>
          <p:nvPr/>
        </p:nvSpPr>
        <p:spPr>
          <a:xfrm>
            <a:off x="6934320" y="213372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58"/>
          <p:cNvSpPr/>
          <p:nvPr/>
        </p:nvSpPr>
        <p:spPr>
          <a:xfrm>
            <a:off x="7162920" y="1523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Straight Arrow Connector 54"/>
          <p:cNvCxnSpPr/>
          <p:nvPr/>
        </p:nvCxnSpPr>
        <p:spPr>
          <a:xfrm>
            <a:off x="2895480" y="2437920"/>
            <a:ext cx="426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9" name="Straight Arrow Connector 60"/>
          <p:cNvCxnSpPr/>
          <p:nvPr/>
        </p:nvCxnSpPr>
        <p:spPr>
          <a:xfrm>
            <a:off x="2895480" y="1904760"/>
            <a:ext cx="4268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TextBox 44"/>
          <p:cNvSpPr/>
          <p:nvPr/>
        </p:nvSpPr>
        <p:spPr>
          <a:xfrm>
            <a:off x="3895560" y="5105520"/>
            <a:ext cx="264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1 = R – Rej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2 = 1 – Transaction Set Submit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3 = 1 – Transaction Sets Receiv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4 = 0 – Number of TS Accep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5 = 1 – Functional Group Not Support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41" name="Straight Arrow Connector 45"/>
          <p:cNvCxnSpPr/>
          <p:nvPr/>
        </p:nvCxnSpPr>
        <p:spPr>
          <a:xfrm>
            <a:off x="3352680" y="40384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55"/>
          <p:cNvCxnSpPr/>
          <p:nvPr/>
        </p:nvCxnSpPr>
        <p:spPr>
          <a:xfrm>
            <a:off x="3581280" y="373392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27"/>
          <p:cNvCxnSpPr/>
          <p:nvPr/>
        </p:nvCxnSpPr>
        <p:spPr>
          <a:xfrm>
            <a:off x="3580920" y="1904760"/>
            <a:ext cx="312516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228600" y="1066680"/>
            <a:ext cx="8763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terchange Envelop was processed by the receiver’s translator where their trading partner’s Interchange Sender Identifier (SSSSSSs) was entered incorrectly with an extra “s” causing a rejection of the Interchange Envelop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tted Envelo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SSSSSSs        &gt;28&gt;PPPPP          &gt;090721&gt;1700&gt;^&gt;00501&gt;9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S&gt;HC&gt;SSSSSS&gt;01001&gt;20090721&gt;1700&gt;700000001&gt;X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T&gt;837&gt;000000001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E&gt;32&gt;0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E&gt;1&gt;7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1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ing Interchange Acknowledgement - TA1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TA1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resulted in a TA1 Interchange Acknowledgement to be sent back with an Interchange Note Code of 006 “Invalid Interchange Sender ID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PPPPP           &gt;28&gt;SSSSSS          &gt;100624&gt;1430&gt;^&gt;00501&gt;0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TA1&gt;900000001&gt;100624&gt;1430&gt;R&gt;00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0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terchange Acknowledgement Example (TA1)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4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BA2-0144-4F67-B075-9EB2F32E250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itle 3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28600" y="685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Acknowledgement accepting a 837 Health Care Claim Functional Group which had 2 non-fatal errors and was accepted for further processing.  Each error is identified in the IK4 Segmen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999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2E9-16E8-4DCF-AD5B-6FF63BBE9C9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80880" y="1676520"/>
          <a:ext cx="8382240" cy="48466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999&gt;000000001&gt;005010X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Acknowledgement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3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Implementation Acknowledgment For Health Care In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&gt;HC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s Functional Identifier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Control Numb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&gt;837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CLM&gt;120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a syntax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the Segment within the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2&gt;782&gt;I12&gt;92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11 – Copy of Data Element i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tle 3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 </a:t>
            </a:r>
            <a:r>
              <a:rPr b="1" lang="en-US" sz="2000" spc="-1" strike="noStrike">
                <a:solidFill>
                  <a:srgbClr val="003399"/>
                </a:solidFill>
                <a:latin typeface="Arial Rounded MT Bold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033-2985-4073-A796-C18E3912464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80880" y="838080"/>
          <a:ext cx="8382240" cy="39322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N4&gt;127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Segment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3&gt;116&gt;6&gt;90033-2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 in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33-24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opy of bad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&gt;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&gt;E&gt;1&gt;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Transaction Sets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Receiv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Accept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10&gt;000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Segments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4"/>
          <p:cNvSpPr/>
          <p:nvPr/>
        </p:nvSpPr>
        <p:spPr>
          <a:xfrm>
            <a:off x="762120" y="16002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r:  Best Billing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:   First Clearing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:    Smith Clin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ubmission Date:  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Processing Date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aim: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harges:  $100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as Rejected due to an invalid characters (extended characters – lower case without prior agreement to use the extended character set) contained within the Billing Provider’s Nam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Clin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FI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br>
              <a:rPr sz="3200"/>
            </a:b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277CA.DAT</a:t>
            </a: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)</a:t>
            </a:r>
            <a:endParaRPr b="1" lang="en-US" sz="16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7DC-4A1A-4BC3-85A9-D4A66974344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457200" y="6714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*277*0001*005010X214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HT*0085*08*277X2140001*20100623*1430*TH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1**20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AY*2*FIRST CLEARINGHOUSE*****46*CLHR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200102051635S00001ABCDEF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50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09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2*1*21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41*2*BEST BILLING SERVICE*****46*S0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2*2002020542857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23*20100623*U*10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AA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3*2*19*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SMITH CLINIC*****XX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SMITH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511**U*1000.00*****A7:504:85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QC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*22*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4A5-91F5-4CC0-B3E0-DEF80E33A3B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1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517-793E-4999-AF17-5425A05D438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7200" y="1290600"/>
          <a:ext cx="8381880" cy="36622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277&gt;0001&gt;005010X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77 Health Care Claim Acknowledgement Transaction Se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mplementation Convention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&gt;0085&gt;08&gt;277X2140001&gt;20100624&gt;1430&gt;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eginning of Hierarchical Transac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Structur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Rece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vider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t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Purpose Code (Stat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X214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entory Fil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Type Code (Receipt Acknowledgement Adv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9:14:22Z</dcterms:created>
  <dc:creator>CMS</dc:creator>
  <dc:description/>
  <dc:language>en-US</dc:language>
  <cp:lastModifiedBy>Beatty, Gary</cp:lastModifiedBy>
  <dcterms:modified xsi:type="dcterms:W3CDTF">2010-06-30T20:10:22Z</dcterms:modified>
  <cp:revision>183</cp:revision>
  <dc:subject/>
  <dc:title>ICD-10</dc:title>
</cp:coreProperties>
</file>