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BB457-E094-4607-ABEA-1A559E93EB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FD90B-B17D-445E-9655-F24B868A92C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A3E2B1-15C0-4CB5-88ED-26A26747740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AEB0E8-1CBB-473B-912E-E8AD54D4AB3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DEF034-4A93-49E3-A8DD-B9E57B1DC83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D271F2-E08F-468E-BBB8-D9F3E455A21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219FA5-A8D6-40FC-A03D-2A44C8BD0A6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98E124-5598-4450-B0D8-AB8AD92CFA2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973892-1655-45A3-B6B1-397E7815C40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885C2B-A20A-447C-A48D-D6ED8982E94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DF6C18-0D54-412A-92F4-9C3AECCEED3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20180A-E326-467F-A613-1EF0C2F41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9A8ED-3808-480A-A899-3FC6C006056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9C4D3E-155C-43A6-8617-409D8FCFE38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346997-F1F3-476A-B4ED-DDEE07719DB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342DDB-5506-45C0-9C32-012601D2B0B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49AFBF-0D70-4B9C-92F8-E88CB271A83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29DD39-B234-4DFA-8BE0-345F5EEEEEB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FBDDF6-C3AE-45CC-9252-F2F0B7489DC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33CE3B-9C38-4CA6-BE70-B88CCAF53F2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CA9587-FA1F-4398-B050-8A6591FFA11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C467AD-B137-4200-9F7E-AEE34B2CECF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BBBB9A-1A58-4617-B284-9C5DE9155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2E887-AA8B-49ED-B452-F189734D56E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23355F-8ACF-4454-A0D9-06808DFCCE1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2A5D5-E511-48D8-BCA6-BDC5EE03D26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709C1-FCD4-4F1B-801A-89659DB36CD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6292C-4A4C-47B7-8D66-DC2D1B09C3B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ACA3E-5768-4DA4-9E38-EE4365561B8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74E9F-F66C-4DB2-953D-32AB8FC16A0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3736B-5D8C-4363-AABF-45A8E7D83C4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9674C-8F26-4B4E-A5DC-18672381E7C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C90FD-9B27-4972-BFC5-58413E57958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FB532-49BC-4D02-9589-2C99203870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49A92-CB94-4CA7-9072-49F051DD266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A2E32-7FBB-4AAB-9559-37F835F01D0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0EC47-C66F-4500-B9E7-9872B9C37C1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481693-480E-4EDB-8CF4-AF76A58C535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D202FC-428B-4945-B7CB-A6C72A98253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10C129-DF27-4B35-8AAC-69B16CEC5FF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48A8E4-E39B-4005-97A1-EE7B10145EB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74A858-DA3C-47F4-AE4A-A17DA53190D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1C4C8F-ACB7-41FC-B462-98455560448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DEB8F5-2F56-4D84-A053-5B49BFD1A1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04349E-231D-4F1C-8D7E-DFF38BE298A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D9CDB9-156B-4BEF-A96C-F40F16B88B4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504A22-B0F7-42CD-AF91-ACB20ACA7B2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7FF231-DFED-4045-9A68-CA2E0618187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B55D49-148D-43C9-81CF-AC2B2F4953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EFFF0-DBB4-4E5C-A6FC-AD5D696511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8C968-860D-4A49-B429-52AB7280FA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7A3AA-83FC-484C-AE98-48AEC09B332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EA824-A6B4-4454-8D85-F6A62DE158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BE640-FFDC-473B-B688-B1F5F7E888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54B59-439F-4828-AD20-912BF92697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AC907-E381-43BC-9EF2-979D2260FE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44BB5-9192-4DB6-821E-E8E9CC3746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17AC4-0FDA-4B92-BAE2-9C416A999E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07D1A-D17F-4BC4-AA46-9F671FB8E5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6EFE4-497D-4D06-95B3-FDBEB093EA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9CFE6-E329-4F1A-B24A-08653BA278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02FB6-6916-4EF8-8DA8-0657AC428D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76278-3FD6-40A0-B60D-A8E02F54198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565E2D-A319-4BEC-B287-C0B33E870B8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35C073-FAD7-40F4-B139-751433B9B4D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AFEDC2-479B-4655-BC5C-3BBFA0700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6DDB6-619A-473E-8061-32E77397CFA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FB0D22-7FA0-457A-8B0D-61F3ACA42C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60163E-7264-4A85-AA4F-1B56D920960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2BC386-D9B5-460F-8B48-F6828B7B9A3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1B82BB-2279-4F9B-BBDA-FD88E2EAA63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D24767-89B7-4A3E-8612-14E698C72E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0E6FC9-EB59-40A2-A5BA-A5682F18C9F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14B04A-03BD-42E2-8D71-3D2E0981DA6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3AACB4-837D-4030-B116-046CBFF68C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5DB3DC-473E-43A4-A256-395096E5D0A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C674E-BA01-4B26-AB8B-90D76DFC0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BB4B2-9C3A-4935-B6CD-8EE2367C4EA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73472-84F9-4995-9D1F-BC3D53D3706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4DCAF-FDDC-48FB-A096-ADF3FD8AD99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CC674-B0AA-429E-B1C5-4416A319F28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B7B7C-6C4C-479F-97A7-658F0901A7D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E398F-2D95-4CA0-A41E-1AE021E3C33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FCCE7-2DC9-4D22-9706-3FE28150143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10C30-3C35-4E3B-A4C7-4367E4592C4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24422-F8E3-4B70-A023-34E7A52D48E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A2D38-F09E-4FDB-B3D8-21D4582D405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2629C-F357-4E5C-B956-18FF80EFE7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9B407-CCE7-429C-9621-E77CF69CCF7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E1A81-BEF5-4A7E-9E40-74D1CDA32FF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D0F0A6-59B5-4917-BAB2-8D0B16570A8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16E624-114D-4DEF-8C75-5BE4F8C826C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5A5DB1-F929-4FFF-9F15-698A0385B47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8655F9-FE4C-4A5C-BF59-40A58A36F3C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6EADE5-0AB5-4E6E-95A3-B49A66AF7F1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8726A1-82A6-4416-97D8-C4482019E63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E0ECF0-1180-4252-9FF4-9CD95159360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341D25-4973-4E36-8E4E-E5A3622DAFA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B8144B-40C8-4FC7-9F7F-BEBB41955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A4918-9E37-4661-BD4C-E35B9245291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59000A-5CBC-48B2-8D19-3CB68A90774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570C64-8CD4-4D98-A8D6-397F686AD5C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12B339-2EEF-4F54-8A7E-02B6F0F286E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F2755C-105F-4F24-B910-2F9387AD2B7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A534A0-FCC7-4F66-8B27-5BBA2F5F8E2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E7B6EF-2F76-45C0-8CDD-B67D30A56E6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CF55D2-72C3-4FF3-ACDA-0BA41DAD00F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587C61-C947-468E-B582-AF42D860A65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528B79-725A-4534-8357-5152892567E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B9D112-5B23-433B-8453-470CFB8A58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A1B50-C819-47FD-9A8C-5C915204C4F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06E1E1-1E40-4DFC-8FEB-4D24345501C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5DDA6B-C334-4228-9E32-854B084F5C4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19BA8C-8544-455E-9605-5A2887C27C3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1EDAD9-D9F8-4868-899A-51AC735D3FF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87B0D4-CBB9-4099-BD57-F7B8FFED3D1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214F8-9741-48CA-B0E4-30ACB163D73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E9C07-D3E7-45AE-A892-4006DA67B13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8AC0B-1F2C-4688-9FCE-C441A8292CC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7D545-BEE8-4AF8-9EC1-A9416D72BC5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69445-CA0C-4026-AAD4-D715AF246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DA117-98BC-4E12-88F7-DED57D1ED99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FC94A-F56E-4A54-8B0F-A1878B9B179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52760-6B92-43C7-8246-7C86BF54A33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8AAFA-589B-4D9F-A9CC-60F03DB39BD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6E4A0-9879-41C4-8CD9-B046ADBB029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E5417-535C-4D9C-9A17-7B0AACB5343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AEE3E-2AA3-415E-9AA8-6709601E181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A46D1-FE0E-43BC-B899-31157A4EC6A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1F8A71-9770-4513-ACFF-52B28C603B8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71A4FB-2B0C-4602-A629-9B6D225179D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0DF999-8059-4A4C-8FC2-7F1CB70DC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14E8-23EB-4347-A6F8-ED1D1479B376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18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19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203F-F74F-4818-AE0C-A45E4EB71DAC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ftr" idx="20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21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E9F0-62AD-4D22-94B9-C72ED23AA3BB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22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3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67EC-E22E-44C8-8DCB-B7627C843FB6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2438280" y="6305040"/>
            <a:ext cx="4724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4"/>
          </p:nvPr>
        </p:nvSpPr>
        <p:spPr>
          <a:xfrm>
            <a:off x="1066680" y="6305040"/>
            <a:ext cx="701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BA95-97D4-4689-B1D0-C562396DF0E1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6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7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B16C-C1A7-4512-B494-B312C733641D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8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9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E0D8-E5BE-4D6A-BD0E-B301601D8621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10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1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60EF-B5D8-479A-AB34-0CB3C25A236E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2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3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3F68-9327-4F5B-B0D7-A8893FE09D2B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14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5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DA71-4433-417D-B4B3-E738547F9323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16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17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678E-4AC4-4C74-8129-CE6B8FC1D434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 Rounded MT Bold"/>
              </a:rPr>
              <a:t>CMS Acknowledgements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 Rounded MT Bold"/>
              </a:rPr>
              <a:t>Overview</a:t>
            </a:r>
            <a:endParaRPr b="1" lang="en-US" sz="28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e EDI translator will perform all X12 syntax edits and CMS-selected HIPAA IG edits, and output the following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28116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SzPct val="13120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A1 for rejected interchange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SzPct val="13120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99 for rejected functional groups/transaction set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SzPct val="13120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99 for accepted functional groups/transaction set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3" marL="1311840" indent="-187200">
              <a:spcBef>
                <a:spcPts val="34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99"/>
                </a:solidFill>
                <a:latin typeface="Arial"/>
              </a:rPr>
              <a:t>structurally sound non-compliant business units will be passed to CEM for rejection at the individual claim level (Accept with Errors)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SzPct val="13120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CMS flat files for accepted transaction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0"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99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e CEM software will perform Medicare edits and CMS-selected IG edits, and produce the following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SzPct val="13120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Assign claim control number to accepted claim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SzPct val="13120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CMS flat files for accepted transaction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SzPct val="13120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a 277CA for each accepted or rejected claim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60912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99"/>
              </a:solidFill>
              <a:latin typeface="Arial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This approach allows us to return individual claims as opposed to entire transactions sets when the error is not a syntactical structure issue 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                               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1DA3-807A-4E7C-8C58-EF96481DE6E0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1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277CA Example </a:t>
            </a:r>
            <a:br>
              <a:rPr sz="3200"/>
            </a:br>
            <a:r>
              <a:rPr b="1" lang="en-US" sz="1800" spc="-1" strike="noStrike">
                <a:solidFill>
                  <a:srgbClr val="003399"/>
                </a:solidFill>
                <a:latin typeface="Arial Rounded MT Bold"/>
              </a:rPr>
              <a:t>(Table 2 – Loop 2000A - Information Source Detail)</a:t>
            </a:r>
            <a:endParaRPr b="1" lang="en-US" sz="18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64" name="Slide Number Placeholder 5"/>
          <p:cNvSpPr/>
          <p:nvPr/>
        </p:nvSpPr>
        <p:spPr>
          <a:xfrm>
            <a:off x="8610480" y="653724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3F11-CE49-4BBE-9160-4A18B154B504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457200" y="1066680"/>
          <a:ext cx="8381880" cy="4664160"/>
        </p:xfrm>
        <a:graphic>
          <a:graphicData uri="http://schemas.openxmlformats.org/drawingml/2006/table">
            <a:tbl>
              <a:tblPr/>
              <a:tblGrid>
                <a:gridCol w="4038480"/>
                <a:gridCol w="43434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&gt;1&gt;&gt;20&gt;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Level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ID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Level Code (Information Sour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ubordinate levels ex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1&gt;AY&gt;2&gt;FIRST  CLEARINGHOUSE &gt;&gt;&gt;&gt;&gt;46&gt;CLHR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formation Source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Entity ID Code (Clearinghou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on-person ent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 CLEARINGHOU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Information Source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ETIN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HR00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ET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N&gt;1&gt;200102051635S00001ABCDE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Receipt Control Ident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Current Transaction Trace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02051635S00001ABCDE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formation Source Application Trace Ident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P&gt;050&gt;D8&gt;201006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formation Source Receipt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Received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Date expressed as CCYYMMDD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062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formation Source Receipt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P&gt;009&gt;D8&gt;201006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Information Source Process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9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Process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Date expressed as CCYYMMDD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062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formation Source Process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 Rounded MT Bold"/>
              </a:rPr>
              <a:t>277CA Example </a:t>
            </a:r>
            <a:r>
              <a:rPr b="1" lang="en-US" sz="1800" spc="-1" strike="noStrike">
                <a:solidFill>
                  <a:srgbClr val="003399"/>
                </a:solidFill>
                <a:latin typeface="Arial Rounded MT Bold"/>
              </a:rPr>
              <a:t>(Table 2 – Loop 2000B - Information Receiver Detail)</a:t>
            </a:r>
            <a:endParaRPr b="1" lang="en-US" sz="18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21B9-0667-4C01-98DB-1283E57D9D13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838080"/>
          <a:ext cx="8382240" cy="5303880"/>
        </p:xfrm>
        <a:graphic>
          <a:graphicData uri="http://schemas.openxmlformats.org/drawingml/2006/table">
            <a:tbl>
              <a:tblPr/>
              <a:tblGrid>
                <a:gridCol w="4038840"/>
                <a:gridCol w="434340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&gt;2&gt;1&gt;21&gt;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Level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ID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Par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Level Code (Information Receiv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ubordinate levels ex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1&gt;41&gt;2&gt;BEST BILLING SERVICE&gt;&gt;&gt;&gt;&gt;46&gt;S0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formation Receiver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Entity Identifier Code (Submitt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on-person entity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 BILLING SERVI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formation Source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ETIN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00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ET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N&gt;2&gt;20020205428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formation Receiver Application Trace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Reference transaction Trace Numb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020542857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Claim Transaction Batch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C&gt;A7:23&gt;20100624&gt;U&gt;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formation Receiver Status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Ack/Rejected for Invalid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Returned to Ent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062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tatus information Effective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Rejec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Submitted Charges for Unit 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TY&gt;AA&gt;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T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Rejected Q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Unacknowledged Quantit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Rejected Quant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T&gt;YY&gt;1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Rejected Amou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Returned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.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Rejected Amou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060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Rounded MT Bold"/>
              </a:rPr>
              <a:t>277CA Example </a:t>
            </a:r>
            <a:r>
              <a:rPr b="1" lang="en-US" sz="1800" spc="-1" strike="noStrike">
                <a:solidFill>
                  <a:srgbClr val="003399"/>
                </a:solidFill>
                <a:latin typeface="Arial Rounded MT Bold"/>
              </a:rPr>
              <a:t>(Table 2 – Loop 2000C – Billing Provider of Service Detail)</a:t>
            </a:r>
            <a:endParaRPr b="1" lang="en-US" sz="18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70" name="Slide Number Placeholder 5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54C3-5296-4F1B-93C6-BA49ED38D630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304920" y="609480"/>
          <a:ext cx="8381880" cy="5837400"/>
        </p:xfrm>
        <a:graphic>
          <a:graphicData uri="http://schemas.openxmlformats.org/drawingml/2006/table">
            <a:tbl>
              <a:tblPr/>
              <a:tblGrid>
                <a:gridCol w="4038480"/>
                <a:gridCol w="4343400"/>
              </a:tblGrid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&gt;3&gt;2&gt;19&gt;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Level Segment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ID Numb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Parent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Level Code (Provider of Servic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o Subordinate levels ex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1&gt;85&gt;2&gt;SMITH CLINIC&gt;&gt;&gt;&gt;&gt;XX&gt;1234567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 Billing Provider Name Segment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Billing Provider Qualif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on-person qualif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 CLINIC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Billing Provider 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ational Provider ID qualif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456789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Federal Tax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N&gt;1&gt;SMITH7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Provider of Service Info Trace ID Segment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Current Transaction Trace Numb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789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Provider of Service Info Trace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4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C&gt;A7:511&gt;&gt;U&gt;1000.00&gt;&gt;&gt;&gt;&gt;A7:504: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Billing Provider Status Information Segment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Ack/Rejected for Invalid Inform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valid Charac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Rej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.0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Submitted Charges for Unit 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Ack/Rejected for Invalid Inform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Entity’s Last 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Billing Provider qualif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TY&gt;QC&gt;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T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Rejected Quantity Segment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Quantity Disapproved qualif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Rejected Quant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T&gt;YY&gt;100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Rejected Amount Segment I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Returned Qualif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.0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Rejected Amou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&gt;20&gt;0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Trailer Segment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Segment Cou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Control Numb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Review the Purpose of the 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TA1, 999 and 277CA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TA1 is received, you will need to correct and resubmit the entire ISA – IEA Interchange;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999 is received, you may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cognize that syntax errors occurred and begin a correct/resubmit action,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cognize that all transactions were accepte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277CA is received, you may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cognize that business rule errors occurred and begin a correct/resubmit action on specific claims,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cognize that all transactions were accepted,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returned claim numbers for future claim status inquir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4" name="Slide Number Placeholder 5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A10B-3A37-42A1-B9D7-5FC8AB1532C4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Footer Placeholder 6"/>
          <p:cNvSpPr/>
          <p:nvPr/>
        </p:nvSpPr>
        <p:spPr>
          <a:xfrm>
            <a:off x="0" y="6534000"/>
            <a:ext cx="701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Special Situations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business error is encountered, a claim will continue to be edited so that all Front End System errors are identified are returned to the submitter;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fatal error is encountered with data at the provider level, claim editing is NOT continued; all claims for that provider are returned without edit results.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F1CF-ACBB-4167-B602-4E90AEAB8E2C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Footer Placeholder 6"/>
          <p:cNvSpPr/>
          <p:nvPr/>
        </p:nvSpPr>
        <p:spPr>
          <a:xfrm>
            <a:off x="0" y="6534000"/>
            <a:ext cx="701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How will you use the 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TA1, 999 and 277CA?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A1 and 999 reflect technical problems that must be addressed by the software preparing the EDI transmission;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ouble Tickets” will likely be addressed by technical resources to identify corrections needed before resubmissio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277CA reflects a data problem that must be addressed by resources in the Billing area;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lling staff will likely need reports to be produced using the 277CA transaction in order to identify claim corrections before resubmissio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inghouses and Vendors may consider offering a 277CA reporting capability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6DFC-C2FA-4D4B-89D0-07B934850A3E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Footer Placeholder 6"/>
          <p:cNvSpPr/>
          <p:nvPr/>
        </p:nvSpPr>
        <p:spPr>
          <a:xfrm>
            <a:off x="0" y="6534000"/>
            <a:ext cx="701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Additional Information for X12 5010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</a:rPr>
              <a:t>Purchase of Implementation Guides and access to Technical Questi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X12: http://store.x12.org/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</a:rPr>
              <a:t>X12 Responses to Technical Commen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ttp://www.cms.hhs.gov/TransactionCodeSetsStands/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</a:rPr>
              <a:t>Other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Request Changes to standards: www.hipaa-dsmo.org 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MS Website for industry wide information: http://www.cms.hhs.gov/Versions5010andD0/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ttp://www.cms.hhs.gov/ElectronicBillingEDITrans/18_5010D0.asp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6" name="Slide Number Placeholder 5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BA8E-A230-47DE-A257-F4029525E5EE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ounded Rectangle 40"/>
          <p:cNvSpPr/>
          <p:nvPr/>
        </p:nvSpPr>
        <p:spPr>
          <a:xfrm>
            <a:off x="4267080" y="304920"/>
            <a:ext cx="2133720" cy="1447560"/>
          </a:xfrm>
          <a:prstGeom prst="roundRect">
            <a:avLst>
              <a:gd name="adj" fmla="val 16667"/>
            </a:avLst>
          </a:pr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1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Rounded Rectangle 1"/>
          <p:cNvSpPr/>
          <p:nvPr/>
        </p:nvSpPr>
        <p:spPr>
          <a:xfrm>
            <a:off x="152280" y="76320"/>
            <a:ext cx="3810240" cy="6705360"/>
          </a:xfrm>
          <a:custGeom>
            <a:avLst/>
            <a:gdLst>
              <a:gd name="textAreaLeft" fmla="*/ 78480 w 3810240"/>
              <a:gd name="textAreaRight" fmla="*/ 3731760 w 3810240"/>
              <a:gd name="textAreaTop" fmla="*/ 78480 h 6705360"/>
              <a:gd name="textAreaBottom" fmla="*/ 6626880 h 6705360"/>
            </a:gdLst>
            <a:ahLst/>
            <a:rect l="textAreaLeft" t="textAreaTop" r="textAreaRight" b="textAreaBottom"/>
            <a:pathLst>
              <a:path w="21600" h="38011">
                <a:moveTo>
                  <a:pt x="1520" y="0"/>
                </a:moveTo>
                <a:arcTo wR="1520" hR="1520" stAng="16200000" swAng="-5400000"/>
                <a:lnTo>
                  <a:pt x="0" y="36491"/>
                </a:lnTo>
                <a:arcTo wR="1520" hR="1520" stAng="10800000" swAng="-5400000"/>
                <a:lnTo>
                  <a:pt x="20080" y="38011"/>
                </a:lnTo>
                <a:arcTo wR="1520" hR="1520" stAng="5400000" swAng="-5400000"/>
                <a:lnTo>
                  <a:pt x="21600" y="1520"/>
                </a:lnTo>
                <a:arcTo wR="1520" hR="1520" stAng="0" swAng="-5400000"/>
                <a:close/>
              </a:path>
            </a:pathLst>
          </a:cu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Rounded Rectangle 2"/>
          <p:cNvSpPr/>
          <p:nvPr/>
        </p:nvSpPr>
        <p:spPr>
          <a:xfrm>
            <a:off x="533520" y="2514600"/>
            <a:ext cx="3124080" cy="4114800"/>
          </a:xfrm>
          <a:custGeom>
            <a:avLst/>
            <a:gdLst>
              <a:gd name="textAreaLeft" fmla="*/ 86760 w 3124080"/>
              <a:gd name="textAreaRight" fmla="*/ 3037320 w 3124080"/>
              <a:gd name="textAreaTop" fmla="*/ 86760 h 4114800"/>
              <a:gd name="textAreaBottom" fmla="*/ 4028040 h 4114800"/>
            </a:gdLst>
            <a:ahLst/>
            <a:rect l="textAreaLeft" t="textAreaTop" r="textAreaRight" b="textAreaBottom"/>
            <a:pathLst>
              <a:path w="21600" h="28449">
                <a:moveTo>
                  <a:pt x="2056" y="0"/>
                </a:moveTo>
                <a:arcTo wR="2056" hR="2056" stAng="16200000" swAng="-5400000"/>
                <a:lnTo>
                  <a:pt x="0" y="26393"/>
                </a:lnTo>
                <a:arcTo wR="2056" hR="2056" stAng="10800000" swAng="-5400000"/>
                <a:lnTo>
                  <a:pt x="19544" y="28449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2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Rounded Rectangle 10"/>
          <p:cNvSpPr/>
          <p:nvPr/>
        </p:nvSpPr>
        <p:spPr>
          <a:xfrm>
            <a:off x="817560" y="4876920"/>
            <a:ext cx="2611440" cy="150012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3 (005010X222)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ounded Rectangle 3"/>
          <p:cNvSpPr/>
          <p:nvPr/>
        </p:nvSpPr>
        <p:spPr>
          <a:xfrm>
            <a:off x="817560" y="2895480"/>
            <a:ext cx="2611440" cy="198144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2 (005010X222)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ounded Rectangle 4"/>
          <p:cNvSpPr/>
          <p:nvPr/>
        </p:nvSpPr>
        <p:spPr>
          <a:xfrm>
            <a:off x="1181160" y="3270240"/>
            <a:ext cx="1790640" cy="7682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 Transaction Set 1 (837P)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Rounded Rectangle 8"/>
          <p:cNvSpPr/>
          <p:nvPr/>
        </p:nvSpPr>
        <p:spPr>
          <a:xfrm>
            <a:off x="1181160" y="4038480"/>
            <a:ext cx="1790640" cy="6303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 Transaction Set 2 (837P)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TextBox 12"/>
          <p:cNvSpPr/>
          <p:nvPr/>
        </p:nvSpPr>
        <p:spPr>
          <a:xfrm>
            <a:off x="152280" y="152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mission Fil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Rounded Rectangle 13"/>
          <p:cNvSpPr/>
          <p:nvPr/>
        </p:nvSpPr>
        <p:spPr>
          <a:xfrm>
            <a:off x="533520" y="457200"/>
            <a:ext cx="3124080" cy="2057400"/>
          </a:xfrm>
          <a:prstGeom prst="roundRect">
            <a:avLst>
              <a:gd name="adj" fmla="val 16667"/>
            </a:avLst>
          </a:pr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1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Rounded Rectangle 17"/>
          <p:cNvSpPr/>
          <p:nvPr/>
        </p:nvSpPr>
        <p:spPr>
          <a:xfrm>
            <a:off x="762120" y="838080"/>
            <a:ext cx="2666880" cy="144792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1 (005010X212)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ounded Rectangle 18"/>
          <p:cNvSpPr/>
          <p:nvPr/>
        </p:nvSpPr>
        <p:spPr>
          <a:xfrm>
            <a:off x="1066680" y="1143000"/>
            <a:ext cx="1828800" cy="8380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 Transaction Set (276)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Claim 1 Inquiry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Claim 2 Inquiry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Claim 3 Inquiry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95" name="Straight Arrow Connector 60"/>
          <p:cNvCxnSpPr/>
          <p:nvPr/>
        </p:nvCxnSpPr>
        <p:spPr>
          <a:xfrm>
            <a:off x="3428640" y="1219320"/>
            <a:ext cx="1067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6" name="Rounded Rectangle 36"/>
          <p:cNvSpPr/>
          <p:nvPr/>
        </p:nvSpPr>
        <p:spPr>
          <a:xfrm>
            <a:off x="1171440" y="5181480"/>
            <a:ext cx="1800360" cy="9003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 Transaction Set 3 (837P)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Rounded Rectangle 39"/>
          <p:cNvSpPr/>
          <p:nvPr/>
        </p:nvSpPr>
        <p:spPr>
          <a:xfrm>
            <a:off x="4495680" y="609480"/>
            <a:ext cx="1676520" cy="83844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999 (for GS 1)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98" name="Straight Arrow Connector 41"/>
          <p:cNvCxnSpPr/>
          <p:nvPr/>
        </p:nvCxnSpPr>
        <p:spPr>
          <a:xfrm>
            <a:off x="3657240" y="762120"/>
            <a:ext cx="6102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9" name="Straight Arrow Connector 27"/>
          <p:cNvCxnSpPr>
            <a:endCxn id="500" idx="1"/>
          </p:cNvCxnSpPr>
          <p:nvPr/>
        </p:nvCxnSpPr>
        <p:spPr>
          <a:xfrm>
            <a:off x="2895120" y="1752480"/>
            <a:ext cx="3886920" cy="254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0" name="Rectangle 29"/>
          <p:cNvSpPr/>
          <p:nvPr/>
        </p:nvSpPr>
        <p:spPr>
          <a:xfrm>
            <a:off x="6781680" y="1752480"/>
            <a:ext cx="2043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inue CEM processing and generation of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77 response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01" name="Straight Arrow Connector 30"/>
          <p:cNvCxnSpPr/>
          <p:nvPr/>
        </p:nvCxnSpPr>
        <p:spPr>
          <a:xfrm>
            <a:off x="3657240" y="2743200"/>
            <a:ext cx="6102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2" name="Slide Number Placeholder 31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C68C-A6EE-477E-8FEC-91E93A168DF7}" type="slidenum">
              <a:rPr b="1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Rounded Rectangle 43"/>
          <p:cNvSpPr/>
          <p:nvPr/>
        </p:nvSpPr>
        <p:spPr>
          <a:xfrm>
            <a:off x="4267080" y="2057400"/>
            <a:ext cx="2133720" cy="220968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2209680"/>
              <a:gd name="textAreaBottom" fmla="*/ 2105640 h 2209680"/>
            </a:gdLst>
            <a:ahLst/>
            <a:rect l="textAreaLeft" t="textAreaTop" r="textAreaRight" b="textAreaBottom"/>
            <a:pathLst>
              <a:path w="21600" h="22369">
                <a:moveTo>
                  <a:pt x="3600" y="0"/>
                </a:moveTo>
                <a:arcTo wR="3600" hR="3600" stAng="16200000" swAng="-5400000"/>
                <a:lnTo>
                  <a:pt x="0" y="18769"/>
                </a:lnTo>
                <a:arcTo wR="3600" hR="3600" stAng="10800000" swAng="-5400000"/>
                <a:lnTo>
                  <a:pt x="18000" y="223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2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Rounded Rectangle 47"/>
          <p:cNvSpPr/>
          <p:nvPr/>
        </p:nvSpPr>
        <p:spPr>
          <a:xfrm>
            <a:off x="4495680" y="2514600"/>
            <a:ext cx="1676520" cy="76212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999 (for GS 2)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Rounded Rectangle 48"/>
          <p:cNvSpPr/>
          <p:nvPr/>
        </p:nvSpPr>
        <p:spPr>
          <a:xfrm>
            <a:off x="4495680" y="327672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999 (for GS 3)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Rounded Rectangle 56"/>
          <p:cNvSpPr/>
          <p:nvPr/>
        </p:nvSpPr>
        <p:spPr>
          <a:xfrm>
            <a:off x="6705720" y="4208400"/>
            <a:ext cx="2133360" cy="249732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2497320"/>
              <a:gd name="textAreaBottom" fmla="*/ 2393280 h 2497320"/>
            </a:gdLst>
            <a:ahLst/>
            <a:rect l="textAreaLeft" t="textAreaTop" r="textAreaRight" b="textAreaBottom"/>
            <a:pathLst>
              <a:path w="21600" h="25284">
                <a:moveTo>
                  <a:pt x="3600" y="0"/>
                </a:moveTo>
                <a:arcTo wR="3600" hR="3600" stAng="16200000" swAng="-5400000"/>
                <a:lnTo>
                  <a:pt x="0" y="21684"/>
                </a:lnTo>
                <a:arcTo wR="3600" hR="3600" stAng="10800000" swAng="-5400000"/>
                <a:lnTo>
                  <a:pt x="18000" y="252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2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ounded Rectangle 49"/>
          <p:cNvSpPr/>
          <p:nvPr/>
        </p:nvSpPr>
        <p:spPr>
          <a:xfrm>
            <a:off x="6934320" y="4589640"/>
            <a:ext cx="1676160" cy="106668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277CA (TS 1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277CA (TS 2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Rounded Rectangle 50"/>
          <p:cNvSpPr/>
          <p:nvPr/>
        </p:nvSpPr>
        <p:spPr>
          <a:xfrm>
            <a:off x="6934320" y="5656320"/>
            <a:ext cx="1676160" cy="76212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ST 277CA (TS 3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Box 57"/>
          <p:cNvSpPr/>
          <p:nvPr/>
        </p:nvSpPr>
        <p:spPr>
          <a:xfrm>
            <a:off x="4724280" y="586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TS Translato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Box 58"/>
          <p:cNvSpPr/>
          <p:nvPr/>
        </p:nvSpPr>
        <p:spPr>
          <a:xfrm>
            <a:off x="7162920" y="1350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11" name="Straight Arrow Connector 54"/>
          <p:cNvCxnSpPr>
            <a:endCxn id="504" idx="1"/>
          </p:cNvCxnSpPr>
          <p:nvPr/>
        </p:nvCxnSpPr>
        <p:spPr>
          <a:xfrm flipV="1">
            <a:off x="3428640" y="2894760"/>
            <a:ext cx="1067400" cy="305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2" name="Straight Arrow Connector 65"/>
          <p:cNvCxnSpPr/>
          <p:nvPr/>
        </p:nvCxnSpPr>
        <p:spPr>
          <a:xfrm flipV="1">
            <a:off x="3427920" y="3733200"/>
            <a:ext cx="1067400" cy="1448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3" name="Straight Arrow Connector 46"/>
          <p:cNvCxnSpPr/>
          <p:nvPr/>
        </p:nvCxnSpPr>
        <p:spPr>
          <a:xfrm>
            <a:off x="2971800" y="3962160"/>
            <a:ext cx="4115520" cy="99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4" name="Straight Arrow Connector 52"/>
          <p:cNvCxnSpPr/>
          <p:nvPr/>
        </p:nvCxnSpPr>
        <p:spPr>
          <a:xfrm>
            <a:off x="2971800" y="4343400"/>
            <a:ext cx="4039200" cy="91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5" name="Straight Arrow Connector 59"/>
          <p:cNvCxnSpPr/>
          <p:nvPr/>
        </p:nvCxnSpPr>
        <p:spPr>
          <a:xfrm>
            <a:off x="2971800" y="5562720"/>
            <a:ext cx="403920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6" name="Straight Connector 77"/>
          <p:cNvSpPr/>
          <p:nvPr/>
        </p:nvSpPr>
        <p:spPr>
          <a:xfrm>
            <a:off x="6553080" y="152280"/>
            <a:ext cx="0" cy="6477120"/>
          </a:xfrm>
          <a:prstGeom prst="line">
            <a:avLst/>
          </a:prstGeom>
          <a:ln w="38160">
            <a:solidFill>
              <a:srgbClr val="b6dcd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17" name="Straight Arrow Connector 84"/>
          <p:cNvCxnSpPr>
            <a:endCxn id="506" idx="1"/>
          </p:cNvCxnSpPr>
          <p:nvPr/>
        </p:nvCxnSpPr>
        <p:spPr>
          <a:xfrm>
            <a:off x="3657240" y="5334120"/>
            <a:ext cx="3048840" cy="124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ounded Rectangle 40"/>
          <p:cNvSpPr/>
          <p:nvPr/>
        </p:nvSpPr>
        <p:spPr>
          <a:xfrm>
            <a:off x="4191120" y="304920"/>
            <a:ext cx="2133360" cy="1447560"/>
          </a:xfrm>
          <a:prstGeom prst="roundRect">
            <a:avLst>
              <a:gd name="adj" fmla="val 16667"/>
            </a:avLst>
          </a:pr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1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ounded Rectangle 1"/>
          <p:cNvSpPr/>
          <p:nvPr/>
        </p:nvSpPr>
        <p:spPr>
          <a:xfrm>
            <a:off x="152280" y="76320"/>
            <a:ext cx="3810240" cy="6705360"/>
          </a:xfrm>
          <a:custGeom>
            <a:avLst/>
            <a:gdLst>
              <a:gd name="textAreaLeft" fmla="*/ 78480 w 3810240"/>
              <a:gd name="textAreaRight" fmla="*/ 3731760 w 3810240"/>
              <a:gd name="textAreaTop" fmla="*/ 78480 h 6705360"/>
              <a:gd name="textAreaBottom" fmla="*/ 6626880 h 6705360"/>
            </a:gdLst>
            <a:ahLst/>
            <a:rect l="textAreaLeft" t="textAreaTop" r="textAreaRight" b="textAreaBottom"/>
            <a:pathLst>
              <a:path w="21600" h="38011">
                <a:moveTo>
                  <a:pt x="1520" y="0"/>
                </a:moveTo>
                <a:arcTo wR="1520" hR="1520" stAng="16200000" swAng="-5400000"/>
                <a:lnTo>
                  <a:pt x="0" y="36491"/>
                </a:lnTo>
                <a:arcTo wR="1520" hR="1520" stAng="10800000" swAng="-5400000"/>
                <a:lnTo>
                  <a:pt x="20080" y="38011"/>
                </a:lnTo>
                <a:arcTo wR="1520" hR="1520" stAng="5400000" swAng="-5400000"/>
                <a:lnTo>
                  <a:pt x="21600" y="1520"/>
                </a:lnTo>
                <a:arcTo wR="1520" hR="1520" stAng="0" swAng="-5400000"/>
                <a:close/>
              </a:path>
            </a:pathLst>
          </a:cu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Rounded Rectangle 2"/>
          <p:cNvSpPr/>
          <p:nvPr/>
        </p:nvSpPr>
        <p:spPr>
          <a:xfrm>
            <a:off x="457200" y="609480"/>
            <a:ext cx="3124080" cy="4114800"/>
          </a:xfrm>
          <a:custGeom>
            <a:avLst/>
            <a:gdLst>
              <a:gd name="textAreaLeft" fmla="*/ 86760 w 3124080"/>
              <a:gd name="textAreaRight" fmla="*/ 3037320 w 3124080"/>
              <a:gd name="textAreaTop" fmla="*/ 86760 h 4114800"/>
              <a:gd name="textAreaBottom" fmla="*/ 4028040 h 4114800"/>
            </a:gdLst>
            <a:ahLst/>
            <a:rect l="textAreaLeft" t="textAreaTop" r="textAreaRight" b="textAreaBottom"/>
            <a:pathLst>
              <a:path w="21600" h="28449">
                <a:moveTo>
                  <a:pt x="2056" y="0"/>
                </a:moveTo>
                <a:arcTo wR="2056" hR="2056" stAng="16200000" swAng="-5400000"/>
                <a:lnTo>
                  <a:pt x="0" y="26393"/>
                </a:lnTo>
                <a:arcTo wR="2056" hR="2056" stAng="10800000" swAng="-5400000"/>
                <a:lnTo>
                  <a:pt x="19544" y="28449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1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Rounded Rectangle 3"/>
          <p:cNvSpPr/>
          <p:nvPr/>
        </p:nvSpPr>
        <p:spPr>
          <a:xfrm>
            <a:off x="741240" y="990720"/>
            <a:ext cx="2611440" cy="198108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1 (005010X222)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Rounded Rectangle 4"/>
          <p:cNvSpPr/>
          <p:nvPr/>
        </p:nvSpPr>
        <p:spPr>
          <a:xfrm>
            <a:off x="1104840" y="1365120"/>
            <a:ext cx="1790640" cy="7686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 Transaction Set 1 (837P)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Rounded Rectangle 8"/>
          <p:cNvSpPr/>
          <p:nvPr/>
        </p:nvSpPr>
        <p:spPr>
          <a:xfrm>
            <a:off x="1104840" y="2133720"/>
            <a:ext cx="1790640" cy="6300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 Transaction Set 2 (837P)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TextBox 12"/>
          <p:cNvSpPr/>
          <p:nvPr/>
        </p:nvSpPr>
        <p:spPr>
          <a:xfrm>
            <a:off x="152280" y="152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mission Fil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Rounded Rectangle 17"/>
          <p:cNvSpPr/>
          <p:nvPr/>
        </p:nvSpPr>
        <p:spPr>
          <a:xfrm>
            <a:off x="762120" y="2971800"/>
            <a:ext cx="2590560" cy="144792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2 (005010X212)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Rounded Rectangle 18"/>
          <p:cNvSpPr/>
          <p:nvPr/>
        </p:nvSpPr>
        <p:spPr>
          <a:xfrm>
            <a:off x="1066680" y="3276720"/>
            <a:ext cx="1828800" cy="8380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 Transaction Set (276)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Claim 1 Inquiry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Claim 2 Inquiry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Claim 3 Inquiry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Rounded Rectangle 39"/>
          <p:cNvSpPr/>
          <p:nvPr/>
        </p:nvSpPr>
        <p:spPr>
          <a:xfrm>
            <a:off x="4419720" y="609480"/>
            <a:ext cx="1676160" cy="83844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999 (for GS 1)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28" name="Straight Arrow Connector 41"/>
          <p:cNvCxnSpPr/>
          <p:nvPr/>
        </p:nvCxnSpPr>
        <p:spPr>
          <a:xfrm>
            <a:off x="3352680" y="1294920"/>
            <a:ext cx="10677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9" name="Straight Arrow Connector 30"/>
          <p:cNvCxnSpPr/>
          <p:nvPr/>
        </p:nvCxnSpPr>
        <p:spPr>
          <a:xfrm>
            <a:off x="3581280" y="914400"/>
            <a:ext cx="610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0" name="Slide Number Placeholder 31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DFA3-7B92-4657-A31E-8E52906B42CA}" type="slidenum">
              <a:rPr b="1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Rounded Rectangle 43"/>
          <p:cNvSpPr/>
          <p:nvPr/>
        </p:nvSpPr>
        <p:spPr>
          <a:xfrm>
            <a:off x="4191120" y="3429000"/>
            <a:ext cx="2133360" cy="1600200"/>
          </a:xfrm>
          <a:prstGeom prst="roundRect">
            <a:avLst>
              <a:gd name="adj" fmla="val 16667"/>
            </a:avLst>
          </a:pr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1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Rounded Rectangle 47"/>
          <p:cNvSpPr/>
          <p:nvPr/>
        </p:nvSpPr>
        <p:spPr>
          <a:xfrm>
            <a:off x="4419720" y="3809880"/>
            <a:ext cx="1676160" cy="99072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999 (for GS 2)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AK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AK9*R*1*1*0*1~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ounded Rectangle 56"/>
          <p:cNvSpPr/>
          <p:nvPr/>
        </p:nvSpPr>
        <p:spPr>
          <a:xfrm>
            <a:off x="6705720" y="1752480"/>
            <a:ext cx="2133360" cy="1752840"/>
          </a:xfrm>
          <a:prstGeom prst="roundRect">
            <a:avLst>
              <a:gd name="adj" fmla="val 16667"/>
            </a:avLst>
          </a:pr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1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ounded Rectangle 49"/>
          <p:cNvSpPr/>
          <p:nvPr/>
        </p:nvSpPr>
        <p:spPr>
          <a:xfrm>
            <a:off x="6934320" y="2133720"/>
            <a:ext cx="1676160" cy="106668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277CA (TS 1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277CA (TS 2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Box 57"/>
          <p:cNvSpPr/>
          <p:nvPr/>
        </p:nvSpPr>
        <p:spPr>
          <a:xfrm>
            <a:off x="4724280" y="586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TS Translato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TextBox 58"/>
          <p:cNvSpPr/>
          <p:nvPr/>
        </p:nvSpPr>
        <p:spPr>
          <a:xfrm>
            <a:off x="7162920" y="15238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37" name="Straight Arrow Connector 54"/>
          <p:cNvCxnSpPr/>
          <p:nvPr/>
        </p:nvCxnSpPr>
        <p:spPr>
          <a:xfrm>
            <a:off x="2895480" y="2437920"/>
            <a:ext cx="426816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8" name="Straight Connector 77"/>
          <p:cNvSpPr/>
          <p:nvPr/>
        </p:nvSpPr>
        <p:spPr>
          <a:xfrm>
            <a:off x="6553080" y="152280"/>
            <a:ext cx="0" cy="6477120"/>
          </a:xfrm>
          <a:prstGeom prst="line">
            <a:avLst/>
          </a:prstGeom>
          <a:ln w="38160">
            <a:solidFill>
              <a:srgbClr val="b6dcd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39" name="Straight Arrow Connector 60"/>
          <p:cNvCxnSpPr/>
          <p:nvPr/>
        </p:nvCxnSpPr>
        <p:spPr>
          <a:xfrm>
            <a:off x="2895480" y="1904760"/>
            <a:ext cx="426816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0" name="TextBox 44"/>
          <p:cNvSpPr/>
          <p:nvPr/>
        </p:nvSpPr>
        <p:spPr>
          <a:xfrm>
            <a:off x="3895560" y="5105520"/>
            <a:ext cx="2643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K901 = R – Rejected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K902 = 1 – Transaction Set Submitted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K903 = 1 – Transaction Sets Received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K904 = 0 – Number of TS Accepted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K905 = 1 – Functional Group Not Supported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41" name="Straight Arrow Connector 45"/>
          <p:cNvCxnSpPr/>
          <p:nvPr/>
        </p:nvCxnSpPr>
        <p:spPr>
          <a:xfrm>
            <a:off x="3352680" y="4038480"/>
            <a:ext cx="106776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2" name="Straight Arrow Connector 55"/>
          <p:cNvCxnSpPr/>
          <p:nvPr/>
        </p:nvCxnSpPr>
        <p:spPr>
          <a:xfrm>
            <a:off x="3581280" y="3733920"/>
            <a:ext cx="610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3" name="Straight Arrow Connector 27"/>
          <p:cNvCxnSpPr/>
          <p:nvPr/>
        </p:nvCxnSpPr>
        <p:spPr>
          <a:xfrm>
            <a:off x="3580920" y="1904760"/>
            <a:ext cx="3125160" cy="153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Box 4"/>
          <p:cNvSpPr/>
          <p:nvPr/>
        </p:nvSpPr>
        <p:spPr>
          <a:xfrm>
            <a:off x="228600" y="1066680"/>
            <a:ext cx="876312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 Interchange Envelop was processed by the receiver’s translator where their trading partner’s Interchange Sender Identifier (SSSSSSs) was entered incorrectly with an extra “s” causing a rejection of the Interchange Envelope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mitted Envelop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ISA&gt;00&gt;1234567890&gt;00&gt;1234567890&gt;28&gt;SSSSSSs        &gt;28&gt;PPPPP          &gt;090721&gt;1700&gt;^&gt;00501&gt;900000001&gt;0&gt;P&gt;+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GS&gt;HC&gt;SSSSSS&gt;01001&gt;20090721&gt;1700&gt;700000001&gt;X&gt;005010X22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ST&gt;837&gt;000000001&gt;005010X22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: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SE&gt;32&gt;00000000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GE&gt;1&gt;70000000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IEA&gt;1&gt;90000000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ing Interchange Acknowledgement - TA1 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MS_EXAMPLE_TA1.DA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resulted in a TA1 Interchange Acknowledgement to be sent back with an Interchange Note Code of 006 “Invalid Interchange Sender ID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ISA&gt;00&gt;1234567890&gt;00&gt;1234567890&gt;28&gt;PPPPP           &gt;28&gt;SSSSSS          &gt;100624&gt;1430&gt;^&gt;00501&gt;000000001&gt;0&gt;P&gt;+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TA1&gt;900000001&gt;100624&gt;1430&gt;R&gt;006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IEA&gt;0&gt;90000000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Interchange Acknowledgement Example (TA1)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46" name="Slide Number Placeholder 6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FDEF-C59E-4842-9290-FE3B258EF37C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itle 3"/>
          <p:cNvSpPr/>
          <p:nvPr/>
        </p:nvSpPr>
        <p:spPr>
          <a:xfrm>
            <a:off x="457200" y="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99"/>
                </a:solidFill>
                <a:latin typeface="Arial Rounded MT Bold"/>
              </a:rPr>
              <a:t>999 Example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Box 4"/>
          <p:cNvSpPr/>
          <p:nvPr/>
        </p:nvSpPr>
        <p:spPr>
          <a:xfrm>
            <a:off x="228600" y="6858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lementation Acknowledgement accepting a 837 Health Care Claim Functional Group which had 2 non-fatal errors and was accepted for further processing.  Each error is identified in the IK4 Segments 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MS_EXAMPLE_999.DA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Slide Number Placeholder 7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8A86-D8E4-4082-901D-F972BBE377F7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380880" y="1676520"/>
          <a:ext cx="8382240" cy="4846680"/>
        </p:xfrm>
        <a:graphic>
          <a:graphicData uri="http://schemas.openxmlformats.org/drawingml/2006/table">
            <a:tbl>
              <a:tblPr/>
              <a:tblGrid>
                <a:gridCol w="4038840"/>
                <a:gridCol w="434340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&gt;999&gt;000000001&gt;005010X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 Header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mplementation Acknowledgement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Control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5010X23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3 Guide ID Implementation Acknowledgment For Health Care Insur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1&gt;HC&gt;000000001&gt;005010X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Functional Group Response Header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ealth Care Claims Functional Identifier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Functional Group Control Numbe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5010X22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3 Guide ID Health Care Claim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2&gt;837&gt;000000001&gt;005010X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Response Header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ealth Care Cla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Control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5010X22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3 Guide ID Health Care Claim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3&gt;CLM&gt;120&gt;&gt;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Error Identification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egment containing a syntax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Position of the Segment within the Transaction S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egment has data element errors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4&gt;2&gt;782&gt;I12&gt;92.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mplementation Data Element Note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Data Element position within Seg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X12 Data Dictionary Reference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1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egment has Data Element err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111 – Copy of Data Element in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itle 3"/>
          <p:cNvSpPr/>
          <p:nvPr/>
        </p:nvSpPr>
        <p:spPr>
          <a:xfrm>
            <a:off x="457200" y="12240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99"/>
                </a:solidFill>
                <a:latin typeface="Arial Rounded MT Bold"/>
              </a:rPr>
              <a:t>999 Example </a:t>
            </a:r>
            <a:r>
              <a:rPr b="1" lang="en-US" sz="2000" spc="-1" strike="noStrike">
                <a:solidFill>
                  <a:srgbClr val="003399"/>
                </a:solidFill>
                <a:latin typeface="Arial Rounded MT Bold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Slide Number Placeholder 6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C05B-6036-4BD3-AC3D-0647A1DA92F2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380880" y="838080"/>
          <a:ext cx="8382240" cy="3932280"/>
        </p:xfrm>
        <a:graphic>
          <a:graphicData uri="http://schemas.openxmlformats.org/drawingml/2006/table">
            <a:tbl>
              <a:tblPr/>
              <a:tblGrid>
                <a:gridCol w="4038840"/>
                <a:gridCol w="43434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3&gt;N4&gt;127&gt;&gt;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Error Identification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egment containing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Position of Segment within Transaction S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egment has Data Element errors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4&gt;3&gt;116&gt;6&gt;90033-24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mplementation Data Element Note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Data Element position within Seg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X12 Data Dictionary Reference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valid character in Data El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33-241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Copy of bad Data El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5&gt;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Response Trailer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Accept, but errors were no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9&gt;E&gt;1&gt;1&gt;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9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Functional Group Response Trailer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Accept, but errors were no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umber of Transaction Sets 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umber of Received Transaction S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umber of Accepted Transaction S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&gt;10&gt;00000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Trailer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umber of Segments within Transaction S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0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- Transaction Set Control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4"/>
          <p:cNvSpPr/>
          <p:nvPr/>
        </p:nvSpPr>
        <p:spPr>
          <a:xfrm>
            <a:off x="762120" y="1600200"/>
            <a:ext cx="7772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tter:  Best Billing Servi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:   First Clearinghou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r:    Smith Clin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 Submission Date:  June 23, 20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 Processing Date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ne 23, 20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Claim: 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Charges:  $100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was Rejected due to an invalid characters (extended characters – lower case without prior agreement to use the extended character set) contained within the Billing Provider’s Name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M1*85*2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mith Clin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FI*123456789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277CA Example</a:t>
            </a:r>
            <a:br>
              <a:rPr sz="3200"/>
            </a:br>
            <a:r>
              <a:rPr b="1" lang="en-US" sz="1600" spc="-1" strike="noStrike">
                <a:solidFill>
                  <a:srgbClr val="003399"/>
                </a:solidFill>
                <a:latin typeface="Arial Rounded MT Bold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MS_EXAMPLE_277CA.DAT</a:t>
            </a:r>
            <a:r>
              <a:rPr b="1" lang="en-US" sz="1600" spc="-1" strike="noStrike">
                <a:solidFill>
                  <a:srgbClr val="003399"/>
                </a:solidFill>
                <a:latin typeface="Arial Rounded MT Bold"/>
              </a:rPr>
              <a:t>)</a:t>
            </a:r>
            <a:endParaRPr b="1" lang="en-US" sz="16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56" name="Slide Number Placeholder 6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0646-A5B0-4294-A369-9E5DE18AC04F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4"/>
          <p:cNvSpPr/>
          <p:nvPr/>
        </p:nvSpPr>
        <p:spPr>
          <a:xfrm>
            <a:off x="457200" y="6714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*277*0001*005010X214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HT*0085*08*277X2140001*20100623*1430*TH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L*1**20*1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M1*AY*2*FIRST CLEARINGHOUSE*****46*CLHR00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N*1*200102051635S00001ABCDEF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TP*050*D8*20100623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TP*009*D8*20100623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L*2*1*21*1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M1*41*2*BEST BILLING SERVICE*****46*S00001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N*2*2002020542857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C*A7:23*20100623*U*1000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TY*AA*3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T*YY*1000.00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L*3*2*19*0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M1*85*2*SMITH CLINIC*****XX*123456789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N*1*SMITH789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C*A7:511**U*1000.00*****A7:504:85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TY*QC*3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T*YY*1000.00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*22*0001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277CA Example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59" name="Slide Number Placeholder 6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C661-3402-434D-97CA-A153C2624191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277CA Example </a:t>
            </a:r>
            <a:br>
              <a:rPr sz="3200"/>
            </a:br>
            <a:r>
              <a:rPr b="1" lang="en-US" sz="1800" spc="-1" strike="noStrike">
                <a:solidFill>
                  <a:srgbClr val="003399"/>
                </a:solidFill>
                <a:latin typeface="Arial Rounded MT Bold"/>
              </a:rPr>
              <a:t>(Table 1)</a:t>
            </a:r>
            <a:endParaRPr b="1" lang="en-US" sz="18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61" name="Slide Number Placeholder 5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FC88-68C8-4B2A-8FFB-EE58744285EC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457200" y="1290600"/>
          <a:ext cx="8381880" cy="3662280"/>
        </p:xfrm>
        <a:graphic>
          <a:graphicData uri="http://schemas.openxmlformats.org/drawingml/2006/table">
            <a:tbl>
              <a:tblPr/>
              <a:tblGrid>
                <a:gridCol w="4038480"/>
                <a:gridCol w="434340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&gt;277&gt;0001&gt;005010X2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Header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277 Health Care Claim Acknowledgement Transaction Se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Control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5010X21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Implementation Convention Refe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T&gt;0085&gt;08&gt;277X2140001&gt;20100624&gt;1430&gt;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Beginning of Hierarchical Transaction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8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Structure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Information Sour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Information Recei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rovider of 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ti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Purpose Code (Statu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X21400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ventory File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062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Creation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Creation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Type Code (Receipt Acknowledgement Advi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19:14:22Z</dcterms:created>
  <dc:creator>CMS</dc:creator>
  <dc:description/>
  <dc:language>en-US</dc:language>
  <cp:lastModifiedBy>Beatty, Gary</cp:lastModifiedBy>
  <dcterms:modified xsi:type="dcterms:W3CDTF">2010-06-30T20:10:22Z</dcterms:modified>
  <cp:revision>183</cp:revision>
  <dc:subject/>
  <dc:title>ICD-10</dc:title>
</cp:coreProperties>
</file>