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B43E-D0D6-45A4-9F3F-EDF59BF7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er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0636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3 audienc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F72-A99B-4D9A-B59F-94056002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A03-E3B7-4ABB-B864-7A72317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88C-28E3-4B9B-BC4B-1E256E66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AD4-0C65-4D74-BB2D-DCED3297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76D-5775-43C9-8818-8CAD8CA9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682-9B15-4695-A3AC-C11E9B2F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7F9-C5EF-4AF0-B6A0-BE8826A8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5E3-0F80-4D97-B065-89F4365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7D2-2659-409B-B59F-F66DF56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70A-84D1-4E8A-8562-CD0CDDB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052-B86A-49DC-AA96-0A3B311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383-43CF-4578-AA4A-ACF8AB8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B0ED-39AE-4CB6-991C-63427FED4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Provider Education and Outreach Strateg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for the </a:t>
            </a:r>
            <a:br>
              <a:rPr sz="44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Eras Demi ITC"/>
              </a:rPr>
              <a:t>Medicare-Approved Drug Discount Car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4952880"/>
            <a:ext cx="228600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Medicare Contractor Responsibilities</a:t>
            </a: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Eras Demi ITC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CMS website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ww.cms.hhs.gov/medicarere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for the lates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providers who want more information or want to take an active role in educating beneficiar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the above website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ww.medicare.g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websites, bulletins, and listservs to keep providers abreast of lates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provider call center representatives have information needed to appropriately address drug card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51D-3989-4C5F-8B2B-7EF17DB19A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54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rovider Aud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ians, limited licensed practitio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differ for each provider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53E-A5A3-4263-A1F5-0C691882D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920" y="30456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hysician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Card is a temporary program until Medicare Part D prescription drug benefit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card available to all, regardless of income, unless receiving payment for outpatient medications through State Medicai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28B-48C9-4578-96A5-A433B3116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hysician Messages</a:t>
            </a:r>
            <a:r>
              <a:rPr b="0" lang="en-US" sz="4400" spc="-1" strike="noStrike">
                <a:solidFill>
                  <a:srgbClr val="3333cc"/>
                </a:solidFill>
                <a:latin typeface="Eras Demi ITC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Eras Demi ITC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could receive up to $600/year credit to help pay for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-approved drug discount card is one of many pharmacy assistance program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 patients should call 1-800-MEDICARE or visi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www.medicare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8BB-7447-465A-8A9B-46B61F0A59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Pharmacist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physician ~ pl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materials will suggest that Medicare patients consider the importance of their relationship with their pharmacist when selecting a discount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-approved drug discount card does not require patients to use mail-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sponsors must have pharmacies in urban, suburban and rur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0B4-87A0-4E31-83F7-66B1CDC4A3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  <a:ea typeface="Arial"/>
              </a:rPr>
              <a:t>National Provider Outreach Materials &amp;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ail Le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 to MDs &amp; LLPs January 2004 (as part of “Dear Doc” l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-the-Trainer Activities for ROs &amp; Medicare cont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s for Physic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harmac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chures for Physic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harmac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Journal A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665-FE56-4597-8324-88E8C4DF5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y Poster for Physicians’ Offices &amp; Pharm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ng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oor Forums Drug Card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Provider Association Drug Card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Guidance for Customer Service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s? Refer to www.medicare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  <a:ea typeface="Arial"/>
              </a:rPr>
              <a:t>National Provider Outreach Materials &amp; Activiti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9F4-FAE1-44A3-BB26-586709E0CA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  <a:ea typeface="Arial"/>
              </a:rPr>
              <a:t>National Provider Outreach Materials &amp; Activiti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reach to associations via Open Door Forums, Exhibit programs and Provider Partnership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ssociations will receive electronic copies of outreach materials to assist in CMS’ dissemination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06F-1A4C-4770-931B-302186B3D8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Eras Demi ITC"/>
              </a:rPr>
              <a:t>Medicare Contractor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MS’ front-line contact with individual providers, you should be prepared to incorporate information about the Drug Card Program into your regular provider outreach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MS-provided training materials and standardized Physician and Pharmacist message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CCB-4764-41B2-A51E-747E6DBEF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14:44Z</dcterms:created>
  <dc:creator>CMS</dc:creator>
  <dc:description/>
  <dc:language>en-US</dc:language>
  <cp:lastModifiedBy>ZJC8</cp:lastModifiedBy>
  <dcterms:modified xsi:type="dcterms:W3CDTF">2004-01-23T14:46:52Z</dcterms:modified>
  <cp:revision>54</cp:revision>
  <dc:subject/>
  <dc:title>Provider Education and Outreach Strategy</dc:title>
</cp:coreProperties>
</file>