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30040" y="690120"/>
            <a:ext cx="4599000" cy="344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D7981-BD5F-4BC5-896F-1413F6867C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aker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20636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ied 3 audiences f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DB18-417D-415D-99AB-7E34C1B07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F02C-6891-445C-862E-F822EBCFE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E7EE-CFB1-47A5-BF54-C331E95F3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B550-C8E8-4259-BA8A-9659DAE18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C62B-212B-4A98-A2E2-93B7213B4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E630-071F-4E6F-8CED-AA7ED7F23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B753-1B2F-4310-8FFA-18B0406D3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27E1-834E-4A92-B4B2-CBE4A554E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A16A-3ECB-4FC8-98DD-BF3EDC784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746E-DBB8-42FB-9545-516F2F65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E046-264B-4C0B-9B17-2A64AE078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C327-1C49-40DB-AB70-E9568E929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7E4F8-1691-4DD1-A9E0-01790750BD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2133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Eras Demi ITC"/>
              </a:rPr>
              <a:t>Provider Education and Outreach Strategy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Eras Demi ITC"/>
              </a:rPr>
              <a:t>for the </a:t>
            </a:r>
            <a:br>
              <a:rPr sz="4400"/>
            </a:br>
            <a:r>
              <a:rPr b="0" lang="en-US" sz="4800" spc="-1" strike="noStrike" u="sng">
                <a:solidFill>
                  <a:srgbClr val="3333cc"/>
                </a:solidFill>
                <a:uFillTx/>
                <a:latin typeface="Eras Demi ITC"/>
              </a:rPr>
              <a:t>Medicare-Approved Drug Discount Card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019920" y="4952880"/>
            <a:ext cx="2286000" cy="10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33cc"/>
                </a:solidFill>
                <a:uFillTx/>
                <a:latin typeface="Eras Demi ITC"/>
              </a:rPr>
              <a:t>Medicare Contractor Responsibilities</a:t>
            </a:r>
            <a:r>
              <a:rPr b="0" lang="en-US" sz="4400" spc="-1" strike="noStrike">
                <a:solidFill>
                  <a:srgbClr val="3333cc"/>
                </a:solidFill>
                <a:latin typeface="Eras Demi ITC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Eras Demi ITC"/>
              </a:rPr>
              <a:t>(cont’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the CMS website at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ww.cms.hhs.gov/medicarerefor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ten for the latest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er providers who want more information or want to take an active role in educating beneficiarie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the above website 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ww.medicare.gov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your websites, bulletins, and listservs to keep providers abreast of latest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provider call center representatives have information needed to appropriately address drug card ques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EB11-C166-49B8-92D8-0ABE4697D87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80720" y="609120"/>
            <a:ext cx="540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cc"/>
                </a:solidFill>
                <a:uFillTx/>
                <a:latin typeface="Eras Demi ITC"/>
              </a:rPr>
              <a:t>Provider Audi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dienc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ysicians, limited licensed practitio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armac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ssages differ for each provider ty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BA95-52A7-45FC-80E1-611044449B5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50920" y="304560"/>
            <a:ext cx="723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cc"/>
                </a:solidFill>
                <a:uFillTx/>
                <a:latin typeface="Eras Demi ITC"/>
              </a:rPr>
              <a:t>Physician Mess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ug Card is a temporary program until Medicare Part D prescription drug benefit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ug card available to all, regardless of income, unless receiving payment for outpatient medications through State Medicaid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6FB8-12CA-4935-8908-E146E938ACF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cc"/>
                </a:solidFill>
                <a:uFillTx/>
                <a:latin typeface="Eras Demi ITC"/>
              </a:rPr>
              <a:t>Physician Messages</a:t>
            </a:r>
            <a:r>
              <a:rPr b="0" lang="en-US" sz="4400" spc="-1" strike="noStrike">
                <a:solidFill>
                  <a:srgbClr val="3333cc"/>
                </a:solidFill>
                <a:latin typeface="Eras Demi ITC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Eras Demi ITC"/>
              </a:rPr>
              <a:t>(cont’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people could receive up to $600/year credit to help pay for dru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dicare-approved drug discount card is one of many pharmacy assistance programs avail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dicare patients should call 1-800-MEDICARE or visit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www.medicare.go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A7AB-5467-40A0-83CE-C3C5C723257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cc"/>
                </a:solidFill>
                <a:uFillTx/>
                <a:latin typeface="Eras Demi ITC"/>
              </a:rPr>
              <a:t>Pharmacist Mess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 as physician ~ plu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ucational materials will suggest that Medicare patients consider the importance of their relationship with their pharmacist when selecting a discount c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dicare-approved drug discount card does not require patients to use mail-ord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lified sponsors must have pharmacies in urban, suburban and rural a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5DFE-3455-4E40-A86E-2331869BD92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cc"/>
                </a:solidFill>
                <a:uFillTx/>
                <a:latin typeface="Eras Demi ITC"/>
                <a:ea typeface="Arial"/>
              </a:rPr>
              <a:t>National Provider Outreach Materials &amp; Activ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 Mail Le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5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t to MDs &amp; LLPs January 2004 (as part of “Dear Doc” let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in-the-Trainer Activities for ROs &amp; Medicare contr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5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nuary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icles for Physician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amp; Pharmacis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5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ring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chures for Physician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amp; Pharmacis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5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ring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essional Journal Ad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5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ring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43E4-2858-4143-A4C3-D3E0DA12EF4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eficiary Poster for Physicians’ Offices &amp; Pharm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ring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Door Forums Drug Card Discu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ional Provider Association Drug Card Discu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sponse Guidance for Customer Service Representa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uestions? Refer to www.medicare.g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228600" y="3805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cc"/>
                </a:solidFill>
                <a:uFillTx/>
                <a:latin typeface="Eras Demi ITC"/>
                <a:ea typeface="Arial"/>
              </a:rPr>
              <a:t>National Provider Outreach Materials &amp; Activities (cont’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8905-0DEE-42A4-9C01-BEA958139FF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cc"/>
                </a:solidFill>
                <a:uFillTx/>
                <a:latin typeface="Eras Demi ITC"/>
                <a:ea typeface="Arial"/>
              </a:rPr>
              <a:t>National Provider Outreach Materials &amp; Activities (cont’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reach to associations via Open Door Forums, Exhibit programs and Provider Partnership Direc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ional associations will receive electronic copies of outreach materials to assist in CMS’ dissemination effo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6DBC-B308-4C6D-88EE-183A874A94D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cc"/>
                </a:solidFill>
                <a:uFillTx/>
                <a:latin typeface="Eras Demi ITC"/>
              </a:rPr>
              <a:t>Medicare Contractor Responsibil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CMS’ front-line contact with individual providers, you should be prepared to incorporate information about the Drug Card Program into your regular provider outreach activi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CMS-provided training materials and standardized Physician and Pharmacist message languag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7C26-8DC4-4991-BCA3-A1A10301728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4T15:14:44Z</dcterms:created>
  <dc:creator>CMS</dc:creator>
  <dc:description/>
  <dc:language>en-US</dc:language>
  <cp:lastModifiedBy>ZJC8</cp:lastModifiedBy>
  <dcterms:modified xsi:type="dcterms:W3CDTF">2004-01-23T14:46:52Z</dcterms:modified>
  <cp:revision>54</cp:revision>
  <dc:subject/>
  <dc:title>Provider Education and Outreach Strategy</dc:title>
</cp:coreProperties>
</file>