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FCF-291C-47BE-B800-31E601E1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B1C-61B4-4BF4-BB9B-9C9E02FF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B6E-AFEE-44A3-AB34-B346668C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00B-D93E-4284-A853-04FE4789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FE51-A97D-4BC2-9710-0F68BBE1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D01-9B48-442A-8E7C-E903D498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B13-7A1E-4E6F-B8AC-93119DA0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92A-DE5F-46B5-9388-A221648D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D4E-28E8-48E6-B3DC-05F1A3E3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22D-5309-45DD-A233-C3F6CA1F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331-75B3-4304-A0AB-F82AAF47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B17-00B7-48AD-A17D-B5FAF874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788C-FD31-4120-9C90-78F16745D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dc.gov/nchs/about/otheract/icd9/icd10cm.htm" TargetMode="External"/><Relationship Id="rId2" Type="http://schemas.openxmlformats.org/officeDocument/2006/relationships/hyperlink" Target="http://www.cms.hhs.gov/ICD9ProviderDiagnosticCodes/06_codes.asp#TopOfPage" TargetMode="External"/><Relationship Id="rId3" Type="http://schemas.openxmlformats.org/officeDocument/2006/relationships/hyperlink" Target="http://www.cms.hhs.gov/ICD10/01m_2009_ICD10PCS.asp#TopOfPage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dc.gov/nchs/about/otheract/icd9/icd10cm.htm" TargetMode="External"/><Relationship Id="rId2" Type="http://schemas.openxmlformats.org/officeDocument/2006/relationships/hyperlink" Target="http://www.cms.hhs.gov/ICD10/02m_2009_ICD_10_CM.asp#TopOfPag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2m_2009_ICD_10_CM.asp#TopOfPag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CD-10 General Equivalence Mappings (GEM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9-CM Coordination &amp; Maintenanc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give all plausible translation alternatives for the complete meaning of the code being looked up (source system 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ular instruction, index entries, guidelines, and applicable Coding Clinic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4038480"/>
          <a:ext cx="7694640" cy="2187360"/>
        </p:xfrm>
        <a:graphic>
          <a:graphicData uri="http://schemas.openxmlformats.org/drawingml/2006/table">
            <a:tbl>
              <a:tblPr/>
              <a:tblGrid>
                <a:gridCol w="2766960"/>
                <a:gridCol w="2443320"/>
                <a:gridCol w="248436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only one alternative in a GEM, we can say we have a “one-to-one”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necessarily mean the codes are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4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72031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placed midcervical fracture of right femur, initial encounter for closed fra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82002 Fracture of midcervical section of femur, clo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ay be multiple translation alternatives for a source system code, all of which are equally plau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lete meaning of ‘Burn’ in I-9 includes bo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al burns (translates to ‘Burn’ in I-1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burns (translates to ‘Corrosion’ in I-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8153640" cy="24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42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sters with epidermal loss due to burn (second degree) of abdominal w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22xA Burn of second degree of abdominal wall, initial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22xD Burn of second degree of abdominal wall, subsequent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62xA Corrosion of second degree of abdominal wall, initial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62xD Corrosion of second degree of abdominal wall, subsequent encou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9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cluster: more than one I-9 code is required to equal a complete translation of one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440" y="3048120"/>
            <a:ext cx="8001000" cy="30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13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 2 diabetes mellitus with severe nonproliferative diabetic retinopathy with macular ed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50 Diabetes with ophthalmic manifestations, type II or unspecified type, not stated as uncontroll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206 Severe nonproliferative diabetic retinopath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207 Diabetic macular ed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10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10 cluster: more than one I-10 code is required to equal a complete translation of one I-9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1760" y="2895120"/>
            <a:ext cx="792468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6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terior Resection Of Rectum With Synchronous Colosto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 I10 clu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TP0ZZ Resection of Rectum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4ZZ Resection of Rectum, Percutaneous Endoscopic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7ZZ Resection of Rectum, Via Natural or Artificial Op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8ZZ Resection of Rectum, Via Natural or Artificial Opening Endoscopi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1N0Z4 Bypass Sigmoid Colon to Cutaneous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1N4Z4 Bypass Sigmoid Colon to Cutaneous, Percutaneous Endoscopic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1N8Z4 Bypass Sigmoid Colon to Cutaneous, Via Natural or Artificial Opening Endosc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9-CM to ICD-10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414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 includes the complete meaning of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s to a single comparably specific alternative in the ICD-9-CM to ICD-10-CM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440" y="4114440"/>
            <a:ext cx="8001000" cy="20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14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onary atherosclerosis of native coronary art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2510 Atherosclerotic heart disease of native coronary artery without angina pectori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10-CM to ICD-9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I25.110 contains both underlying cause and acute exacer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system code 414.01 is part of an I-9 cluster in the ICD-10-CM to ICD-9-CM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120" y="4038120"/>
            <a:ext cx="8077320" cy="21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251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herosclerotic heart disease of native coronary artery with unstable angina pecto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401 Coronary atherosclerosis of native coronary arte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11 Intermediate coronary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9-CM to ICD-10-PCS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86.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I-9 does not specify the anatomic site, all PCS body parts are plausible translation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0520" y="2895480"/>
            <a:ext cx="85345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65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ture Of Skin And Subcutaneous Tissue Of Other 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10ZZ Repair Face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13ZZ Repair Face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40ZZ Repair Anterior Ne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43ZZ Repair Anterior Ne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50ZZ Repair Posterior Ne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53ZZ Repair Posterior Ne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60ZZ Repair Chest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63ZZ Repair Chest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70ZZ Repair Ba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73ZZ Repair Ba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80ZZ Repair Abdomen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83ZZ Repair Abdomen Subcutaneous Tissue and Fascia, Percutaneou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10-PCS to ICD-9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system code 0JQ60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precise PCS code specifies body part an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non-specific I-9 codes are plausible translation alternatives for the PCS root operation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0880" y="3429000"/>
            <a:ext cx="8305920" cy="26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JQ60Z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air Chest Subcutaneous Tissue and Fascia, Open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65 Other Suture Of Muscle Or Fasc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89 Other Plastic Operations On Fasc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659 Suture Of Skin And Subcutaneous Tissue Of Other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M fil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on the lef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system code in the 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 o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85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85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9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29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9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9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9 and I-10 are different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s are the language of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Spanish and English, ICD-9 and ICD-10 are different langu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-year generation gap between ICD-9-CM and 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 reflects the current understanding and practice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ding cod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GEM files to a spreadsheet or database, and add code descriptions for rea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20 Poisoning by adrenal cortical steroi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580 Accidental poisoning by hormones and synthetic substitut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subsequent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20 Poisoning by adrenal cortical steroi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580 Accidental poisoning by hormones and synthetic substitut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seque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90 Late effect of poisoning due to drug, medicinal or biological substan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9292 Late effects of accidental poisoning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ding cod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 code descriptions available on NCH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nchs/about/otheract/icd9/icd10c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and ICD-10-PCS code descriptions available on CM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9-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/ICD9ProviderDiagnosticCodes/06_codes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ms.hhs.gov/ICD10/01m_2009_ICD10PCS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s 1=On, 0=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different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C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-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0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1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2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3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66 1011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3609 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Approximate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1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 translation is an approximate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jority of alternatives are considered an approximate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 translation is an identica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in the procedure G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mmon in the diagnosis G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066320" y="3962160"/>
            <a:ext cx="7086600" cy="23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 due to Vibrio cholerae 01, biovar chole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0 Cholera due to vibrio cholera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 due to Vibrio cholerae 01, biovar el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1 Cholera due to vibrio cholerae el 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, unspeci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9 Cholera, unspecifi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No Map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2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re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usible translation for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re is at least one plausible translation for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240" y="3580920"/>
            <a:ext cx="66294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initial en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subsequent en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seque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Combination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3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 complete translation of the source system code requires more than one target system code (cluster, aka combination e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 complete translation of the source system code is satisfied by one of the target system code alternatives (single e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440" y="3962520"/>
            <a:ext cx="792468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RG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sion of 2 or more Cervical Vertebral Joints with Internal Fixation Device, Anterior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02 Other Cervical Fusion, Anterior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62 Fusion Or Refusion Of 2-3 Verteb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163 Fusion Or Refusion Of 4-8 Verteb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51 Insertion Of Interbody Spinal Fusi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cenario and Choice list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s 4 and 5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for organizing combination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defines all the possible codes in 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list organizes the codes into pick lists—one code from each list in a scenario is 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2520" y="3276720"/>
            <a:ext cx="49528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initial enco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00 Corneal foreign bod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14 Foreign body accidentally entering eye and adnex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subsequent enco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00 Corneal foreign bod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14 Foreign body accidentally entering eye and adnex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seque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085 Late effect of foreign body in orif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1523880"/>
            <a:ext cx="236232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A 962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A E8580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D 962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D E8580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S 909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S E9292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ICD-9 based applications to native ICD-10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8440" y="2590920"/>
            <a:ext cx="57150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7 Respiratory infections &amp; inflammations w M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8 Respiratory infections &amp; inflammations w 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9 Respiratory infections &amp; inflammations w/o CC/M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0222 Salmonella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065 Amebic lung abs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15* Respiratory tuberculosis (7 cod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02 Pneumonic plag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12 Pulmonary tularem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21 Pulmonary anthra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310 Pulmonary mycobacterial inf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20 Pulmonary actinomyco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30 Pulmonary nocardio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81 Legionnaires' dise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5272 Syphilis of lung and bronch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012 Varicella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052 Measles complicated by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Ms facilitate conversion projects of any size an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project: I-9 based MS-DRGs being converted to I-10 based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project: ICD-9-CM coding guidelines converted to ICD-10-CM co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project: Convert ICD-9-CM based diabetes case management document to 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task: find and re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pplications are composed of logical relationships between lists of ICD-9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involves “finding” ICD-9 lists embedded in applications and “replacing” the ICD-9 list with an ICD-10 equival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 of application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al is to replicate, not mod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S-DRGs conversion uses thi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ecause Different is G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ifferences were not significant, there would be no incentive t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7720" y="2590920"/>
            <a:ext cx="7162920" cy="399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unspecified as to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9 Twin pregnancy, unspecified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9 Twin pregnancy, monoamniotic/monochorionic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9 Other twin pregnancy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deliver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9 Twin pregnancy, unspecified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antepartum condition or compl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1 Twin pregnancy, unspecified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2 Twin pregnancy, unspecified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3 Twin pregnancy, unspecified, thir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1 Twin pregnancy, monoamniotic/monochorionic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2 Twin pregnancy, monoamniotic/monochorionic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3 Twin pregnancy, monoamniotic/monochorionic, thir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1 Other twin pregnancy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2 Other twin pregnancy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3 Other twin pregnancy, third trimes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pplication-specific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 ICD-10 to ICD-9 mapping (aka crosswalk) that allows data submitted in ICD-10 to be processed using ICD-9 base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CD-10 Reimbursement Mappings are an application-specific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terim measure while applications are being converted to a native ICD-10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neral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raining material for ICD-10 coding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document improvement program for ICD-10 documentation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 the GEMs to understand the translation challenges in clinical/coding areas of particular interest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0880" y="3352320"/>
            <a:ext cx="838224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episode of care un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initial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subsequent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episode of care un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initial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subsequent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ich GEM to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10 to I-9 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application logic containing lists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9 to I-10 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nd forecasting of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I-10 to I-9 AND I-9 to I-10 G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onversion projects with access to clinical detail beyond th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eplication vs.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produce an I-10 based application that produces essentially the same results as the current I-9 base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s must be reviewed and finalized, this is not aut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RGs conversion is an example of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ti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produce an I-10 based application that produces optimized results based on the increased detail in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more complex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Ms can be used for both replication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on NCHS website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nchs/about/otheract/icd9/icd10cm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on CMS website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/ICD10/02m_2009_ICD_10_CM.asp#TopOf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905120" y="3208320"/>
            <a:ext cx="5029200" cy="344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iagnosis GEMs users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NCH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2m_2009_ICD_10_CM.asp#TopOf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81080" y="3700440"/>
            <a:ext cx="53341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38080" y="2641680"/>
            <a:ext cx="7467840" cy="388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cedure GEMs users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76520" y="3165480"/>
            <a:ext cx="5105160" cy="32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s vs. Reimbursement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EMs, a single I-10 code can be translated to two or more alternative I-9 trans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09.89 Other specified rheumatic heart dise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as two plausible translation alterna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imbursement mapping contains one I-9 translation alternative chosen for reimbursement purposes, based on frequenc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3733560"/>
            <a:ext cx="3962160" cy="23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0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 specified rheumatic heart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71 Rheumatic diseases of pulmonary val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899 Other rheumatic heart dise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4572000"/>
            <a:ext cx="47242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447920"/>
            <a:ext cx="38862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0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 specified rheumatic heart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71 Rheumatic diseases of pulmonary val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899 Other rheumatic heart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s vs. Reimbursement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are designed to aid in converting applications and systems from I-9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urpose translation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“finding and replacing” codes or lists of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mbursement mappings are designed to be interposed between data submitted using I-10 codes and legacy systems using I-9 codes, so data can continue to be processed without converting the legacy system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measure while systems are being con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s a general translation 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Ms are a general purpose ICD-9/ICD-10 translation 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nslation from ICD-9 to ICD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nslation from ICD-10 to ICD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28600" y="3047760"/>
            <a:ext cx="8610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0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acture of midcervical section of femur, cl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A 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G 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A 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G 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A 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G 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A Non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G Non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A Non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G Non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A Non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G Nondisplaced midcervical fracture of unspecified femur, subsequent encounter for closed fracture with delayed healing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2440"/>
            <a:ext cx="7924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61920" y="1067400"/>
            <a:ext cx="5800680" cy="1517760"/>
            <a:chOff x="1861920" y="1067400"/>
            <a:chExt cx="5800680" cy="1517760"/>
          </a:xfrm>
        </p:grpSpPr>
        <p:sp>
          <p:nvSpPr>
            <p:cNvPr id="154" name=""/>
            <p:cNvSpPr/>
            <p:nvPr/>
          </p:nvSpPr>
          <p:spPr>
            <a:xfrm>
              <a:off x="1861920" y="1067400"/>
              <a:ext cx="5800680" cy="689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lth care claim (UB-0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8400" y="1342800"/>
              <a:ext cx="1933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62440" y="1342800"/>
              <a:ext cx="20714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8880" y="2171160"/>
              <a:ext cx="3728880" cy="414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-10-based system (I-10 MS-DRG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62440" y="1757160"/>
              <a:ext cx="0" cy="41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869840" y="3124800"/>
            <a:ext cx="5802480" cy="3507840"/>
            <a:chOff x="1869840" y="3124800"/>
            <a:chExt cx="5802480" cy="3507840"/>
          </a:xfrm>
        </p:grpSpPr>
        <p:sp>
          <p:nvSpPr>
            <p:cNvPr id="160" name=""/>
            <p:cNvSpPr/>
            <p:nvPr/>
          </p:nvSpPr>
          <p:spPr>
            <a:xfrm>
              <a:off x="2004840" y="3124800"/>
              <a:ext cx="5667480" cy="673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lth care cla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74840" y="3393720"/>
              <a:ext cx="1889280" cy="2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38760" y="3393720"/>
              <a:ext cx="2023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4480" y="6227280"/>
              <a:ext cx="3643200" cy="405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-9-based reimbursement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69840" y="5013360"/>
              <a:ext cx="5667480" cy="808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rted health care cla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74840" y="5417640"/>
              <a:ext cx="2428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9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38760" y="5417640"/>
              <a:ext cx="2563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9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74840" y="3664080"/>
              <a:ext cx="72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64120" y="3664080"/>
              <a:ext cx="53964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8760" y="3664080"/>
              <a:ext cx="72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62680" y="3664080"/>
              <a:ext cx="53964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44480" y="3934080"/>
              <a:ext cx="1484280" cy="8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of diagnosis reimbursement 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38760" y="582264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8400" y="3933000"/>
              <a:ext cx="1484280" cy="80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of procedure reimbursement 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38080" y="2819520"/>
            <a:ext cx="7696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stem conversion vs. Cross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ranslation using the I-10 to I-9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one I-9 code, no additional review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of the I-10 codes are translated to a singl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1-10 codes are translated to the sam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more than one I-9 code, historical I-9 code frequency data are used to determine the most commonly used I-9 code among the I-9 cod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R and OHSPD (for newborn and OB codes)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ast majority of cases there is a clear dominant code in terms of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re cases, clinical review is needed to make the final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both MedPAR and OHSPD data sets come from hospital admission data, choosing between I-9 alternatives may reflect frequencies more characteristic of inpatient than outpatient data when the two di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mplications of pre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10 does not specify whether the patient delivered during the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imbursement mapping must choose between I-9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patient hospital data, the I-9 codes specifying delivery are far more frequent, while in outpatient and physician data, one would expect the I-9 codes specifying antepartum encounter to do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3520" y="4724280"/>
            <a:ext cx="8076960" cy="152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610 Failed medical induction of lab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0 Failed medical or unspecified induction of labor, unspecified as to episode of ca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1 Failed medical or unspecified induction of labor, deliver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3 Failed medical or unspecified induction of labor, antepartu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84872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-10 codes with an entry in the GEMs are inclu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-10 code is assigned to a single I-9 code or I-9 code clu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9 code cluster contains two or more I-9 codes that must be used in combination to attain the complete meaning of one I-10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657600"/>
            <a:ext cx="3809880" cy="2590920"/>
          </a:xfrm>
          <a:prstGeom prst="wedgeRectCallout">
            <a:avLst>
              <a:gd name="adj1" fmla="val -80833"/>
              <a:gd name="adj2" fmla="val 257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ed for reimburs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2733D6 Dilation of Coronary Artery, Four or More Sites, Bifurcation, with Intraluminal Devic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cutaneous Approa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ssigned to this I-9 code clus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66 [PTCA] or coronary atherecto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3 Procedure on four or more 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8 Insertion of four or more vascular s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6.06 Insertion of non-drug eluting coronary stent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4 Procedure on vessel bifur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676520"/>
            <a:ext cx="3809880" cy="1676160"/>
          </a:xfrm>
          <a:prstGeom prst="wedgeRectCallout">
            <a:avLst>
              <a:gd name="adj1" fmla="val -93375"/>
              <a:gd name="adj2" fmla="val 430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ed for reimburs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72.032G Displaced midcervical fracture of left femur, subsequent encounter for closed fracture with delayed h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ssigned to this I-9 single co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20.02 Fracture of midcervical section of femur,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-9 code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ne ICD-10-PCS code contains a complete description of the procedure, and one ICD-10-CM code may contain both specification of the underlying disease and a current exacerbation or complication, multiple I-9 codes may be necessary to attain the same level of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% of I-10 codes are assigned to an “I-9 code clus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8080" y="3886200"/>
            <a:ext cx="7848720" cy="22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0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 1 diabetes mellitus with diabetic cata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51 Diabetes with ophthalmic manifestations, type I [juvenile type], not stated as uncontroll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641 Diabetic cata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ppings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files, not part of the GEM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ext files, a diagnosis code reimbursement mapping and a procedure code reimbursement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-character field for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three, five-character fields for I-9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five, four-character fields for I-9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4191120"/>
            <a:ext cx="5715000" cy="2209680"/>
          </a:xfrm>
          <a:prstGeom prst="wedgeRectCallout">
            <a:avLst>
              <a:gd name="adj1" fmla="val 17805"/>
              <a:gd name="adj2" fmla="val -4870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mbursement Mapping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I-9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72032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-9 cod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733D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66 0043 0048 3606 0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ing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code on the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 in the middle indicates the number of I-9 codes required for a complet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code or codes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19720" y="4495320"/>
            <a:ext cx="45720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46 5 0066  0043  0048  3607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4Z 4 0066  0043  0048  36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D6 5 0066  0043  0048  3606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DZ 4 0066  0043  0048  360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Z6 3 0066  0043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ZZ 2 0066  00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3124080"/>
            <a:ext cx="25146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5029200"/>
            <a:ext cx="47242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4419720"/>
            <a:ext cx="3962520" cy="2057400"/>
          </a:xfrm>
          <a:prstGeom prst="wedgeRectCallout">
            <a:avLst>
              <a:gd name="adj1" fmla="val 49398"/>
              <a:gd name="adj2" fmla="val -4961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imbursement Mapping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 I-9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72032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9 code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733D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0066 0043 0048 3606 00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2286000"/>
            <a:ext cx="2133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D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E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F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G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H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J 1 8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osswalk to legac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be interposed between data submitted using I-10 codes and legacy systems using I-9 codes, so data can continue to be processed using the legac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im measure while systems are being conv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86400" y="1905120"/>
            <a:ext cx="236232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A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B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C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D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E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F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G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H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J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K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M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N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P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Q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R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S 1 90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r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the purpose, the development, how to use and how to customize the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A contains technical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51055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I find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nosis AND Procedure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38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10 is much more speci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inent clinical detail has been added to ICD-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520" y="2438280"/>
            <a:ext cx="8153280" cy="368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0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acture of midcervical section of femur, cl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A 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G 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A 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G 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A 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G 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A Non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G Non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A Non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G Non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A Non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G Non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or I-9 verbiage not in I-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istinctions in I-9 have been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828800" y="2361960"/>
            <a:ext cx="6400800" cy="376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54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nococcal heart inf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my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peri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3 Gonococcal pericardit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4 Gonococcal endocardit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5 Other gonococcal heart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re are new I-10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10 captures types of information not available anywhere in I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6840" y="2057040"/>
            <a:ext cx="84582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6A Underdosing of mineralocorticoids and their antagonis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1x6A Underdosing of loop [high-ceiling] diuretic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2x6A Underdosing of carbonic-anhydrase inhibitors, benzothiadiazides and other diuretic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3x6A Underdosing of electrolytic, caloric and water-balance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4x6A Underdosing of drugs affecting uric acid metabolism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5x6A Underdosing of appetite depressa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6x6A Underdosing of antidotes and chelating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7x6A Underdosing of analeptics and opioid receptor antagonis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8x6A Underdosing of diagnostic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906A Underdosing of unspecified drugs, medicaments and biological substanc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996A Underdosing of other drugs, medicaments and biological substanc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16A Underdosing of pertussis vaccine, including combinations with a pertussis component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26A Underdosing of mixed bacterial vaccines without a pertussis component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96A Underdosing of other bacterial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B16A Underdosing of smallpox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B96A Underdosing of other viral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Z16A Underdosing of immunoglobulin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Z96A Underdosing of other vaccines and biological substances, initial en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 can be tric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ncepts express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I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than one I-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omplet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7034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lation of Coronary Artery, One Site, Bifurcation, with Drug-eluting Intraluminal Device, Percutaneous Appro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66 Percutaneous transluminal coronary angioplasty [PTCA] or coronary atherectom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0 Procedure on single vesse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5 Insertion of one vascular st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7 Insertion Of Drug-Eluting Coronary Artery Stents(S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4 Procedure on vessel bifurc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7034Z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lation of Coronary Artery, One Site with Drug-eluting Intraluminal Device, Percutaneous Appro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66 Percutaneous transluminal coronary angioplasty [PTCA] or coronary atherectom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0 Procedure on single vesse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5 Insertion of one vascular st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7 Insertion Of Drug-Eluting Coronary Artery Stents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-directional code translation dictionary between ICD-9-CM and ICD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2666880"/>
            <a:ext cx="838188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diabetic nephropath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3 Diabetes with renal manifestations, type I [juvenile type],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8381 Nephritis and nephropathy, not specified as acute or chronic, in diseases classified elsewher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diabetic chronic kidney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other diabetic kidney compl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2:42:00Z</dcterms:created>
  <dc:creator>3M HIS rb</dc:creator>
  <dc:description/>
  <dc:language>en-US</dc:language>
  <cp:lastModifiedBy>3M HIS rb</cp:lastModifiedBy>
  <dcterms:modified xsi:type="dcterms:W3CDTF">2009-03-06T20:03:29Z</dcterms:modified>
  <cp:revision>47</cp:revision>
  <dc:subject/>
  <dc:title>GEMs 101</dc:title>
</cp:coreProperties>
</file>