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0398-B0D8-4804-8A60-328836AF7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A272-22EB-45F6-AB77-69F30DD4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1619-DE5B-4CD1-9D0B-936AC1F27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8B91-BCA7-4544-8F8E-A2398E2DB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A811-795D-4069-B366-20DD64DE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08A4-F851-4F76-8CF6-343E1C79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8A43-60AA-471E-B09B-15376549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0570-C9D0-4681-8AF1-AFB12062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462A-F197-4BD4-A0EA-B892AFE8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C34C-959C-4220-BC45-8357C7D4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57F4-1FA7-4BEA-8CDE-1BA6944A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6249-ACEF-4DB1-9DC6-339F461D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E0E3-D960-41F9-9AF9-D6A83E723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cdc.gov/nchs/about/otheract/icd9/icd10cm.htm" TargetMode="External"/><Relationship Id="rId2" Type="http://schemas.openxmlformats.org/officeDocument/2006/relationships/hyperlink" Target="http://www.cms.hhs.gov/ICD9ProviderDiagnosticCodes/06_codes.asp#TopOfPage" TargetMode="External"/><Relationship Id="rId3" Type="http://schemas.openxmlformats.org/officeDocument/2006/relationships/hyperlink" Target="http://www.cms.hhs.gov/ICD10/01m_2009_ICD10PCS.asp#TopOfPage" TargetMode="Externa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cdc.gov/nchs/about/otheract/icd9/icd10cm.htm" TargetMode="External"/><Relationship Id="rId2" Type="http://schemas.openxmlformats.org/officeDocument/2006/relationships/hyperlink" Target="http://www.cms.hhs.gov/ICD10/02m_2009_ICD_10_CM.asp#TopOfPag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cms.hhs.gov/ICD10/02m_2009_ICD_10_CM.asp#TopOfPage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cms.hhs.gov/ICD10/01m_2009_ICD10PCS.asp#TopOfPage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cms.hhs.gov/ICD10/01m_2009_ICD10PCS.asp#TopOfPage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cms.hhs.gov/ICD10/01m_2009_ICD10PCS.asp#TopOfPage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10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CD-10 General Equivalence Mappings (GEM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9-CM Coordination &amp; Maintenance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11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Ms give all plausible translation alternatives for the complete meaning of the code being looked up (source system c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ular instruction, index entries, guidelines, and applicable Coding Clinic 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62120" y="4038480"/>
          <a:ext cx="7694640" cy="2187360"/>
        </p:xfrm>
        <a:graphic>
          <a:graphicData uri="http://schemas.openxmlformats.org/drawingml/2006/table">
            <a:tbl>
              <a:tblPr/>
              <a:tblGrid>
                <a:gridCol w="2766960"/>
                <a:gridCol w="2443320"/>
                <a:gridCol w="2484360"/>
              </a:tblGrid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9-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10-CM/P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ward mapping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10-CM/P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9-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ward mapping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re is only one alternative in a GEM, we can say we have a “one-to-one”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necessarily mean the codes are iden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8153280" cy="246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72031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placed midcervical fracture of right femur, initial encounter for closed frac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82002 Fracture of midcervical section of femur, close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lternatives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may be multiple translation alternatives for a source system code, all of which are equally plau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plete meaning of ‘Burn’ in I-9 includes bot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mal burns (translates to ‘Burn’ in I-1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mical burns (translates to ‘Corrosion’ in I-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120" y="3657240"/>
            <a:ext cx="8153640" cy="246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422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sters with epidermal loss due to burn (second degree) of abdominal w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T2122xA Burn of second degree of abdominal wall, initial encounte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T2122xD Burn of second degree of abdominal wall, subsequent encounte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T2162xA Corrosion of second degree of abdominal wall, initial encounte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T2162xD Corrosion of second degree of abdominal wall, subsequent encou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-9 Clus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-9 cluster: more than one I-9 code is required to equal a complete translation of one I-10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440" y="3048120"/>
            <a:ext cx="8001000" cy="307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1134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ype 2 diabetes mellitus with severe nonproliferative diabetic retinopathy with macular ed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050 Diabetes with ophthalmic manifestations, type II or unspecified type, not stated as uncontroll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206 Severe nonproliferative diabetic retinopath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207 Diabetic macular ed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-10 Clus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-10 cluster: more than one I-10 code is required to equal a complete translation of one I-9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761760" y="2895120"/>
            <a:ext cx="7924680" cy="358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86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terior Resection Of Rectum With Synchronous Colostom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 I10 clu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DTP0ZZ Resection of Rectum, Open Appro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DTP4ZZ Resection of Rectum, Percutaneous Endoscopic Appro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DTP7ZZ Resection of Rectum, Via Natural or Artificial Ope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DTP8ZZ Resection of Rectum, Via Natural or Artificial Opening Endoscopic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D1N0Z4 Bypass Sigmoid Colon to Cutaneous, Open Appro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D1N4Z4 Bypass Sigmoid Colon to Cutaneous, Percutaneous Endoscopic Appro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D1N8Z4 Bypass Sigmoid Colon to Cutaneous, Via Natural or Artificial Opening Endosc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CD-9-CM to ICD-10-CM det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system code 414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ion includes the complete meaning of the source system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s to a single comparably specific alternative in the ICD-9-CM to ICD-10-CM 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440" y="4114440"/>
            <a:ext cx="8001000" cy="201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140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ronary atherosclerosis of native coronary arte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2510 Atherosclerotic heart disease of native coronary artery without angina pectori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CD-10-CM to ICD-9-CM det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system code I25.110 contains both underlying cause and acute exacerb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system code 414.01 is part of an I-9 cluster in the ICD-10-CM to ICD-9-CM 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09120" y="4038120"/>
            <a:ext cx="8077320" cy="216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251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herosclerotic heart disease of native coronary artery with unstable angina pector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401 Coronary atherosclerosis of native coronary arter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11 Intermediate coronary synd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CD-9-CM to ICD-10-PCS det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system code 86.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I-9 does not specify the anatomic site, all PCS body parts are plausible translation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0520" y="2895480"/>
            <a:ext cx="85345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65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uture Of Skin And Subcutaneous Tissue Of Other Si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10ZZ Repair Face Subcutaneous Tissue and Fascia, Open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13ZZ Repair Face Subcutaneous Tissue and Fascia, Percutaneous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40ZZ Repair Anterior Neck Subcutaneous Tissue and Fascia, Open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43ZZ Repair Anterior Neck Subcutaneous Tissue and Fascia, Percutaneous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50ZZ Repair Posterior Neck Subcutaneous Tissue and Fascia, Open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53ZZ Repair Posterior Neck Subcutaneous Tissue and Fascia, Percutaneous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60ZZ Repair Chest Subcutaneous Tissue and Fascia, Open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63ZZ Repair Chest Subcutaneous Tissue and Fascia, Percutaneous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70ZZ Repair Back Subcutaneous Tissue and Fascia, Open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73ZZ Repair Back Subcutaneous Tissue and Fascia, Percutaneous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80ZZ Repair Abdomen Subcutaneous Tissue and Fascia, Open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83ZZ Repair Abdomen Subcutaneous Tissue and Fascia, Percutaneous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CD-10-PCS to ICD-9-CM det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system code 0JQ60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re precise PCS code specifies body part and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non-specific I-9 codes are plausible translation alternatives for the PCS root operation Re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80880" y="3429000"/>
            <a:ext cx="8305920" cy="269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JQ60Z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air Chest Subcutaneous Tissue and Fascia, Open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65 Other Suture Of Muscle Or Fasci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89 Other Plastic Operations On Fasci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659 Suture Of Skin And Subcutaneous Tissue Of Other Si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EM file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system code on the left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 system code in the mid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gs on th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038120" y="1600200"/>
            <a:ext cx="4800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1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62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1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858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1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62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1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858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1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9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1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929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2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62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2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950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2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62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2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950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2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9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2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959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-9 and I-10 are different langu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s are the language of health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with Spanish and English, ICD-9 and ICD-10 are different langu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-year generation gap between ICD-9-CM and ICD-10-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 reflects the current understanding and practice of medi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dding code descri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 GEM files to a spreadsheet or database, and add code descriptions for read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500x1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oisoning by mineralocorticoids and their antagonists, accidental (unintentional)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620 Poisoning by adrenal cortical steroid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8580 Accidental poisoning by hormones and synthetic substitute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500x1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oisoning by mineralocorticoids and their antagonists, accidental (unintentional), subsequent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620 Poisoning by adrenal cortical steroid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8580 Accidental poisoning by hormones and synthetic substitute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500x1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oisoning by mineralocorticoids and their antagonists, accidental (unintentional), seque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090 Late effect of poisoning due to drug, medicinal or biological substanc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9292 Late effects of accidental poisoning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dding code descri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CM code descriptions available on NCHS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dc.gov/nchs/about/otheract/icd9/icd10cm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and ICD-10-PCS code descriptions available on CMS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9-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ms.hhs.gov/ICD9ProviderDiagnosticCodes/06_codes.asp#TopOf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10-P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cms.hhs.gov/ICD10/01m_2009_ICD10PCS.asp#TopOf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as 1=On, 0=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different 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904760"/>
            <a:ext cx="4038480" cy="422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C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o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-9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2733ZZ 0040 1011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2733ZZ 0041 1011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2733ZZ 0042 1011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2733ZZ 0043 1011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2733ZZ 0066 10111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2733ZZ 3609 1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he Approximate Fl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1 of the fl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eans the translation is an approximate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jority of alternatives are considered an approximate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eans the translation is an identical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re in the procedure G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common in the diagnosis G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066320" y="3962160"/>
            <a:ext cx="7086600" cy="231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olera due to Vibrio cholerae 01, biovar cholera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0010 Cholera due to vibrio cholera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0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olera due to Vibrio cholerae 01, biovar el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0011 Cholera due to vibrio cholerae el to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00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olera, unspecifi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0019 Cholera, unspecifi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he No Map Fl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2 of the fl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eans there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ausible translation for the source system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eans there is at least one plausible translation for the source system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240" y="3580920"/>
            <a:ext cx="662940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500x6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derdosing of mineralocorticoids and their antagonists, initial encou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No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500x6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derdosing of mineralocorticoids and their antagonists, subsequent encou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No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500x6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derdosing of mineralocorticoids and their antagonists, seque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No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he Combination Fl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3 of the fl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eans the complete translation of the source system code requires more than one target system code (cluster, aka combination en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eans the complete translation of the source system code is satisfied by one of the target system code alternatives (single en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440" y="3962520"/>
            <a:ext cx="792468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RG20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usion of 2 or more Cervical Vertebral Joints with Internal Fixation Device, Anterior, Open Appro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02 Other Cervical Fusion, Anterior Tech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62 Fusion Or Refusion Of 2-3 Vertebra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8163 Fusion Or Refusion Of 4-8 Vertebra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451 Insertion Of Interbody Spinal Fusion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cenario and Choice list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s 4 and 5 of the fl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for organizing combination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 defines all the possible codes in a cl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ice list organizes the codes into pick lists—one code from each list in a scenario is a cl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62520" y="3276720"/>
            <a:ext cx="49528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500x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eign body in cornea, unspecified eye, initial encoun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300 Corneal foreign bod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914 Foreign body accidentally entering eye and adnexa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500x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eign body in cornea, unspecified eye, subsequent encoun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300 Corneal foreign bod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914 Foreign body accidentally entering eye and adnexa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500x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eign body in cornea, unspecified eye, seque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9085 Late effect of foreign body in orif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1523880"/>
            <a:ext cx="236232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0x1A 9620 10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0x1A E8580 10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0x1D 9620 10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0x1D E8580 10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0x1S 9090 10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0x1S E9292 10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I us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onversion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ICD-9 based applications to native ICD-10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828440" y="2590920"/>
            <a:ext cx="57150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7 Respiratory infections &amp; inflammations w MC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8 Respiratory infections &amp; inflammations w C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9 Respiratory infections &amp; inflammations w/o CC/MC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NCIPAL DIAGNO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0222 Salmonella pneumon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065 Amebic lung abs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15* Respiratory tuberculosis (7 code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202 Pneumonic plagu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212 Pulmonary tularem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221 Pulmonary anthrax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310 Pulmonary mycobacterial infe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420 Pulmonary actinomyco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430 Pulmonary nocardio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481 Legionnaires' dise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5272 Syphilis of lung and bronch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012 Varicella pneumon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052 Measles complicated by pneumon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I us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onversion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Ms facilitate conversion projects of any size and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project: I-9 based MS-DRGs being converted to I-10 based MS-DR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um project: ICD-9-CM coding guidelines converted to ICD-10-CM coding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project: Convert ICD-9-CM based diabetes case management document to ICD-10-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I us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onversion task: find and repl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pplications are composed of logical relationships between lists of ICD-9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sion involves “finding” ICD-9 lists embedded in applications and “replacing” the ICD-9 list with an ICD-10 equival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gic of application un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oal is to replicate, not modi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S-DRGs conversion uses this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Because Different is G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differences were not significant, there would be no incentive t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837720" y="2590920"/>
            <a:ext cx="7162920" cy="399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51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win pregnancy, unspecified as to episode of c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09 Twin pregnancy, unspecified, unspecifie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19 Twin pregnancy, monoamniotic/monochorionic, unspecifie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99 Other twin pregnancy, unspecifie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510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win pregnancy, deliver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09 Twin pregnancy, unspecified, unspecifie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510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win pregnancy, antepartum condition or complic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01 Twin pregnancy, unspecified, first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02 Twin pregnancy, unspecified, secon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03 Twin pregnancy, unspecified, thir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11 Twin pregnancy, monoamniotic/monochorionic, first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12 Twin pregnancy, monoamniotic/monochorionic, secon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13 Twin pregnancy, monoamniotic/monochorionic, thir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91 Other twin pregnancy, first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92 Other twin pregnancy, secon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93 Other twin pregnancy, third trimes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I us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pplication-specific map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n ICD-10 to ICD-9 mapping (aka crosswalk) that allows data submitted in ICD-10 to be processed using ICD-9 based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CD-10 Reimbursement Mappings are an application-specific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nterim measure while applications are being converted to a native ICD-10 ap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I us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eneral re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raining material for ICD-10 coding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document improvement program for ICD-10 documentation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e the GEMs to understand the translation challenges in clinical/coding areas of particular interest to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0880" y="3352320"/>
            <a:ext cx="838224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1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cute myocardial infarction of anterolateral wall, episode of care unspecifi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I2109 ST elevation (STEMI) myocardial infarction involving other coronary artery of anterior wal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100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cute myocardial infarction of anterolateral wall, initial episode of c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I2109 ST elevation (STEMI) myocardial infarction involving other coronary artery of anterior wal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100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cute myocardial infarction of anterolateral wall, subsequent episode of c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I2109 ST elevation (STEMI) myocardial infarction involving other coronary artery of anterior wal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10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cute myocardial infarction of other anterior wall, episode of care unspecifi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I2109 ST elevation (STEMI) myocardial infarction involving other coronary artery of anterior wal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101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cute myocardial infarction of other anterior wall, initial episode of c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I2109 ST elevation (STEMI) myocardial infarction involving other coronary artery of anterior wal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101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cute myocardial infarction of other anterior wall, subsequent episode of c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I2109 ST elevation (STEMI) myocardial infarction involving other coronary artery of anterior 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I us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ich GEM to 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-10 to I-9 G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ion of application logic containing lists of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-9 to I-10 G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and forecasting of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I-10 to I-9 AND I-9 to I-10 G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conversion projects with access to clinical detail beyond the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I us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Replication vs. Optim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l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o produce an I-10 based application that produces essentially the same results as the current I-9 based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ions must be reviewed and finalized, this is not auto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-DRGs conversion is an example of 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ptim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o produce an I-10 based application that produces optimized results based on the increased detail in I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more complex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Ms can be used for both replication and 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can I fin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Diagnosis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on NCHS website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dc.gov/nchs/about/otheract/icd9/icd10cm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on CMS website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ms.hhs.gov/ICD10/02m_2009_ICD_10_CM.asp#TopOf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905120" y="3208320"/>
            <a:ext cx="5029200" cy="344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can I fin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Diagnosis GEMs users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on NCHS website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on CMS website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ms.hhs.gov/ICD10/02m_2009_ICD_10_CM.asp#TopOf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981080" y="3700440"/>
            <a:ext cx="533412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can I fin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Procedure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on CMS website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ms.hhs.gov/ICD10/01m_2009_ICD10PCS.asp#TopOf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38080" y="2641680"/>
            <a:ext cx="7467840" cy="388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can I fin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Procedure GEMs users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on CMS website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ms.hhs.gov/ICD10/01m_2009_ICD10PCS.asp#TopOf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676520" y="3165480"/>
            <a:ext cx="5105160" cy="32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EMs vs. Reimbursement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GEMs, a single I-10 code can be translated to two or more alternative I-9 transl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09.89 Other specified rheumatic heart disea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has two plausible translation alterna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imbursement mapping contains one I-9 translation alternative chosen for reimbursement purposes, based on frequency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8320" y="3733560"/>
            <a:ext cx="3962160" cy="23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098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ther specified rheumatic heart disea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3971 Rheumatic diseases of pulmonary valv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39899 Other rheumatic heart disea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4572000"/>
            <a:ext cx="472428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1447920"/>
            <a:ext cx="388620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098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ther specified rheumatic heart disea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3971 Rheumatic diseases of pulmonary valv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39899 Other rheumatic heart dis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EMs vs. Reimbursement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Ms are designed to aid in converting applications and systems from I-9 to I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purpose translation 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“finding and replacing” codes or lists of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imbursement mappings are designed to be interposed between data submitted using I-10 codes and legacy systems using I-9 codes, so data can continue to be processed without converting the legacy system to I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im measure while systems are being conve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s a general translation a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Ms are a general purpose ICD-9/ICD-10 translation dictio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e translation from ICD-9 to ICD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e translation from ICD-10 to ICD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28600" y="3047760"/>
            <a:ext cx="86104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200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racture of midcervical section of femur, clo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1A Displaced midcervical fracture of righ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1G Displaced midcervical fracture of righ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2A Displaced midcervical fracture of lef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2G Displaced midcervical fracture of lef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3A Displaced midcervical fracture of unspecified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3G Displaced midcervical fracture of unspecified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4A Nondisplaced midcervical fracture of righ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4G Nondisplaced midcervical fracture of righ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5A Nondisplaced midcervical fracture of lef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5G Nondisplaced midcervical fracture of lef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6A Nondisplaced midcervical fracture of unspecified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6G Nondisplaced midcervical fracture of unspecified femur, subsequent encounter for closed fracture with delayed healing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622440"/>
            <a:ext cx="7924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861920" y="1067400"/>
            <a:ext cx="5800680" cy="1517760"/>
            <a:chOff x="1861920" y="1067400"/>
            <a:chExt cx="5800680" cy="1517760"/>
          </a:xfrm>
        </p:grpSpPr>
        <p:sp>
          <p:nvSpPr>
            <p:cNvPr id="154" name=""/>
            <p:cNvSpPr/>
            <p:nvPr/>
          </p:nvSpPr>
          <p:spPr>
            <a:xfrm>
              <a:off x="1861920" y="1067400"/>
              <a:ext cx="5800680" cy="6894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alth care claim (UB-04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38400" y="1342800"/>
              <a:ext cx="19335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-10 Diagnosis co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62440" y="1342800"/>
              <a:ext cx="20714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-10 Procedure co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28880" y="2171160"/>
              <a:ext cx="3728880" cy="4140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-10-based system (I-10 MS-DRG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62440" y="1757160"/>
              <a:ext cx="0" cy="41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869840" y="3124800"/>
            <a:ext cx="5802480" cy="3507840"/>
            <a:chOff x="1869840" y="3124800"/>
            <a:chExt cx="5802480" cy="3507840"/>
          </a:xfrm>
        </p:grpSpPr>
        <p:sp>
          <p:nvSpPr>
            <p:cNvPr id="160" name=""/>
            <p:cNvSpPr/>
            <p:nvPr/>
          </p:nvSpPr>
          <p:spPr>
            <a:xfrm>
              <a:off x="2004840" y="3124800"/>
              <a:ext cx="5667480" cy="673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alth care clai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74840" y="3393720"/>
              <a:ext cx="1889280" cy="27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-10 Diagnosis co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38760" y="3393720"/>
              <a:ext cx="2023920" cy="27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-10 Procedure co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84480" y="6227280"/>
              <a:ext cx="3643200" cy="4053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-9-based reimbursement syst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69840" y="5013360"/>
              <a:ext cx="5667480" cy="808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verted health care clai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274840" y="5417640"/>
              <a:ext cx="2428920" cy="27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-9 Diagnosis co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838760" y="5417640"/>
              <a:ext cx="2563920" cy="27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-9 Procedure co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274840" y="3664080"/>
              <a:ext cx="720" cy="1753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64120" y="3664080"/>
              <a:ext cx="539640" cy="1753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38760" y="3664080"/>
              <a:ext cx="720" cy="1753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62680" y="3664080"/>
              <a:ext cx="539640" cy="1753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44480" y="3934080"/>
              <a:ext cx="1484280" cy="80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lication of diagnosis reimbursement mapp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38760" y="5822640"/>
              <a:ext cx="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08400" y="3933000"/>
              <a:ext cx="1484280" cy="80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lication of procedure reimbursement mapp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838080" y="2819520"/>
            <a:ext cx="7696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ystem conversion vs. Crossw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velopment of the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translation using the I-10 to I-9 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n I-10 code is translated to one I-9 code, no additional review is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5% of the I-10 codes are translated to a single I-9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1-10 codes are translated to the same I-9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n I-10 code is translated to more than one I-9 code, historical I-9 code frequency data are used to determine the most commonly used I-9 code among the I-9 code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PAR and OHSPD (for newborn and OB codes) data we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vast majority of cases there is a clear dominant code in terms of fre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rare cases, clinical review is needed to make the final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velopment of the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both MedPAR and OHSPD data sets come from hospital admission data, choosing between I-9 alternatives may reflect frequencies more characteristic of inpatient than outpatient data when the two di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omplications of pregna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-10 does not specify whether the patient delivered during the en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imbursement mapping must choose between I-9 altern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npatient hospital data, the I-9 codes specifying delivery are far more frequent, while in outpatient and physician data, one would expect the I-9 codes specifying antepartum encounter to domi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33520" y="4724280"/>
            <a:ext cx="8076960" cy="152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610 Failed medical induction of lab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5910 Failed medical or unspecified induction of labor, unspecified as to episode of car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5911 Failed medical or unspecified induction of labor, deliver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5913 Failed medical or unspecified induction of labor, antepartum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848720" cy="17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velopment of the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I-10 codes with an entry in the GEMs are inclu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I-10 code is assigned to a single I-9 code or I-9 code clus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-9 code cluster contains two or more I-9 codes that must be used in combination to attain the complete meaning of one I-10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29200" y="3657600"/>
            <a:ext cx="3809880" cy="2590920"/>
          </a:xfrm>
          <a:prstGeom prst="wedgeRectCallout">
            <a:avLst>
              <a:gd name="adj1" fmla="val -80833"/>
              <a:gd name="adj2" fmla="val 257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signed for reimbursemen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02733D6 Dilation of Coronary Artery, Four or More Sites, Bifurcation, with Intraluminal Device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ercutaneous Approa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 assigned to this I-9 code clus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00.66 [PTCA] or coronary atherecto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00.43 Procedure on four or more vess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00.48 Insertion of four or more vascular s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36.06 Insertion of non-drug eluting coronary stent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00.44 Procedure on vessel bifur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05520" y="1676520"/>
            <a:ext cx="3809880" cy="1676160"/>
          </a:xfrm>
          <a:prstGeom prst="wedgeRectCallout">
            <a:avLst>
              <a:gd name="adj1" fmla="val -93375"/>
              <a:gd name="adj2" fmla="val 4308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signed for reimbursemen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72.032G Displaced midcervical fracture of left femur, subsequent encounter for closed fracture with delayed he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 assigned to this I-9 single co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820.02 Fracture of midcervical section of femur, clo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-9 code clu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one ICD-10-PCS code contains a complete description of the procedure, and one ICD-10-CM code may contain both specification of the underlying disease and a current exacerbation or complication, multiple I-9 codes may be necessary to attain the same level of complet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3% of I-10 codes are assigned to an “I-9 code clust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838080" y="3886200"/>
            <a:ext cx="7848720" cy="22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10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ype 1 diabetes mellitus with diabetic catar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051 Diabetes with ophthalmic manifestations, type I [juvenile type], not stated as uncontroll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641 Diabetic cata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ppings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 files, not part of the GEM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text files, a diagnosis code reimbursement mapping and a procedure code reimbursement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-character field for I-10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three, five-character fields for I-9 diagn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five, four-character fields for I-9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752480" y="4191120"/>
            <a:ext cx="5715000" cy="2209680"/>
          </a:xfrm>
          <a:prstGeom prst="wedgeRectCallout">
            <a:avLst>
              <a:gd name="adj1" fmla="val 17805"/>
              <a:gd name="adj2" fmla="val -4870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imbursement Mapping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D-10-C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I-9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72032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D-10-P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-9 code 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2733D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66 0043 0048 3606 00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 us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ding th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10 code on the lef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 in the middle indicates the number of I-9 codes required for a complete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-9 code or codes on the righ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19720" y="4495320"/>
            <a:ext cx="45720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0273346 5 0066  0043  0048  3607  0044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027334Z 4 0066  0043  0048  3607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02733D6 5 0066  0043  0048  3606  0044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02733DZ 4 0066  0043  0048  3606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02733Z6 3 0066  0043  0044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02733ZZ 2 0066  00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38680" y="3124080"/>
            <a:ext cx="251460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91120" y="5029200"/>
            <a:ext cx="47242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4419720"/>
            <a:ext cx="3962520" cy="2057400"/>
          </a:xfrm>
          <a:prstGeom prst="wedgeRectCallout">
            <a:avLst>
              <a:gd name="adj1" fmla="val 49398"/>
              <a:gd name="adj2" fmla="val -49615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imbursement Mapping Exa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D-10-C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gle I-9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72032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D-10-PC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-9 code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733D6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0066 0043 0048 3606 00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867280" y="2286000"/>
            <a:ext cx="213372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D 1 V54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E 1 V54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F 1 V54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G 1 8200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H 1 8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J 1 8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 us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rosswalk to legac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d to be interposed between data submitted using I-10 codes and legacy systems using I-9 codes, so data can continue to be processed using the legac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im measure while systems are being conve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486400" y="1905120"/>
            <a:ext cx="2362320" cy="452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A 1 8200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B 1 8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C 1 8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D 1 V54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E 1 V54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F 1 V54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G 1 8200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H 1 8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J 1 8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K 1 7338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M 1 7338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N 1 7338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P 1 7338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Q 1 7338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R 1 7338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S 1 905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 us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sers Gu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s the purpose, the development, how to use and how to customize the mapp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ndix A contains technical file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510552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I find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gnosis AND Procedure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available on CMS website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ms.hhs.gov/ICD10/01m_2009_ICD10PCS.asp#TopOf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838080" y="2743200"/>
            <a:ext cx="7467840" cy="388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-10 is much more specif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tinent clinical detail has been added to ICD-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3520" y="2438280"/>
            <a:ext cx="8153280" cy="368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200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racture of midcervical section of femur, clo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1A Displaced midcervical fracture of righ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1G Displaced midcervical fracture of righ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2A Displaced midcervical fracture of lef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2G Displaced midcervical fracture of lef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3A Displaced midcervical fracture of unspecified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3G Displaced midcervical fracture of unspecified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4A Nondisplaced midcervical fracture of righ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4G Nondisplaced midcervical fracture of righ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5A Nondisplaced midcervical fracture of lef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5G Nondisplaced midcervical fracture of lef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6A Nondisplaced midcervical fracture of unspecified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6G Nondisplaced midcervical fracture of unspecified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or I-9 verbiage not in I-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distinctions in I-9 have been eli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828800" y="2361960"/>
            <a:ext cx="6400800" cy="376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54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onococcal heart inf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e te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nococcal endocard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nococcal myocard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nococcal pericard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09883 Gonococcal pericarditi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09884 Gonococcal endocarditi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09885 Other gonococcal heart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here are new I-10 categ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-10 captures types of information not available anywhere in I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6840" y="2057040"/>
            <a:ext cx="84582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0x6A Underdosing of mineralocorticoids and their antagonist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1x6A Underdosing of loop [high-ceiling] diuretic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2x6A Underdosing of carbonic-anhydrase inhibitors, benzothiadiazides and other diuretic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3x6A Underdosing of electrolytic, caloric and water-balance agent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4x6A Underdosing of drugs affecting uric acid metabolism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5x6A Underdosing of appetite depressant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6x6A Underdosing of antidotes and chelating agent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7x6A Underdosing of analeptics and opioid receptor antagonist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8x6A Underdosing of diagnostic agent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906A Underdosing of unspecified drugs, medicaments and biological substance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996A Underdosing of other drugs, medicaments and biological substance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A16A Underdosing of pertussis vaccine, including combinations with a pertussis component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A26A Underdosing of mixed bacterial vaccines without a pertussis component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A96A Underdosing of other bacterial vaccine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B16A Underdosing of smallpox vaccine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B96A Underdosing of other viral vaccine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Z16A Underdosing of immunoglobulin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Z96A Underdosing of other vaccines and biological substances, initial encou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ranslation can be tric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oncepts express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ne I-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re than one I-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complete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27034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ilation of Coronary Artery, One Site, Bifurcation, with Drug-eluting Intraluminal Device, Percutaneous Approa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66 Percutaneous transluminal coronary angioplasty [PTCA] or coronary atherectom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40 Procedure on single vesse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45 Insertion of one vascular stent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07 Insertion Of Drug-Eluting Coronary Artery Stents(S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44 Procedure on vessel bifurcatio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27034Z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ilation of Coronary Artery, One Site with Drug-eluting Intraluminal Device, Percutaneous Approa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66 Percutaneous transluminal coronary angioplasty [PTCA] or coronary atherectom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40 Procedure on single vesse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45 Insertion of one vascular stent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07 Insertion Of Drug-Eluting Coronary Artery Stents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ranslation re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i-directional code translation dictionary between ICD-9-CM and ICD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6840" y="2666880"/>
            <a:ext cx="8381880" cy="381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102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ype 1 diabetes mellitus with diabetic nephropath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25043 Diabetes with renal manifestations, type I [juvenile type], uncontrolle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041 Diabetes with renal manifestations, type I [juvenile type], not stated as uncontrolle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8381 Nephritis and nephropathy, not specified as acute or chronic, in diseases classified elsewher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102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ype 1 diabetes mellitus with diabetic chronic kidney dise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25041 Diabetes with renal manifestations, type I [juvenile type], not stated as uncontrolle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102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ype 1 diabetes mellitus with other diabetic kidney compli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25041 Diabetes with renal manifestations, type I [juvenile type], not stated as uncontrolle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22:42:00Z</dcterms:created>
  <dc:creator>3M HIS rb</dc:creator>
  <dc:description/>
  <dc:language>en-US</dc:language>
  <cp:lastModifiedBy>3M HIS rb</cp:lastModifiedBy>
  <dcterms:modified xsi:type="dcterms:W3CDTF">2009-03-06T20:03:29Z</dcterms:modified>
  <cp:revision>47</cp:revision>
  <dc:subject/>
  <dc:title>GEMs 101</dc:title>
</cp:coreProperties>
</file>