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A6E-B410-4910-A528-25B1F39F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76A-0926-4152-9C30-8A55E0A8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62C-5C7D-46E0-8E3F-E8704255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F32-DDC3-461F-BEED-A8F8F0CF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F53-28BF-47A6-B5D3-A700CFB1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274-3C4C-4DA7-8FA3-352E885D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6FA-5774-4911-820F-497FB202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844-7AEB-405E-AE5C-2974DC0F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373-6A7B-4718-995E-8A94465C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A84-8CA1-46CB-BC0E-BDD3850A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4F6-34A4-453D-8BB3-A130B96C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32B-2EB4-4C07-8EC0-B3290CAC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B864-12A0-4C4B-9EFB-3B45E56AE5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S-DRG Conversion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ice Bonazelli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 Coordinatio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43434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xed, manageable number of lists in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produce 95% of the mapping without any need fo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need clinical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990720"/>
          <a:ext cx="6786720" cy="321624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remaining MDC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sues Discover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Converting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natomic specificity, NOS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list-specific criteria for identifying the appropriate anatomic subset of PCS codes that belong on 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I-10 code does not contain a distinction found in two or more I-9 codes, all the I-9 codes are mapped to the sam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flict exists if the I-9 codes are in different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o be expected between code sets with significant differences in design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CS code may be irrelevant to a list because of its anatomic or root operation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261 PCS codes are translated to 92.2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s may contain detail not pertinent to current understanding of disease or to a PCS axis of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diagnosis codes may use outmoded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procedure codes may include diagnosis information (e.g., drainage of a cyst, drainage of an abs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cases, the I-10 code is assigned to the I-9 code that results in the most appropriate MS-DR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8074200">
            <a:off x="4190760" y="2819160"/>
            <a:ext cx="981000" cy="936720"/>
          </a:xfrm>
          <a:custGeom>
            <a:avLst/>
            <a:gdLst>
              <a:gd name="textAreaLeft" fmla="*/ 281520 w 981000"/>
              <a:gd name="textAreaRight" fmla="*/ 840240 w 981000"/>
              <a:gd name="textAreaTop" fmla="*/ 539640 h 936720"/>
              <a:gd name="textAreaBottom" fmla="*/ 802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G Logic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MS-DRG conversion involves replacing lists of I-9 codes without changing underlying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ew cases, DRG logic for I-10 MS-DRGs must be modified in orde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 Radical Pancreaticoduodenec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3276720"/>
          <a:ext cx="8097840" cy="32814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1111320"/>
                <a:gridCol w="150012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-10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s I-9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MS-D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 Change to replica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 Total Pancreatectom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-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2 Other Partial Resection Of 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-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 Radical Pancreaticoduodenect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-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ICD-9 based systems and processes to ICD-10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 facilitate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MS-DRGs to ICD-10 codes well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DRGs converted and initial review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DRGs auto-replaced by GEMs, translations being reviewed and fi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version slated for internal CMS review beginning 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MS-DRG Definition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C 06 currently posted in two different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ormat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public feedback on preferre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comments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s convers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ICD-10 convers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ll medical DRGs is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surgical DRGs is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ICD-10 version of MS-DRGs will be subject to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 definitions manual 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Conver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ICD-10 codes with their full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553080" cy="43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 codes in condensed notation, followed by number of code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409840"/>
            <a:ext cx="5943600" cy="42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CS Option: Tabl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-PCS codes in table forma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2612880"/>
            <a:ext cx="6782040" cy="37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ot Operation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root operation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1760" y="2514600"/>
            <a:ext cx="792468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p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tering the route of passage of the contents of a tubular body 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HKLMN][0348][7JKZ][4HKLMNP]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3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anding an orifice or the lumen of a tubular body 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eocecal Val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Par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body par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2514600"/>
            <a:ext cx="7696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,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8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oden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97ZZ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9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 Reg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[AB]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leocecal Val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arge Intestine, 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E[034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E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feedback on the MS-DRGs I-10 definitions format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65200" y="2895480"/>
            <a:ext cx="6213600" cy="32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CD-10 websit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ensed ICD-10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this pres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may contain condensed codes and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CD-10 Codes—An asterisk (*) means all valid possibilities for codes in that category or subcategory ar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00* Cholera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CM cholera cod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Codes—All valid possibilities for an axis of classification are displayed in square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DN9[034]ZZ Release Duodenum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PCS approach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nly I-10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s current DR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departures whe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0760" y="1828440"/>
            <a:ext cx="47242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C[0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ocecal Valve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EFG]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 (12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H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Cec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J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ppendix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K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L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Transverse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M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e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N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igmoid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ST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Omentum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V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Mesentery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W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Peritoneum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05160" y="1752120"/>
            <a:ext cx="3733560" cy="304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ver possible, assign an I-10 code to the same DRG(s) as the I-9 code it was translated to in the I-10 to I-9 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495680" cy="27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191120" y="5638680"/>
            <a:ext cx="2286000" cy="304920"/>
          </a:xfrm>
          <a:prstGeom prst="wedgeRectCallout">
            <a:avLst>
              <a:gd name="adj1" fmla="val -72777"/>
              <a:gd name="adj2" fmla="val -1301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definitions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1108080"/>
            <a:ext cx="3733920" cy="24494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sp>
        <p:nvSpPr>
          <p:cNvPr id="58" name=""/>
          <p:cNvSpPr/>
          <p:nvPr/>
        </p:nvSpPr>
        <p:spPr>
          <a:xfrm>
            <a:off x="380880" y="304920"/>
            <a:ext cx="2590920" cy="304560"/>
          </a:xfrm>
          <a:prstGeom prst="wedgeRectCallout">
            <a:avLst>
              <a:gd name="adj1" fmla="val 38111"/>
              <a:gd name="adj2" fmla="val 2328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to ICD-9 GEM 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7621400">
            <a:off x="3605040" y="2490480"/>
            <a:ext cx="1295280" cy="13431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79640 h 1343160"/>
              <a:gd name="textAreaBottom" fmla="*/ 116352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version of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irst, conversion of MS-DRGs to I-10 appeared more difficult than it turned out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-DRGs are composed of logical relationships among lists of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to I-10 leaves the logic of MS-DRG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I-9 lists of codes that underlie MS-DRGs need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version of the I-9 code lists to I-10 code lists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of “find and replac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artially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29:21Z</dcterms:created>
  <dc:creator>3M HIS rb</dc:creator>
  <dc:description/>
  <dc:language>en-US</dc:language>
  <cp:lastModifiedBy>3M HIS rb</cp:lastModifiedBy>
  <cp:lastPrinted>2008-05-07T18:50:12Z</cp:lastPrinted>
  <dcterms:modified xsi:type="dcterms:W3CDTF">2009-03-05T14:32:03Z</dcterms:modified>
  <cp:revision>156</cp:revision>
  <dc:subject/>
  <dc:title>Title Here</dc:title>
</cp:coreProperties>
</file>