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CCEA-4B31-406E-BA0F-7CD5D984C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3DFB-B752-4C60-9786-0FAAD0BA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C62D-C58E-46D1-A4F6-3C3365708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BE3C-A2CE-4049-8093-E05F0AECB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2EDD-7591-4AB2-BD84-19D34ACC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150B-1484-4463-AE77-B20B4C5E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1530-D419-42E3-B935-45DACF2B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C56F-6ABC-4996-9EE6-734905B0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2ADC-8E8B-409C-BD05-C1FC4AF4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EAC2-AC1F-4043-9C50-DE881881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2BAF-1B1F-4156-B144-DE40F2D5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E63F-016D-47A5-8585-2DF5F242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2F98-F1BA-4F4E-8710-164D89A32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ms.hhs.gov/ICD10/01m_2009_ICD10PCS.asp#TopOfPag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onda Butler, 3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Coordination &amp; Maintenance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11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38E8-6B47-4992-8E5E-0FC3168DBC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 CMS websit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ms.hhs.gov/ICD10/01m_2009_ICD10PCS.asp#TopOf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66680" y="2651040"/>
            <a:ext cx="7010640" cy="364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025D-143A-4854-9942-62B3003449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’s New” summary contains overview of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2389320"/>
            <a:ext cx="7543800" cy="381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74E5-D305-4FF5-86A4-E564F380EA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new values added in 2009 are parallel with new I-9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5639040" cy="4186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438280" y="5410080"/>
            <a:ext cx="4572000" cy="129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8519-84BE-4A82-9332-48C48A03A1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values are incorporated into the appropriate table(s) to create new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008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3657600"/>
            <a:ext cx="8458200" cy="17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FB21-217B-4EB3-B46C-810719050A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values are incorporated into the appropriate table(s) to create new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009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686800" cy="2281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495680" y="4648320"/>
            <a:ext cx="441972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65BC-0893-41E1-9D92-4FA8044849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4114800" cy="239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for 2009, ICD-10-PCS Final Add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hensive report of codes added, deleted, and descriptions changed, in pdf and programmable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0" y="3298680"/>
            <a:ext cx="4267080" cy="241956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21C4-247C-47D9-A1E2-BD94D8ED7C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for 2009, ICD-10-PCS Body Part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domain reference to accompany PCS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nged by both anatomical term and PCS bod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with public and Cooperating Parties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23880" y="3362400"/>
            <a:ext cx="5791320" cy="317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1FA1-E404-4FD3-ADAA-1289332A69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10 Updat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new co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arallel with ICD-9-CM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esponse to public requests to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 codes or change code descri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going improvements from internal review and public feedback to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going enhancements to code set and draft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esponse to public requests to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needed for clarity and ease of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08E2-6966-4915-BD63-2DC13ACEE6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21:16:58Z</dcterms:created>
  <dc:creator>3M HIS rb</dc:creator>
  <dc:description/>
  <dc:language>en-US</dc:language>
  <cp:lastModifiedBy>3M HIS rb</cp:lastModifiedBy>
  <dcterms:modified xsi:type="dcterms:W3CDTF">2009-03-02T14:24:48Z</dcterms:modified>
  <cp:revision>7</cp:revision>
  <dc:subject/>
  <dc:title>ICD-10-PCS Update</dc:title>
</cp:coreProperties>
</file>