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A105-CB2F-4EB8-8017-737A38D2B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745020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56800" y="4186080"/>
            <a:ext cx="745020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809E-5E9F-4391-A614-3B5385239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8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6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DC4E-2A26-4F47-93AF-950244427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238572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4640" y="238572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56800" y="418608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418608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4640" y="418608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D52A-B077-463C-9E97-404F6C30E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56800" y="2385720"/>
            <a:ext cx="745020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745020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2120" y="438120"/>
            <a:ext cx="769320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568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56800" y="2385720"/>
            <a:ext cx="745020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77A3-F3DD-465F-94A7-387D5898D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6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800" y="4186080"/>
            <a:ext cx="745020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745020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56800" y="4186080"/>
            <a:ext cx="745020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68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6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75720" y="238572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94640" y="238572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56800" y="418608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75720" y="418608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94640" y="418608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745020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BA47-1082-41FD-AA2B-F015C6A25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B917-09CD-4BBD-BC92-CB72D6492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014E-756A-4019-95B1-4B98CF003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2120" y="438120"/>
            <a:ext cx="769320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F989-5D97-48DB-A5B7-D8C900846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568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5CA2-9CB0-4450-A366-86AFCD3C2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6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EB39-5EDE-4DCE-A430-A3161C8FB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56800" y="4186080"/>
            <a:ext cx="745020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14A4-610D-4EFC-80B0-5DD708CBD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56800" y="2385720"/>
            <a:ext cx="745020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77560" indent="-27756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1920" indent="-22896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7360" indent="-18540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97800" indent="-18432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69320" indent="-18576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69320" indent="-185760">
              <a:spcBef>
                <a:spcPts val="799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69320" indent="-185760">
              <a:spcBef>
                <a:spcPts val="799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3800" y="6502320"/>
            <a:ext cx="749160" cy="35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400" spc="-1" strike="noStrike">
                <a:solidFill>
                  <a:srgbClr val="106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9B647FCD-2B55-4A75-9C2C-A769949BEA0B}" type="slidenum">
              <a:rPr b="0" lang="en-US" sz="1400" spc="-1" strike="noStrike">
                <a:solidFill>
                  <a:srgbClr val="106ae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614600"/>
          </a:xfrm>
          <a:prstGeom prst="rect">
            <a:avLst/>
          </a:prstGeom>
          <a:solidFill>
            <a:srgbClr val="093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614600"/>
            <a:ext cx="9144000" cy="0"/>
          </a:xfrm>
          <a:prstGeom prst="line">
            <a:avLst/>
          </a:prstGeom>
          <a:ln w="12600">
            <a:solidFill>
              <a:srgbClr val="f0a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86520" y="6267600"/>
            <a:ext cx="2791080" cy="474840"/>
            <a:chOff x="6086520" y="6267600"/>
            <a:chExt cx="2791080" cy="474840"/>
          </a:xfrm>
        </p:grpSpPr>
        <p:pic>
          <p:nvPicPr>
            <p:cNvPr id="6" name="" descr=""/>
            <p:cNvPicPr/>
            <p:nvPr/>
          </p:nvPicPr>
          <p:blipFill>
            <a:blip r:embed="rId2"/>
            <a:srcRect l="0" t="0" r="81646" b="0"/>
            <a:stretch/>
          </p:blipFill>
          <p:spPr>
            <a:xfrm>
              <a:off x="6086520" y="6294600"/>
              <a:ext cx="5079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6558840" y="6267600"/>
              <a:ext cx="2318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Spectrum Health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614600"/>
          </a:xfrm>
          <a:prstGeom prst="rect">
            <a:avLst/>
          </a:prstGeom>
          <a:solidFill>
            <a:srgbClr val="093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14600"/>
            <a:ext cx="9144000" cy="0"/>
          </a:xfrm>
          <a:prstGeom prst="line">
            <a:avLst/>
          </a:prstGeom>
          <a:ln w="12600">
            <a:solidFill>
              <a:srgbClr val="f0a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95400" y="447840"/>
            <a:ext cx="5332320" cy="872640"/>
            <a:chOff x="1895400" y="447840"/>
            <a:chExt cx="5332320" cy="872640"/>
          </a:xfrm>
        </p:grpSpPr>
        <p:sp>
          <p:nvSpPr>
            <p:cNvPr id="48" name=""/>
            <p:cNvSpPr/>
            <p:nvPr/>
          </p:nvSpPr>
          <p:spPr>
            <a:xfrm>
              <a:off x="2922480" y="447840"/>
              <a:ext cx="43052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ffffff"/>
                  </a:solidFill>
                  <a:latin typeface="Times New Roman"/>
                </a:rPr>
                <a:t>Spectrum Health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rcRect l="35205" t="0" r="39560" b="44052"/>
            <a:stretch/>
          </p:blipFill>
          <p:spPr>
            <a:xfrm>
              <a:off x="1895400" y="477720"/>
              <a:ext cx="944280" cy="84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54160" y="6494400"/>
            <a:ext cx="749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ADB4C0FD-F1F6-4391-B4FD-B3A30E2E2BA6}" type="slidenum">
              <a:rPr b="0" lang="en-US" sz="1400" spc="-1" strike="noStrike">
                <a:solidFill>
                  <a:srgbClr val="106ae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udy Results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ality of Life Assess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680" y="5540400"/>
            <a:ext cx="385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C-QOL:  Lower Score = Less Impair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x Score =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97240" y="5540400"/>
            <a:ext cx="35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F-12:  Higher Score = Less Impair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320" y="2459160"/>
            <a:ext cx="4419360" cy="2950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0" y="2516040"/>
            <a:ext cx="44197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udy Results 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tient Satisfaction with STA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90720" y="2200320"/>
            <a:ext cx="6705360" cy="4276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6607080"/>
            <a:ext cx="33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TARR US Pilot Protocol: CI-04-0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udy Results 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verse Ev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0">
              <a:spcBef>
                <a:spcPts val="40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43 of 43 patients (100%) experienced at least one adverse event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spcBef>
                <a:spcPts val="40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spcBef>
                <a:spcPts val="40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Most Frequent A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4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Proctalgi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38 (88%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4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Rectal Bleed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24 (56%)</a:t>
            </a:r>
            <a:r>
              <a:rPr b="0" lang="en-US" sz="1600" spc="-1" strike="noStrike">
                <a:solidFill>
                  <a:srgbClr val="ffffff"/>
                </a:solidFill>
                <a:latin typeface="SAS Monospace Bold"/>
                <a:ea typeface="MS Mincho"/>
              </a:rPr>
              <a:t>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4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Nause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17 (40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4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Anal Discomfor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15 (35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4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Fecal Urgenc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11 (26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4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Abdominal Distens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10 (23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4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Diarrhe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10 (23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4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Urinary Reten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10 (23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13760" y="6607080"/>
            <a:ext cx="108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SL#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048120"/>
            <a:ext cx="4572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4800" indent="-334800">
              <a:spcBef>
                <a:spcPts val="40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3 of 43 patients (7%) experienced a serious complication associated with STARR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40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4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Rectal bleeding w/interven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1 (2%)</a:t>
            </a:r>
            <a:r>
              <a:rPr b="0" lang="en-US" sz="1600" spc="-1" strike="noStrike">
                <a:solidFill>
                  <a:srgbClr val="ffffff"/>
                </a:solidFill>
                <a:latin typeface="SAS Monospace Bold"/>
                <a:ea typeface="MS Mincho"/>
              </a:rPr>
              <a:t>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4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Rectal pain w/re-hospitaliza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1 (2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4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Tissue overload of stapl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Mincho"/>
              </a:rPr>
              <a:t>1 (2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TARR Results:</a:t>
            </a:r>
            <a:br>
              <a:rPr sz="4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rly Com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-33480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inary reten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6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ed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neumoni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vic sepsi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talit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608796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occasanta</a:t>
            </a:r>
            <a:r>
              <a:rPr b="1" lang="en-US" sz="1600" spc="-1" strike="noStrike">
                <a:solidFill>
                  <a:srgbClr val="21449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t al. Dis Colon Rectum 2004. 47(8):1285-12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TARR Results:</a:t>
            </a:r>
            <a:br>
              <a:rPr sz="4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te Com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057400"/>
          <a:ext cx="7772400" cy="3962520"/>
        </p:xfrm>
        <a:graphic>
          <a:graphicData uri="http://schemas.openxmlformats.org/drawingml/2006/table">
            <a:tbl>
              <a:tblPr/>
              <a:tblGrid>
                <a:gridCol w="1655640"/>
                <a:gridCol w="1454400"/>
                <a:gridCol w="1552320"/>
                <a:gridCol w="1555920"/>
                <a:gridCol w="1554120"/>
              </a:tblGrid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on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Mont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Mont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gen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ontinence (flatu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n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V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spareun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3520" y="646920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ccasanta et al. Dis Colon Rectum 2004. 47(8):1285-12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TARR Results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mptom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2057400"/>
          <a:ext cx="8229600" cy="4070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Mont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Mont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ompl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c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98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18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i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87.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4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63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xa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52.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44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2.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d P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28.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12.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eed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17.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85100"/>
                          </a:solidFill>
                          <a:latin typeface="Arial"/>
                        </a:rPr>
                        <a:t>2.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457200" y="646920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occasanta et al. Dis Colon Rectum 2004. 47(8):1285-129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RR for 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450200" cy="34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-33480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ly effective for symptom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chnique that has allowed re-definition of the clinical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449c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21:41:00Z</dcterms:created>
  <dc:creator>senaaj</dc:creator>
  <dc:description/>
  <dc:language>en-US</dc:language>
  <cp:lastModifiedBy>CMS</cp:lastModifiedBy>
  <dcterms:modified xsi:type="dcterms:W3CDTF">2007-03-20T20:17:38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42496882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>Powerpoint presentations</vt:lpwstr>
  </property>
  <property fmtid="{D5CDD505-2E9C-101B-9397-08002B2CF9AE}" pid="6" name="_NewReviewCycle">
    <vt:lpwstr/>
  </property>
</Properties>
</file>