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22E5-F79C-42A0-97CB-B0529F8F4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745020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56800" y="4186080"/>
            <a:ext cx="745020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E9B6-68D9-400A-B2EE-FEB975906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800" y="418608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600" y="418608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308D-BC49-41B9-9219-BB07C1691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238572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4640" y="238572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56800" y="418608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418608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4640" y="418608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315D-76EB-4FBC-BB42-CA974FC29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56800" y="2385720"/>
            <a:ext cx="745020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745020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2120" y="438120"/>
            <a:ext cx="769320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56800" y="418608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56800" y="2385720"/>
            <a:ext cx="745020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DA0E-DEE1-4E46-AE8E-85C80910C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600" y="418608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800" y="4186080"/>
            <a:ext cx="745020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745020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56800" y="4186080"/>
            <a:ext cx="745020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6800" y="418608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600" y="418608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238572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94640" y="238572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56800" y="418608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418608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94640" y="4186080"/>
            <a:ext cx="239868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745020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2874-7643-41A8-86B7-01B142ACF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1ED4-3F18-4D49-812F-5DBD61068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3395-352E-4372-BA66-42B3AC081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2120" y="438120"/>
            <a:ext cx="769320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3109-0423-44D1-A7A9-23B28493F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56800" y="418608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1078-E88E-4932-B1B3-F36D683A9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600" y="418608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08CB-43CA-4BD3-AC4B-A53BA2BD6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600" y="2385720"/>
            <a:ext cx="363564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56800" y="4186080"/>
            <a:ext cx="7450200" cy="16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EB2F-9895-44D0-A271-63088EF16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56800" y="2385720"/>
            <a:ext cx="745020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77560" indent="-277560">
              <a:spcBef>
                <a:spcPts val="7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1920" indent="-228960">
              <a:spcBef>
                <a:spcPts val="7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27360" indent="-185400">
              <a:spcBef>
                <a:spcPts val="7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97800" indent="-184320">
              <a:spcBef>
                <a:spcPts val="7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669320" indent="-185760">
              <a:spcBef>
                <a:spcPts val="7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669320" indent="-185760">
              <a:spcBef>
                <a:spcPts val="799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669320" indent="-185760">
              <a:spcBef>
                <a:spcPts val="799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3800" y="6502320"/>
            <a:ext cx="749160" cy="35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US" sz="1400" spc="-1" strike="noStrike">
                <a:solidFill>
                  <a:srgbClr val="106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F75BECC5-D321-43A5-87F2-CA29E83297B7}" type="slidenum">
              <a:rPr b="0" lang="en-US" sz="1400" spc="-1" strike="noStrike">
                <a:solidFill>
                  <a:srgbClr val="106ae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614600"/>
          </a:xfrm>
          <a:prstGeom prst="rect">
            <a:avLst/>
          </a:prstGeom>
          <a:solidFill>
            <a:srgbClr val="093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614600"/>
            <a:ext cx="9144000" cy="0"/>
          </a:xfrm>
          <a:prstGeom prst="line">
            <a:avLst/>
          </a:prstGeom>
          <a:ln w="12600">
            <a:solidFill>
              <a:srgbClr val="f0a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086520" y="6267600"/>
            <a:ext cx="2791080" cy="474840"/>
            <a:chOff x="6086520" y="6267600"/>
            <a:chExt cx="2791080" cy="474840"/>
          </a:xfrm>
        </p:grpSpPr>
        <p:pic>
          <p:nvPicPr>
            <p:cNvPr id="6" name="" descr=""/>
            <p:cNvPicPr/>
            <p:nvPr/>
          </p:nvPicPr>
          <p:blipFill>
            <a:blip r:embed="rId2"/>
            <a:srcRect l="0" t="0" r="81646" b="0"/>
            <a:stretch/>
          </p:blipFill>
          <p:spPr>
            <a:xfrm>
              <a:off x="6086520" y="6294600"/>
              <a:ext cx="5079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6558840" y="6267600"/>
              <a:ext cx="23187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Spectrum Health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614600"/>
          </a:xfrm>
          <a:prstGeom prst="rect">
            <a:avLst/>
          </a:prstGeom>
          <a:solidFill>
            <a:srgbClr val="093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614600"/>
            <a:ext cx="9144000" cy="0"/>
          </a:xfrm>
          <a:prstGeom prst="line">
            <a:avLst/>
          </a:prstGeom>
          <a:ln w="12600">
            <a:solidFill>
              <a:srgbClr val="f0a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895400" y="447840"/>
            <a:ext cx="5332320" cy="872640"/>
            <a:chOff x="1895400" y="447840"/>
            <a:chExt cx="5332320" cy="872640"/>
          </a:xfrm>
        </p:grpSpPr>
        <p:sp>
          <p:nvSpPr>
            <p:cNvPr id="48" name=""/>
            <p:cNvSpPr/>
            <p:nvPr/>
          </p:nvSpPr>
          <p:spPr>
            <a:xfrm>
              <a:off x="2922480" y="447840"/>
              <a:ext cx="43052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ffffff"/>
                  </a:solidFill>
                  <a:latin typeface="Times New Roman"/>
                </a:rPr>
                <a:t>Spectrum Health</a:t>
              </a:r>
              <a:endParaRPr b="0" lang="en-US" sz="4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rcRect l="35205" t="0" r="39560" b="44052"/>
            <a:stretch/>
          </p:blipFill>
          <p:spPr>
            <a:xfrm>
              <a:off x="1895400" y="477720"/>
              <a:ext cx="944280" cy="84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54160" y="6494400"/>
            <a:ext cx="749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671990F6-CBDA-4AF0-9760-E5E148F332CE}" type="slidenum">
              <a:rPr b="0" lang="en-US" sz="1400" spc="-1" strike="noStrike">
                <a:solidFill>
                  <a:srgbClr val="106ae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0" algn="ctr"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3880" algn="ctr"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41360" algn="ctr"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87400" algn="ctr"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87400">
              <a:spcBef>
                <a:spcPts val="499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87400">
              <a:spcBef>
                <a:spcPts val="499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aluation and Treatment of Patien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th Obstructive Defecation Syndro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hony J. Senagore, MD, MS, M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P Research &amp;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trum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fessor of Surg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higan State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nd Rapids, 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tal Intussusception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 Rectopex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6010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rom et al 1991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/11 with long term improv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sen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/22 improved long te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f et al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16% of patients with intussusception felt any succ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53724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0af00"/>
                </a:solidFill>
                <a:latin typeface="Times New Roman"/>
              </a:rPr>
              <a:t>DSL#05-1469.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tip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84250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don’t respond to conservative treatment and colonoscopy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tructed defe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ining (&gt;25% of the ti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requent bowel movements (Slow Trans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2 bowel movements per we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653724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0af00"/>
                </a:solidFill>
                <a:latin typeface="Times New Roman"/>
              </a:rPr>
              <a:t>DSL#05-1469.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spcBef>
                <a:spcPts val="16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utlet Obstr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56800" y="2385720"/>
            <a:ext cx="7450200" cy="34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icult emptying/mechanical 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omplete empty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calls to st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ologic abnorm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lure of the puborectalis to rel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tomic abnorm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toc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tal intussusce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oc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653724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0af00"/>
                </a:solidFill>
                <a:latin typeface="Times New Roman"/>
              </a:rPr>
              <a:t>DSL#05-1469.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rther Evalua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6010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ultation with Urogynec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ec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nic Transit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hysiologic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ome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NTML/E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653724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0af00"/>
                </a:solidFill>
                <a:latin typeface="Times New Roman"/>
              </a:rPr>
              <a:t>DSL#05-1469.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mon Find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601040" cy="49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 tran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normal collection of mar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tructed defe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toc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moidoc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tal intussuscep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ed prolap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653724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0af00"/>
                </a:solidFill>
                <a:latin typeface="Times New Roman"/>
              </a:rPr>
              <a:t>DSL#05-1469.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toce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2000" y="4581360"/>
            <a:ext cx="760104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0af00"/>
              </a:buClr>
              <a:buSzPct val="130000"/>
              <a:buFont typeface="Arial"/>
              <a:buChar char="•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% of patients with defecation dis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pation, rectal pressure &amp; blee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76720" y="1700280"/>
            <a:ext cx="2355840" cy="2376360"/>
            <a:chOff x="3276720" y="1700280"/>
            <a:chExt cx="2355840" cy="237636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3276720" y="1700280"/>
              <a:ext cx="235584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 txBox="1"/>
            <p:nvPr/>
          </p:nvSpPr>
          <p:spPr>
            <a:xfrm>
              <a:off x="3276720" y="1700280"/>
              <a:ext cx="2355840" cy="23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f0af00"/>
                </a:buClr>
                <a:buFont typeface="Helvetica"/>
                <a:buChar char="•"/>
                <a:tabLst>
                  <a:tab algn="l" pos="1523880"/>
                  <a:tab algn="l" pos="17272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52280" y="653724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0af00"/>
                </a:solidFill>
                <a:latin typeface="Times New Roman"/>
              </a:rPr>
              <a:t>DSL#05-1469.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tocele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aditional Repa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31640" y="1988640"/>
            <a:ext cx="76532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dorectal rep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82%  Khubchandani et al. 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ginal rep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terior colporrhap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e fascia rep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15238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653724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0af00"/>
                </a:solidFill>
                <a:latin typeface="Times New Roman"/>
              </a:rPr>
              <a:t>DSL#05-1469.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tocele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terior Colporrhap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205740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ful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-276120">
              <a:lnSpc>
                <a:spcPct val="100000"/>
              </a:lnSpc>
              <a:spcBef>
                <a:spcPts val="601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8% Mellgren et al. 19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-276120">
              <a:lnSpc>
                <a:spcPct val="100000"/>
              </a:lnSpc>
              <a:spcBef>
                <a:spcPts val="601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3% Kahn and Stanton 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spareu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-276120">
              <a:lnSpc>
                <a:spcPct val="100000"/>
              </a:lnSpc>
              <a:spcBef>
                <a:spcPts val="601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% Mellgren et al. 19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-276120">
              <a:lnSpc>
                <a:spcPct val="100000"/>
              </a:lnSpc>
              <a:spcBef>
                <a:spcPts val="601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3% López et al.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-276120">
              <a:lnSpc>
                <a:spcPct val="100000"/>
              </a:lnSpc>
              <a:spcBef>
                <a:spcPts val="601"/>
              </a:spcBef>
              <a:buClr>
                <a:srgbClr val="f0af00"/>
              </a:buClr>
              <a:buSzPct val="130000"/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7% Kahn and Stanton 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056040" cy="3733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2280" y="653724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0af00"/>
                </a:solidFill>
                <a:latin typeface="Times New Roman"/>
              </a:rPr>
              <a:t>DSL#05-1469.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44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248160" cy="3811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2120" y="438120"/>
            <a:ext cx="7693200" cy="106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atomical Components of OD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21:41:00Z</dcterms:created>
  <dc:creator>senaaj</dc:creator>
  <dc:description/>
  <dc:language>en-US</dc:language>
  <cp:lastModifiedBy>CMS</cp:lastModifiedBy>
  <dcterms:modified xsi:type="dcterms:W3CDTF">2007-03-20T20:16:17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53445107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>Powerpoint presentations</vt:lpwstr>
  </property>
  <property fmtid="{D5CDD505-2E9C-101B-9397-08002B2CF9AE}" pid="6" name="_NewReviewCycle">
    <vt:lpwstr/>
  </property>
</Properties>
</file>