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30.jpeg" ContentType="image/jpeg"/>
  <Override PartName="/ppt/media/image32.jpeg" ContentType="image/jpeg"/>
  <Override PartName="/ppt/media/image45.jpeg" ContentType="image/jpeg"/>
  <Override PartName="/ppt/media/image36.jpeg" ContentType="image/jpeg"/>
  <Override PartName="/ppt/media/image38.png" ContentType="image/png"/>
  <Override PartName="/ppt/media/image11.jpeg" ContentType="image/jpeg"/>
  <Override PartName="/ppt/media/image33.jpeg" ContentType="image/jpeg"/>
  <Override PartName="/ppt/media/image31.jpeg" ContentType="image/jpeg"/>
  <Override PartName="/ppt/media/image41.png" ContentType="image/png"/>
  <Override PartName="/ppt/media/image46.png" ContentType="image/pn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48.png" ContentType="image/png"/>
  <Override PartName="/ppt/media/image40.png" ContentType="image/png"/>
  <Override PartName="/ppt/media/image8.wmf" ContentType="image/x-wmf"/>
  <Override PartName="/ppt/media/image44.png" ContentType="image/png"/>
  <Override PartName="/ppt/media/image13.jpeg" ContentType="image/jpeg"/>
  <Override PartName="/ppt/media/image23.png" ContentType="image/png"/>
  <Override PartName="/ppt/media/image49.png" ContentType="image/png"/>
  <Override PartName="/ppt/media/image12.png" ContentType="image/png"/>
  <Override PartName="/ppt/media/image20.jpeg" ContentType="image/jpeg"/>
  <Override PartName="/ppt/media/image39.png" ContentType="image/png"/>
  <Override PartName="/ppt/media/image9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3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DFCD-CFE6-4CB3-8236-7F83DFB6A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E6C0-9875-44DF-9783-C683257F3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F42A-CD5E-4BC7-ADC0-3CCBF7A29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50A8-8629-466D-82F0-B1965D541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703A-63A2-44A3-A3F8-D40971A32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8626-8994-4778-925C-B3FAFADD4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3FF4-ED58-4D64-81E2-3D2EEBD7F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4ADC-59F4-45D3-A7BE-C4A57A08A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C35A-C7DE-4E6B-979F-BC496856E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C66A-D9D4-41E1-BBB0-F8A33BB0F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983C-8246-48E6-92E1-66CAB362B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AA29-2FCE-414F-94AB-1289CC86C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4F3C-8EEF-4F73-80E3-A42637C97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7610-D066-4538-8C1B-2CF44C35E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C203-D411-4A03-BD0A-660B906D7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6388-133C-403D-8EFC-1AA08FFF1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D9BD-A95F-45F0-BDB3-6EF0C0E0E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80A9-82B5-4211-A493-C3519F04E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C80-CFDB-47F2-B191-6F327F6B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93B-0AE5-4604-90A1-8EFC1264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8BB-4F54-44D5-B045-3B1D62DF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4E0-67E5-4198-9EF3-14E7D662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158-55B8-4A5C-A61D-CBB35BF3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302-3730-4D4B-BDD4-AE3E10EA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122-3D37-4F5C-986B-75FD399F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976-731E-41E4-896E-EBAD4A74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3AC-F55D-4083-BF0E-E463E2B2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02B-048D-496E-97D1-58BE3F19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8B5-5578-4C0F-A5E0-7980F35C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78D-5E00-4465-83FC-5C6C53DE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33AC-D7B9-4936-8722-292734111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png"/><Relationship Id="rId9" Type="http://schemas.openxmlformats.org/officeDocument/2006/relationships/image" Target="../media/image45.jpe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 Novel Approach to Treating Brain Tumors: </a:t>
            </a:r>
            <a:br>
              <a:rPr sz="4400"/>
            </a:br>
            <a:br>
              <a:rPr sz="44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tereotactic Placement of Intracerebral Catheter(s) for the Delivery of Therapeutic Agent(s), including Burr Hole(s)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6640" y="3581280"/>
            <a:ext cx="7623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nfusion of cintredekin besudoto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L13α2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eceptor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targeting tumor cytotoxi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31840" y="5008680"/>
            <a:ext cx="527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ndeep Kunwar, M.D.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ociate Professo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partment of Neurosurger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iversity of California, San Francis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77320" y="5824440"/>
            <a:ext cx="109044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1752480"/>
            <a:ext cx="86104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214280" y="6076800"/>
            <a:ext cx="7064280" cy="75960"/>
            <a:chOff x="1214280" y="6076800"/>
            <a:chExt cx="7064280" cy="75960"/>
          </a:xfrm>
        </p:grpSpPr>
        <p:sp>
          <p:nvSpPr>
            <p:cNvPr id="277" name=""/>
            <p:cNvSpPr/>
            <p:nvPr/>
          </p:nvSpPr>
          <p:spPr>
            <a:xfrm>
              <a:off x="1214280" y="6076800"/>
              <a:ext cx="7064280" cy="40680"/>
            </a:xfrm>
            <a:custGeom>
              <a:avLst/>
              <a:gdLst/>
              <a:ahLst/>
              <a:rect l="l" t="t" r="r" b="b"/>
              <a:pathLst>
                <a:path w="3936" h="56">
                  <a:moveTo>
                    <a:pt x="0" y="56"/>
                  </a:moveTo>
                  <a:cubicBezTo>
                    <a:pt x="284" y="32"/>
                    <a:pt x="568" y="8"/>
                    <a:pt x="816" y="8"/>
                  </a:cubicBezTo>
                  <a:cubicBezTo>
                    <a:pt x="1064" y="8"/>
                    <a:pt x="1192" y="56"/>
                    <a:pt x="1488" y="56"/>
                  </a:cubicBezTo>
                  <a:cubicBezTo>
                    <a:pt x="1784" y="56"/>
                    <a:pt x="2224" y="16"/>
                    <a:pt x="2592" y="8"/>
                  </a:cubicBezTo>
                  <a:cubicBezTo>
                    <a:pt x="2960" y="0"/>
                    <a:pt x="3472" y="8"/>
                    <a:pt x="3696" y="8"/>
                  </a:cubicBezTo>
                  <a:cubicBezTo>
                    <a:pt x="3920" y="8"/>
                    <a:pt x="3928" y="8"/>
                    <a:pt x="3936" y="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4280" y="6112080"/>
              <a:ext cx="7064280" cy="40680"/>
            </a:xfrm>
            <a:custGeom>
              <a:avLst/>
              <a:gdLst/>
              <a:ahLst/>
              <a:rect l="l" t="t" r="r" b="b"/>
              <a:pathLst>
                <a:path w="3936" h="56">
                  <a:moveTo>
                    <a:pt x="0" y="56"/>
                  </a:moveTo>
                  <a:cubicBezTo>
                    <a:pt x="284" y="32"/>
                    <a:pt x="568" y="8"/>
                    <a:pt x="816" y="8"/>
                  </a:cubicBezTo>
                  <a:cubicBezTo>
                    <a:pt x="1064" y="8"/>
                    <a:pt x="1192" y="56"/>
                    <a:pt x="1488" y="56"/>
                  </a:cubicBezTo>
                  <a:cubicBezTo>
                    <a:pt x="1784" y="56"/>
                    <a:pt x="2224" y="16"/>
                    <a:pt x="2592" y="8"/>
                  </a:cubicBezTo>
                  <a:cubicBezTo>
                    <a:pt x="2960" y="0"/>
                    <a:pt x="3472" y="8"/>
                    <a:pt x="3696" y="8"/>
                  </a:cubicBezTo>
                  <a:cubicBezTo>
                    <a:pt x="3920" y="8"/>
                    <a:pt x="3928" y="8"/>
                    <a:pt x="3936" y="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 rot="4657200">
            <a:off x="2207880" y="4530240"/>
            <a:ext cx="1476360" cy="17211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90720"/>
            <a:ext cx="74404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16440" y="2887560"/>
            <a:ext cx="196920" cy="1146240"/>
          </a:xfrm>
          <a:custGeom>
            <a:avLst/>
            <a:gdLst/>
            <a:ahLst/>
            <a:rect l="l" t="t" r="r" b="b"/>
            <a:pathLst>
              <a:path w="151" h="982">
                <a:moveTo>
                  <a:pt x="0" y="0"/>
                </a:moveTo>
                <a:cubicBezTo>
                  <a:pt x="40" y="61"/>
                  <a:pt x="44" y="135"/>
                  <a:pt x="75" y="199"/>
                </a:cubicBezTo>
                <a:cubicBezTo>
                  <a:pt x="90" y="229"/>
                  <a:pt x="103" y="251"/>
                  <a:pt x="113" y="283"/>
                </a:cubicBezTo>
                <a:cubicBezTo>
                  <a:pt x="122" y="388"/>
                  <a:pt x="139" y="491"/>
                  <a:pt x="151" y="595"/>
                </a:cubicBezTo>
                <a:cubicBezTo>
                  <a:pt x="145" y="673"/>
                  <a:pt x="148" y="766"/>
                  <a:pt x="122" y="841"/>
                </a:cubicBezTo>
                <a:cubicBezTo>
                  <a:pt x="125" y="879"/>
                  <a:pt x="124" y="917"/>
                  <a:pt x="132" y="954"/>
                </a:cubicBezTo>
                <a:cubicBezTo>
                  <a:pt x="134" y="965"/>
                  <a:pt x="151" y="982"/>
                  <a:pt x="151" y="9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071720" y="1828800"/>
            <a:ext cx="4965480" cy="28116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142440" y="5713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ntri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071720" y="4014720"/>
          <a:ext cx="3574800" cy="9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4014720"/>
                    <a:ext cx="357480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4646520" y="4067280"/>
            <a:ext cx="1386000" cy="988920"/>
          </a:xfrm>
          <a:prstGeom prst="rect">
            <a:avLst/>
          </a:prstGeom>
          <a:solidFill>
            <a:srgbClr val="f8e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71720" y="4900680"/>
            <a:ext cx="4960800" cy="1230120"/>
          </a:xfrm>
          <a:prstGeom prst="rect">
            <a:avLst/>
          </a:prstGeom>
          <a:solidFill>
            <a:srgbClr val="f8e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971360" y="2317680"/>
            <a:ext cx="1120680" cy="3326760"/>
          </a:xfrm>
          <a:prstGeom prst="line">
            <a:avLst/>
          </a:prstGeom>
          <a:ln w="76320">
            <a:solidFill>
              <a:srgbClr val="0027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038480" y="2101320"/>
            <a:ext cx="1163880" cy="1202400"/>
            <a:chOff x="4038480" y="2101320"/>
            <a:chExt cx="1163880" cy="1202400"/>
          </a:xfrm>
        </p:grpSpPr>
        <p:sp>
          <p:nvSpPr>
            <p:cNvPr id="290" name=""/>
            <p:cNvSpPr/>
            <p:nvPr/>
          </p:nvSpPr>
          <p:spPr>
            <a:xfrm>
              <a:off x="4038480" y="2492280"/>
              <a:ext cx="103356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≥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2.5 c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0812000">
              <a:off x="5001480" y="2101680"/>
              <a:ext cx="198360" cy="1201680"/>
            </a:xfrm>
            <a:custGeom>
              <a:avLst/>
              <a:gdLst>
                <a:gd name="textAreaLeft" fmla="*/ 0 w 198360"/>
                <a:gd name="textAreaRight" fmla="*/ 71640 w 198360"/>
                <a:gd name="textAreaTop" fmla="*/ 31320 h 1201680"/>
                <a:gd name="textAreaBottom" fmla="*/ 1170360 h 12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467240" y="612936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entr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4884840" y="4973760"/>
            <a:ext cx="728640" cy="48096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>
                  <a:alpha val="50196"/>
                </a:srgbClr>
              </a:gs>
              <a:gs pos="100000">
                <a:srgbClr val="7575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576200">
            <a:off x="2654640" y="5285160"/>
            <a:ext cx="728640" cy="48276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>
                  <a:alpha val="50196"/>
                </a:srgbClr>
              </a:gs>
              <a:gs pos="100000">
                <a:srgbClr val="757500"/>
              </a:gs>
            </a:gsLst>
            <a:lin ang="8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4408560" y="4356000"/>
            <a:ext cx="1649520" cy="103032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4657200">
            <a:off x="2315520" y="4783680"/>
            <a:ext cx="1306440" cy="110160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124080" y="5333760"/>
            <a:ext cx="2049480" cy="643320"/>
            <a:chOff x="3124080" y="5333760"/>
            <a:chExt cx="2049480" cy="643320"/>
          </a:xfrm>
        </p:grpSpPr>
        <p:sp>
          <p:nvSpPr>
            <p:cNvPr id="298" name=""/>
            <p:cNvSpPr/>
            <p:nvPr/>
          </p:nvSpPr>
          <p:spPr>
            <a:xfrm>
              <a:off x="3794040" y="5610240"/>
              <a:ext cx="90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&gt; 2 c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124080" y="5333760"/>
              <a:ext cx="2049480" cy="314280"/>
            </a:xfrm>
            <a:prstGeom prst="line">
              <a:avLst/>
            </a:prstGeom>
            <a:ln w="19080">
              <a:solidFill>
                <a:srgbClr val="0027a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5630760"/>
            <a:ext cx="1022400" cy="419040"/>
            <a:chOff x="2057400" y="5630760"/>
            <a:chExt cx="1022400" cy="419040"/>
          </a:xfrm>
        </p:grpSpPr>
        <p:sp>
          <p:nvSpPr>
            <p:cNvPr id="301" name=""/>
            <p:cNvSpPr/>
            <p:nvPr/>
          </p:nvSpPr>
          <p:spPr>
            <a:xfrm>
              <a:off x="2057400" y="5682960"/>
              <a:ext cx="1020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≥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0.5 c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0800000">
              <a:off x="2958840" y="5630760"/>
              <a:ext cx="120960" cy="417600"/>
            </a:xfrm>
            <a:custGeom>
              <a:avLst/>
              <a:gdLst>
                <a:gd name="textAreaLeft" fmla="*/ 0 w 120960"/>
                <a:gd name="textAreaRight" fmla="*/ 43560 w 120960"/>
                <a:gd name="textAreaTop" fmla="*/ 10800 h 417600"/>
                <a:gd name="textAreaBottom" fmla="*/ 406800 h 4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034"/>
                  </a:lnTo>
                  <a:cubicBezTo>
                    <a:pt x="10800" y="10934"/>
                    <a:pt x="16200" y="11834"/>
                    <a:pt x="21600" y="11834"/>
                  </a:cubicBezTo>
                  <a:cubicBezTo>
                    <a:pt x="16200" y="11834"/>
                    <a:pt x="10800" y="12734"/>
                    <a:pt x="10800" y="1363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845080" y="4559400"/>
            <a:ext cx="1777680" cy="1068120"/>
            <a:chOff x="2845080" y="4559400"/>
            <a:chExt cx="1777680" cy="1068120"/>
          </a:xfrm>
        </p:grpSpPr>
        <p:sp>
          <p:nvSpPr>
            <p:cNvPr id="304" name=""/>
            <p:cNvSpPr/>
            <p:nvPr/>
          </p:nvSpPr>
          <p:spPr>
            <a:xfrm>
              <a:off x="3200400" y="4952880"/>
              <a:ext cx="1422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≥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2.5 c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740200">
              <a:off x="2973240" y="4564080"/>
              <a:ext cx="171360" cy="1058760"/>
            </a:xfrm>
            <a:custGeom>
              <a:avLst/>
              <a:gdLst>
                <a:gd name="textAreaLeft" fmla="*/ 0 w 171360"/>
                <a:gd name="textAreaRight" fmla="*/ 61920 w 171360"/>
                <a:gd name="textAreaTop" fmla="*/ 27360 h 1058760"/>
                <a:gd name="textAreaBottom" fmla="*/ 1031400 h 10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034"/>
                  </a:lnTo>
                  <a:cubicBezTo>
                    <a:pt x="10800" y="10934"/>
                    <a:pt x="16200" y="11834"/>
                    <a:pt x="21600" y="11834"/>
                  </a:cubicBezTo>
                  <a:cubicBezTo>
                    <a:pt x="16200" y="11834"/>
                    <a:pt x="10800" y="12734"/>
                    <a:pt x="10800" y="1363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4"/>
          <a:srcRect l="37568" t="0" r="12051" b="0"/>
          <a:stretch/>
        </p:blipFill>
        <p:spPr>
          <a:xfrm>
            <a:off x="5710320" y="1884240"/>
            <a:ext cx="2568600" cy="3294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700600" y="2857680"/>
            <a:ext cx="49320" cy="1196640"/>
          </a:xfrm>
          <a:custGeom>
            <a:avLst/>
            <a:gdLst/>
            <a:ahLst/>
            <a:rect l="l" t="t" r="r" b="b"/>
            <a:pathLst>
              <a:path w="38" h="1029">
                <a:moveTo>
                  <a:pt x="0" y="0"/>
                </a:moveTo>
                <a:cubicBezTo>
                  <a:pt x="27" y="125"/>
                  <a:pt x="9" y="254"/>
                  <a:pt x="38" y="378"/>
                </a:cubicBezTo>
                <a:cubicBezTo>
                  <a:pt x="32" y="489"/>
                  <a:pt x="20" y="573"/>
                  <a:pt x="10" y="680"/>
                </a:cubicBezTo>
                <a:cubicBezTo>
                  <a:pt x="19" y="1023"/>
                  <a:pt x="19" y="907"/>
                  <a:pt x="19" y="102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65920" y="5070600"/>
            <a:ext cx="2313000" cy="1006200"/>
          </a:xfrm>
          <a:prstGeom prst="rect">
            <a:avLst/>
          </a:prstGeom>
          <a:solidFill>
            <a:srgbClr val="f8e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288760" y="4532760"/>
            <a:ext cx="1894680" cy="1091520"/>
            <a:chOff x="5288760" y="4532760"/>
            <a:chExt cx="1894680" cy="1091520"/>
          </a:xfrm>
        </p:grpSpPr>
        <p:sp>
          <p:nvSpPr>
            <p:cNvPr id="310" name=""/>
            <p:cNvSpPr/>
            <p:nvPr/>
          </p:nvSpPr>
          <p:spPr>
            <a:xfrm rot="3328800">
              <a:off x="5807520" y="4359960"/>
              <a:ext cx="336600" cy="1436760"/>
            </a:xfrm>
            <a:custGeom>
              <a:avLst/>
              <a:gdLst>
                <a:gd name="textAreaLeft" fmla="*/ 0 w 336600"/>
                <a:gd name="textAreaRight" fmla="*/ 121680 w 336600"/>
                <a:gd name="textAreaTop" fmla="*/ 37440 h 1436760"/>
                <a:gd name="textAreaBottom" fmla="*/ 1399320 h 143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53120" y="5124240"/>
              <a:ext cx="10303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≥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1.0 c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theter Positioning Guidelines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209560" y="1854720"/>
            <a:ext cx="63360" cy="3427920"/>
          </a:xfrm>
          <a:prstGeom prst="line">
            <a:avLst/>
          </a:prstGeom>
          <a:ln w="76320">
            <a:solidFill>
              <a:srgbClr val="0027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4266720" y="4227480"/>
            <a:ext cx="1946520" cy="137484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943600" y="2514600"/>
            <a:ext cx="1676520" cy="1752480"/>
            <a:chOff x="5943600" y="2514600"/>
            <a:chExt cx="1676520" cy="1752480"/>
          </a:xfrm>
        </p:grpSpPr>
        <p:sp>
          <p:nvSpPr>
            <p:cNvPr id="316" name=""/>
            <p:cNvSpPr/>
            <p:nvPr/>
          </p:nvSpPr>
          <p:spPr>
            <a:xfrm>
              <a:off x="6095880" y="2971440"/>
              <a:ext cx="1312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a4"/>
                  </a:solidFill>
                  <a:latin typeface="Arial"/>
                </a:rPr>
                <a:t>Surgica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a4"/>
                  </a:solidFill>
                  <a:latin typeface="Arial"/>
                </a:rPr>
                <a:t>res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a4"/>
                  </a:solidFill>
                  <a:latin typeface="Arial"/>
                </a:rPr>
                <a:t>cav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095880" y="2514600"/>
              <a:ext cx="1143000" cy="1752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43600" y="2666880"/>
              <a:ext cx="167652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76320" y="10810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atheters CANNOT be placed in a cranial resection c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451880" y="363600"/>
            <a:ext cx="64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ereotactic Catheter Plac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1920" y="1486080"/>
            <a:ext cx="4981680" cy="1440"/>
          </a:xfrm>
          <a:prstGeom prst="line">
            <a:avLst/>
          </a:prstGeom>
          <a:ln w="25560">
            <a:solidFill>
              <a:srgbClr val="0027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rcRect l="14815" t="9879" r="11110" b="16052"/>
          <a:stretch/>
        </p:blipFill>
        <p:spPr>
          <a:xfrm>
            <a:off x="5937120" y="1452600"/>
            <a:ext cx="2673360" cy="195264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2"/>
          <a:srcRect l="12965" t="9879" r="22185" b="16052"/>
          <a:stretch/>
        </p:blipFill>
        <p:spPr>
          <a:xfrm>
            <a:off x="538200" y="3379680"/>
            <a:ext cx="2663640" cy="196236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pic>
        <p:nvPicPr>
          <p:cNvPr id="324" name="" descr=""/>
          <p:cNvPicPr/>
          <p:nvPr/>
        </p:nvPicPr>
        <p:blipFill>
          <a:blip r:embed="rId3"/>
          <a:srcRect l="12965" t="9879" r="12965" b="16052"/>
          <a:stretch/>
        </p:blipFill>
        <p:spPr>
          <a:xfrm>
            <a:off x="3154320" y="3395520"/>
            <a:ext cx="2768760" cy="195264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pic>
        <p:nvPicPr>
          <p:cNvPr id="325" name="" descr=""/>
          <p:cNvPicPr/>
          <p:nvPr/>
        </p:nvPicPr>
        <p:blipFill>
          <a:blip r:embed="rId4"/>
          <a:srcRect l="12965" t="7407" r="12965" b="18520"/>
          <a:stretch/>
        </p:blipFill>
        <p:spPr>
          <a:xfrm>
            <a:off x="5929200" y="3413160"/>
            <a:ext cx="2681280" cy="192240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5"/>
          <a:srcRect l="3705" t="49706" r="53709" b="6173"/>
          <a:stretch/>
        </p:blipFill>
        <p:spPr>
          <a:xfrm>
            <a:off x="3152880" y="1452600"/>
            <a:ext cx="2762280" cy="194796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6"/>
          <a:srcRect l="3705" t="4940" r="53709" b="51575"/>
          <a:stretch/>
        </p:blipFill>
        <p:spPr>
          <a:xfrm>
            <a:off x="514440" y="1447920"/>
            <a:ext cx="2609640" cy="194472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sp>
        <p:nvSpPr>
          <p:cNvPr id="328" name=""/>
          <p:cNvSpPr/>
          <p:nvPr/>
        </p:nvSpPr>
        <p:spPr>
          <a:xfrm>
            <a:off x="838080" y="5670720"/>
            <a:ext cx="74678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o four intracerebral catheters are placed by stereotaxis each through their own burr 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rcRect l="42503" t="28346" r="10417" b="19444"/>
          <a:stretch/>
        </p:blipFill>
        <p:spPr>
          <a:xfrm>
            <a:off x="1219320" y="1195560"/>
            <a:ext cx="6810120" cy="5465520"/>
          </a:xfrm>
          <a:prstGeom prst="rect">
            <a:avLst/>
          </a:prstGeom>
          <a:ln w="9360">
            <a:solidFill>
              <a:srgbClr val="0027a4"/>
            </a:solidFill>
            <a:miter/>
          </a:ln>
        </p:spPr>
      </p:pic>
      <p:sp>
        <p:nvSpPr>
          <p:cNvPr id="330" name=""/>
          <p:cNvSpPr/>
          <p:nvPr/>
        </p:nvSpPr>
        <p:spPr>
          <a:xfrm>
            <a:off x="1558440" y="306360"/>
            <a:ext cx="62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L13-PE38QQR Microinf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9280" y="6068880"/>
            <a:ext cx="20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08120" y="152280"/>
            <a:ext cx="76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tients receiving infusion are ambulato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12560" y="1523880"/>
            <a:ext cx="827388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1000"/>
          </a:bodyPr>
          <a:p>
            <a:pPr marL="312120" indent="-3121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ed compoun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clitaxel (Tax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potecan (Hycamt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estigational com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intredekin besudotox, NeoPha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M107-transferrin (Transmid, Xenov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GFa-PE38 (Cervene/TP-38, IVA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3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-chTNT-1/B (Cotara, Peregrine Pharmaceutica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4(38-37)-PE38KDEL (NBI-3001, Neurocr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150"/>
              </a:spcBef>
              <a:spcAft>
                <a:spcPts val="901"/>
              </a:spcAft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GF-b2 AON (AP120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2462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oth Marketed and Investigational Compounds are Being Delivered by Intracerebral Cath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adequacy of Current ICD 9 Procedure Cod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082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ereotactic Placement of Intracerebral Catheter(s) for the Delivery of Therapeutic Agent(s), Burr Hole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36520" y="2101680"/>
          <a:ext cx="875520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" y="2101680"/>
                    <a:ext cx="875520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84582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intredekin Besudotox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L13α2 receptor targeting tumor cytotoxi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70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combinant protei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Regulatory statu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phan drug design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t track development design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ous Marketing Authorization (CMA) Pilot 2 program accepta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al protocol assessment agreement (SPA) for PRECISE Phase III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950160" y="6381720"/>
            <a:ext cx="18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eated by: Goble &amp; Asso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562720" y="4114800"/>
          <a:ext cx="3392280" cy="2003400"/>
        </p:xfrm>
        <a:graphic>
          <a:graphicData uri="http://schemas.openxmlformats.org/drawingml/2006/table">
            <a:tbl>
              <a:tblPr/>
              <a:tblGrid>
                <a:gridCol w="946080"/>
                <a:gridCol w="2446200"/>
              </a:tblGrid>
              <a:tr h="49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ve binding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locates toxin across cell membra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ymatically inhibits protein synthe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685800" y="6338880"/>
            <a:ext cx="550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13-PE38QQR IC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(ng/ml):  0.1 – 10 ng/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868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28600" y="228600"/>
            <a:ext cx="867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intredekin Besudoto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s Gliadel Wafer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etrospective Compari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836960" y="2906640"/>
            <a:ext cx="3690720" cy="549000"/>
            <a:chOff x="4836960" y="2906640"/>
            <a:chExt cx="3690720" cy="549000"/>
          </a:xfrm>
        </p:grpSpPr>
        <p:sp>
          <p:nvSpPr>
            <p:cNvPr id="350" name=""/>
            <p:cNvSpPr/>
            <p:nvPr/>
          </p:nvSpPr>
          <p:spPr>
            <a:xfrm>
              <a:off x="5346360" y="2906640"/>
              <a:ext cx="3181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IL13-PE38QQR Overall Phase I/II (n=45) – 44 week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36960" y="3057480"/>
              <a:ext cx="419040" cy="1440"/>
            </a:xfrm>
            <a:custGeom>
              <a:avLst/>
              <a:gdLst/>
              <a:ahLst/>
              <a:rect l="l" t="t" r="r" b="b"/>
              <a:pathLst>
                <a:path w="527" h="0">
                  <a:moveTo>
                    <a:pt x="0" y="0"/>
                  </a:moveTo>
                  <a:lnTo>
                    <a:pt x="263" y="0"/>
                  </a:lnTo>
                  <a:lnTo>
                    <a:pt x="527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862280" y="5440320"/>
            <a:ext cx="5759280" cy="1800"/>
          </a:xfrm>
          <a:prstGeom prst="rect">
            <a:avLst/>
          </a:prstGeom>
          <a:solidFill>
            <a:srgbClr val="00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859040" y="5439960"/>
            <a:ext cx="1440" cy="7452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147840" y="5439960"/>
            <a:ext cx="1800" cy="7452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438800" y="5439960"/>
            <a:ext cx="1440" cy="7452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9400" y="5439960"/>
            <a:ext cx="1440" cy="7452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018200" y="5439960"/>
            <a:ext cx="1800" cy="7452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07560" y="5587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3800" y="558792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80040" y="558792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70640" y="558792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15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9800" y="558792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96360" y="6126120"/>
            <a:ext cx="27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verall Survival (Wee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59040" y="1752480"/>
            <a:ext cx="1440" cy="3684600"/>
          </a:xfrm>
          <a:prstGeom prst="rect">
            <a:avLst/>
          </a:prstGeom>
          <a:solidFill>
            <a:srgbClr val="000000"/>
          </a:solidFill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82720" y="5303880"/>
            <a:ext cx="76320" cy="144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82720" y="4449600"/>
            <a:ext cx="76320" cy="180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82720" y="3595680"/>
            <a:ext cx="76320" cy="144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82720" y="2739960"/>
            <a:ext cx="76320" cy="180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82720" y="1886040"/>
            <a:ext cx="76320" cy="1440"/>
          </a:xfrm>
          <a:prstGeom prst="line">
            <a:avLst/>
          </a:prstGeom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52880" y="522432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0.0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52880" y="437040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0.2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52880" y="351648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0.5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52880" y="266076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0.7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52880" y="180648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Times New Roman"/>
              </a:rPr>
              <a:t>1.0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-681120" y="3640680"/>
            <a:ext cx="301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urvival Distribution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59040" y="1886040"/>
            <a:ext cx="5543640" cy="2795400"/>
          </a:xfrm>
          <a:custGeom>
            <a:avLst/>
            <a:gdLst/>
            <a:ahLst/>
            <a:rect l="l" t="t" r="r" b="b"/>
            <a:pathLst>
              <a:path w="7061" h="3560">
                <a:moveTo>
                  <a:pt x="0" y="0"/>
                </a:moveTo>
                <a:lnTo>
                  <a:pt x="220" y="0"/>
                </a:lnTo>
                <a:lnTo>
                  <a:pt x="220" y="98"/>
                </a:lnTo>
                <a:lnTo>
                  <a:pt x="253" y="98"/>
                </a:lnTo>
                <a:lnTo>
                  <a:pt x="253" y="194"/>
                </a:lnTo>
                <a:lnTo>
                  <a:pt x="276" y="194"/>
                </a:lnTo>
                <a:lnTo>
                  <a:pt x="276" y="290"/>
                </a:lnTo>
                <a:lnTo>
                  <a:pt x="394" y="290"/>
                </a:lnTo>
                <a:lnTo>
                  <a:pt x="394" y="388"/>
                </a:lnTo>
                <a:lnTo>
                  <a:pt x="585" y="388"/>
                </a:lnTo>
                <a:lnTo>
                  <a:pt x="585" y="484"/>
                </a:lnTo>
                <a:lnTo>
                  <a:pt x="615" y="484"/>
                </a:lnTo>
                <a:lnTo>
                  <a:pt x="615" y="580"/>
                </a:lnTo>
                <a:lnTo>
                  <a:pt x="651" y="580"/>
                </a:lnTo>
                <a:lnTo>
                  <a:pt x="651" y="678"/>
                </a:lnTo>
                <a:lnTo>
                  <a:pt x="665" y="678"/>
                </a:lnTo>
                <a:lnTo>
                  <a:pt x="665" y="774"/>
                </a:lnTo>
                <a:lnTo>
                  <a:pt x="689" y="774"/>
                </a:lnTo>
                <a:lnTo>
                  <a:pt x="689" y="870"/>
                </a:lnTo>
                <a:lnTo>
                  <a:pt x="695" y="870"/>
                </a:lnTo>
                <a:lnTo>
                  <a:pt x="695" y="968"/>
                </a:lnTo>
                <a:lnTo>
                  <a:pt x="952" y="968"/>
                </a:lnTo>
                <a:lnTo>
                  <a:pt x="952" y="1064"/>
                </a:lnTo>
                <a:lnTo>
                  <a:pt x="962" y="1064"/>
                </a:lnTo>
                <a:lnTo>
                  <a:pt x="962" y="1162"/>
                </a:lnTo>
                <a:lnTo>
                  <a:pt x="1051" y="1162"/>
                </a:lnTo>
                <a:lnTo>
                  <a:pt x="1051" y="1258"/>
                </a:lnTo>
                <a:lnTo>
                  <a:pt x="1070" y="1258"/>
                </a:lnTo>
                <a:lnTo>
                  <a:pt x="1070" y="1354"/>
                </a:lnTo>
                <a:lnTo>
                  <a:pt x="1164" y="1354"/>
                </a:lnTo>
                <a:lnTo>
                  <a:pt x="1164" y="1452"/>
                </a:lnTo>
                <a:lnTo>
                  <a:pt x="1169" y="1452"/>
                </a:lnTo>
                <a:lnTo>
                  <a:pt x="1169" y="1548"/>
                </a:lnTo>
                <a:lnTo>
                  <a:pt x="1186" y="1548"/>
                </a:lnTo>
                <a:lnTo>
                  <a:pt x="1186" y="1644"/>
                </a:lnTo>
                <a:lnTo>
                  <a:pt x="1230" y="1644"/>
                </a:lnTo>
                <a:lnTo>
                  <a:pt x="1230" y="1742"/>
                </a:lnTo>
                <a:lnTo>
                  <a:pt x="1233" y="1742"/>
                </a:lnTo>
                <a:lnTo>
                  <a:pt x="1233" y="1838"/>
                </a:lnTo>
                <a:lnTo>
                  <a:pt x="1290" y="1838"/>
                </a:lnTo>
                <a:lnTo>
                  <a:pt x="1290" y="1934"/>
                </a:lnTo>
                <a:lnTo>
                  <a:pt x="1329" y="1934"/>
                </a:lnTo>
                <a:lnTo>
                  <a:pt x="1329" y="2032"/>
                </a:lnTo>
                <a:lnTo>
                  <a:pt x="1360" y="2032"/>
                </a:lnTo>
                <a:lnTo>
                  <a:pt x="1360" y="2128"/>
                </a:lnTo>
                <a:lnTo>
                  <a:pt x="1445" y="2128"/>
                </a:lnTo>
                <a:lnTo>
                  <a:pt x="1445" y="2224"/>
                </a:lnTo>
                <a:lnTo>
                  <a:pt x="1478" y="2224"/>
                </a:lnTo>
                <a:lnTo>
                  <a:pt x="1478" y="2322"/>
                </a:lnTo>
                <a:lnTo>
                  <a:pt x="1506" y="2322"/>
                </a:lnTo>
                <a:lnTo>
                  <a:pt x="1506" y="2418"/>
                </a:lnTo>
                <a:lnTo>
                  <a:pt x="1699" y="2418"/>
                </a:lnTo>
                <a:lnTo>
                  <a:pt x="1699" y="2520"/>
                </a:lnTo>
                <a:lnTo>
                  <a:pt x="1704" y="2520"/>
                </a:lnTo>
                <a:lnTo>
                  <a:pt x="1704" y="2622"/>
                </a:lnTo>
                <a:lnTo>
                  <a:pt x="1723" y="2622"/>
                </a:lnTo>
                <a:lnTo>
                  <a:pt x="1723" y="2724"/>
                </a:lnTo>
                <a:lnTo>
                  <a:pt x="1825" y="2724"/>
                </a:lnTo>
                <a:lnTo>
                  <a:pt x="1825" y="2827"/>
                </a:lnTo>
                <a:lnTo>
                  <a:pt x="1943" y="2827"/>
                </a:lnTo>
                <a:lnTo>
                  <a:pt x="1943" y="2935"/>
                </a:lnTo>
                <a:lnTo>
                  <a:pt x="1947" y="2935"/>
                </a:lnTo>
                <a:lnTo>
                  <a:pt x="1947" y="3044"/>
                </a:lnTo>
                <a:lnTo>
                  <a:pt x="2308" y="3044"/>
                </a:lnTo>
                <a:lnTo>
                  <a:pt x="2308" y="3162"/>
                </a:lnTo>
                <a:lnTo>
                  <a:pt x="2562" y="3162"/>
                </a:lnTo>
                <a:lnTo>
                  <a:pt x="2562" y="3282"/>
                </a:lnTo>
                <a:lnTo>
                  <a:pt x="2741" y="3282"/>
                </a:lnTo>
                <a:lnTo>
                  <a:pt x="2741" y="3402"/>
                </a:lnTo>
                <a:lnTo>
                  <a:pt x="3173" y="3402"/>
                </a:lnTo>
                <a:lnTo>
                  <a:pt x="3173" y="3560"/>
                </a:lnTo>
                <a:lnTo>
                  <a:pt x="7061" y="3560"/>
                </a:lnTo>
                <a:lnTo>
                  <a:pt x="7061" y="3560"/>
                </a:lnTo>
              </a:path>
            </a:pathLst>
          </a:custGeom>
          <a:noFill/>
          <a:ln w="27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65400" y="3749760"/>
            <a:ext cx="73080" cy="7128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00480" y="4070520"/>
            <a:ext cx="74520" cy="7128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4320" y="4241880"/>
            <a:ext cx="74520" cy="698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81480" y="4521240"/>
            <a:ext cx="73080" cy="698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99120" y="4521240"/>
            <a:ext cx="72720" cy="698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98840" y="4646520"/>
            <a:ext cx="73080" cy="716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11680" y="4646520"/>
            <a:ext cx="73080" cy="716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54560" y="4646520"/>
            <a:ext cx="71640" cy="716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66000" y="4646520"/>
            <a:ext cx="71280" cy="716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365960" y="4646520"/>
            <a:ext cx="73080" cy="716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056040" y="3595680"/>
            <a:ext cx="5544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975040" y="3595680"/>
            <a:ext cx="540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892600" y="3595680"/>
            <a:ext cx="5544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811600" y="3595680"/>
            <a:ext cx="540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728440" y="3595680"/>
            <a:ext cx="558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647440" y="3595680"/>
            <a:ext cx="558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566800" y="3595680"/>
            <a:ext cx="522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484360" y="3595680"/>
            <a:ext cx="540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403360" y="3595680"/>
            <a:ext cx="5256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319480" y="3595680"/>
            <a:ext cx="5544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238480" y="3595680"/>
            <a:ext cx="540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155320" y="3595680"/>
            <a:ext cx="558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075040" y="3595680"/>
            <a:ext cx="5544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94040" y="3595680"/>
            <a:ext cx="540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910880" y="3595680"/>
            <a:ext cx="5580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859040" y="3595680"/>
            <a:ext cx="23760" cy="1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994120" y="3595680"/>
            <a:ext cx="144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03320" y="1884240"/>
            <a:ext cx="5943600" cy="3362400"/>
          </a:xfrm>
          <a:custGeom>
            <a:avLst/>
            <a:gdLst/>
            <a:ahLst/>
            <a:rect l="l" t="t" r="r" b="b"/>
            <a:pathLst>
              <a:path w="3928" h="2612">
                <a:moveTo>
                  <a:pt x="0" y="0"/>
                </a:moveTo>
                <a:lnTo>
                  <a:pt x="99" y="0"/>
                </a:lnTo>
                <a:lnTo>
                  <a:pt x="99" y="47"/>
                </a:lnTo>
                <a:lnTo>
                  <a:pt x="104" y="52"/>
                </a:lnTo>
                <a:lnTo>
                  <a:pt x="104" y="110"/>
                </a:lnTo>
                <a:lnTo>
                  <a:pt x="114" y="110"/>
                </a:lnTo>
                <a:lnTo>
                  <a:pt x="114" y="156"/>
                </a:lnTo>
                <a:lnTo>
                  <a:pt x="146" y="156"/>
                </a:lnTo>
                <a:lnTo>
                  <a:pt x="146" y="192"/>
                </a:lnTo>
                <a:lnTo>
                  <a:pt x="177" y="198"/>
                </a:lnTo>
                <a:lnTo>
                  <a:pt x="177" y="260"/>
                </a:lnTo>
                <a:lnTo>
                  <a:pt x="192" y="260"/>
                </a:lnTo>
                <a:lnTo>
                  <a:pt x="198" y="328"/>
                </a:lnTo>
                <a:lnTo>
                  <a:pt x="214" y="365"/>
                </a:lnTo>
                <a:lnTo>
                  <a:pt x="224" y="422"/>
                </a:lnTo>
                <a:lnTo>
                  <a:pt x="229" y="443"/>
                </a:lnTo>
                <a:lnTo>
                  <a:pt x="235" y="458"/>
                </a:lnTo>
                <a:lnTo>
                  <a:pt x="240" y="474"/>
                </a:lnTo>
                <a:lnTo>
                  <a:pt x="240" y="489"/>
                </a:lnTo>
                <a:lnTo>
                  <a:pt x="244" y="505"/>
                </a:lnTo>
                <a:lnTo>
                  <a:pt x="255" y="521"/>
                </a:lnTo>
                <a:lnTo>
                  <a:pt x="261" y="536"/>
                </a:lnTo>
                <a:lnTo>
                  <a:pt x="266" y="552"/>
                </a:lnTo>
                <a:lnTo>
                  <a:pt x="270" y="573"/>
                </a:lnTo>
                <a:lnTo>
                  <a:pt x="276" y="588"/>
                </a:lnTo>
                <a:lnTo>
                  <a:pt x="276" y="604"/>
                </a:lnTo>
                <a:lnTo>
                  <a:pt x="276" y="620"/>
                </a:lnTo>
                <a:lnTo>
                  <a:pt x="276" y="635"/>
                </a:lnTo>
                <a:lnTo>
                  <a:pt x="276" y="651"/>
                </a:lnTo>
                <a:lnTo>
                  <a:pt x="281" y="666"/>
                </a:lnTo>
                <a:lnTo>
                  <a:pt x="281" y="683"/>
                </a:lnTo>
                <a:lnTo>
                  <a:pt x="281" y="698"/>
                </a:lnTo>
                <a:lnTo>
                  <a:pt x="281" y="713"/>
                </a:lnTo>
                <a:lnTo>
                  <a:pt x="281" y="729"/>
                </a:lnTo>
                <a:lnTo>
                  <a:pt x="287" y="744"/>
                </a:lnTo>
                <a:lnTo>
                  <a:pt x="287" y="761"/>
                </a:lnTo>
                <a:lnTo>
                  <a:pt x="333" y="761"/>
                </a:lnTo>
                <a:lnTo>
                  <a:pt x="349" y="797"/>
                </a:lnTo>
                <a:lnTo>
                  <a:pt x="349" y="813"/>
                </a:lnTo>
                <a:lnTo>
                  <a:pt x="349" y="828"/>
                </a:lnTo>
                <a:lnTo>
                  <a:pt x="349" y="843"/>
                </a:lnTo>
                <a:lnTo>
                  <a:pt x="349" y="859"/>
                </a:lnTo>
                <a:lnTo>
                  <a:pt x="349" y="875"/>
                </a:lnTo>
                <a:lnTo>
                  <a:pt x="349" y="891"/>
                </a:lnTo>
                <a:lnTo>
                  <a:pt x="354" y="906"/>
                </a:lnTo>
                <a:lnTo>
                  <a:pt x="370" y="921"/>
                </a:lnTo>
                <a:lnTo>
                  <a:pt x="380" y="938"/>
                </a:lnTo>
                <a:lnTo>
                  <a:pt x="391" y="958"/>
                </a:lnTo>
                <a:lnTo>
                  <a:pt x="401" y="973"/>
                </a:lnTo>
                <a:lnTo>
                  <a:pt x="401" y="990"/>
                </a:lnTo>
                <a:lnTo>
                  <a:pt x="406" y="1005"/>
                </a:lnTo>
                <a:lnTo>
                  <a:pt x="412" y="1021"/>
                </a:lnTo>
                <a:lnTo>
                  <a:pt x="412" y="1036"/>
                </a:lnTo>
                <a:lnTo>
                  <a:pt x="412" y="1052"/>
                </a:lnTo>
                <a:lnTo>
                  <a:pt x="427" y="1073"/>
                </a:lnTo>
                <a:lnTo>
                  <a:pt x="432" y="1088"/>
                </a:lnTo>
                <a:lnTo>
                  <a:pt x="432" y="1104"/>
                </a:lnTo>
                <a:lnTo>
                  <a:pt x="438" y="1120"/>
                </a:lnTo>
                <a:lnTo>
                  <a:pt x="438" y="1135"/>
                </a:lnTo>
                <a:lnTo>
                  <a:pt x="443" y="1151"/>
                </a:lnTo>
                <a:lnTo>
                  <a:pt x="443" y="1167"/>
                </a:lnTo>
                <a:lnTo>
                  <a:pt x="449" y="1187"/>
                </a:lnTo>
                <a:lnTo>
                  <a:pt x="449" y="1203"/>
                </a:lnTo>
                <a:lnTo>
                  <a:pt x="449" y="1219"/>
                </a:lnTo>
                <a:lnTo>
                  <a:pt x="449" y="1234"/>
                </a:lnTo>
                <a:lnTo>
                  <a:pt x="449" y="1250"/>
                </a:lnTo>
                <a:lnTo>
                  <a:pt x="449" y="1265"/>
                </a:lnTo>
                <a:lnTo>
                  <a:pt x="464" y="1271"/>
                </a:lnTo>
                <a:lnTo>
                  <a:pt x="475" y="1286"/>
                </a:lnTo>
                <a:lnTo>
                  <a:pt x="479" y="1302"/>
                </a:lnTo>
                <a:lnTo>
                  <a:pt x="479" y="1317"/>
                </a:lnTo>
                <a:lnTo>
                  <a:pt x="484" y="1338"/>
                </a:lnTo>
                <a:lnTo>
                  <a:pt x="495" y="1354"/>
                </a:lnTo>
                <a:lnTo>
                  <a:pt x="501" y="1370"/>
                </a:lnTo>
                <a:lnTo>
                  <a:pt x="511" y="1386"/>
                </a:lnTo>
                <a:lnTo>
                  <a:pt x="527" y="1401"/>
                </a:lnTo>
                <a:lnTo>
                  <a:pt x="527" y="1416"/>
                </a:lnTo>
                <a:lnTo>
                  <a:pt x="527" y="1432"/>
                </a:lnTo>
                <a:lnTo>
                  <a:pt x="527" y="1448"/>
                </a:lnTo>
                <a:lnTo>
                  <a:pt x="531" y="1464"/>
                </a:lnTo>
                <a:lnTo>
                  <a:pt x="537" y="1485"/>
                </a:lnTo>
                <a:lnTo>
                  <a:pt x="537" y="1500"/>
                </a:lnTo>
                <a:lnTo>
                  <a:pt x="537" y="1516"/>
                </a:lnTo>
                <a:lnTo>
                  <a:pt x="542" y="1531"/>
                </a:lnTo>
                <a:lnTo>
                  <a:pt x="542" y="1546"/>
                </a:lnTo>
                <a:lnTo>
                  <a:pt x="547" y="1563"/>
                </a:lnTo>
                <a:lnTo>
                  <a:pt x="553" y="1578"/>
                </a:lnTo>
                <a:lnTo>
                  <a:pt x="557" y="1594"/>
                </a:lnTo>
                <a:lnTo>
                  <a:pt x="563" y="1609"/>
                </a:lnTo>
                <a:lnTo>
                  <a:pt x="563" y="1625"/>
                </a:lnTo>
                <a:lnTo>
                  <a:pt x="563" y="1641"/>
                </a:lnTo>
                <a:lnTo>
                  <a:pt x="563" y="1656"/>
                </a:lnTo>
                <a:lnTo>
                  <a:pt x="594" y="1656"/>
                </a:lnTo>
                <a:lnTo>
                  <a:pt x="600" y="1724"/>
                </a:lnTo>
                <a:lnTo>
                  <a:pt x="620" y="1760"/>
                </a:lnTo>
                <a:lnTo>
                  <a:pt x="641" y="1760"/>
                </a:lnTo>
                <a:lnTo>
                  <a:pt x="652" y="1833"/>
                </a:lnTo>
                <a:lnTo>
                  <a:pt x="657" y="1875"/>
                </a:lnTo>
                <a:lnTo>
                  <a:pt x="683" y="1870"/>
                </a:lnTo>
                <a:lnTo>
                  <a:pt x="693" y="1979"/>
                </a:lnTo>
                <a:lnTo>
                  <a:pt x="730" y="1979"/>
                </a:lnTo>
                <a:lnTo>
                  <a:pt x="730" y="2073"/>
                </a:lnTo>
                <a:lnTo>
                  <a:pt x="745" y="2099"/>
                </a:lnTo>
                <a:lnTo>
                  <a:pt x="756" y="2167"/>
                </a:lnTo>
                <a:lnTo>
                  <a:pt x="777" y="2167"/>
                </a:lnTo>
                <a:lnTo>
                  <a:pt x="777" y="2245"/>
                </a:lnTo>
                <a:lnTo>
                  <a:pt x="803" y="2245"/>
                </a:lnTo>
                <a:lnTo>
                  <a:pt x="803" y="2276"/>
                </a:lnTo>
                <a:lnTo>
                  <a:pt x="849" y="2276"/>
                </a:lnTo>
                <a:lnTo>
                  <a:pt x="849" y="2313"/>
                </a:lnTo>
                <a:lnTo>
                  <a:pt x="881" y="2313"/>
                </a:lnTo>
                <a:lnTo>
                  <a:pt x="881" y="2349"/>
                </a:lnTo>
                <a:lnTo>
                  <a:pt x="1022" y="2349"/>
                </a:lnTo>
                <a:lnTo>
                  <a:pt x="1022" y="2417"/>
                </a:lnTo>
                <a:lnTo>
                  <a:pt x="1173" y="2417"/>
                </a:lnTo>
                <a:lnTo>
                  <a:pt x="1210" y="2454"/>
                </a:lnTo>
                <a:lnTo>
                  <a:pt x="1350" y="2454"/>
                </a:lnTo>
                <a:lnTo>
                  <a:pt x="1350" y="2495"/>
                </a:lnTo>
                <a:lnTo>
                  <a:pt x="1596" y="2495"/>
                </a:lnTo>
                <a:lnTo>
                  <a:pt x="1596" y="2536"/>
                </a:lnTo>
                <a:lnTo>
                  <a:pt x="1663" y="2536"/>
                </a:lnTo>
                <a:lnTo>
                  <a:pt x="1663" y="2562"/>
                </a:lnTo>
                <a:lnTo>
                  <a:pt x="2378" y="2562"/>
                </a:lnTo>
                <a:lnTo>
                  <a:pt x="2378" y="2610"/>
                </a:lnTo>
                <a:lnTo>
                  <a:pt x="3927" y="2611"/>
                </a:lnTo>
              </a:path>
            </a:pathLst>
          </a:custGeom>
          <a:noFill/>
          <a:ln cap="rnd"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27280" y="3595680"/>
            <a:ext cx="19080" cy="1698480"/>
          </a:xfrm>
          <a:prstGeom prst="line">
            <a:avLst/>
          </a:prstGeom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791240" y="2038320"/>
            <a:ext cx="3311280" cy="549000"/>
            <a:chOff x="4791240" y="2038320"/>
            <a:chExt cx="3311280" cy="549000"/>
          </a:xfrm>
        </p:grpSpPr>
        <p:sp>
          <p:nvSpPr>
            <p:cNvPr id="407" name=""/>
            <p:cNvSpPr/>
            <p:nvPr/>
          </p:nvSpPr>
          <p:spPr>
            <a:xfrm>
              <a:off x="4791240" y="2187720"/>
              <a:ext cx="419040" cy="1440"/>
            </a:xfrm>
            <a:custGeom>
              <a:avLst/>
              <a:gdLst/>
              <a:ahLst/>
              <a:rect l="l" t="t" r="r" b="b"/>
              <a:pathLst>
                <a:path w="527" h="0">
                  <a:moveTo>
                    <a:pt x="0" y="0"/>
                  </a:moveTo>
                  <a:lnTo>
                    <a:pt x="263" y="0"/>
                  </a:lnTo>
                  <a:lnTo>
                    <a:pt x="527" y="0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38800" y="2038320"/>
              <a:ext cx="2763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Gliadel Wafers Phase III (n=145) – 28 week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960640" y="3595680"/>
            <a:ext cx="14400" cy="16984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169040" y="3638520"/>
            <a:ext cx="2051280" cy="1082880"/>
            <a:chOff x="7169040" y="3638520"/>
            <a:chExt cx="2051280" cy="1082880"/>
          </a:xfrm>
        </p:grpSpPr>
        <p:sp>
          <p:nvSpPr>
            <p:cNvPr id="411" name=""/>
            <p:cNvSpPr/>
            <p:nvPr/>
          </p:nvSpPr>
          <p:spPr>
            <a:xfrm flipH="1">
              <a:off x="7169040" y="4118040"/>
              <a:ext cx="495360" cy="465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67480" y="3638520"/>
              <a:ext cx="175284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Long-te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Surviv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lioblastoma Multiforme (GBM)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 Dismal Disease with Few Treatment Option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mon primary adult brain tum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9,000 cases/year diagnosed in the 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 infiltrative disease, resistant to radiation and chemo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y of targeted macromolecular therapy into the brain remains one of the largest obstacles in brain tumor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92400" y="1600200"/>
          <a:ext cx="6211800" cy="181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2400" y="1600200"/>
                    <a:ext cx="621180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0880" y="228600"/>
            <a:ext cx="841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se Study: Long term survivor: 62 yo, 4 years plus survival, off of steroids, no further treatment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873080" y="1353960"/>
            <a:ext cx="5689800" cy="5275440"/>
            <a:chOff x="1873080" y="1353960"/>
            <a:chExt cx="5689800" cy="5275440"/>
          </a:xfrm>
        </p:grpSpPr>
        <p:sp>
          <p:nvSpPr>
            <p:cNvPr id="415" name=""/>
            <p:cNvSpPr/>
            <p:nvPr/>
          </p:nvSpPr>
          <p:spPr>
            <a:xfrm>
              <a:off x="1873080" y="1353960"/>
              <a:ext cx="5689800" cy="52754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1911240" y="4851360"/>
              <a:ext cx="5616720" cy="1778040"/>
              <a:chOff x="1911240" y="4851360"/>
              <a:chExt cx="5616720" cy="1778040"/>
            </a:xfrm>
          </p:grpSpPr>
          <p:pic>
            <p:nvPicPr>
              <p:cNvPr id="417" name="" descr=""/>
              <p:cNvPicPr/>
              <p:nvPr/>
            </p:nvPicPr>
            <p:blipFill>
              <a:blip r:embed="rId1"/>
              <a:srcRect l="12940" t="1601" r="9659" b="0"/>
              <a:stretch/>
            </p:blipFill>
            <p:spPr>
              <a:xfrm>
                <a:off x="1911240" y="4851360"/>
                <a:ext cx="1387440" cy="17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" descr=""/>
              <p:cNvPicPr/>
              <p:nvPr/>
            </p:nvPicPr>
            <p:blipFill>
              <a:blip r:embed="rId2"/>
              <a:srcRect l="9738" t="0" r="8937" b="0"/>
              <a:stretch/>
            </p:blipFill>
            <p:spPr>
              <a:xfrm>
                <a:off x="3300120" y="4853160"/>
                <a:ext cx="1444680" cy="177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" descr=""/>
              <p:cNvPicPr/>
              <p:nvPr/>
            </p:nvPicPr>
            <p:blipFill>
              <a:blip r:embed="rId3"/>
              <a:srcRect l="11247" t="1588" r="9672" b="0"/>
              <a:stretch/>
            </p:blipFill>
            <p:spPr>
              <a:xfrm>
                <a:off x="4741920" y="4851360"/>
                <a:ext cx="1428480" cy="177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" descr=""/>
              <p:cNvPicPr/>
              <p:nvPr/>
            </p:nvPicPr>
            <p:blipFill>
              <a:blip r:embed="rId4"/>
              <a:srcRect l="12428" t="0" r="9974" b="0"/>
              <a:stretch/>
            </p:blipFill>
            <p:spPr>
              <a:xfrm>
                <a:off x="6168960" y="4863960"/>
                <a:ext cx="1359000" cy="1751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1" name=""/>
            <p:cNvGrpSpPr/>
            <p:nvPr/>
          </p:nvGrpSpPr>
          <p:grpSpPr>
            <a:xfrm>
              <a:off x="1895400" y="1357200"/>
              <a:ext cx="5579640" cy="1766880"/>
              <a:chOff x="1895400" y="1357200"/>
              <a:chExt cx="5579640" cy="1766880"/>
            </a:xfrm>
          </p:grpSpPr>
          <p:pic>
            <p:nvPicPr>
              <p:cNvPr id="422" name="" descr=""/>
              <p:cNvPicPr/>
              <p:nvPr/>
            </p:nvPicPr>
            <p:blipFill>
              <a:blip r:embed="rId5"/>
              <a:srcRect l="13881" t="5690" r="16067" b="9401"/>
              <a:stretch/>
            </p:blipFill>
            <p:spPr>
              <a:xfrm>
                <a:off x="1895400" y="1385640"/>
                <a:ext cx="1376280" cy="173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" descr=""/>
              <p:cNvPicPr/>
              <p:nvPr/>
            </p:nvPicPr>
            <p:blipFill>
              <a:blip r:embed="rId6"/>
              <a:srcRect l="13332" t="7930" r="17152" b="9937"/>
              <a:stretch/>
            </p:blipFill>
            <p:spPr>
              <a:xfrm>
                <a:off x="3271680" y="1371240"/>
                <a:ext cx="1429920" cy="175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7"/>
              <a:srcRect l="14967" t="7642" r="17702" b="10432"/>
              <a:stretch/>
            </p:blipFill>
            <p:spPr>
              <a:xfrm>
                <a:off x="4679640" y="1373040"/>
                <a:ext cx="1379160" cy="175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8"/>
              <a:srcRect l="13332" t="6377" r="16603" b="10005"/>
              <a:stretch/>
            </p:blipFill>
            <p:spPr>
              <a:xfrm>
                <a:off x="6048000" y="1357200"/>
                <a:ext cx="1427040" cy="1766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6" name=""/>
            <p:cNvGrpSpPr/>
            <p:nvPr/>
          </p:nvGrpSpPr>
          <p:grpSpPr>
            <a:xfrm>
              <a:off x="1887480" y="3087720"/>
              <a:ext cx="5640480" cy="1819080"/>
              <a:chOff x="1887480" y="3087720"/>
              <a:chExt cx="5640480" cy="1819080"/>
            </a:xfrm>
          </p:grpSpPr>
          <p:pic>
            <p:nvPicPr>
              <p:cNvPr id="427" name="" descr=""/>
              <p:cNvPicPr/>
              <p:nvPr/>
            </p:nvPicPr>
            <p:blipFill>
              <a:blip r:embed="rId9"/>
              <a:srcRect l="11852" t="951" r="12416" b="7247"/>
              <a:stretch/>
            </p:blipFill>
            <p:spPr>
              <a:xfrm>
                <a:off x="3274920" y="3103560"/>
                <a:ext cx="1414440" cy="177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" descr=""/>
              <p:cNvPicPr/>
              <p:nvPr/>
            </p:nvPicPr>
            <p:blipFill>
              <a:blip r:embed="rId10"/>
              <a:srcRect l="12428" t="0" r="13079" b="7209"/>
              <a:stretch/>
            </p:blipFill>
            <p:spPr>
              <a:xfrm>
                <a:off x="4678200" y="3106440"/>
                <a:ext cx="1397160" cy="180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" descr=""/>
              <p:cNvPicPr/>
              <p:nvPr/>
            </p:nvPicPr>
            <p:blipFill>
              <a:blip r:embed="rId11"/>
              <a:srcRect l="12353" t="4568" r="13717" b="7209"/>
              <a:stretch/>
            </p:blipFill>
            <p:spPr>
              <a:xfrm>
                <a:off x="6054480" y="3087720"/>
                <a:ext cx="1473480" cy="18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12"/>
              <a:srcRect l="13070" t="3099" r="11717" b="5930"/>
              <a:stretch/>
            </p:blipFill>
            <p:spPr>
              <a:xfrm>
                <a:off x="1887480" y="3119400"/>
                <a:ext cx="1420920" cy="1778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1" name=""/>
          <p:cNvSpPr/>
          <p:nvPr/>
        </p:nvSpPr>
        <p:spPr>
          <a:xfrm>
            <a:off x="1009080" y="20653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e-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3760" y="3483000"/>
            <a:ext cx="14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ost-op w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th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37440" y="5151600"/>
            <a:ext cx="93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5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nth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7358040" y="3241800"/>
            <a:ext cx="1674720" cy="1841400"/>
            <a:chOff x="7358040" y="3241800"/>
            <a:chExt cx="1674720" cy="1841400"/>
          </a:xfrm>
        </p:grpSpPr>
        <p:pic>
          <p:nvPicPr>
            <p:cNvPr id="435" name="" descr=""/>
            <p:cNvPicPr/>
            <p:nvPr/>
          </p:nvPicPr>
          <p:blipFill>
            <a:blip r:embed="rId13"/>
            <a:stretch/>
          </p:blipFill>
          <p:spPr>
            <a:xfrm>
              <a:off x="7358040" y="3241800"/>
              <a:ext cx="1674720" cy="17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7554960" y="4349880"/>
              <a:ext cx="120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Forbes, November 15, 2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2790720" y="4730760"/>
            <a:ext cx="3405240" cy="90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2943360" y="2400480"/>
            <a:ext cx="2555640" cy="876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317520" y="4856040"/>
            <a:ext cx="1743120" cy="65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5857920" y="1606680"/>
            <a:ext cx="2981160" cy="39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317520" y="2489040"/>
            <a:ext cx="1847880" cy="696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2" name="" descr=""/>
          <p:cNvPicPr/>
          <p:nvPr/>
        </p:nvPicPr>
        <p:blipFill>
          <a:blip r:embed="rId6"/>
          <a:stretch/>
        </p:blipFill>
        <p:spPr>
          <a:xfrm>
            <a:off x="2743200" y="3505320"/>
            <a:ext cx="3733920" cy="78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3075120" y="1521000"/>
            <a:ext cx="2190600" cy="57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4" name="" descr=""/>
          <p:cNvPicPr/>
          <p:nvPr/>
        </p:nvPicPr>
        <p:blipFill>
          <a:blip r:embed="rId8"/>
          <a:stretch/>
        </p:blipFill>
        <p:spPr>
          <a:xfrm>
            <a:off x="317520" y="1444680"/>
            <a:ext cx="1971720" cy="723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5" name="" descr=""/>
          <p:cNvPicPr/>
          <p:nvPr/>
        </p:nvPicPr>
        <p:blipFill>
          <a:blip r:embed="rId9"/>
          <a:stretch/>
        </p:blipFill>
        <p:spPr>
          <a:xfrm>
            <a:off x="6093000" y="2502000"/>
            <a:ext cx="2746080" cy="671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6" name="" descr=""/>
          <p:cNvPicPr/>
          <p:nvPr/>
        </p:nvPicPr>
        <p:blipFill>
          <a:blip r:embed="rId10"/>
          <a:stretch/>
        </p:blipFill>
        <p:spPr>
          <a:xfrm>
            <a:off x="6953400" y="4998960"/>
            <a:ext cx="1885680" cy="371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7" name="" descr=""/>
          <p:cNvPicPr/>
          <p:nvPr/>
        </p:nvPicPr>
        <p:blipFill>
          <a:blip r:embed="rId11"/>
          <a:stretch/>
        </p:blipFill>
        <p:spPr>
          <a:xfrm>
            <a:off x="317520" y="6140520"/>
            <a:ext cx="2814480" cy="43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8" name="" descr=""/>
          <p:cNvPicPr/>
          <p:nvPr/>
        </p:nvPicPr>
        <p:blipFill>
          <a:blip r:embed="rId12"/>
          <a:stretch/>
        </p:blipFill>
        <p:spPr>
          <a:xfrm>
            <a:off x="3549600" y="6049800"/>
            <a:ext cx="1533600" cy="61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9" name="" descr=""/>
          <p:cNvPicPr/>
          <p:nvPr/>
        </p:nvPicPr>
        <p:blipFill>
          <a:blip r:embed="rId13"/>
          <a:stretch/>
        </p:blipFill>
        <p:spPr>
          <a:xfrm>
            <a:off x="5676840" y="5938920"/>
            <a:ext cx="3162240" cy="84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50" name=""/>
          <p:cNvSpPr/>
          <p:nvPr/>
        </p:nvSpPr>
        <p:spPr>
          <a:xfrm>
            <a:off x="361800" y="76320"/>
            <a:ext cx="847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intredekin Besudotox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ase III Study – “PRECIS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ivotal study vs. Gliadel wafer in first recurrent GB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ternational multi-center study; 52 leading neurosurgery sites in the U.S., Canada, Europe and Isra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p to 300 patients randomized 2:1 (CB:Gliadel</a:t>
            </a:r>
            <a:r>
              <a:rPr b="1" lang="en-US" sz="26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zed to be able to show a 50% improvement in survival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nrollment completion in December 200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Interim efficacy analysis projected 2/3Q 2006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9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Est. accelerated FDA approval date: 1/2Q07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1800" y="152280"/>
            <a:ext cx="847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intredekin Besudotox (CB)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Phase III Study – “PRECI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019920" y="1797120"/>
            <a:ext cx="457200" cy="3257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1981080"/>
            <a:ext cx="923400" cy="3809880"/>
            <a:chOff x="914400" y="1981080"/>
            <a:chExt cx="923400" cy="3809880"/>
          </a:xfrm>
        </p:grpSpPr>
        <p:sp>
          <p:nvSpPr>
            <p:cNvPr id="456" name=""/>
            <p:cNvSpPr/>
            <p:nvPr/>
          </p:nvSpPr>
          <p:spPr>
            <a:xfrm>
              <a:off x="1201320" y="1981080"/>
              <a:ext cx="636480" cy="3809880"/>
            </a:xfrm>
            <a:custGeom>
              <a:avLst/>
              <a:gdLst/>
              <a:ahLst/>
              <a:rect l="l" t="t" r="r" b="b"/>
              <a:pathLst>
                <a:path w="370" h="1582">
                  <a:moveTo>
                    <a:pt x="346" y="1582"/>
                  </a:moveTo>
                  <a:lnTo>
                    <a:pt x="0" y="158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14400" y="3733200"/>
              <a:ext cx="276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806480" y="6280200"/>
            <a:ext cx="2079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16280" y="6248520"/>
            <a:ext cx="2046240" cy="337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iadel Waf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63720" y="5867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162920" y="1797120"/>
            <a:ext cx="1676160" cy="1990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ntredekin Besudoto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.5 mg/mL, 0.750 mL/hr via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E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96 hou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1981080"/>
            <a:ext cx="293400" cy="9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05120" y="1797120"/>
            <a:ext cx="1523880" cy="337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81280" y="1981080"/>
            <a:ext cx="293760" cy="9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2133720"/>
            <a:ext cx="565200" cy="325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96920" y="5578560"/>
            <a:ext cx="1886040" cy="337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05720" y="1981080"/>
            <a:ext cx="293400" cy="9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24360" y="1797120"/>
            <a:ext cx="1447920" cy="726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RI &amp;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152280"/>
            <a:ext cx="847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intredekin Besudotox (CB)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Phase III Study – “PRECI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563400" y="2079720"/>
          <a:ext cx="8118720" cy="424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079720"/>
                    <a:ext cx="811872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adequacy of Current ICD 9                     Procedure Code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12333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fusion of cintredekin besudoto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28600" y="152280"/>
            <a:ext cx="8570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rect Cerebral Microinfusion of Tumor Treatment Generally Involves Two Hospital Ad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6216480"/>
            <a:ext cx="8076960" cy="337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ew ICD 9 Procedure Codes have been requested for Procedures 1 &amp; 2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4840" y="1828800"/>
            <a:ext cx="1353960" cy="8240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 admitted to hospi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895480" y="1828800"/>
            <a:ext cx="2511360" cy="580680"/>
            <a:chOff x="2895480" y="1828800"/>
            <a:chExt cx="2511360" cy="580680"/>
          </a:xfrm>
        </p:grpSpPr>
        <p:sp>
          <p:nvSpPr>
            <p:cNvPr id="478" name=""/>
            <p:cNvSpPr/>
            <p:nvPr/>
          </p:nvSpPr>
          <p:spPr>
            <a:xfrm>
              <a:off x="3436920" y="1828800"/>
              <a:ext cx="1969920" cy="5806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raniotomy w/ Tumor res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95480" y="2009880"/>
              <a:ext cx="381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6705720" y="1828800"/>
            <a:ext cx="1981080" cy="580680"/>
            <a:chOff x="6705720" y="1828800"/>
            <a:chExt cx="1981080" cy="580680"/>
          </a:xfrm>
        </p:grpSpPr>
        <p:sp>
          <p:nvSpPr>
            <p:cNvPr id="481" name=""/>
            <p:cNvSpPr/>
            <p:nvPr/>
          </p:nvSpPr>
          <p:spPr>
            <a:xfrm>
              <a:off x="7238880" y="1828800"/>
              <a:ext cx="1447920" cy="5806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tient discharg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5720" y="2009880"/>
              <a:ext cx="380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09480" y="1263600"/>
            <a:ext cx="7925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 Admission for tumor res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4880" y="2778120"/>
            <a:ext cx="77356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 Admission approximately 2 weeks following cranioto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5960" y="379584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920" y="3316320"/>
            <a:ext cx="2438280" cy="1265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detailed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catheter placement pla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is developed for the patient based on post-surgical MRI sc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952880" y="3276720"/>
            <a:ext cx="3962160" cy="1649520"/>
            <a:chOff x="4952880" y="3276720"/>
            <a:chExt cx="3962160" cy="1649520"/>
          </a:xfrm>
        </p:grpSpPr>
        <p:sp>
          <p:nvSpPr>
            <p:cNvPr id="488" name=""/>
            <p:cNvSpPr/>
            <p:nvPr/>
          </p:nvSpPr>
          <p:spPr>
            <a:xfrm>
              <a:off x="5418720" y="3276720"/>
              <a:ext cx="3496320" cy="16495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ffff00"/>
                  </a:solidFill>
                  <a:uFillTx/>
                  <a:latin typeface="Arial"/>
                </a:rPr>
                <a:t>Procedure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ereotactic Placement of Intracerebral Catheter(s) for the Delivery of Therapeutic Agent(s), including Burr Hole(s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usually 2 to 4 catheters are place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52880" y="3525480"/>
              <a:ext cx="388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819520" y="3316320"/>
            <a:ext cx="2057400" cy="562680"/>
            <a:chOff x="2819520" y="3316320"/>
            <a:chExt cx="2057400" cy="562680"/>
          </a:xfrm>
        </p:grpSpPr>
        <p:sp>
          <p:nvSpPr>
            <p:cNvPr id="491" name=""/>
            <p:cNvSpPr/>
            <p:nvPr/>
          </p:nvSpPr>
          <p:spPr>
            <a:xfrm>
              <a:off x="3276720" y="3316320"/>
              <a:ext cx="1600200" cy="5626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tient admitted to hospit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19520" y="3613320"/>
              <a:ext cx="380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705720" y="5168880"/>
            <a:ext cx="1904760" cy="520200"/>
            <a:chOff x="6705720" y="5168880"/>
            <a:chExt cx="1904760" cy="520200"/>
          </a:xfrm>
        </p:grpSpPr>
        <p:sp>
          <p:nvSpPr>
            <p:cNvPr id="494" name=""/>
            <p:cNvSpPr/>
            <p:nvPr/>
          </p:nvSpPr>
          <p:spPr>
            <a:xfrm>
              <a:off x="7162920" y="5168880"/>
              <a:ext cx="1447560" cy="5202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tient discharg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05720" y="5465880"/>
              <a:ext cx="380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657600" y="5057640"/>
            <a:ext cx="2895480" cy="941400"/>
            <a:chOff x="3657600" y="5057640"/>
            <a:chExt cx="2895480" cy="941400"/>
          </a:xfrm>
        </p:grpSpPr>
        <p:sp>
          <p:nvSpPr>
            <p:cNvPr id="497" name=""/>
            <p:cNvSpPr/>
            <p:nvPr/>
          </p:nvSpPr>
          <p:spPr>
            <a:xfrm>
              <a:off x="4184640" y="5057640"/>
              <a:ext cx="2368440" cy="9414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ffff00"/>
                  </a:solidFill>
                  <a:uFillTx/>
                  <a:latin typeface="Arial"/>
                </a:rPr>
                <a:t>Procedure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ED catheters are removed at the bedside.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57600" y="5354640"/>
              <a:ext cx="380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52280" y="5057640"/>
            <a:ext cx="3353040" cy="941400"/>
            <a:chOff x="152280" y="5057640"/>
            <a:chExt cx="3353040" cy="941400"/>
          </a:xfrm>
        </p:grpSpPr>
        <p:sp>
          <p:nvSpPr>
            <p:cNvPr id="500" name=""/>
            <p:cNvSpPr/>
            <p:nvPr/>
          </p:nvSpPr>
          <p:spPr>
            <a:xfrm>
              <a:off x="685800" y="5057640"/>
              <a:ext cx="2819520" cy="941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ffff00"/>
                  </a:solidFill>
                  <a:uFillTx/>
                  <a:latin typeface="Arial"/>
                </a:rPr>
                <a:t>Procedure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icroinfusion of Cintredekin Besudotox for 96 hou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2280" y="5354640"/>
              <a:ext cx="381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CD-9 CM Procedure Codes Required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1.28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eotactic Placement of Intracerebr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atheter(s) for the Delivery o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Therapeutic Agent(s), including Bur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ole(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0.19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usion of cintredekin besudot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13α2 receptor targeting tumor cytotox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w Approach to Treating Brain Tumor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delivery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stereotactically placed intracerebral infusion cath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targeted cytotox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ntredekin besudotox, IL13α2 receptor targeting tumor cytotox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components need new ICD 9 CM procedure c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ICD 9 procedure codes are inadequ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6343" t="0" r="6963" b="51853"/>
          <a:stretch/>
        </p:blipFill>
        <p:spPr>
          <a:xfrm>
            <a:off x="2911320" y="1447920"/>
            <a:ext cx="5280120" cy="5143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9495" t="6897" r="18493" b="13794"/>
          <a:stretch/>
        </p:blipFill>
        <p:spPr>
          <a:xfrm>
            <a:off x="838080" y="1447920"/>
            <a:ext cx="1913040" cy="2508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9515" t="7034" r="19515" b="13284"/>
          <a:stretch/>
        </p:blipFill>
        <p:spPr>
          <a:xfrm>
            <a:off x="838080" y="4019400"/>
            <a:ext cx="1886040" cy="2443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0880" y="4295880"/>
            <a:ext cx="700200" cy="1282680"/>
          </a:xfrm>
          <a:custGeom>
            <a:avLst/>
            <a:gdLst/>
            <a:ahLst/>
            <a:rect l="l" t="t" r="r" b="b"/>
            <a:pathLst>
              <a:path w="629" h="1187">
                <a:moveTo>
                  <a:pt x="110" y="142"/>
                </a:moveTo>
                <a:cubicBezTo>
                  <a:pt x="101" y="86"/>
                  <a:pt x="64" y="23"/>
                  <a:pt x="129" y="0"/>
                </a:cubicBezTo>
                <a:cubicBezTo>
                  <a:pt x="168" y="14"/>
                  <a:pt x="208" y="34"/>
                  <a:pt x="242" y="57"/>
                </a:cubicBezTo>
                <a:cubicBezTo>
                  <a:pt x="253" y="88"/>
                  <a:pt x="270" y="111"/>
                  <a:pt x="280" y="142"/>
                </a:cubicBezTo>
                <a:cubicBezTo>
                  <a:pt x="248" y="189"/>
                  <a:pt x="263" y="235"/>
                  <a:pt x="308" y="264"/>
                </a:cubicBezTo>
                <a:cubicBezTo>
                  <a:pt x="333" y="193"/>
                  <a:pt x="346" y="121"/>
                  <a:pt x="412" y="76"/>
                </a:cubicBezTo>
                <a:cubicBezTo>
                  <a:pt x="418" y="85"/>
                  <a:pt x="429" y="93"/>
                  <a:pt x="431" y="104"/>
                </a:cubicBezTo>
                <a:cubicBezTo>
                  <a:pt x="433" y="114"/>
                  <a:pt x="418" y="123"/>
                  <a:pt x="422" y="132"/>
                </a:cubicBezTo>
                <a:cubicBezTo>
                  <a:pt x="427" y="146"/>
                  <a:pt x="466" y="157"/>
                  <a:pt x="478" y="161"/>
                </a:cubicBezTo>
                <a:cubicBezTo>
                  <a:pt x="495" y="207"/>
                  <a:pt x="514" y="206"/>
                  <a:pt x="469" y="236"/>
                </a:cubicBezTo>
                <a:cubicBezTo>
                  <a:pt x="466" y="245"/>
                  <a:pt x="456" y="255"/>
                  <a:pt x="460" y="264"/>
                </a:cubicBezTo>
                <a:cubicBezTo>
                  <a:pt x="471" y="287"/>
                  <a:pt x="505" y="268"/>
                  <a:pt x="516" y="264"/>
                </a:cubicBezTo>
                <a:cubicBezTo>
                  <a:pt x="535" y="271"/>
                  <a:pt x="567" y="277"/>
                  <a:pt x="573" y="302"/>
                </a:cubicBezTo>
                <a:cubicBezTo>
                  <a:pt x="577" y="318"/>
                  <a:pt x="567" y="334"/>
                  <a:pt x="563" y="349"/>
                </a:cubicBezTo>
                <a:cubicBezTo>
                  <a:pt x="549" y="402"/>
                  <a:pt x="531" y="444"/>
                  <a:pt x="507" y="491"/>
                </a:cubicBezTo>
                <a:cubicBezTo>
                  <a:pt x="493" y="518"/>
                  <a:pt x="491" y="549"/>
                  <a:pt x="478" y="576"/>
                </a:cubicBezTo>
                <a:cubicBezTo>
                  <a:pt x="434" y="663"/>
                  <a:pt x="490" y="517"/>
                  <a:pt x="441" y="661"/>
                </a:cubicBezTo>
                <a:cubicBezTo>
                  <a:pt x="438" y="670"/>
                  <a:pt x="431" y="689"/>
                  <a:pt x="431" y="689"/>
                </a:cubicBezTo>
                <a:cubicBezTo>
                  <a:pt x="444" y="801"/>
                  <a:pt x="428" y="790"/>
                  <a:pt x="535" y="774"/>
                </a:cubicBezTo>
                <a:cubicBezTo>
                  <a:pt x="604" y="752"/>
                  <a:pt x="573" y="751"/>
                  <a:pt x="629" y="765"/>
                </a:cubicBezTo>
                <a:cubicBezTo>
                  <a:pt x="610" y="824"/>
                  <a:pt x="519" y="878"/>
                  <a:pt x="460" y="897"/>
                </a:cubicBezTo>
                <a:cubicBezTo>
                  <a:pt x="432" y="924"/>
                  <a:pt x="412" y="954"/>
                  <a:pt x="384" y="982"/>
                </a:cubicBezTo>
                <a:cubicBezTo>
                  <a:pt x="378" y="1001"/>
                  <a:pt x="371" y="1020"/>
                  <a:pt x="365" y="1039"/>
                </a:cubicBezTo>
                <a:cubicBezTo>
                  <a:pt x="362" y="1048"/>
                  <a:pt x="356" y="1067"/>
                  <a:pt x="356" y="1067"/>
                </a:cubicBezTo>
                <a:cubicBezTo>
                  <a:pt x="389" y="1115"/>
                  <a:pt x="399" y="1095"/>
                  <a:pt x="441" y="1067"/>
                </a:cubicBezTo>
                <a:cubicBezTo>
                  <a:pt x="467" y="1029"/>
                  <a:pt x="469" y="1014"/>
                  <a:pt x="516" y="1029"/>
                </a:cubicBezTo>
                <a:cubicBezTo>
                  <a:pt x="564" y="1061"/>
                  <a:pt x="549" y="1068"/>
                  <a:pt x="507" y="1095"/>
                </a:cubicBezTo>
                <a:cubicBezTo>
                  <a:pt x="477" y="1141"/>
                  <a:pt x="499" y="1121"/>
                  <a:pt x="431" y="1143"/>
                </a:cubicBezTo>
                <a:cubicBezTo>
                  <a:pt x="422" y="1146"/>
                  <a:pt x="403" y="1152"/>
                  <a:pt x="403" y="1152"/>
                </a:cubicBezTo>
                <a:cubicBezTo>
                  <a:pt x="352" y="1187"/>
                  <a:pt x="360" y="1171"/>
                  <a:pt x="327" y="1133"/>
                </a:cubicBezTo>
                <a:cubicBezTo>
                  <a:pt x="310" y="1113"/>
                  <a:pt x="271" y="1077"/>
                  <a:pt x="271" y="1077"/>
                </a:cubicBezTo>
                <a:cubicBezTo>
                  <a:pt x="199" y="1100"/>
                  <a:pt x="234" y="1099"/>
                  <a:pt x="167" y="1086"/>
                </a:cubicBezTo>
                <a:cubicBezTo>
                  <a:pt x="144" y="1022"/>
                  <a:pt x="167" y="1101"/>
                  <a:pt x="167" y="1010"/>
                </a:cubicBezTo>
                <a:cubicBezTo>
                  <a:pt x="167" y="988"/>
                  <a:pt x="161" y="966"/>
                  <a:pt x="157" y="944"/>
                </a:cubicBezTo>
                <a:cubicBezTo>
                  <a:pt x="147" y="889"/>
                  <a:pt x="117" y="846"/>
                  <a:pt x="101" y="793"/>
                </a:cubicBezTo>
                <a:cubicBezTo>
                  <a:pt x="107" y="784"/>
                  <a:pt x="120" y="776"/>
                  <a:pt x="120" y="765"/>
                </a:cubicBezTo>
                <a:cubicBezTo>
                  <a:pt x="120" y="754"/>
                  <a:pt x="106" y="747"/>
                  <a:pt x="101" y="737"/>
                </a:cubicBezTo>
                <a:cubicBezTo>
                  <a:pt x="88" y="709"/>
                  <a:pt x="76" y="680"/>
                  <a:pt x="63" y="652"/>
                </a:cubicBezTo>
                <a:cubicBezTo>
                  <a:pt x="24" y="565"/>
                  <a:pt x="18" y="461"/>
                  <a:pt x="6" y="368"/>
                </a:cubicBezTo>
                <a:cubicBezTo>
                  <a:pt x="26" y="296"/>
                  <a:pt x="0" y="298"/>
                  <a:pt x="82" y="312"/>
                </a:cubicBezTo>
                <a:cubicBezTo>
                  <a:pt x="103" y="327"/>
                  <a:pt x="120" y="351"/>
                  <a:pt x="120" y="302"/>
                </a:cubicBezTo>
                <a:cubicBezTo>
                  <a:pt x="120" y="289"/>
                  <a:pt x="116" y="276"/>
                  <a:pt x="110" y="264"/>
                </a:cubicBezTo>
                <a:cubicBezTo>
                  <a:pt x="100" y="244"/>
                  <a:pt x="72" y="208"/>
                  <a:pt x="72" y="208"/>
                </a:cubicBezTo>
                <a:cubicBezTo>
                  <a:pt x="115" y="143"/>
                  <a:pt x="102" y="173"/>
                  <a:pt x="120" y="123"/>
                </a:cubicBezTo>
                <a:cubicBezTo>
                  <a:pt x="105" y="80"/>
                  <a:pt x="110" y="85"/>
                  <a:pt x="110" y="142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87480" y="4587840"/>
            <a:ext cx="452520" cy="682560"/>
          </a:xfrm>
          <a:custGeom>
            <a:avLst/>
            <a:gdLst/>
            <a:ahLst/>
            <a:rect l="l" t="t" r="r" b="b"/>
            <a:pathLst>
              <a:path w="408" h="631">
                <a:moveTo>
                  <a:pt x="57" y="55"/>
                </a:moveTo>
                <a:cubicBezTo>
                  <a:pt x="22" y="108"/>
                  <a:pt x="21" y="167"/>
                  <a:pt x="0" y="225"/>
                </a:cubicBezTo>
                <a:cubicBezTo>
                  <a:pt x="13" y="313"/>
                  <a:pt x="27" y="340"/>
                  <a:pt x="114" y="367"/>
                </a:cubicBezTo>
                <a:cubicBezTo>
                  <a:pt x="117" y="376"/>
                  <a:pt x="116" y="388"/>
                  <a:pt x="123" y="395"/>
                </a:cubicBezTo>
                <a:cubicBezTo>
                  <a:pt x="130" y="402"/>
                  <a:pt x="142" y="401"/>
                  <a:pt x="151" y="405"/>
                </a:cubicBezTo>
                <a:cubicBezTo>
                  <a:pt x="217" y="439"/>
                  <a:pt x="144" y="413"/>
                  <a:pt x="208" y="433"/>
                </a:cubicBezTo>
                <a:cubicBezTo>
                  <a:pt x="214" y="443"/>
                  <a:pt x="220" y="453"/>
                  <a:pt x="227" y="462"/>
                </a:cubicBezTo>
                <a:cubicBezTo>
                  <a:pt x="235" y="472"/>
                  <a:pt x="248" y="479"/>
                  <a:pt x="255" y="490"/>
                </a:cubicBezTo>
                <a:cubicBezTo>
                  <a:pt x="263" y="502"/>
                  <a:pt x="267" y="534"/>
                  <a:pt x="274" y="546"/>
                </a:cubicBezTo>
                <a:cubicBezTo>
                  <a:pt x="285" y="566"/>
                  <a:pt x="299" y="584"/>
                  <a:pt x="312" y="603"/>
                </a:cubicBezTo>
                <a:cubicBezTo>
                  <a:pt x="318" y="612"/>
                  <a:pt x="331" y="631"/>
                  <a:pt x="331" y="631"/>
                </a:cubicBezTo>
                <a:cubicBezTo>
                  <a:pt x="344" y="628"/>
                  <a:pt x="359" y="630"/>
                  <a:pt x="369" y="622"/>
                </a:cubicBezTo>
                <a:cubicBezTo>
                  <a:pt x="382" y="611"/>
                  <a:pt x="379" y="575"/>
                  <a:pt x="369" y="565"/>
                </a:cubicBezTo>
                <a:cubicBezTo>
                  <a:pt x="362" y="558"/>
                  <a:pt x="350" y="559"/>
                  <a:pt x="340" y="556"/>
                </a:cubicBezTo>
                <a:cubicBezTo>
                  <a:pt x="356" y="511"/>
                  <a:pt x="368" y="513"/>
                  <a:pt x="340" y="471"/>
                </a:cubicBezTo>
                <a:cubicBezTo>
                  <a:pt x="337" y="462"/>
                  <a:pt x="328" y="452"/>
                  <a:pt x="331" y="443"/>
                </a:cubicBezTo>
                <a:cubicBezTo>
                  <a:pt x="338" y="421"/>
                  <a:pt x="369" y="386"/>
                  <a:pt x="369" y="386"/>
                </a:cubicBezTo>
                <a:cubicBezTo>
                  <a:pt x="354" y="345"/>
                  <a:pt x="361" y="334"/>
                  <a:pt x="397" y="310"/>
                </a:cubicBezTo>
                <a:cubicBezTo>
                  <a:pt x="400" y="301"/>
                  <a:pt x="408" y="292"/>
                  <a:pt x="406" y="282"/>
                </a:cubicBezTo>
                <a:cubicBezTo>
                  <a:pt x="404" y="271"/>
                  <a:pt x="392" y="264"/>
                  <a:pt x="388" y="254"/>
                </a:cubicBezTo>
                <a:cubicBezTo>
                  <a:pt x="380" y="236"/>
                  <a:pt x="361" y="145"/>
                  <a:pt x="350" y="131"/>
                </a:cubicBezTo>
                <a:cubicBezTo>
                  <a:pt x="343" y="122"/>
                  <a:pt x="331" y="118"/>
                  <a:pt x="321" y="112"/>
                </a:cubicBezTo>
                <a:cubicBezTo>
                  <a:pt x="297" y="75"/>
                  <a:pt x="308" y="60"/>
                  <a:pt x="265" y="46"/>
                </a:cubicBezTo>
                <a:cubicBezTo>
                  <a:pt x="222" y="56"/>
                  <a:pt x="201" y="66"/>
                  <a:pt x="151" y="46"/>
                </a:cubicBezTo>
                <a:cubicBezTo>
                  <a:pt x="141" y="42"/>
                  <a:pt x="142" y="25"/>
                  <a:pt x="133" y="18"/>
                </a:cubicBezTo>
                <a:cubicBezTo>
                  <a:pt x="125" y="12"/>
                  <a:pt x="114" y="11"/>
                  <a:pt x="104" y="8"/>
                </a:cubicBezTo>
                <a:cubicBezTo>
                  <a:pt x="43" y="30"/>
                  <a:pt x="103" y="0"/>
                  <a:pt x="66" y="46"/>
                </a:cubicBezTo>
                <a:cubicBezTo>
                  <a:pt x="59" y="55"/>
                  <a:pt x="11" y="79"/>
                  <a:pt x="57" y="55"/>
                </a:cubicBezTo>
                <a:close/>
              </a:path>
            </a:pathLst>
          </a:custGeom>
          <a:solidFill>
            <a:srgbClr val="33333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6560" y="2075040"/>
            <a:ext cx="503280" cy="761760"/>
          </a:xfrm>
          <a:custGeom>
            <a:avLst/>
            <a:gdLst/>
            <a:ahLst/>
            <a:rect l="l" t="t" r="r" b="b"/>
            <a:pathLst>
              <a:path w="408" h="631">
                <a:moveTo>
                  <a:pt x="57" y="55"/>
                </a:moveTo>
                <a:cubicBezTo>
                  <a:pt x="22" y="108"/>
                  <a:pt x="21" y="167"/>
                  <a:pt x="0" y="225"/>
                </a:cubicBezTo>
                <a:cubicBezTo>
                  <a:pt x="13" y="313"/>
                  <a:pt x="27" y="340"/>
                  <a:pt x="114" y="367"/>
                </a:cubicBezTo>
                <a:cubicBezTo>
                  <a:pt x="117" y="376"/>
                  <a:pt x="116" y="388"/>
                  <a:pt x="123" y="395"/>
                </a:cubicBezTo>
                <a:cubicBezTo>
                  <a:pt x="130" y="402"/>
                  <a:pt x="142" y="401"/>
                  <a:pt x="151" y="405"/>
                </a:cubicBezTo>
                <a:cubicBezTo>
                  <a:pt x="217" y="439"/>
                  <a:pt x="144" y="413"/>
                  <a:pt x="208" y="433"/>
                </a:cubicBezTo>
                <a:cubicBezTo>
                  <a:pt x="214" y="443"/>
                  <a:pt x="220" y="453"/>
                  <a:pt x="227" y="462"/>
                </a:cubicBezTo>
                <a:cubicBezTo>
                  <a:pt x="235" y="472"/>
                  <a:pt x="248" y="479"/>
                  <a:pt x="255" y="490"/>
                </a:cubicBezTo>
                <a:cubicBezTo>
                  <a:pt x="263" y="502"/>
                  <a:pt x="267" y="534"/>
                  <a:pt x="274" y="546"/>
                </a:cubicBezTo>
                <a:cubicBezTo>
                  <a:pt x="285" y="566"/>
                  <a:pt x="299" y="584"/>
                  <a:pt x="312" y="603"/>
                </a:cubicBezTo>
                <a:cubicBezTo>
                  <a:pt x="318" y="612"/>
                  <a:pt x="331" y="631"/>
                  <a:pt x="331" y="631"/>
                </a:cubicBezTo>
                <a:cubicBezTo>
                  <a:pt x="344" y="628"/>
                  <a:pt x="359" y="630"/>
                  <a:pt x="369" y="622"/>
                </a:cubicBezTo>
                <a:cubicBezTo>
                  <a:pt x="382" y="611"/>
                  <a:pt x="379" y="575"/>
                  <a:pt x="369" y="565"/>
                </a:cubicBezTo>
                <a:cubicBezTo>
                  <a:pt x="362" y="558"/>
                  <a:pt x="350" y="559"/>
                  <a:pt x="340" y="556"/>
                </a:cubicBezTo>
                <a:cubicBezTo>
                  <a:pt x="356" y="511"/>
                  <a:pt x="368" y="513"/>
                  <a:pt x="340" y="471"/>
                </a:cubicBezTo>
                <a:cubicBezTo>
                  <a:pt x="337" y="462"/>
                  <a:pt x="328" y="452"/>
                  <a:pt x="331" y="443"/>
                </a:cubicBezTo>
                <a:cubicBezTo>
                  <a:pt x="338" y="421"/>
                  <a:pt x="369" y="386"/>
                  <a:pt x="369" y="386"/>
                </a:cubicBezTo>
                <a:cubicBezTo>
                  <a:pt x="354" y="345"/>
                  <a:pt x="361" y="334"/>
                  <a:pt x="397" y="310"/>
                </a:cubicBezTo>
                <a:cubicBezTo>
                  <a:pt x="400" y="301"/>
                  <a:pt x="408" y="292"/>
                  <a:pt x="406" y="282"/>
                </a:cubicBezTo>
                <a:cubicBezTo>
                  <a:pt x="404" y="271"/>
                  <a:pt x="392" y="264"/>
                  <a:pt x="388" y="254"/>
                </a:cubicBezTo>
                <a:cubicBezTo>
                  <a:pt x="380" y="236"/>
                  <a:pt x="361" y="145"/>
                  <a:pt x="350" y="131"/>
                </a:cubicBezTo>
                <a:cubicBezTo>
                  <a:pt x="343" y="122"/>
                  <a:pt x="331" y="118"/>
                  <a:pt x="321" y="112"/>
                </a:cubicBezTo>
                <a:cubicBezTo>
                  <a:pt x="297" y="75"/>
                  <a:pt x="308" y="60"/>
                  <a:pt x="265" y="46"/>
                </a:cubicBezTo>
                <a:cubicBezTo>
                  <a:pt x="222" y="56"/>
                  <a:pt x="201" y="66"/>
                  <a:pt x="151" y="46"/>
                </a:cubicBezTo>
                <a:cubicBezTo>
                  <a:pt x="141" y="42"/>
                  <a:pt x="142" y="25"/>
                  <a:pt x="133" y="18"/>
                </a:cubicBezTo>
                <a:cubicBezTo>
                  <a:pt x="125" y="12"/>
                  <a:pt x="114" y="11"/>
                  <a:pt x="104" y="8"/>
                </a:cubicBezTo>
                <a:cubicBezTo>
                  <a:pt x="43" y="30"/>
                  <a:pt x="103" y="0"/>
                  <a:pt x="66" y="46"/>
                </a:cubicBezTo>
                <a:cubicBezTo>
                  <a:pt x="59" y="55"/>
                  <a:pt x="11" y="79"/>
                  <a:pt x="57" y="55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95560" y="3830760"/>
            <a:ext cx="2387520" cy="1442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031840" y="4334040"/>
            <a:ext cx="2640240" cy="1379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0840" y="2389320"/>
            <a:ext cx="2451240" cy="1003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000" y="228600"/>
            <a:ext cx="861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livery Challenge:            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reatment of Infiltrative Tu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rect Delivery of Targeted Cytotoxin to Infiltrated Tumor Cell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 Novel Approach to Treating GB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3048120"/>
            <a:ext cx="8380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952880"/>
            <a:ext cx="8380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0360" y="1760400"/>
            <a:ext cx="10857960" cy="4564080"/>
            <a:chOff x="90360" y="1760400"/>
            <a:chExt cx="10857960" cy="4564080"/>
          </a:xfrm>
        </p:grpSpPr>
        <p:sp>
          <p:nvSpPr>
            <p:cNvPr id="72" name=""/>
            <p:cNvSpPr/>
            <p:nvPr/>
          </p:nvSpPr>
          <p:spPr>
            <a:xfrm>
              <a:off x="90360" y="1760400"/>
              <a:ext cx="8991360" cy="45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8840" y="1936440"/>
              <a:ext cx="3794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GBM Treatment Challenge</a:t>
              </a:r>
              <a:r>
                <a:rPr b="0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4160" y="2209680"/>
              <a:ext cx="3449880" cy="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51960" y="1936440"/>
              <a:ext cx="2112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New Approach</a:t>
              </a:r>
              <a:r>
                <a:rPr b="0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51240" y="2209680"/>
              <a:ext cx="1955880" cy="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3880" y="2776320"/>
              <a:ext cx="3749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Targeted tumor cells without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2800" y="3119400"/>
              <a:ext cx="2693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harming normal cells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64040" y="2611080"/>
              <a:ext cx="558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00"/>
                  </a:solidFill>
                  <a:latin typeface="Times New Roman"/>
                </a:rPr>
                <a:t>Novel Selective Therapy</a:t>
              </a:r>
              <a:r>
                <a:rPr b="0" lang="en-US" sz="2500" spc="-1" strike="noStrike">
                  <a:solidFill>
                    <a:srgbClr val="ffff00"/>
                  </a:solidFill>
                  <a:latin typeface="Times New Roman"/>
                </a:rPr>
                <a:t>:                           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62600" y="2943000"/>
              <a:ext cx="3768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Cintredekin Besudotox          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1440" y="3274920"/>
              <a:ext cx="406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IL1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 receptor targeting tumor cytotoxi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400" y="4213080"/>
              <a:ext cx="3527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Infiltrative disease requires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3520" y="4555800"/>
              <a:ext cx="357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delivery to overcome blood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4600" y="4897080"/>
              <a:ext cx="3236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brain barrier and provide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2800" y="5240160"/>
              <a:ext cx="3089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adequate distribution of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7400" y="5581440"/>
              <a:ext cx="581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drug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64400" y="4047840"/>
              <a:ext cx="5983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00"/>
                  </a:solidFill>
                  <a:latin typeface="Times New Roman"/>
                </a:rPr>
                <a:t>New Drug Delivery Method:</a:t>
              </a:r>
              <a:r>
                <a:rPr b="0" lang="en-US" sz="2500" spc="-1" strike="noStrike">
                  <a:solidFill>
                    <a:srgbClr val="ffff00"/>
                  </a:solidFill>
                  <a:latin typeface="Times New Roman"/>
                </a:rPr>
                <a:t>                          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64040" y="4379760"/>
              <a:ext cx="4037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Convection Enhanced Delivery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58280" y="4711680"/>
              <a:ext cx="924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ffffff"/>
                  </a:solidFill>
                  <a:latin typeface="Times New Roman"/>
                </a:rPr>
                <a:t>(CED)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21200" y="4721040"/>
              <a:ext cx="2202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through multiple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66200" y="5063760"/>
              <a:ext cx="2882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intracerebral catheters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62600" y="5405400"/>
              <a:ext cx="3699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distributes CB around tumor 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64040" y="5748120"/>
              <a:ext cx="2391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and infiltrated area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360" y="1760400"/>
              <a:ext cx="93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70080" y="1760400"/>
              <a:ext cx="93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08240" y="1760400"/>
              <a:ext cx="972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72360" y="1760400"/>
              <a:ext cx="93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360" y="63147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0360" y="6314760"/>
              <a:ext cx="936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70080" y="63147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70080" y="6314760"/>
              <a:ext cx="936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08240" y="63147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08240" y="6314760"/>
              <a:ext cx="972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72360" y="63147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72360" y="6314760"/>
              <a:ext cx="936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81720" y="1760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81720" y="1760400"/>
              <a:ext cx="9720" cy="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81720" y="24048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81720" y="2404800"/>
              <a:ext cx="972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81720" y="37731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81720" y="3773160"/>
              <a:ext cx="972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081720" y="6305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81720" y="6305400"/>
              <a:ext cx="9720" cy="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297000"/>
            <a:ext cx="87631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ationale for Convection Enhanced Delivery (CED) through Multiple Intracerebral Cath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1461600"/>
            <a:ext cx="83059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75"/>
              </a:spcBef>
              <a:spcAft>
                <a:spcPts val="16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ED is a novel approach for the delivery of small and large molecules in solid tissues, utilizing a pressure gradient to distribute macromolecules to clinically significant volumes of tissue by bulk flo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75"/>
              </a:spcBef>
              <a:spcAft>
                <a:spcPts val="16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rect intra-tumoral or intra-parenchymal drug delivery avoids plasma dilution and minimizes systemic expos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75"/>
              </a:spcBef>
              <a:spcAft>
                <a:spcPts val="16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passes blood-brain barrier resulting in higher concent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75"/>
              </a:spcBef>
              <a:spcAft>
                <a:spcPts val="16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rger distribution volume than diffusion-based delivery methods (cm vs. mm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28880" y="2008080"/>
            <a:ext cx="3555720" cy="3683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7" name=""/>
          <p:cNvSpPr/>
          <p:nvPr/>
        </p:nvSpPr>
        <p:spPr>
          <a:xfrm>
            <a:off x="3959280" y="2949480"/>
            <a:ext cx="3666960" cy="29275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ction Enhanced Delivery (CED)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rough Multiple Intracerebral Catheter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3733920"/>
            <a:ext cx="2438280" cy="2171520"/>
          </a:xfrm>
          <a:prstGeom prst="rect">
            <a:avLst/>
          </a:prstGeom>
          <a:solidFill>
            <a:srgbClr val="0027a4"/>
          </a:solidFill>
          <a:ln cap="rnd" w="19080">
            <a:solidFill>
              <a:srgbClr val="ff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2160" y="5573880"/>
            <a:ext cx="236520" cy="2286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6720" y="4546440"/>
            <a:ext cx="203400" cy="22860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2320" y="3860640"/>
            <a:ext cx="236520" cy="2016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02400" y="5121360"/>
            <a:ext cx="203040" cy="2602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35720" y="5232240"/>
            <a:ext cx="236520" cy="2016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67320" y="4430880"/>
            <a:ext cx="220680" cy="24732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180" y="210"/>
                </a:moveTo>
                <a:cubicBezTo>
                  <a:pt x="210" y="180"/>
                  <a:pt x="330" y="240"/>
                  <a:pt x="360" y="210"/>
                </a:cubicBezTo>
                <a:cubicBezTo>
                  <a:pt x="390" y="180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50" y="390"/>
                  <a:pt x="180" y="390"/>
                </a:cubicBezTo>
                <a:cubicBezTo>
                  <a:pt x="210" y="390"/>
                  <a:pt x="150" y="240"/>
                  <a:pt x="180" y="210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2160" y="3860640"/>
            <a:ext cx="228600" cy="26532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50120" y="5459400"/>
            <a:ext cx="152280" cy="258840"/>
          </a:xfrm>
          <a:custGeom>
            <a:avLst/>
            <a:gdLst/>
            <a:ahLst/>
            <a:rect l="l" t="t" r="r" b="b"/>
            <a:pathLst>
              <a:path w="390" h="408">
                <a:moveTo>
                  <a:pt x="315" y="318"/>
                </a:moveTo>
                <a:cubicBezTo>
                  <a:pt x="345" y="288"/>
                  <a:pt x="353" y="258"/>
                  <a:pt x="360" y="210"/>
                </a:cubicBezTo>
                <a:cubicBezTo>
                  <a:pt x="367" y="16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28" y="372"/>
                  <a:pt x="180" y="390"/>
                </a:cubicBezTo>
                <a:cubicBezTo>
                  <a:pt x="232" y="408"/>
                  <a:pt x="285" y="348"/>
                  <a:pt x="315" y="31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6037920" y="4702680"/>
            <a:ext cx="247680" cy="2206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180" y="210"/>
                </a:moveTo>
                <a:cubicBezTo>
                  <a:pt x="210" y="180"/>
                  <a:pt x="330" y="240"/>
                  <a:pt x="360" y="210"/>
                </a:cubicBezTo>
                <a:cubicBezTo>
                  <a:pt x="390" y="180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50" y="390"/>
                  <a:pt x="180" y="390"/>
                </a:cubicBezTo>
                <a:cubicBezTo>
                  <a:pt x="210" y="390"/>
                  <a:pt x="150" y="240"/>
                  <a:pt x="180" y="210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977520" y="5472720"/>
            <a:ext cx="247680" cy="2206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180" y="210"/>
                </a:moveTo>
                <a:cubicBezTo>
                  <a:pt x="210" y="180"/>
                  <a:pt x="330" y="240"/>
                  <a:pt x="360" y="210"/>
                </a:cubicBezTo>
                <a:cubicBezTo>
                  <a:pt x="390" y="180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50" y="390"/>
                  <a:pt x="180" y="390"/>
                </a:cubicBezTo>
                <a:cubicBezTo>
                  <a:pt x="210" y="390"/>
                  <a:pt x="150" y="240"/>
                  <a:pt x="180" y="210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64520" y="4775040"/>
            <a:ext cx="228600" cy="26532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670080" y="4738680"/>
            <a:ext cx="228600" cy="26496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219080" y="5167440"/>
            <a:ext cx="228600" cy="26496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35720" y="5460840"/>
            <a:ext cx="228600" cy="26532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8080" y="4203720"/>
            <a:ext cx="203040" cy="2286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0280" y="4203720"/>
            <a:ext cx="20952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59600" y="4948200"/>
            <a:ext cx="20952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6990480" y="4545360"/>
            <a:ext cx="236520" cy="23508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6685560" y="5574240"/>
            <a:ext cx="236520" cy="2347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6076440" y="5116680"/>
            <a:ext cx="21132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6043680" y="4203720"/>
            <a:ext cx="20952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0800000">
            <a:off x="5365800" y="4773600"/>
            <a:ext cx="21096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83080" y="4995720"/>
            <a:ext cx="878040" cy="198720"/>
          </a:xfrm>
          <a:custGeom>
            <a:avLst/>
            <a:gdLst/>
            <a:ahLst/>
            <a:rect l="l" t="t" r="r" b="b"/>
            <a:pathLst>
              <a:path w="1556" h="313">
                <a:moveTo>
                  <a:pt x="1530" y="13"/>
                </a:moveTo>
                <a:cubicBezTo>
                  <a:pt x="1417" y="51"/>
                  <a:pt x="1556" y="0"/>
                  <a:pt x="1440" y="58"/>
                </a:cubicBezTo>
                <a:cubicBezTo>
                  <a:pt x="1388" y="84"/>
                  <a:pt x="1328" y="95"/>
                  <a:pt x="1275" y="118"/>
                </a:cubicBezTo>
                <a:cubicBezTo>
                  <a:pt x="1143" y="175"/>
                  <a:pt x="1294" y="122"/>
                  <a:pt x="1140" y="178"/>
                </a:cubicBezTo>
                <a:cubicBezTo>
                  <a:pt x="1050" y="211"/>
                  <a:pt x="960" y="223"/>
                  <a:pt x="870" y="253"/>
                </a:cubicBezTo>
                <a:cubicBezTo>
                  <a:pt x="845" y="248"/>
                  <a:pt x="819" y="247"/>
                  <a:pt x="795" y="238"/>
                </a:cubicBezTo>
                <a:cubicBezTo>
                  <a:pt x="778" y="232"/>
                  <a:pt x="767" y="213"/>
                  <a:pt x="750" y="208"/>
                </a:cubicBezTo>
                <a:cubicBezTo>
                  <a:pt x="672" y="185"/>
                  <a:pt x="589" y="181"/>
                  <a:pt x="510" y="163"/>
                </a:cubicBezTo>
                <a:cubicBezTo>
                  <a:pt x="385" y="168"/>
                  <a:pt x="259" y="165"/>
                  <a:pt x="135" y="178"/>
                </a:cubicBezTo>
                <a:cubicBezTo>
                  <a:pt x="58" y="186"/>
                  <a:pt x="80" y="313"/>
                  <a:pt x="0" y="313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29440" y="5156280"/>
            <a:ext cx="203040" cy="685800"/>
          </a:xfrm>
          <a:custGeom>
            <a:avLst/>
            <a:gdLst/>
            <a:ahLst/>
            <a:rect l="l" t="t" r="r" b="b"/>
            <a:pathLst>
              <a:path w="360" h="1080">
                <a:moveTo>
                  <a:pt x="330" y="0"/>
                </a:moveTo>
                <a:cubicBezTo>
                  <a:pt x="345" y="46"/>
                  <a:pt x="360" y="82"/>
                  <a:pt x="360" y="135"/>
                </a:cubicBezTo>
                <a:cubicBezTo>
                  <a:pt x="360" y="298"/>
                  <a:pt x="324" y="340"/>
                  <a:pt x="210" y="435"/>
                </a:cubicBezTo>
                <a:cubicBezTo>
                  <a:pt x="95" y="531"/>
                  <a:pt x="232" y="436"/>
                  <a:pt x="120" y="510"/>
                </a:cubicBezTo>
                <a:cubicBezTo>
                  <a:pt x="98" y="542"/>
                  <a:pt x="64" y="566"/>
                  <a:pt x="45" y="600"/>
                </a:cubicBezTo>
                <a:cubicBezTo>
                  <a:pt x="21" y="643"/>
                  <a:pt x="10" y="717"/>
                  <a:pt x="0" y="765"/>
                </a:cubicBezTo>
                <a:cubicBezTo>
                  <a:pt x="5" y="825"/>
                  <a:pt x="5" y="886"/>
                  <a:pt x="15" y="945"/>
                </a:cubicBezTo>
                <a:cubicBezTo>
                  <a:pt x="20" y="976"/>
                  <a:pt x="35" y="1005"/>
                  <a:pt x="45" y="1035"/>
                </a:cubicBezTo>
                <a:cubicBezTo>
                  <a:pt x="51" y="1052"/>
                  <a:pt x="75" y="1080"/>
                  <a:pt x="75" y="108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11840" y="5432400"/>
            <a:ext cx="519120" cy="390600"/>
          </a:xfrm>
          <a:custGeom>
            <a:avLst/>
            <a:gdLst/>
            <a:ahLst/>
            <a:rect l="l" t="t" r="r" b="b"/>
            <a:pathLst>
              <a:path w="919" h="615">
                <a:moveTo>
                  <a:pt x="919" y="0"/>
                </a:moveTo>
                <a:cubicBezTo>
                  <a:pt x="887" y="11"/>
                  <a:pt x="861" y="35"/>
                  <a:pt x="829" y="45"/>
                </a:cubicBezTo>
                <a:cubicBezTo>
                  <a:pt x="734" y="73"/>
                  <a:pt x="612" y="78"/>
                  <a:pt x="514" y="90"/>
                </a:cubicBezTo>
                <a:cubicBezTo>
                  <a:pt x="406" y="126"/>
                  <a:pt x="281" y="138"/>
                  <a:pt x="169" y="150"/>
                </a:cubicBezTo>
                <a:cubicBezTo>
                  <a:pt x="139" y="160"/>
                  <a:pt x="89" y="150"/>
                  <a:pt x="79" y="180"/>
                </a:cubicBezTo>
                <a:cubicBezTo>
                  <a:pt x="54" y="254"/>
                  <a:pt x="8" y="307"/>
                  <a:pt x="4" y="390"/>
                </a:cubicBezTo>
                <a:cubicBezTo>
                  <a:pt x="0" y="465"/>
                  <a:pt x="4" y="540"/>
                  <a:pt x="4" y="615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2600" y="4422600"/>
            <a:ext cx="804960" cy="181080"/>
          </a:xfrm>
          <a:custGeom>
            <a:avLst/>
            <a:gdLst/>
            <a:ahLst/>
            <a:rect l="l" t="t" r="r" b="b"/>
            <a:pathLst>
              <a:path w="1425" h="285">
                <a:moveTo>
                  <a:pt x="0" y="285"/>
                </a:moveTo>
                <a:cubicBezTo>
                  <a:pt x="69" y="239"/>
                  <a:pt x="146" y="206"/>
                  <a:pt x="225" y="180"/>
                </a:cubicBezTo>
                <a:cubicBezTo>
                  <a:pt x="240" y="175"/>
                  <a:pt x="255" y="170"/>
                  <a:pt x="270" y="165"/>
                </a:cubicBezTo>
                <a:cubicBezTo>
                  <a:pt x="285" y="160"/>
                  <a:pt x="315" y="150"/>
                  <a:pt x="315" y="150"/>
                </a:cubicBezTo>
                <a:cubicBezTo>
                  <a:pt x="561" y="166"/>
                  <a:pt x="740" y="186"/>
                  <a:pt x="1005" y="150"/>
                </a:cubicBezTo>
                <a:cubicBezTo>
                  <a:pt x="1070" y="141"/>
                  <a:pt x="1107" y="61"/>
                  <a:pt x="1170" y="45"/>
                </a:cubicBezTo>
                <a:cubicBezTo>
                  <a:pt x="1256" y="24"/>
                  <a:pt x="1336" y="0"/>
                  <a:pt x="1425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62600" y="4657680"/>
            <a:ext cx="804960" cy="498600"/>
          </a:xfrm>
          <a:custGeom>
            <a:avLst/>
            <a:gdLst/>
            <a:ahLst/>
            <a:rect l="l" t="t" r="r" b="b"/>
            <a:pathLst>
              <a:path w="1425" h="785">
                <a:moveTo>
                  <a:pt x="0" y="20"/>
                </a:moveTo>
                <a:cubicBezTo>
                  <a:pt x="86" y="3"/>
                  <a:pt x="150" y="0"/>
                  <a:pt x="225" y="50"/>
                </a:cubicBezTo>
                <a:cubicBezTo>
                  <a:pt x="265" y="110"/>
                  <a:pt x="305" y="170"/>
                  <a:pt x="345" y="230"/>
                </a:cubicBezTo>
                <a:cubicBezTo>
                  <a:pt x="363" y="257"/>
                  <a:pt x="382" y="298"/>
                  <a:pt x="420" y="305"/>
                </a:cubicBezTo>
                <a:cubicBezTo>
                  <a:pt x="484" y="317"/>
                  <a:pt x="550" y="315"/>
                  <a:pt x="615" y="320"/>
                </a:cubicBezTo>
                <a:cubicBezTo>
                  <a:pt x="663" y="336"/>
                  <a:pt x="719" y="342"/>
                  <a:pt x="765" y="365"/>
                </a:cubicBezTo>
                <a:cubicBezTo>
                  <a:pt x="869" y="417"/>
                  <a:pt x="745" y="379"/>
                  <a:pt x="870" y="410"/>
                </a:cubicBezTo>
                <a:cubicBezTo>
                  <a:pt x="921" y="444"/>
                  <a:pt x="957" y="478"/>
                  <a:pt x="990" y="530"/>
                </a:cubicBezTo>
                <a:cubicBezTo>
                  <a:pt x="1015" y="570"/>
                  <a:pt x="1020" y="635"/>
                  <a:pt x="1065" y="650"/>
                </a:cubicBezTo>
                <a:cubicBezTo>
                  <a:pt x="1121" y="669"/>
                  <a:pt x="1164" y="699"/>
                  <a:pt x="1215" y="725"/>
                </a:cubicBezTo>
                <a:cubicBezTo>
                  <a:pt x="1266" y="750"/>
                  <a:pt x="1326" y="767"/>
                  <a:pt x="1380" y="785"/>
                </a:cubicBezTo>
                <a:cubicBezTo>
                  <a:pt x="1395" y="780"/>
                  <a:pt x="1425" y="770"/>
                  <a:pt x="1425" y="77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7240" y="4775040"/>
            <a:ext cx="101520" cy="22860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10360" y="3992400"/>
            <a:ext cx="236520" cy="1749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29520" y="5543640"/>
            <a:ext cx="203040" cy="34272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86680" y="4186080"/>
            <a:ext cx="220680" cy="258840"/>
          </a:xfrm>
          <a:custGeom>
            <a:avLst/>
            <a:gdLst/>
            <a:ahLst/>
            <a:rect l="l" t="t" r="r" b="b"/>
            <a:pathLst>
              <a:path w="390" h="408">
                <a:moveTo>
                  <a:pt x="315" y="318"/>
                </a:moveTo>
                <a:cubicBezTo>
                  <a:pt x="345" y="288"/>
                  <a:pt x="353" y="258"/>
                  <a:pt x="360" y="210"/>
                </a:cubicBezTo>
                <a:cubicBezTo>
                  <a:pt x="367" y="16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28" y="372"/>
                  <a:pt x="180" y="390"/>
                </a:cubicBezTo>
                <a:cubicBezTo>
                  <a:pt x="232" y="408"/>
                  <a:pt x="285" y="348"/>
                  <a:pt x="315" y="31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70720" y="3859200"/>
            <a:ext cx="220320" cy="258840"/>
          </a:xfrm>
          <a:custGeom>
            <a:avLst/>
            <a:gdLst/>
            <a:ahLst/>
            <a:rect l="l" t="t" r="r" b="b"/>
            <a:pathLst>
              <a:path w="390" h="408">
                <a:moveTo>
                  <a:pt x="315" y="318"/>
                </a:moveTo>
                <a:cubicBezTo>
                  <a:pt x="345" y="288"/>
                  <a:pt x="353" y="258"/>
                  <a:pt x="360" y="210"/>
                </a:cubicBezTo>
                <a:cubicBezTo>
                  <a:pt x="367" y="16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28" y="372"/>
                  <a:pt x="180" y="390"/>
                </a:cubicBezTo>
                <a:cubicBezTo>
                  <a:pt x="232" y="408"/>
                  <a:pt x="285" y="348"/>
                  <a:pt x="315" y="31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53200" y="4603680"/>
            <a:ext cx="287280" cy="257400"/>
          </a:xfrm>
          <a:custGeom>
            <a:avLst/>
            <a:gdLst/>
            <a:ahLst/>
            <a:rect l="l" t="t" r="r" b="b"/>
            <a:pathLst>
              <a:path w="510" h="405">
                <a:moveTo>
                  <a:pt x="0" y="405"/>
                </a:moveTo>
                <a:cubicBezTo>
                  <a:pt x="30" y="400"/>
                  <a:pt x="61" y="400"/>
                  <a:pt x="90" y="390"/>
                </a:cubicBezTo>
                <a:cubicBezTo>
                  <a:pt x="144" y="372"/>
                  <a:pt x="131" y="353"/>
                  <a:pt x="165" y="315"/>
                </a:cubicBezTo>
                <a:cubicBezTo>
                  <a:pt x="193" y="283"/>
                  <a:pt x="225" y="255"/>
                  <a:pt x="255" y="225"/>
                </a:cubicBezTo>
                <a:cubicBezTo>
                  <a:pt x="430" y="50"/>
                  <a:pt x="233" y="190"/>
                  <a:pt x="360" y="105"/>
                </a:cubicBezTo>
                <a:cubicBezTo>
                  <a:pt x="370" y="90"/>
                  <a:pt x="376" y="71"/>
                  <a:pt x="390" y="60"/>
                </a:cubicBezTo>
                <a:cubicBezTo>
                  <a:pt x="402" y="50"/>
                  <a:pt x="421" y="52"/>
                  <a:pt x="435" y="45"/>
                </a:cubicBezTo>
                <a:cubicBezTo>
                  <a:pt x="461" y="32"/>
                  <a:pt x="484" y="13"/>
                  <a:pt x="510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1640" y="5156280"/>
            <a:ext cx="509400" cy="704880"/>
          </a:xfrm>
          <a:custGeom>
            <a:avLst/>
            <a:gdLst/>
            <a:ahLst/>
            <a:rect l="l" t="t" r="r" b="b"/>
            <a:pathLst>
              <a:path w="903" h="1110">
                <a:moveTo>
                  <a:pt x="45" y="0"/>
                </a:moveTo>
                <a:cubicBezTo>
                  <a:pt x="35" y="30"/>
                  <a:pt x="25" y="60"/>
                  <a:pt x="15" y="90"/>
                </a:cubicBezTo>
                <a:cubicBezTo>
                  <a:pt x="10" y="105"/>
                  <a:pt x="0" y="135"/>
                  <a:pt x="0" y="135"/>
                </a:cubicBezTo>
                <a:cubicBezTo>
                  <a:pt x="5" y="190"/>
                  <a:pt x="3" y="246"/>
                  <a:pt x="15" y="300"/>
                </a:cubicBezTo>
                <a:cubicBezTo>
                  <a:pt x="35" y="392"/>
                  <a:pt x="108" y="423"/>
                  <a:pt x="180" y="435"/>
                </a:cubicBezTo>
                <a:cubicBezTo>
                  <a:pt x="210" y="480"/>
                  <a:pt x="262" y="472"/>
                  <a:pt x="285" y="525"/>
                </a:cubicBezTo>
                <a:cubicBezTo>
                  <a:pt x="291" y="540"/>
                  <a:pt x="289" y="559"/>
                  <a:pt x="300" y="570"/>
                </a:cubicBezTo>
                <a:cubicBezTo>
                  <a:pt x="392" y="662"/>
                  <a:pt x="448" y="634"/>
                  <a:pt x="585" y="645"/>
                </a:cubicBezTo>
                <a:cubicBezTo>
                  <a:pt x="600" y="655"/>
                  <a:pt x="618" y="661"/>
                  <a:pt x="630" y="675"/>
                </a:cubicBezTo>
                <a:cubicBezTo>
                  <a:pt x="644" y="692"/>
                  <a:pt x="642" y="722"/>
                  <a:pt x="660" y="735"/>
                </a:cubicBezTo>
                <a:cubicBezTo>
                  <a:pt x="685" y="754"/>
                  <a:pt x="750" y="765"/>
                  <a:pt x="750" y="765"/>
                </a:cubicBezTo>
                <a:cubicBezTo>
                  <a:pt x="780" y="810"/>
                  <a:pt x="810" y="855"/>
                  <a:pt x="840" y="900"/>
                </a:cubicBezTo>
                <a:cubicBezTo>
                  <a:pt x="849" y="913"/>
                  <a:pt x="848" y="931"/>
                  <a:pt x="855" y="945"/>
                </a:cubicBezTo>
                <a:cubicBezTo>
                  <a:pt x="877" y="990"/>
                  <a:pt x="894" y="985"/>
                  <a:pt x="900" y="1035"/>
                </a:cubicBezTo>
                <a:cubicBezTo>
                  <a:pt x="903" y="1060"/>
                  <a:pt x="900" y="1085"/>
                  <a:pt x="900" y="111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00960" y="5451480"/>
            <a:ext cx="71280" cy="395280"/>
          </a:xfrm>
          <a:custGeom>
            <a:avLst/>
            <a:gdLst/>
            <a:ahLst/>
            <a:rect l="l" t="t" r="r" b="b"/>
            <a:pathLst>
              <a:path w="128" h="623">
                <a:moveTo>
                  <a:pt x="107" y="0"/>
                </a:moveTo>
                <a:cubicBezTo>
                  <a:pt x="128" y="63"/>
                  <a:pt x="103" y="98"/>
                  <a:pt x="92" y="165"/>
                </a:cubicBezTo>
                <a:cubicBezTo>
                  <a:pt x="71" y="291"/>
                  <a:pt x="42" y="415"/>
                  <a:pt x="17" y="540"/>
                </a:cubicBezTo>
                <a:cubicBezTo>
                  <a:pt x="0" y="623"/>
                  <a:pt x="2" y="559"/>
                  <a:pt x="2" y="60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56240" y="4432320"/>
            <a:ext cx="101880" cy="11412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85120" y="4659480"/>
            <a:ext cx="101520" cy="11412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81720" y="4773600"/>
            <a:ext cx="101520" cy="11448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53160" y="4260960"/>
            <a:ext cx="10152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5533920" y="4090320"/>
            <a:ext cx="236520" cy="23328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40280" y="4775040"/>
            <a:ext cx="20952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5680080" y="4500720"/>
            <a:ext cx="209520" cy="263520"/>
          </a:xfrm>
          <a:custGeom>
            <a:avLst/>
            <a:gdLst/>
            <a:ahLst/>
            <a:rect l="l" t="t" r="r" b="b"/>
            <a:pathLst>
              <a:path w="373" h="415">
                <a:moveTo>
                  <a:pt x="32" y="378"/>
                </a:moveTo>
                <a:cubicBezTo>
                  <a:pt x="2" y="348"/>
                  <a:pt x="45" y="268"/>
                  <a:pt x="47" y="210"/>
                </a:cubicBezTo>
                <a:cubicBezTo>
                  <a:pt x="49" y="152"/>
                  <a:pt x="0" y="59"/>
                  <a:pt x="47" y="30"/>
                </a:cubicBezTo>
                <a:cubicBezTo>
                  <a:pt x="94" y="1"/>
                  <a:pt x="289" y="0"/>
                  <a:pt x="331" y="33"/>
                </a:cubicBezTo>
                <a:cubicBezTo>
                  <a:pt x="373" y="66"/>
                  <a:pt x="318" y="169"/>
                  <a:pt x="301" y="228"/>
                </a:cubicBezTo>
                <a:cubicBezTo>
                  <a:pt x="284" y="287"/>
                  <a:pt x="272" y="365"/>
                  <a:pt x="227" y="390"/>
                </a:cubicBezTo>
                <a:cubicBezTo>
                  <a:pt x="182" y="415"/>
                  <a:pt x="62" y="408"/>
                  <a:pt x="32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50080" y="4489560"/>
            <a:ext cx="237960" cy="1746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271560" y="4100400"/>
            <a:ext cx="228600" cy="26532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05440" y="4984920"/>
            <a:ext cx="236880" cy="17460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729000">
            <a:off x="6838920" y="5235120"/>
            <a:ext cx="101520" cy="22860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7035120" y="5186160"/>
            <a:ext cx="114480" cy="20340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rot="5400000">
            <a:off x="5775120" y="5193360"/>
            <a:ext cx="257040" cy="236520"/>
          </a:xfrm>
          <a:custGeom>
            <a:avLst/>
            <a:gdLst/>
            <a:ahLst/>
            <a:rect l="l" t="t" r="r" b="b"/>
            <a:pathLst>
              <a:path w="405" h="418">
                <a:moveTo>
                  <a:pt x="375" y="378"/>
                </a:moveTo>
                <a:cubicBezTo>
                  <a:pt x="405" y="348"/>
                  <a:pt x="362" y="268"/>
                  <a:pt x="360" y="210"/>
                </a:cubicBezTo>
                <a:cubicBezTo>
                  <a:pt x="358" y="152"/>
                  <a:pt x="390" y="60"/>
                  <a:pt x="360" y="30"/>
                </a:cubicBezTo>
                <a:cubicBezTo>
                  <a:pt x="330" y="0"/>
                  <a:pt x="240" y="0"/>
                  <a:pt x="180" y="30"/>
                </a:cubicBezTo>
                <a:cubicBezTo>
                  <a:pt x="120" y="60"/>
                  <a:pt x="0" y="150"/>
                  <a:pt x="0" y="210"/>
                </a:cubicBezTo>
                <a:cubicBezTo>
                  <a:pt x="0" y="270"/>
                  <a:pt x="118" y="362"/>
                  <a:pt x="180" y="390"/>
                </a:cubicBezTo>
                <a:cubicBezTo>
                  <a:pt x="242" y="418"/>
                  <a:pt x="345" y="408"/>
                  <a:pt x="375" y="378"/>
                </a:cubicBezTo>
                <a:close/>
              </a:path>
            </a:pathLst>
          </a:cu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729000">
            <a:off x="6289560" y="5495400"/>
            <a:ext cx="101880" cy="22860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8640" y="5357880"/>
            <a:ext cx="634680" cy="223920"/>
          </a:xfrm>
          <a:custGeom>
            <a:avLst/>
            <a:gdLst/>
            <a:ahLst/>
            <a:rect l="l" t="t" r="r" b="b"/>
            <a:pathLst>
              <a:path w="1123" h="353">
                <a:moveTo>
                  <a:pt x="32" y="342"/>
                </a:moveTo>
                <a:cubicBezTo>
                  <a:pt x="0" y="353"/>
                  <a:pt x="210" y="185"/>
                  <a:pt x="178" y="195"/>
                </a:cubicBezTo>
                <a:cubicBezTo>
                  <a:pt x="83" y="223"/>
                  <a:pt x="441" y="63"/>
                  <a:pt x="343" y="75"/>
                </a:cubicBezTo>
                <a:cubicBezTo>
                  <a:pt x="235" y="111"/>
                  <a:pt x="635" y="63"/>
                  <a:pt x="523" y="75"/>
                </a:cubicBezTo>
                <a:cubicBezTo>
                  <a:pt x="493" y="85"/>
                  <a:pt x="608" y="195"/>
                  <a:pt x="598" y="225"/>
                </a:cubicBezTo>
                <a:cubicBezTo>
                  <a:pt x="573" y="299"/>
                  <a:pt x="812" y="127"/>
                  <a:pt x="808" y="210"/>
                </a:cubicBezTo>
                <a:cubicBezTo>
                  <a:pt x="804" y="285"/>
                  <a:pt x="1123" y="0"/>
                  <a:pt x="1123" y="75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78280" y="2859120"/>
            <a:ext cx="1355760" cy="8953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7640" y="2909880"/>
            <a:ext cx="1336680" cy="2987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60640" y="2879640"/>
            <a:ext cx="3829320" cy="8938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880800" y="2088000"/>
            <a:ext cx="894960" cy="1068480"/>
            <a:chOff x="3880800" y="2088000"/>
            <a:chExt cx="894960" cy="1068480"/>
          </a:xfrm>
        </p:grpSpPr>
        <p:sp>
          <p:nvSpPr>
            <p:cNvPr id="174" name=""/>
            <p:cNvSpPr/>
            <p:nvPr/>
          </p:nvSpPr>
          <p:spPr>
            <a:xfrm rot="1789800">
              <a:off x="4090320" y="2138760"/>
              <a:ext cx="461880" cy="966960"/>
            </a:xfrm>
            <a:custGeom>
              <a:avLst/>
              <a:gdLst/>
              <a:ahLst/>
              <a:rect l="l" t="t" r="r" b="b"/>
              <a:pathLst>
                <a:path w="1648" h="2586">
                  <a:moveTo>
                    <a:pt x="453" y="2184"/>
                  </a:moveTo>
                  <a:lnTo>
                    <a:pt x="446" y="2197"/>
                  </a:lnTo>
                  <a:lnTo>
                    <a:pt x="425" y="2231"/>
                  </a:lnTo>
                  <a:lnTo>
                    <a:pt x="395" y="2280"/>
                  </a:lnTo>
                  <a:lnTo>
                    <a:pt x="357" y="2340"/>
                  </a:lnTo>
                  <a:lnTo>
                    <a:pt x="312" y="2402"/>
                  </a:lnTo>
                  <a:lnTo>
                    <a:pt x="262" y="2464"/>
                  </a:lnTo>
                  <a:lnTo>
                    <a:pt x="213" y="2519"/>
                  </a:lnTo>
                  <a:lnTo>
                    <a:pt x="163" y="2562"/>
                  </a:lnTo>
                  <a:lnTo>
                    <a:pt x="117" y="2586"/>
                  </a:lnTo>
                  <a:lnTo>
                    <a:pt x="75" y="2586"/>
                  </a:lnTo>
                  <a:lnTo>
                    <a:pt x="75" y="2586"/>
                  </a:lnTo>
                  <a:lnTo>
                    <a:pt x="27" y="2552"/>
                  </a:lnTo>
                  <a:lnTo>
                    <a:pt x="3" y="2500"/>
                  </a:lnTo>
                  <a:lnTo>
                    <a:pt x="0" y="2434"/>
                  </a:lnTo>
                  <a:lnTo>
                    <a:pt x="14" y="2360"/>
                  </a:lnTo>
                  <a:lnTo>
                    <a:pt x="37" y="2285"/>
                  </a:lnTo>
                  <a:lnTo>
                    <a:pt x="67" y="2212"/>
                  </a:lnTo>
                  <a:lnTo>
                    <a:pt x="99" y="2144"/>
                  </a:lnTo>
                  <a:lnTo>
                    <a:pt x="128" y="2090"/>
                  </a:lnTo>
                  <a:lnTo>
                    <a:pt x="149" y="2055"/>
                  </a:lnTo>
                  <a:lnTo>
                    <a:pt x="157" y="2042"/>
                  </a:lnTo>
                  <a:lnTo>
                    <a:pt x="157" y="2042"/>
                  </a:lnTo>
                  <a:lnTo>
                    <a:pt x="189" y="1986"/>
                  </a:lnTo>
                  <a:lnTo>
                    <a:pt x="280" y="1836"/>
                  </a:lnTo>
                  <a:lnTo>
                    <a:pt x="414" y="1612"/>
                  </a:lnTo>
                  <a:lnTo>
                    <a:pt x="577" y="1341"/>
                  </a:lnTo>
                  <a:lnTo>
                    <a:pt x="755" y="1045"/>
                  </a:lnTo>
                  <a:lnTo>
                    <a:pt x="934" y="749"/>
                  </a:lnTo>
                  <a:lnTo>
                    <a:pt x="1101" y="474"/>
                  </a:lnTo>
                  <a:lnTo>
                    <a:pt x="1240" y="245"/>
                  </a:lnTo>
                  <a:lnTo>
                    <a:pt x="1337" y="87"/>
                  </a:lnTo>
                  <a:lnTo>
                    <a:pt x="1379" y="23"/>
                  </a:lnTo>
                  <a:lnTo>
                    <a:pt x="1379" y="23"/>
                  </a:lnTo>
                  <a:lnTo>
                    <a:pt x="1401" y="7"/>
                  </a:lnTo>
                  <a:lnTo>
                    <a:pt x="1430" y="0"/>
                  </a:lnTo>
                  <a:lnTo>
                    <a:pt x="1464" y="4"/>
                  </a:lnTo>
                  <a:lnTo>
                    <a:pt x="1499" y="15"/>
                  </a:lnTo>
                  <a:lnTo>
                    <a:pt x="1536" y="32"/>
                  </a:lnTo>
                  <a:lnTo>
                    <a:pt x="1569" y="55"/>
                  </a:lnTo>
                  <a:lnTo>
                    <a:pt x="1601" y="82"/>
                  </a:lnTo>
                  <a:lnTo>
                    <a:pt x="1625" y="112"/>
                  </a:lnTo>
                  <a:lnTo>
                    <a:pt x="1641" y="146"/>
                  </a:lnTo>
                  <a:lnTo>
                    <a:pt x="1648" y="181"/>
                  </a:lnTo>
                  <a:lnTo>
                    <a:pt x="453" y="2184"/>
                  </a:lnTo>
                  <a:close/>
                </a:path>
              </a:pathLst>
            </a:custGeom>
            <a:solidFill>
              <a:srgbClr val="b1bed8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789800">
              <a:off x="4113360" y="2134440"/>
              <a:ext cx="40896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  <a:lnTo>
                    <a:pt x="1459" y="9"/>
                  </a:lnTo>
                  <a:lnTo>
                    <a:pt x="1455" y="8"/>
                  </a:lnTo>
                  <a:lnTo>
                    <a:pt x="1450" y="6"/>
                  </a:lnTo>
                  <a:lnTo>
                    <a:pt x="1445" y="4"/>
                  </a:lnTo>
                  <a:lnTo>
                    <a:pt x="1439" y="3"/>
                  </a:lnTo>
                  <a:lnTo>
                    <a:pt x="1434" y="3"/>
                  </a:lnTo>
                  <a:lnTo>
                    <a:pt x="1429" y="1"/>
                  </a:lnTo>
                  <a:lnTo>
                    <a:pt x="1424" y="1"/>
                  </a:lnTo>
                  <a:lnTo>
                    <a:pt x="1419" y="0"/>
                  </a:lnTo>
                  <a:lnTo>
                    <a:pt x="1415" y="0"/>
                  </a:lnTo>
                  <a:lnTo>
                    <a:pt x="1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789800">
              <a:off x="4130280" y="2178720"/>
              <a:ext cx="41436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  <a:lnTo>
                    <a:pt x="1479" y="42"/>
                  </a:lnTo>
                  <a:lnTo>
                    <a:pt x="1475" y="37"/>
                  </a:lnTo>
                  <a:lnTo>
                    <a:pt x="1472" y="34"/>
                  </a:lnTo>
                  <a:lnTo>
                    <a:pt x="1471" y="29"/>
                  </a:lnTo>
                  <a:lnTo>
                    <a:pt x="1467" y="24"/>
                  </a:lnTo>
                  <a:lnTo>
                    <a:pt x="1464" y="21"/>
                  </a:lnTo>
                  <a:lnTo>
                    <a:pt x="1461" y="16"/>
                  </a:lnTo>
                  <a:lnTo>
                    <a:pt x="1458" y="13"/>
                  </a:lnTo>
                  <a:lnTo>
                    <a:pt x="1455" y="8"/>
                  </a:lnTo>
                  <a:lnTo>
                    <a:pt x="1450" y="5"/>
                  </a:lnTo>
                  <a:lnTo>
                    <a:pt x="1447" y="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789800">
              <a:off x="4088160" y="2149560"/>
              <a:ext cx="461520" cy="955440"/>
            </a:xfrm>
            <a:custGeom>
              <a:avLst/>
              <a:gdLst/>
              <a:ahLst/>
              <a:rect l="l" t="t" r="r" b="b"/>
              <a:pathLst>
                <a:path w="1647" h="2557">
                  <a:moveTo>
                    <a:pt x="1647" y="152"/>
                  </a:moveTo>
                  <a:lnTo>
                    <a:pt x="712" y="1714"/>
                  </a:lnTo>
                  <a:lnTo>
                    <a:pt x="440" y="2173"/>
                  </a:lnTo>
                  <a:lnTo>
                    <a:pt x="440" y="2173"/>
                  </a:lnTo>
                  <a:lnTo>
                    <a:pt x="434" y="2184"/>
                  </a:lnTo>
                  <a:lnTo>
                    <a:pt x="415" y="2218"/>
                  </a:lnTo>
                  <a:lnTo>
                    <a:pt x="384" y="2266"/>
                  </a:lnTo>
                  <a:lnTo>
                    <a:pt x="348" y="2323"/>
                  </a:lnTo>
                  <a:lnTo>
                    <a:pt x="303" y="2386"/>
                  </a:lnTo>
                  <a:lnTo>
                    <a:pt x="255" y="2445"/>
                  </a:lnTo>
                  <a:lnTo>
                    <a:pt x="204" y="2498"/>
                  </a:lnTo>
                  <a:lnTo>
                    <a:pt x="154" y="2536"/>
                  </a:lnTo>
                  <a:lnTo>
                    <a:pt x="104" y="2557"/>
                  </a:lnTo>
                  <a:lnTo>
                    <a:pt x="61" y="2554"/>
                  </a:lnTo>
                  <a:lnTo>
                    <a:pt x="61" y="2554"/>
                  </a:lnTo>
                  <a:lnTo>
                    <a:pt x="20" y="2520"/>
                  </a:lnTo>
                  <a:lnTo>
                    <a:pt x="0" y="2469"/>
                  </a:lnTo>
                  <a:lnTo>
                    <a:pt x="0" y="2405"/>
                  </a:lnTo>
                  <a:lnTo>
                    <a:pt x="13" y="2333"/>
                  </a:lnTo>
                  <a:lnTo>
                    <a:pt x="37" y="2259"/>
                  </a:lnTo>
                  <a:lnTo>
                    <a:pt x="66" y="2187"/>
                  </a:lnTo>
                  <a:lnTo>
                    <a:pt x="95" y="2123"/>
                  </a:lnTo>
                  <a:lnTo>
                    <a:pt x="122" y="2071"/>
                  </a:lnTo>
                  <a:lnTo>
                    <a:pt x="141" y="2035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9" y="2023"/>
                  </a:lnTo>
                  <a:lnTo>
                    <a:pt x="149" y="2023"/>
                  </a:lnTo>
                  <a:lnTo>
                    <a:pt x="149" y="2021"/>
                  </a:lnTo>
                  <a:lnTo>
                    <a:pt x="149" y="2021"/>
                  </a:lnTo>
                  <a:lnTo>
                    <a:pt x="151" y="2019"/>
                  </a:lnTo>
                  <a:lnTo>
                    <a:pt x="151" y="2018"/>
                  </a:lnTo>
                  <a:lnTo>
                    <a:pt x="152" y="2018"/>
                  </a:lnTo>
                  <a:lnTo>
                    <a:pt x="152" y="2016"/>
                  </a:lnTo>
                  <a:lnTo>
                    <a:pt x="152" y="2016"/>
                  </a:lnTo>
                  <a:lnTo>
                    <a:pt x="168" y="1991"/>
                  </a:lnTo>
                  <a:lnTo>
                    <a:pt x="192" y="1949"/>
                  </a:lnTo>
                  <a:lnTo>
                    <a:pt x="228" y="1891"/>
                  </a:lnTo>
                  <a:lnTo>
                    <a:pt x="269" y="1821"/>
                  </a:lnTo>
                  <a:lnTo>
                    <a:pt x="319" y="1739"/>
                  </a:lnTo>
                  <a:lnTo>
                    <a:pt x="375" y="1647"/>
                  </a:lnTo>
                  <a:lnTo>
                    <a:pt x="436" y="1544"/>
                  </a:lnTo>
                  <a:lnTo>
                    <a:pt x="501" y="1435"/>
                  </a:lnTo>
                  <a:lnTo>
                    <a:pt x="570" y="1322"/>
                  </a:lnTo>
                  <a:lnTo>
                    <a:pt x="642" y="1203"/>
                  </a:lnTo>
                  <a:lnTo>
                    <a:pt x="642" y="1203"/>
                  </a:lnTo>
                  <a:lnTo>
                    <a:pt x="743" y="1037"/>
                  </a:lnTo>
                  <a:lnTo>
                    <a:pt x="844" y="869"/>
                  </a:lnTo>
                  <a:lnTo>
                    <a:pt x="943" y="704"/>
                  </a:lnTo>
                  <a:lnTo>
                    <a:pt x="1037" y="547"/>
                  </a:lnTo>
                  <a:lnTo>
                    <a:pt x="1125" y="402"/>
                  </a:lnTo>
                  <a:lnTo>
                    <a:pt x="1204" y="274"/>
                  </a:lnTo>
                  <a:lnTo>
                    <a:pt x="1269" y="165"/>
                  </a:lnTo>
                  <a:lnTo>
                    <a:pt x="1322" y="80"/>
                  </a:lnTo>
                  <a:lnTo>
                    <a:pt x="1357" y="24"/>
                  </a:lnTo>
                  <a:lnTo>
                    <a:pt x="13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789800">
              <a:off x="4113360" y="2134440"/>
              <a:ext cx="40896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  <a:lnTo>
                    <a:pt x="141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89800">
              <a:off x="4113360" y="2134440"/>
              <a:ext cx="40896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789800">
              <a:off x="4130280" y="2178720"/>
              <a:ext cx="41436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  <a:lnTo>
                    <a:pt x="1447" y="0"/>
                  </a:lnTo>
                  <a:close/>
                </a:path>
              </a:pathLst>
            </a:custGeom>
            <a:solidFill>
              <a:srgbClr val="444444"/>
            </a:solidFill>
            <a:ln w="1440">
              <a:solidFill>
                <a:srgbClr val="444444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789800">
              <a:off x="4163040" y="2164680"/>
              <a:ext cx="41436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</a:path>
              </a:pathLst>
            </a:custGeom>
            <a:noFill/>
            <a:ln w="1440">
              <a:solidFill>
                <a:srgbClr val="444444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789800">
              <a:off x="3921840" y="2806560"/>
              <a:ext cx="74520" cy="141840"/>
            </a:xfrm>
            <a:custGeom>
              <a:avLst/>
              <a:gdLst/>
              <a:ahLst/>
              <a:rect l="l" t="t" r="r" b="b"/>
              <a:pathLst>
                <a:path w="265" h="379">
                  <a:moveTo>
                    <a:pt x="33" y="373"/>
                  </a:moveTo>
                  <a:lnTo>
                    <a:pt x="49" y="378"/>
                  </a:lnTo>
                  <a:lnTo>
                    <a:pt x="67" y="379"/>
                  </a:lnTo>
                  <a:lnTo>
                    <a:pt x="88" y="378"/>
                  </a:lnTo>
                  <a:lnTo>
                    <a:pt x="108" y="373"/>
                  </a:lnTo>
                  <a:lnTo>
                    <a:pt x="131" y="365"/>
                  </a:lnTo>
                  <a:lnTo>
                    <a:pt x="153" y="354"/>
                  </a:lnTo>
                  <a:lnTo>
                    <a:pt x="174" y="338"/>
                  </a:lnTo>
                  <a:lnTo>
                    <a:pt x="195" y="320"/>
                  </a:lnTo>
                  <a:lnTo>
                    <a:pt x="216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46" y="242"/>
                  </a:lnTo>
                  <a:lnTo>
                    <a:pt x="256" y="210"/>
                  </a:lnTo>
                  <a:lnTo>
                    <a:pt x="262" y="178"/>
                  </a:lnTo>
                  <a:lnTo>
                    <a:pt x="265" y="146"/>
                  </a:lnTo>
                  <a:lnTo>
                    <a:pt x="264" y="115"/>
                  </a:lnTo>
                  <a:lnTo>
                    <a:pt x="260" y="85"/>
                  </a:lnTo>
                  <a:lnTo>
                    <a:pt x="252" y="59"/>
                  </a:lnTo>
                  <a:lnTo>
                    <a:pt x="243" y="37"/>
                  </a:lnTo>
                  <a:lnTo>
                    <a:pt x="230" y="18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198" y="0"/>
                  </a:lnTo>
                  <a:lnTo>
                    <a:pt x="179" y="0"/>
                  </a:lnTo>
                  <a:lnTo>
                    <a:pt x="161" y="5"/>
                  </a:lnTo>
                  <a:lnTo>
                    <a:pt x="140" y="14"/>
                  </a:lnTo>
                  <a:lnTo>
                    <a:pt x="121" y="29"/>
                  </a:lnTo>
                  <a:lnTo>
                    <a:pt x="102" y="46"/>
                  </a:lnTo>
                  <a:lnTo>
                    <a:pt x="83" y="67"/>
                  </a:lnTo>
                  <a:lnTo>
                    <a:pt x="64" y="91"/>
                  </a:lnTo>
                  <a:lnTo>
                    <a:pt x="46" y="118"/>
                  </a:lnTo>
                  <a:lnTo>
                    <a:pt x="30" y="146"/>
                  </a:lnTo>
                  <a:lnTo>
                    <a:pt x="30" y="146"/>
                  </a:lnTo>
                  <a:lnTo>
                    <a:pt x="16" y="174"/>
                  </a:lnTo>
                  <a:lnTo>
                    <a:pt x="8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11" y="336"/>
                  </a:lnTo>
                  <a:lnTo>
                    <a:pt x="17" y="354"/>
                  </a:lnTo>
                  <a:lnTo>
                    <a:pt x="25" y="365"/>
                  </a:lnTo>
                  <a:lnTo>
                    <a:pt x="33" y="373"/>
                  </a:lnTo>
                  <a:close/>
                </a:path>
              </a:pathLst>
            </a:custGeom>
            <a:solidFill>
              <a:srgbClr val="daecec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789800">
              <a:off x="3988800" y="2521080"/>
              <a:ext cx="249840" cy="500760"/>
            </a:xfrm>
            <a:custGeom>
              <a:avLst/>
              <a:gdLst/>
              <a:ahLst/>
              <a:rect l="l" t="t" r="r" b="b"/>
              <a:pathLst>
                <a:path w="891" h="1341">
                  <a:moveTo>
                    <a:pt x="853" y="171"/>
                  </a:moveTo>
                  <a:lnTo>
                    <a:pt x="280" y="1128"/>
                  </a:lnTo>
                  <a:lnTo>
                    <a:pt x="280" y="1128"/>
                  </a:lnTo>
                  <a:lnTo>
                    <a:pt x="278" y="1136"/>
                  </a:lnTo>
                  <a:lnTo>
                    <a:pt x="277" y="1144"/>
                  </a:lnTo>
                  <a:lnTo>
                    <a:pt x="273" y="1152"/>
                  </a:lnTo>
                  <a:lnTo>
                    <a:pt x="272" y="1160"/>
                  </a:lnTo>
                  <a:lnTo>
                    <a:pt x="269" y="1167"/>
                  </a:lnTo>
                  <a:lnTo>
                    <a:pt x="265" y="1175"/>
                  </a:lnTo>
                  <a:lnTo>
                    <a:pt x="264" y="1183"/>
                  </a:lnTo>
                  <a:lnTo>
                    <a:pt x="259" y="1189"/>
                  </a:lnTo>
                  <a:lnTo>
                    <a:pt x="256" y="1197"/>
                  </a:lnTo>
                  <a:lnTo>
                    <a:pt x="253" y="1203"/>
                  </a:lnTo>
                  <a:lnTo>
                    <a:pt x="253" y="1203"/>
                  </a:lnTo>
                  <a:lnTo>
                    <a:pt x="235" y="1231"/>
                  </a:lnTo>
                  <a:lnTo>
                    <a:pt x="216" y="1253"/>
                  </a:lnTo>
                  <a:lnTo>
                    <a:pt x="195" y="1272"/>
                  </a:lnTo>
                  <a:lnTo>
                    <a:pt x="173" y="1287"/>
                  </a:lnTo>
                  <a:lnTo>
                    <a:pt x="150" y="1298"/>
                  </a:lnTo>
                  <a:lnTo>
                    <a:pt x="129" y="1306"/>
                  </a:lnTo>
                  <a:lnTo>
                    <a:pt x="107" y="1311"/>
                  </a:lnTo>
                  <a:lnTo>
                    <a:pt x="88" y="1312"/>
                  </a:lnTo>
                  <a:lnTo>
                    <a:pt x="69" y="1311"/>
                  </a:lnTo>
                  <a:lnTo>
                    <a:pt x="53" y="1306"/>
                  </a:lnTo>
                  <a:lnTo>
                    <a:pt x="53" y="1306"/>
                  </a:lnTo>
                  <a:lnTo>
                    <a:pt x="45" y="1299"/>
                  </a:lnTo>
                  <a:lnTo>
                    <a:pt x="37" y="1287"/>
                  </a:lnTo>
                  <a:lnTo>
                    <a:pt x="30" y="1269"/>
                  </a:lnTo>
                  <a:lnTo>
                    <a:pt x="25" y="1248"/>
                  </a:lnTo>
                  <a:lnTo>
                    <a:pt x="22" y="1223"/>
                  </a:lnTo>
                  <a:lnTo>
                    <a:pt x="21" y="1195"/>
                  </a:lnTo>
                  <a:lnTo>
                    <a:pt x="22" y="1167"/>
                  </a:lnTo>
                  <a:lnTo>
                    <a:pt x="27" y="1138"/>
                  </a:lnTo>
                  <a:lnTo>
                    <a:pt x="37" y="1107"/>
                  </a:lnTo>
                  <a:lnTo>
                    <a:pt x="49" y="1079"/>
                  </a:lnTo>
                  <a:lnTo>
                    <a:pt x="49" y="1079"/>
                  </a:lnTo>
                  <a:lnTo>
                    <a:pt x="51" y="1077"/>
                  </a:lnTo>
                  <a:lnTo>
                    <a:pt x="53" y="1074"/>
                  </a:lnTo>
                  <a:lnTo>
                    <a:pt x="54" y="1072"/>
                  </a:lnTo>
                  <a:lnTo>
                    <a:pt x="54" y="1071"/>
                  </a:lnTo>
                  <a:lnTo>
                    <a:pt x="56" y="1067"/>
                  </a:lnTo>
                  <a:lnTo>
                    <a:pt x="57" y="1066"/>
                  </a:lnTo>
                  <a:lnTo>
                    <a:pt x="59" y="1064"/>
                  </a:lnTo>
                  <a:lnTo>
                    <a:pt x="61" y="1061"/>
                  </a:lnTo>
                  <a:lnTo>
                    <a:pt x="62" y="1059"/>
                  </a:lnTo>
                  <a:lnTo>
                    <a:pt x="62" y="1058"/>
                  </a:lnTo>
                  <a:lnTo>
                    <a:pt x="677" y="32"/>
                  </a:lnTo>
                  <a:lnTo>
                    <a:pt x="677" y="32"/>
                  </a:lnTo>
                  <a:lnTo>
                    <a:pt x="672" y="29"/>
                  </a:lnTo>
                  <a:lnTo>
                    <a:pt x="667" y="26"/>
                  </a:lnTo>
                  <a:lnTo>
                    <a:pt x="664" y="23"/>
                  </a:lnTo>
                  <a:lnTo>
                    <a:pt x="659" y="19"/>
                  </a:lnTo>
                  <a:lnTo>
                    <a:pt x="654" y="16"/>
                  </a:lnTo>
                  <a:lnTo>
                    <a:pt x="651" y="13"/>
                  </a:lnTo>
                  <a:lnTo>
                    <a:pt x="646" y="10"/>
                  </a:lnTo>
                  <a:lnTo>
                    <a:pt x="643" y="7"/>
                  </a:lnTo>
                  <a:lnTo>
                    <a:pt x="638" y="3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558" y="125"/>
                  </a:lnTo>
                  <a:lnTo>
                    <a:pt x="486" y="247"/>
                  </a:lnTo>
                  <a:lnTo>
                    <a:pt x="417" y="360"/>
                  </a:lnTo>
                  <a:lnTo>
                    <a:pt x="355" y="464"/>
                  </a:lnTo>
                  <a:lnTo>
                    <a:pt x="299" y="559"/>
                  </a:lnTo>
                  <a:lnTo>
                    <a:pt x="251" y="639"/>
                  </a:lnTo>
                  <a:lnTo>
                    <a:pt x="211" y="706"/>
                  </a:lnTo>
                  <a:lnTo>
                    <a:pt x="181" y="755"/>
                  </a:lnTo>
                  <a:lnTo>
                    <a:pt x="161" y="786"/>
                  </a:lnTo>
                  <a:lnTo>
                    <a:pt x="155" y="797"/>
                  </a:lnTo>
                  <a:lnTo>
                    <a:pt x="155" y="797"/>
                  </a:lnTo>
                  <a:lnTo>
                    <a:pt x="147" y="810"/>
                  </a:lnTo>
                  <a:lnTo>
                    <a:pt x="126" y="847"/>
                  </a:lnTo>
                  <a:lnTo>
                    <a:pt x="99" y="899"/>
                  </a:lnTo>
                  <a:lnTo>
                    <a:pt x="67" y="967"/>
                  </a:lnTo>
                  <a:lnTo>
                    <a:pt x="37" y="1040"/>
                  </a:lnTo>
                  <a:lnTo>
                    <a:pt x="13" y="1117"/>
                  </a:lnTo>
                  <a:lnTo>
                    <a:pt x="0" y="1189"/>
                  </a:lnTo>
                  <a:lnTo>
                    <a:pt x="3" y="1255"/>
                  </a:lnTo>
                  <a:lnTo>
                    <a:pt x="25" y="1307"/>
                  </a:lnTo>
                  <a:lnTo>
                    <a:pt x="75" y="1341"/>
                  </a:lnTo>
                  <a:lnTo>
                    <a:pt x="75" y="1341"/>
                  </a:lnTo>
                  <a:lnTo>
                    <a:pt x="117" y="1341"/>
                  </a:lnTo>
                  <a:lnTo>
                    <a:pt x="163" y="1317"/>
                  </a:lnTo>
                  <a:lnTo>
                    <a:pt x="211" y="1275"/>
                  </a:lnTo>
                  <a:lnTo>
                    <a:pt x="262" y="1221"/>
                  </a:lnTo>
                  <a:lnTo>
                    <a:pt x="310" y="1159"/>
                  </a:lnTo>
                  <a:lnTo>
                    <a:pt x="355" y="1095"/>
                  </a:lnTo>
                  <a:lnTo>
                    <a:pt x="393" y="1037"/>
                  </a:lnTo>
                  <a:lnTo>
                    <a:pt x="424" y="987"/>
                  </a:lnTo>
                  <a:lnTo>
                    <a:pt x="443" y="954"/>
                  </a:lnTo>
                  <a:lnTo>
                    <a:pt x="451" y="941"/>
                  </a:lnTo>
                  <a:lnTo>
                    <a:pt x="891" y="202"/>
                  </a:lnTo>
                  <a:lnTo>
                    <a:pt x="891" y="202"/>
                  </a:lnTo>
                  <a:lnTo>
                    <a:pt x="888" y="199"/>
                  </a:lnTo>
                  <a:lnTo>
                    <a:pt x="883" y="195"/>
                  </a:lnTo>
                  <a:lnTo>
                    <a:pt x="880" y="192"/>
                  </a:lnTo>
                  <a:lnTo>
                    <a:pt x="877" y="189"/>
                  </a:lnTo>
                  <a:lnTo>
                    <a:pt x="873" y="186"/>
                  </a:lnTo>
                  <a:lnTo>
                    <a:pt x="869" y="183"/>
                  </a:lnTo>
                  <a:lnTo>
                    <a:pt x="865" y="181"/>
                  </a:lnTo>
                  <a:lnTo>
                    <a:pt x="862" y="178"/>
                  </a:lnTo>
                  <a:lnTo>
                    <a:pt x="857" y="175"/>
                  </a:lnTo>
                  <a:lnTo>
                    <a:pt x="853" y="171"/>
                  </a:lnTo>
                  <a:lnTo>
                    <a:pt x="853" y="171"/>
                  </a:lnTo>
                  <a:close/>
                </a:path>
              </a:pathLst>
            </a:custGeom>
            <a:solidFill>
              <a:srgbClr val="d3d9e8"/>
            </a:solidFill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89800">
              <a:off x="3988800" y="2521080"/>
              <a:ext cx="249840" cy="500760"/>
            </a:xfrm>
            <a:custGeom>
              <a:avLst/>
              <a:gdLst/>
              <a:ahLst/>
              <a:rect l="l" t="t" r="r" b="b"/>
              <a:pathLst>
                <a:path w="891" h="1341">
                  <a:moveTo>
                    <a:pt x="853" y="171"/>
                  </a:moveTo>
                  <a:lnTo>
                    <a:pt x="280" y="1128"/>
                  </a:lnTo>
                  <a:lnTo>
                    <a:pt x="280" y="1128"/>
                  </a:lnTo>
                  <a:lnTo>
                    <a:pt x="278" y="1136"/>
                  </a:lnTo>
                  <a:lnTo>
                    <a:pt x="277" y="1144"/>
                  </a:lnTo>
                  <a:lnTo>
                    <a:pt x="273" y="1152"/>
                  </a:lnTo>
                  <a:lnTo>
                    <a:pt x="272" y="1160"/>
                  </a:lnTo>
                  <a:lnTo>
                    <a:pt x="269" y="1167"/>
                  </a:lnTo>
                  <a:lnTo>
                    <a:pt x="265" y="1175"/>
                  </a:lnTo>
                  <a:lnTo>
                    <a:pt x="264" y="1183"/>
                  </a:lnTo>
                  <a:lnTo>
                    <a:pt x="259" y="1189"/>
                  </a:lnTo>
                  <a:lnTo>
                    <a:pt x="256" y="1197"/>
                  </a:lnTo>
                  <a:lnTo>
                    <a:pt x="253" y="1203"/>
                  </a:lnTo>
                  <a:lnTo>
                    <a:pt x="253" y="1203"/>
                  </a:lnTo>
                  <a:lnTo>
                    <a:pt x="235" y="1231"/>
                  </a:lnTo>
                  <a:lnTo>
                    <a:pt x="216" y="1253"/>
                  </a:lnTo>
                  <a:lnTo>
                    <a:pt x="195" y="1272"/>
                  </a:lnTo>
                  <a:lnTo>
                    <a:pt x="173" y="1287"/>
                  </a:lnTo>
                  <a:lnTo>
                    <a:pt x="150" y="1298"/>
                  </a:lnTo>
                  <a:lnTo>
                    <a:pt x="129" y="1306"/>
                  </a:lnTo>
                  <a:lnTo>
                    <a:pt x="107" y="1311"/>
                  </a:lnTo>
                  <a:lnTo>
                    <a:pt x="88" y="1312"/>
                  </a:lnTo>
                  <a:lnTo>
                    <a:pt x="69" y="1311"/>
                  </a:lnTo>
                  <a:lnTo>
                    <a:pt x="53" y="1306"/>
                  </a:lnTo>
                  <a:lnTo>
                    <a:pt x="53" y="1306"/>
                  </a:lnTo>
                  <a:lnTo>
                    <a:pt x="45" y="1299"/>
                  </a:lnTo>
                  <a:lnTo>
                    <a:pt x="37" y="1287"/>
                  </a:lnTo>
                  <a:lnTo>
                    <a:pt x="30" y="1269"/>
                  </a:lnTo>
                  <a:lnTo>
                    <a:pt x="25" y="1248"/>
                  </a:lnTo>
                  <a:lnTo>
                    <a:pt x="22" y="1223"/>
                  </a:lnTo>
                  <a:lnTo>
                    <a:pt x="21" y="1195"/>
                  </a:lnTo>
                  <a:lnTo>
                    <a:pt x="22" y="1167"/>
                  </a:lnTo>
                  <a:lnTo>
                    <a:pt x="27" y="1138"/>
                  </a:lnTo>
                  <a:lnTo>
                    <a:pt x="37" y="1107"/>
                  </a:lnTo>
                  <a:lnTo>
                    <a:pt x="49" y="1079"/>
                  </a:lnTo>
                  <a:lnTo>
                    <a:pt x="49" y="1079"/>
                  </a:lnTo>
                  <a:lnTo>
                    <a:pt x="51" y="1077"/>
                  </a:lnTo>
                  <a:lnTo>
                    <a:pt x="53" y="1074"/>
                  </a:lnTo>
                  <a:lnTo>
                    <a:pt x="54" y="1072"/>
                  </a:lnTo>
                  <a:lnTo>
                    <a:pt x="54" y="1071"/>
                  </a:lnTo>
                  <a:lnTo>
                    <a:pt x="56" y="1067"/>
                  </a:lnTo>
                  <a:lnTo>
                    <a:pt x="57" y="1066"/>
                  </a:lnTo>
                  <a:lnTo>
                    <a:pt x="59" y="1064"/>
                  </a:lnTo>
                  <a:lnTo>
                    <a:pt x="61" y="1061"/>
                  </a:lnTo>
                  <a:lnTo>
                    <a:pt x="62" y="1059"/>
                  </a:lnTo>
                  <a:lnTo>
                    <a:pt x="62" y="1058"/>
                  </a:lnTo>
                  <a:lnTo>
                    <a:pt x="677" y="32"/>
                  </a:lnTo>
                  <a:lnTo>
                    <a:pt x="677" y="32"/>
                  </a:lnTo>
                  <a:lnTo>
                    <a:pt x="672" y="29"/>
                  </a:lnTo>
                  <a:lnTo>
                    <a:pt x="667" y="26"/>
                  </a:lnTo>
                  <a:lnTo>
                    <a:pt x="664" y="23"/>
                  </a:lnTo>
                  <a:lnTo>
                    <a:pt x="659" y="19"/>
                  </a:lnTo>
                  <a:lnTo>
                    <a:pt x="654" y="16"/>
                  </a:lnTo>
                  <a:lnTo>
                    <a:pt x="651" y="13"/>
                  </a:lnTo>
                  <a:lnTo>
                    <a:pt x="646" y="10"/>
                  </a:lnTo>
                  <a:lnTo>
                    <a:pt x="643" y="7"/>
                  </a:lnTo>
                  <a:lnTo>
                    <a:pt x="638" y="3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558" y="125"/>
                  </a:lnTo>
                  <a:lnTo>
                    <a:pt x="486" y="247"/>
                  </a:lnTo>
                  <a:lnTo>
                    <a:pt x="417" y="360"/>
                  </a:lnTo>
                  <a:lnTo>
                    <a:pt x="355" y="464"/>
                  </a:lnTo>
                  <a:lnTo>
                    <a:pt x="299" y="559"/>
                  </a:lnTo>
                  <a:lnTo>
                    <a:pt x="251" y="639"/>
                  </a:lnTo>
                  <a:lnTo>
                    <a:pt x="211" y="706"/>
                  </a:lnTo>
                  <a:lnTo>
                    <a:pt x="181" y="755"/>
                  </a:lnTo>
                  <a:lnTo>
                    <a:pt x="161" y="786"/>
                  </a:lnTo>
                  <a:lnTo>
                    <a:pt x="155" y="797"/>
                  </a:lnTo>
                  <a:lnTo>
                    <a:pt x="155" y="797"/>
                  </a:lnTo>
                  <a:lnTo>
                    <a:pt x="147" y="810"/>
                  </a:lnTo>
                  <a:lnTo>
                    <a:pt x="126" y="847"/>
                  </a:lnTo>
                  <a:lnTo>
                    <a:pt x="99" y="899"/>
                  </a:lnTo>
                  <a:lnTo>
                    <a:pt x="67" y="967"/>
                  </a:lnTo>
                  <a:lnTo>
                    <a:pt x="37" y="1040"/>
                  </a:lnTo>
                  <a:lnTo>
                    <a:pt x="13" y="1117"/>
                  </a:lnTo>
                  <a:lnTo>
                    <a:pt x="0" y="1189"/>
                  </a:lnTo>
                  <a:lnTo>
                    <a:pt x="3" y="1255"/>
                  </a:lnTo>
                  <a:lnTo>
                    <a:pt x="25" y="1307"/>
                  </a:lnTo>
                  <a:lnTo>
                    <a:pt x="75" y="1341"/>
                  </a:lnTo>
                  <a:lnTo>
                    <a:pt x="75" y="1341"/>
                  </a:lnTo>
                  <a:lnTo>
                    <a:pt x="117" y="1341"/>
                  </a:lnTo>
                  <a:lnTo>
                    <a:pt x="163" y="1317"/>
                  </a:lnTo>
                  <a:lnTo>
                    <a:pt x="211" y="1275"/>
                  </a:lnTo>
                  <a:lnTo>
                    <a:pt x="262" y="1221"/>
                  </a:lnTo>
                  <a:lnTo>
                    <a:pt x="310" y="1159"/>
                  </a:lnTo>
                  <a:lnTo>
                    <a:pt x="355" y="1095"/>
                  </a:lnTo>
                  <a:lnTo>
                    <a:pt x="393" y="1037"/>
                  </a:lnTo>
                  <a:lnTo>
                    <a:pt x="424" y="987"/>
                  </a:lnTo>
                  <a:lnTo>
                    <a:pt x="443" y="954"/>
                  </a:lnTo>
                  <a:lnTo>
                    <a:pt x="451" y="941"/>
                  </a:lnTo>
                  <a:lnTo>
                    <a:pt x="891" y="202"/>
                  </a:lnTo>
                  <a:lnTo>
                    <a:pt x="891" y="202"/>
                  </a:lnTo>
                  <a:lnTo>
                    <a:pt x="888" y="199"/>
                  </a:lnTo>
                  <a:lnTo>
                    <a:pt x="883" y="195"/>
                  </a:lnTo>
                  <a:lnTo>
                    <a:pt x="880" y="192"/>
                  </a:lnTo>
                  <a:lnTo>
                    <a:pt x="877" y="189"/>
                  </a:lnTo>
                  <a:lnTo>
                    <a:pt x="873" y="186"/>
                  </a:lnTo>
                  <a:lnTo>
                    <a:pt x="869" y="183"/>
                  </a:lnTo>
                  <a:lnTo>
                    <a:pt x="865" y="181"/>
                  </a:lnTo>
                  <a:lnTo>
                    <a:pt x="862" y="178"/>
                  </a:lnTo>
                  <a:lnTo>
                    <a:pt x="857" y="175"/>
                  </a:lnTo>
                  <a:lnTo>
                    <a:pt x="853" y="171"/>
                  </a:lnTo>
                  <a:lnTo>
                    <a:pt x="853" y="171"/>
                  </a:lnTo>
                </a:path>
              </a:pathLst>
            </a:custGeom>
            <a:noFill/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789800">
              <a:off x="4032000" y="2531520"/>
              <a:ext cx="183240" cy="382680"/>
            </a:xfrm>
            <a:custGeom>
              <a:avLst/>
              <a:gdLst/>
              <a:ahLst/>
              <a:rect l="l" t="t" r="r" b="b"/>
              <a:pathLst>
                <a:path w="655" h="1026">
                  <a:moveTo>
                    <a:pt x="135" y="901"/>
                  </a:moveTo>
                  <a:lnTo>
                    <a:pt x="655" y="31"/>
                  </a:lnTo>
                  <a:lnTo>
                    <a:pt x="655" y="31"/>
                  </a:lnTo>
                  <a:lnTo>
                    <a:pt x="650" y="27"/>
                  </a:lnTo>
                  <a:lnTo>
                    <a:pt x="647" y="24"/>
                  </a:lnTo>
                  <a:lnTo>
                    <a:pt x="642" y="23"/>
                  </a:lnTo>
                  <a:lnTo>
                    <a:pt x="639" y="19"/>
                  </a:lnTo>
                  <a:lnTo>
                    <a:pt x="634" y="16"/>
                  </a:lnTo>
                  <a:lnTo>
                    <a:pt x="631" y="13"/>
                  </a:lnTo>
                  <a:lnTo>
                    <a:pt x="626" y="10"/>
                  </a:lnTo>
                  <a:lnTo>
                    <a:pt x="623" y="7"/>
                  </a:lnTo>
                  <a:lnTo>
                    <a:pt x="618" y="3"/>
                  </a:lnTo>
                  <a:lnTo>
                    <a:pt x="615" y="0"/>
                  </a:lnTo>
                  <a:lnTo>
                    <a:pt x="0" y="1026"/>
                  </a:lnTo>
                  <a:lnTo>
                    <a:pt x="0" y="1026"/>
                  </a:lnTo>
                  <a:lnTo>
                    <a:pt x="13" y="1007"/>
                  </a:lnTo>
                  <a:lnTo>
                    <a:pt x="26" y="989"/>
                  </a:lnTo>
                  <a:lnTo>
                    <a:pt x="39" y="971"/>
                  </a:lnTo>
                  <a:lnTo>
                    <a:pt x="53" y="955"/>
                  </a:lnTo>
                  <a:lnTo>
                    <a:pt x="66" y="943"/>
                  </a:lnTo>
                  <a:lnTo>
                    <a:pt x="80" y="930"/>
                  </a:lnTo>
                  <a:lnTo>
                    <a:pt x="95" y="920"/>
                  </a:lnTo>
                  <a:lnTo>
                    <a:pt x="107" y="911"/>
                  </a:lnTo>
                  <a:lnTo>
                    <a:pt x="122" y="906"/>
                  </a:lnTo>
                  <a:lnTo>
                    <a:pt x="135" y="901"/>
                  </a:lnTo>
                  <a:lnTo>
                    <a:pt x="135" y="90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789800">
              <a:off x="4032000" y="2531520"/>
              <a:ext cx="183240" cy="382680"/>
            </a:xfrm>
            <a:custGeom>
              <a:avLst/>
              <a:gdLst/>
              <a:ahLst/>
              <a:rect l="l" t="t" r="r" b="b"/>
              <a:pathLst>
                <a:path w="655" h="1026">
                  <a:moveTo>
                    <a:pt x="135" y="901"/>
                  </a:moveTo>
                  <a:lnTo>
                    <a:pt x="655" y="31"/>
                  </a:lnTo>
                  <a:lnTo>
                    <a:pt x="655" y="31"/>
                  </a:lnTo>
                  <a:lnTo>
                    <a:pt x="650" y="27"/>
                  </a:lnTo>
                  <a:lnTo>
                    <a:pt x="647" y="24"/>
                  </a:lnTo>
                  <a:lnTo>
                    <a:pt x="642" y="23"/>
                  </a:lnTo>
                  <a:lnTo>
                    <a:pt x="639" y="19"/>
                  </a:lnTo>
                  <a:lnTo>
                    <a:pt x="634" y="16"/>
                  </a:lnTo>
                  <a:lnTo>
                    <a:pt x="631" y="13"/>
                  </a:lnTo>
                  <a:lnTo>
                    <a:pt x="626" y="10"/>
                  </a:lnTo>
                  <a:lnTo>
                    <a:pt x="623" y="7"/>
                  </a:lnTo>
                  <a:lnTo>
                    <a:pt x="618" y="3"/>
                  </a:lnTo>
                  <a:lnTo>
                    <a:pt x="615" y="0"/>
                  </a:lnTo>
                  <a:lnTo>
                    <a:pt x="0" y="1026"/>
                  </a:lnTo>
                  <a:lnTo>
                    <a:pt x="0" y="1026"/>
                  </a:lnTo>
                  <a:lnTo>
                    <a:pt x="13" y="1007"/>
                  </a:lnTo>
                  <a:lnTo>
                    <a:pt x="26" y="989"/>
                  </a:lnTo>
                  <a:lnTo>
                    <a:pt x="39" y="971"/>
                  </a:lnTo>
                  <a:lnTo>
                    <a:pt x="53" y="955"/>
                  </a:lnTo>
                  <a:lnTo>
                    <a:pt x="66" y="943"/>
                  </a:lnTo>
                  <a:lnTo>
                    <a:pt x="80" y="930"/>
                  </a:lnTo>
                  <a:lnTo>
                    <a:pt x="95" y="920"/>
                  </a:lnTo>
                  <a:lnTo>
                    <a:pt x="107" y="911"/>
                  </a:lnTo>
                  <a:lnTo>
                    <a:pt x="122" y="906"/>
                  </a:lnTo>
                  <a:lnTo>
                    <a:pt x="135" y="901"/>
                  </a:lnTo>
                  <a:lnTo>
                    <a:pt x="135" y="901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789800">
              <a:off x="4065120" y="2558880"/>
              <a:ext cx="173160" cy="361800"/>
            </a:xfrm>
            <a:custGeom>
              <a:avLst/>
              <a:gdLst/>
              <a:ahLst/>
              <a:rect l="l" t="t" r="r" b="b"/>
              <a:pathLst>
                <a:path w="619" h="968">
                  <a:moveTo>
                    <a:pt x="38" y="876"/>
                  </a:moveTo>
                  <a:lnTo>
                    <a:pt x="44" y="881"/>
                  </a:lnTo>
                  <a:lnTo>
                    <a:pt x="51" y="888"/>
                  </a:lnTo>
                  <a:lnTo>
                    <a:pt x="57" y="894"/>
                  </a:lnTo>
                  <a:lnTo>
                    <a:pt x="64" y="902"/>
                  </a:lnTo>
                  <a:lnTo>
                    <a:pt x="68" y="912"/>
                  </a:lnTo>
                  <a:lnTo>
                    <a:pt x="73" y="921"/>
                  </a:lnTo>
                  <a:lnTo>
                    <a:pt x="76" y="932"/>
                  </a:lnTo>
                  <a:lnTo>
                    <a:pt x="80" y="944"/>
                  </a:lnTo>
                  <a:lnTo>
                    <a:pt x="83" y="955"/>
                  </a:lnTo>
                  <a:lnTo>
                    <a:pt x="84" y="968"/>
                  </a:lnTo>
                  <a:lnTo>
                    <a:pt x="619" y="78"/>
                  </a:lnTo>
                  <a:lnTo>
                    <a:pt x="619" y="78"/>
                  </a:lnTo>
                  <a:lnTo>
                    <a:pt x="608" y="70"/>
                  </a:lnTo>
                  <a:lnTo>
                    <a:pt x="598" y="62"/>
                  </a:lnTo>
                  <a:lnTo>
                    <a:pt x="588" y="54"/>
                  </a:lnTo>
                  <a:lnTo>
                    <a:pt x="577" y="46"/>
                  </a:lnTo>
                  <a:lnTo>
                    <a:pt x="568" y="38"/>
                  </a:lnTo>
                  <a:lnTo>
                    <a:pt x="558" y="30"/>
                  </a:lnTo>
                  <a:lnTo>
                    <a:pt x="548" y="24"/>
                  </a:lnTo>
                  <a:lnTo>
                    <a:pt x="539" y="16"/>
                  </a:lnTo>
                  <a:lnTo>
                    <a:pt x="529" y="8"/>
                  </a:lnTo>
                  <a:lnTo>
                    <a:pt x="520" y="0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4" y="870"/>
                  </a:lnTo>
                  <a:lnTo>
                    <a:pt x="8" y="870"/>
                  </a:lnTo>
                  <a:lnTo>
                    <a:pt x="12" y="870"/>
                  </a:lnTo>
                  <a:lnTo>
                    <a:pt x="16" y="870"/>
                  </a:lnTo>
                  <a:lnTo>
                    <a:pt x="19" y="870"/>
                  </a:lnTo>
                  <a:lnTo>
                    <a:pt x="24" y="872"/>
                  </a:lnTo>
                  <a:lnTo>
                    <a:pt x="27" y="872"/>
                  </a:lnTo>
                  <a:lnTo>
                    <a:pt x="30" y="873"/>
                  </a:lnTo>
                  <a:lnTo>
                    <a:pt x="35" y="875"/>
                  </a:lnTo>
                  <a:lnTo>
                    <a:pt x="38" y="876"/>
                  </a:lnTo>
                  <a:lnTo>
                    <a:pt x="38" y="876"/>
                  </a:lnTo>
                  <a:close/>
                </a:path>
              </a:pathLst>
            </a:custGeom>
            <a:solidFill>
              <a:srgbClr val="d3d9e8"/>
            </a:solidFill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789800">
              <a:off x="4065120" y="2558880"/>
              <a:ext cx="173160" cy="361800"/>
            </a:xfrm>
            <a:custGeom>
              <a:avLst/>
              <a:gdLst/>
              <a:ahLst/>
              <a:rect l="l" t="t" r="r" b="b"/>
              <a:pathLst>
                <a:path w="619" h="968">
                  <a:moveTo>
                    <a:pt x="38" y="876"/>
                  </a:moveTo>
                  <a:lnTo>
                    <a:pt x="44" y="881"/>
                  </a:lnTo>
                  <a:lnTo>
                    <a:pt x="51" y="888"/>
                  </a:lnTo>
                  <a:lnTo>
                    <a:pt x="57" y="894"/>
                  </a:lnTo>
                  <a:lnTo>
                    <a:pt x="64" y="902"/>
                  </a:lnTo>
                  <a:lnTo>
                    <a:pt x="68" y="912"/>
                  </a:lnTo>
                  <a:lnTo>
                    <a:pt x="73" y="921"/>
                  </a:lnTo>
                  <a:lnTo>
                    <a:pt x="76" y="932"/>
                  </a:lnTo>
                  <a:lnTo>
                    <a:pt x="80" y="944"/>
                  </a:lnTo>
                  <a:lnTo>
                    <a:pt x="83" y="955"/>
                  </a:lnTo>
                  <a:lnTo>
                    <a:pt x="84" y="968"/>
                  </a:lnTo>
                  <a:lnTo>
                    <a:pt x="619" y="78"/>
                  </a:lnTo>
                  <a:lnTo>
                    <a:pt x="619" y="78"/>
                  </a:lnTo>
                  <a:lnTo>
                    <a:pt x="608" y="70"/>
                  </a:lnTo>
                  <a:lnTo>
                    <a:pt x="598" y="62"/>
                  </a:lnTo>
                  <a:lnTo>
                    <a:pt x="588" y="54"/>
                  </a:lnTo>
                  <a:lnTo>
                    <a:pt x="577" y="46"/>
                  </a:lnTo>
                  <a:lnTo>
                    <a:pt x="568" y="38"/>
                  </a:lnTo>
                  <a:lnTo>
                    <a:pt x="558" y="30"/>
                  </a:lnTo>
                  <a:lnTo>
                    <a:pt x="548" y="24"/>
                  </a:lnTo>
                  <a:lnTo>
                    <a:pt x="539" y="16"/>
                  </a:lnTo>
                  <a:lnTo>
                    <a:pt x="529" y="8"/>
                  </a:lnTo>
                  <a:lnTo>
                    <a:pt x="520" y="0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4" y="870"/>
                  </a:lnTo>
                  <a:lnTo>
                    <a:pt x="8" y="870"/>
                  </a:lnTo>
                  <a:lnTo>
                    <a:pt x="12" y="870"/>
                  </a:lnTo>
                  <a:lnTo>
                    <a:pt x="16" y="870"/>
                  </a:lnTo>
                  <a:lnTo>
                    <a:pt x="19" y="870"/>
                  </a:lnTo>
                  <a:lnTo>
                    <a:pt x="24" y="872"/>
                  </a:lnTo>
                  <a:lnTo>
                    <a:pt x="27" y="872"/>
                  </a:lnTo>
                  <a:lnTo>
                    <a:pt x="30" y="873"/>
                  </a:lnTo>
                  <a:lnTo>
                    <a:pt x="35" y="875"/>
                  </a:lnTo>
                  <a:lnTo>
                    <a:pt x="38" y="876"/>
                  </a:lnTo>
                  <a:lnTo>
                    <a:pt x="38" y="876"/>
                  </a:lnTo>
                </a:path>
              </a:pathLst>
            </a:custGeom>
            <a:noFill/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789800">
              <a:off x="4069440" y="2592000"/>
              <a:ext cx="160920" cy="369360"/>
            </a:xfrm>
            <a:custGeom>
              <a:avLst/>
              <a:gdLst/>
              <a:ahLst/>
              <a:rect l="l" t="t" r="r" b="b"/>
              <a:pathLst>
                <a:path w="573" h="987">
                  <a:moveTo>
                    <a:pt x="0" y="987"/>
                  </a:moveTo>
                  <a:lnTo>
                    <a:pt x="573" y="30"/>
                  </a:lnTo>
                  <a:lnTo>
                    <a:pt x="573" y="30"/>
                  </a:lnTo>
                  <a:lnTo>
                    <a:pt x="569" y="27"/>
                  </a:lnTo>
                  <a:lnTo>
                    <a:pt x="566" y="24"/>
                  </a:lnTo>
                  <a:lnTo>
                    <a:pt x="561" y="21"/>
                  </a:lnTo>
                  <a:lnTo>
                    <a:pt x="558" y="18"/>
                  </a:lnTo>
                  <a:lnTo>
                    <a:pt x="553" y="14"/>
                  </a:lnTo>
                  <a:lnTo>
                    <a:pt x="550" y="11"/>
                  </a:lnTo>
                  <a:lnTo>
                    <a:pt x="547" y="10"/>
                  </a:lnTo>
                  <a:lnTo>
                    <a:pt x="542" y="6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1" y="890"/>
                  </a:lnTo>
                  <a:lnTo>
                    <a:pt x="1" y="890"/>
                  </a:lnTo>
                  <a:lnTo>
                    <a:pt x="3" y="899"/>
                  </a:lnTo>
                  <a:lnTo>
                    <a:pt x="5" y="909"/>
                  </a:lnTo>
                  <a:lnTo>
                    <a:pt x="5" y="917"/>
                  </a:lnTo>
                  <a:lnTo>
                    <a:pt x="5" y="928"/>
                  </a:lnTo>
                  <a:lnTo>
                    <a:pt x="5" y="938"/>
                  </a:lnTo>
                  <a:lnTo>
                    <a:pt x="5" y="947"/>
                  </a:lnTo>
                  <a:lnTo>
                    <a:pt x="5" y="957"/>
                  </a:lnTo>
                  <a:lnTo>
                    <a:pt x="3" y="966"/>
                  </a:lnTo>
                  <a:lnTo>
                    <a:pt x="1" y="978"/>
                  </a:lnTo>
                  <a:lnTo>
                    <a:pt x="0" y="987"/>
                  </a:lnTo>
                  <a:lnTo>
                    <a:pt x="0" y="987"/>
                  </a:lnTo>
                  <a:close/>
                </a:path>
              </a:pathLst>
            </a:custGeom>
            <a:solidFill>
              <a:srgbClr val="a2a2a2"/>
            </a:solidFill>
            <a:ln w="1440">
              <a:solidFill>
                <a:srgbClr val="a2a2a2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789800">
              <a:off x="4069440" y="2592000"/>
              <a:ext cx="160920" cy="369360"/>
            </a:xfrm>
            <a:custGeom>
              <a:avLst/>
              <a:gdLst/>
              <a:ahLst/>
              <a:rect l="l" t="t" r="r" b="b"/>
              <a:pathLst>
                <a:path w="573" h="987">
                  <a:moveTo>
                    <a:pt x="0" y="987"/>
                  </a:moveTo>
                  <a:lnTo>
                    <a:pt x="573" y="30"/>
                  </a:lnTo>
                  <a:lnTo>
                    <a:pt x="573" y="30"/>
                  </a:lnTo>
                  <a:lnTo>
                    <a:pt x="569" y="27"/>
                  </a:lnTo>
                  <a:lnTo>
                    <a:pt x="566" y="24"/>
                  </a:lnTo>
                  <a:lnTo>
                    <a:pt x="561" y="21"/>
                  </a:lnTo>
                  <a:lnTo>
                    <a:pt x="558" y="18"/>
                  </a:lnTo>
                  <a:lnTo>
                    <a:pt x="553" y="14"/>
                  </a:lnTo>
                  <a:lnTo>
                    <a:pt x="550" y="11"/>
                  </a:lnTo>
                  <a:lnTo>
                    <a:pt x="547" y="10"/>
                  </a:lnTo>
                  <a:lnTo>
                    <a:pt x="542" y="6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1" y="890"/>
                  </a:lnTo>
                  <a:lnTo>
                    <a:pt x="1" y="890"/>
                  </a:lnTo>
                  <a:lnTo>
                    <a:pt x="3" y="899"/>
                  </a:lnTo>
                  <a:lnTo>
                    <a:pt x="5" y="909"/>
                  </a:lnTo>
                  <a:lnTo>
                    <a:pt x="5" y="917"/>
                  </a:lnTo>
                  <a:lnTo>
                    <a:pt x="5" y="928"/>
                  </a:lnTo>
                  <a:lnTo>
                    <a:pt x="5" y="938"/>
                  </a:lnTo>
                  <a:lnTo>
                    <a:pt x="5" y="947"/>
                  </a:lnTo>
                  <a:lnTo>
                    <a:pt x="5" y="957"/>
                  </a:lnTo>
                  <a:lnTo>
                    <a:pt x="3" y="966"/>
                  </a:lnTo>
                  <a:lnTo>
                    <a:pt x="1" y="978"/>
                  </a:lnTo>
                  <a:lnTo>
                    <a:pt x="0" y="987"/>
                  </a:lnTo>
                  <a:lnTo>
                    <a:pt x="0" y="987"/>
                  </a:lnTo>
                </a:path>
              </a:pathLst>
            </a:custGeom>
            <a:noFill/>
            <a:ln w="1440">
              <a:solidFill>
                <a:srgbClr val="a2a2a2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789800">
              <a:off x="3921840" y="2806200"/>
              <a:ext cx="73800" cy="141840"/>
            </a:xfrm>
            <a:custGeom>
              <a:avLst/>
              <a:gdLst/>
              <a:ahLst/>
              <a:rect l="l" t="t" r="r" b="b"/>
              <a:pathLst>
                <a:path w="264" h="379">
                  <a:moveTo>
                    <a:pt x="260" y="98"/>
                  </a:moveTo>
                  <a:lnTo>
                    <a:pt x="259" y="85"/>
                  </a:lnTo>
                  <a:lnTo>
                    <a:pt x="256" y="74"/>
                  </a:lnTo>
                  <a:lnTo>
                    <a:pt x="252" y="62"/>
                  </a:lnTo>
                  <a:lnTo>
                    <a:pt x="249" y="51"/>
                  </a:lnTo>
                  <a:lnTo>
                    <a:pt x="244" y="42"/>
                  </a:lnTo>
                  <a:lnTo>
                    <a:pt x="240" y="32"/>
                  </a:lnTo>
                  <a:lnTo>
                    <a:pt x="233" y="24"/>
                  </a:lnTo>
                  <a:lnTo>
                    <a:pt x="227" y="18"/>
                  </a:lnTo>
                  <a:lnTo>
                    <a:pt x="220" y="11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1" y="5"/>
                  </a:lnTo>
                  <a:lnTo>
                    <a:pt x="206" y="3"/>
                  </a:lnTo>
                  <a:lnTo>
                    <a:pt x="203" y="2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3" y="5"/>
                  </a:lnTo>
                  <a:lnTo>
                    <a:pt x="148" y="10"/>
                  </a:lnTo>
                  <a:lnTo>
                    <a:pt x="136" y="19"/>
                  </a:lnTo>
                  <a:lnTo>
                    <a:pt x="121" y="29"/>
                  </a:lnTo>
                  <a:lnTo>
                    <a:pt x="107" y="42"/>
                  </a:lnTo>
                  <a:lnTo>
                    <a:pt x="94" y="54"/>
                  </a:lnTo>
                  <a:lnTo>
                    <a:pt x="80" y="70"/>
                  </a:lnTo>
                  <a:lnTo>
                    <a:pt x="67" y="88"/>
                  </a:lnTo>
                  <a:lnTo>
                    <a:pt x="54" y="106"/>
                  </a:lnTo>
                  <a:lnTo>
                    <a:pt x="41" y="125"/>
                  </a:lnTo>
                  <a:lnTo>
                    <a:pt x="41" y="125"/>
                  </a:lnTo>
                  <a:lnTo>
                    <a:pt x="41" y="126"/>
                  </a:lnTo>
                  <a:lnTo>
                    <a:pt x="40" y="128"/>
                  </a:lnTo>
                  <a:lnTo>
                    <a:pt x="38" y="131"/>
                  </a:lnTo>
                  <a:lnTo>
                    <a:pt x="36" y="133"/>
                  </a:lnTo>
                  <a:lnTo>
                    <a:pt x="35" y="134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32" y="141"/>
                  </a:lnTo>
                  <a:lnTo>
                    <a:pt x="30" y="144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16" y="174"/>
                  </a:lnTo>
                  <a:lnTo>
                    <a:pt x="6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9" y="336"/>
                  </a:lnTo>
                  <a:lnTo>
                    <a:pt x="16" y="354"/>
                  </a:lnTo>
                  <a:lnTo>
                    <a:pt x="24" y="366"/>
                  </a:lnTo>
                  <a:lnTo>
                    <a:pt x="32" y="373"/>
                  </a:lnTo>
                  <a:lnTo>
                    <a:pt x="32" y="373"/>
                  </a:lnTo>
                  <a:lnTo>
                    <a:pt x="48" y="378"/>
                  </a:lnTo>
                  <a:lnTo>
                    <a:pt x="67" y="379"/>
                  </a:lnTo>
                  <a:lnTo>
                    <a:pt x="86" y="378"/>
                  </a:lnTo>
                  <a:lnTo>
                    <a:pt x="108" y="373"/>
                  </a:lnTo>
                  <a:lnTo>
                    <a:pt x="129" y="365"/>
                  </a:lnTo>
                  <a:lnTo>
                    <a:pt x="152" y="354"/>
                  </a:lnTo>
                  <a:lnTo>
                    <a:pt x="174" y="339"/>
                  </a:lnTo>
                  <a:lnTo>
                    <a:pt x="195" y="320"/>
                  </a:lnTo>
                  <a:lnTo>
                    <a:pt x="214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8" y="256"/>
                  </a:lnTo>
                  <a:lnTo>
                    <a:pt x="243" y="250"/>
                  </a:lnTo>
                  <a:lnTo>
                    <a:pt x="244" y="242"/>
                  </a:lnTo>
                  <a:lnTo>
                    <a:pt x="248" y="234"/>
                  </a:lnTo>
                  <a:lnTo>
                    <a:pt x="251" y="227"/>
                  </a:lnTo>
                  <a:lnTo>
                    <a:pt x="252" y="219"/>
                  </a:lnTo>
                  <a:lnTo>
                    <a:pt x="256" y="211"/>
                  </a:lnTo>
                  <a:lnTo>
                    <a:pt x="257" y="203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0" y="186"/>
                  </a:lnTo>
                  <a:lnTo>
                    <a:pt x="262" y="174"/>
                  </a:lnTo>
                  <a:lnTo>
                    <a:pt x="264" y="165"/>
                  </a:lnTo>
                  <a:lnTo>
                    <a:pt x="264" y="155"/>
                  </a:lnTo>
                  <a:lnTo>
                    <a:pt x="264" y="146"/>
                  </a:lnTo>
                  <a:lnTo>
                    <a:pt x="264" y="136"/>
                  </a:lnTo>
                  <a:lnTo>
                    <a:pt x="264" y="125"/>
                  </a:lnTo>
                  <a:lnTo>
                    <a:pt x="264" y="117"/>
                  </a:lnTo>
                  <a:lnTo>
                    <a:pt x="262" y="107"/>
                  </a:lnTo>
                  <a:lnTo>
                    <a:pt x="260" y="98"/>
                  </a:lnTo>
                  <a:lnTo>
                    <a:pt x="260" y="98"/>
                  </a:lnTo>
                  <a:close/>
                </a:path>
              </a:pathLst>
            </a:custGeom>
            <a:solidFill>
              <a:srgbClr val="ebf5f5"/>
            </a:solidFill>
            <a:ln w="1440">
              <a:solidFill>
                <a:srgbClr val="ebf5f5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789800">
              <a:off x="3921840" y="2806200"/>
              <a:ext cx="73800" cy="141840"/>
            </a:xfrm>
            <a:custGeom>
              <a:avLst/>
              <a:gdLst/>
              <a:ahLst/>
              <a:rect l="l" t="t" r="r" b="b"/>
              <a:pathLst>
                <a:path w="264" h="379">
                  <a:moveTo>
                    <a:pt x="260" y="98"/>
                  </a:moveTo>
                  <a:lnTo>
                    <a:pt x="259" y="85"/>
                  </a:lnTo>
                  <a:lnTo>
                    <a:pt x="256" y="74"/>
                  </a:lnTo>
                  <a:lnTo>
                    <a:pt x="252" y="62"/>
                  </a:lnTo>
                  <a:lnTo>
                    <a:pt x="249" y="51"/>
                  </a:lnTo>
                  <a:lnTo>
                    <a:pt x="244" y="42"/>
                  </a:lnTo>
                  <a:lnTo>
                    <a:pt x="240" y="32"/>
                  </a:lnTo>
                  <a:lnTo>
                    <a:pt x="233" y="24"/>
                  </a:lnTo>
                  <a:lnTo>
                    <a:pt x="227" y="18"/>
                  </a:lnTo>
                  <a:lnTo>
                    <a:pt x="220" y="11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1" y="5"/>
                  </a:lnTo>
                  <a:lnTo>
                    <a:pt x="206" y="3"/>
                  </a:lnTo>
                  <a:lnTo>
                    <a:pt x="203" y="2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3" y="5"/>
                  </a:lnTo>
                  <a:lnTo>
                    <a:pt x="148" y="10"/>
                  </a:lnTo>
                  <a:lnTo>
                    <a:pt x="136" y="19"/>
                  </a:lnTo>
                  <a:lnTo>
                    <a:pt x="121" y="29"/>
                  </a:lnTo>
                  <a:lnTo>
                    <a:pt x="107" y="42"/>
                  </a:lnTo>
                  <a:lnTo>
                    <a:pt x="94" y="54"/>
                  </a:lnTo>
                  <a:lnTo>
                    <a:pt x="80" y="70"/>
                  </a:lnTo>
                  <a:lnTo>
                    <a:pt x="67" y="88"/>
                  </a:lnTo>
                  <a:lnTo>
                    <a:pt x="54" y="106"/>
                  </a:lnTo>
                  <a:lnTo>
                    <a:pt x="41" y="125"/>
                  </a:lnTo>
                  <a:lnTo>
                    <a:pt x="41" y="125"/>
                  </a:lnTo>
                  <a:lnTo>
                    <a:pt x="41" y="126"/>
                  </a:lnTo>
                  <a:lnTo>
                    <a:pt x="40" y="128"/>
                  </a:lnTo>
                  <a:lnTo>
                    <a:pt x="38" y="131"/>
                  </a:lnTo>
                  <a:lnTo>
                    <a:pt x="36" y="133"/>
                  </a:lnTo>
                  <a:lnTo>
                    <a:pt x="35" y="134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32" y="141"/>
                  </a:lnTo>
                  <a:lnTo>
                    <a:pt x="30" y="144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16" y="174"/>
                  </a:lnTo>
                  <a:lnTo>
                    <a:pt x="6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9" y="336"/>
                  </a:lnTo>
                  <a:lnTo>
                    <a:pt x="16" y="354"/>
                  </a:lnTo>
                  <a:lnTo>
                    <a:pt x="24" y="366"/>
                  </a:lnTo>
                  <a:lnTo>
                    <a:pt x="32" y="373"/>
                  </a:lnTo>
                  <a:lnTo>
                    <a:pt x="32" y="373"/>
                  </a:lnTo>
                  <a:lnTo>
                    <a:pt x="48" y="378"/>
                  </a:lnTo>
                  <a:lnTo>
                    <a:pt x="67" y="379"/>
                  </a:lnTo>
                  <a:lnTo>
                    <a:pt x="86" y="378"/>
                  </a:lnTo>
                  <a:lnTo>
                    <a:pt x="108" y="373"/>
                  </a:lnTo>
                  <a:lnTo>
                    <a:pt x="129" y="365"/>
                  </a:lnTo>
                  <a:lnTo>
                    <a:pt x="152" y="354"/>
                  </a:lnTo>
                  <a:lnTo>
                    <a:pt x="174" y="339"/>
                  </a:lnTo>
                  <a:lnTo>
                    <a:pt x="195" y="320"/>
                  </a:lnTo>
                  <a:lnTo>
                    <a:pt x="214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8" y="256"/>
                  </a:lnTo>
                  <a:lnTo>
                    <a:pt x="243" y="250"/>
                  </a:lnTo>
                  <a:lnTo>
                    <a:pt x="244" y="242"/>
                  </a:lnTo>
                  <a:lnTo>
                    <a:pt x="248" y="234"/>
                  </a:lnTo>
                  <a:lnTo>
                    <a:pt x="251" y="227"/>
                  </a:lnTo>
                  <a:lnTo>
                    <a:pt x="252" y="219"/>
                  </a:lnTo>
                  <a:lnTo>
                    <a:pt x="256" y="211"/>
                  </a:lnTo>
                  <a:lnTo>
                    <a:pt x="257" y="203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0" y="186"/>
                  </a:lnTo>
                  <a:lnTo>
                    <a:pt x="262" y="174"/>
                  </a:lnTo>
                  <a:lnTo>
                    <a:pt x="264" y="165"/>
                  </a:lnTo>
                  <a:lnTo>
                    <a:pt x="264" y="155"/>
                  </a:lnTo>
                  <a:lnTo>
                    <a:pt x="264" y="146"/>
                  </a:lnTo>
                  <a:lnTo>
                    <a:pt x="264" y="136"/>
                  </a:lnTo>
                  <a:lnTo>
                    <a:pt x="264" y="125"/>
                  </a:lnTo>
                  <a:lnTo>
                    <a:pt x="264" y="117"/>
                  </a:lnTo>
                  <a:lnTo>
                    <a:pt x="262" y="107"/>
                  </a:lnTo>
                  <a:lnTo>
                    <a:pt x="260" y="98"/>
                  </a:lnTo>
                  <a:lnTo>
                    <a:pt x="260" y="98"/>
                  </a:lnTo>
                </a:path>
              </a:pathLst>
            </a:custGeom>
            <a:noFill/>
            <a:ln w="1440">
              <a:solidFill>
                <a:srgbClr val="ebf5f5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789800">
              <a:off x="3989160" y="2518560"/>
              <a:ext cx="251640" cy="503280"/>
            </a:xfrm>
            <a:custGeom>
              <a:avLst/>
              <a:gdLst/>
              <a:ahLst/>
              <a:rect l="l" t="t" r="r" b="b"/>
              <a:pathLst>
                <a:path w="897" h="1345">
                  <a:moveTo>
                    <a:pt x="641" y="0"/>
                  </a:moveTo>
                  <a:lnTo>
                    <a:pt x="608" y="57"/>
                  </a:lnTo>
                  <a:lnTo>
                    <a:pt x="558" y="139"/>
                  </a:lnTo>
                  <a:lnTo>
                    <a:pt x="497" y="240"/>
                  </a:lnTo>
                  <a:lnTo>
                    <a:pt x="430" y="350"/>
                  </a:lnTo>
                  <a:lnTo>
                    <a:pt x="361" y="465"/>
                  </a:lnTo>
                  <a:lnTo>
                    <a:pt x="296" y="576"/>
                  </a:lnTo>
                  <a:lnTo>
                    <a:pt x="236" y="673"/>
                  </a:lnTo>
                  <a:lnTo>
                    <a:pt x="188" y="753"/>
                  </a:lnTo>
                  <a:lnTo>
                    <a:pt x="156" y="806"/>
                  </a:lnTo>
                  <a:lnTo>
                    <a:pt x="145" y="825"/>
                  </a:lnTo>
                  <a:lnTo>
                    <a:pt x="145" y="825"/>
                  </a:lnTo>
                  <a:lnTo>
                    <a:pt x="137" y="838"/>
                  </a:lnTo>
                  <a:lnTo>
                    <a:pt x="120" y="872"/>
                  </a:lnTo>
                  <a:lnTo>
                    <a:pt x="92" y="921"/>
                  </a:lnTo>
                  <a:lnTo>
                    <a:pt x="64" y="984"/>
                  </a:lnTo>
                  <a:lnTo>
                    <a:pt x="35" y="1053"/>
                  </a:lnTo>
                  <a:lnTo>
                    <a:pt x="12" y="1125"/>
                  </a:lnTo>
                  <a:lnTo>
                    <a:pt x="0" y="1193"/>
                  </a:lnTo>
                  <a:lnTo>
                    <a:pt x="3" y="1256"/>
                  </a:lnTo>
                  <a:lnTo>
                    <a:pt x="24" y="1307"/>
                  </a:lnTo>
                  <a:lnTo>
                    <a:pt x="68" y="1341"/>
                  </a:lnTo>
                  <a:lnTo>
                    <a:pt x="68" y="1341"/>
                  </a:lnTo>
                  <a:lnTo>
                    <a:pt x="112" y="1345"/>
                  </a:lnTo>
                  <a:lnTo>
                    <a:pt x="160" y="1325"/>
                  </a:lnTo>
                  <a:lnTo>
                    <a:pt x="211" y="1285"/>
                  </a:lnTo>
                  <a:lnTo>
                    <a:pt x="260" y="1233"/>
                  </a:lnTo>
                  <a:lnTo>
                    <a:pt x="310" y="1173"/>
                  </a:lnTo>
                  <a:lnTo>
                    <a:pt x="353" y="1112"/>
                  </a:lnTo>
                  <a:lnTo>
                    <a:pt x="392" y="1054"/>
                  </a:lnTo>
                  <a:lnTo>
                    <a:pt x="422" y="1006"/>
                  </a:lnTo>
                  <a:lnTo>
                    <a:pt x="441" y="973"/>
                  </a:lnTo>
                  <a:lnTo>
                    <a:pt x="448" y="960"/>
                  </a:lnTo>
                  <a:lnTo>
                    <a:pt x="897" y="20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409920" y="2104920"/>
            <a:ext cx="711360" cy="752760"/>
          </a:xfrm>
          <a:custGeom>
            <a:avLst/>
            <a:gdLst/>
            <a:ahLst/>
            <a:rect l="l" t="t" r="r" b="b"/>
            <a:pathLst>
              <a:path w="448" h="474">
                <a:moveTo>
                  <a:pt x="192" y="0"/>
                </a:moveTo>
                <a:cubicBezTo>
                  <a:pt x="155" y="12"/>
                  <a:pt x="132" y="49"/>
                  <a:pt x="110" y="82"/>
                </a:cubicBezTo>
                <a:cubicBezTo>
                  <a:pt x="87" y="153"/>
                  <a:pt x="118" y="65"/>
                  <a:pt x="83" y="137"/>
                </a:cubicBezTo>
                <a:cubicBezTo>
                  <a:pt x="69" y="166"/>
                  <a:pt x="64" y="191"/>
                  <a:pt x="46" y="219"/>
                </a:cubicBezTo>
                <a:cubicBezTo>
                  <a:pt x="32" y="275"/>
                  <a:pt x="20" y="330"/>
                  <a:pt x="0" y="384"/>
                </a:cubicBezTo>
                <a:cubicBezTo>
                  <a:pt x="24" y="474"/>
                  <a:pt x="54" y="447"/>
                  <a:pt x="156" y="439"/>
                </a:cubicBezTo>
                <a:cubicBezTo>
                  <a:pt x="203" y="423"/>
                  <a:pt x="240" y="382"/>
                  <a:pt x="275" y="347"/>
                </a:cubicBezTo>
                <a:cubicBezTo>
                  <a:pt x="282" y="340"/>
                  <a:pt x="294" y="343"/>
                  <a:pt x="302" y="338"/>
                </a:cubicBezTo>
                <a:cubicBezTo>
                  <a:pt x="321" y="327"/>
                  <a:pt x="336" y="307"/>
                  <a:pt x="357" y="302"/>
                </a:cubicBezTo>
                <a:cubicBezTo>
                  <a:pt x="393" y="293"/>
                  <a:pt x="417" y="286"/>
                  <a:pt x="448" y="265"/>
                </a:cubicBezTo>
                <a:cubicBezTo>
                  <a:pt x="445" y="241"/>
                  <a:pt x="445" y="216"/>
                  <a:pt x="439" y="192"/>
                </a:cubicBezTo>
                <a:cubicBezTo>
                  <a:pt x="429" y="156"/>
                  <a:pt x="383" y="131"/>
                  <a:pt x="357" y="110"/>
                </a:cubicBezTo>
                <a:cubicBezTo>
                  <a:pt x="329" y="87"/>
                  <a:pt x="349" y="95"/>
                  <a:pt x="320" y="73"/>
                </a:cubicBezTo>
                <a:cubicBezTo>
                  <a:pt x="264" y="32"/>
                  <a:pt x="274" y="39"/>
                  <a:pt x="211" y="18"/>
                </a:cubicBezTo>
                <a:cubicBezTo>
                  <a:pt x="202" y="15"/>
                  <a:pt x="176" y="16"/>
                  <a:pt x="183" y="9"/>
                </a:cubicBezTo>
                <a:cubicBezTo>
                  <a:pt x="186" y="6"/>
                  <a:pt x="189" y="3"/>
                  <a:pt x="192" y="0"/>
                </a:cubicBezTo>
                <a:close/>
              </a:path>
            </a:pathLst>
          </a:custGeom>
          <a:solidFill>
            <a:srgbClr val="002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1360" y="2176560"/>
            <a:ext cx="667080" cy="668160"/>
          </a:xfrm>
          <a:custGeom>
            <a:avLst/>
            <a:gdLst/>
            <a:ahLst/>
            <a:rect l="l" t="t" r="r" b="b"/>
            <a:pathLst>
              <a:path w="420" h="421">
                <a:moveTo>
                  <a:pt x="137" y="0"/>
                </a:moveTo>
                <a:cubicBezTo>
                  <a:pt x="119" y="56"/>
                  <a:pt x="87" y="105"/>
                  <a:pt x="45" y="147"/>
                </a:cubicBezTo>
                <a:cubicBezTo>
                  <a:pt x="23" y="215"/>
                  <a:pt x="9" y="267"/>
                  <a:pt x="0" y="339"/>
                </a:cubicBezTo>
                <a:cubicBezTo>
                  <a:pt x="10" y="380"/>
                  <a:pt x="9" y="397"/>
                  <a:pt x="45" y="421"/>
                </a:cubicBezTo>
                <a:cubicBezTo>
                  <a:pt x="95" y="415"/>
                  <a:pt x="135" y="410"/>
                  <a:pt x="182" y="394"/>
                </a:cubicBezTo>
                <a:cubicBezTo>
                  <a:pt x="188" y="388"/>
                  <a:pt x="193" y="380"/>
                  <a:pt x="201" y="375"/>
                </a:cubicBezTo>
                <a:cubicBezTo>
                  <a:pt x="209" y="370"/>
                  <a:pt x="221" y="373"/>
                  <a:pt x="228" y="366"/>
                </a:cubicBezTo>
                <a:cubicBezTo>
                  <a:pt x="276" y="318"/>
                  <a:pt x="191" y="354"/>
                  <a:pt x="265" y="330"/>
                </a:cubicBezTo>
                <a:cubicBezTo>
                  <a:pt x="271" y="324"/>
                  <a:pt x="275" y="315"/>
                  <a:pt x="283" y="311"/>
                </a:cubicBezTo>
                <a:cubicBezTo>
                  <a:pt x="300" y="302"/>
                  <a:pt x="338" y="293"/>
                  <a:pt x="338" y="293"/>
                </a:cubicBezTo>
                <a:cubicBezTo>
                  <a:pt x="376" y="267"/>
                  <a:pt x="352" y="280"/>
                  <a:pt x="393" y="266"/>
                </a:cubicBezTo>
                <a:cubicBezTo>
                  <a:pt x="402" y="263"/>
                  <a:pt x="420" y="256"/>
                  <a:pt x="420" y="2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700440" y="1871280"/>
            <a:ext cx="1365120" cy="625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5440" y="159084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ection c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38040" y="1566360"/>
            <a:ext cx="640440" cy="1037160"/>
            <a:chOff x="3038040" y="1566360"/>
            <a:chExt cx="640440" cy="1037160"/>
          </a:xfrm>
        </p:grpSpPr>
        <p:sp>
          <p:nvSpPr>
            <p:cNvPr id="199" name=""/>
            <p:cNvSpPr/>
            <p:nvPr/>
          </p:nvSpPr>
          <p:spPr>
            <a:xfrm rot="20952600">
              <a:off x="3124440" y="1601640"/>
              <a:ext cx="461880" cy="966960"/>
            </a:xfrm>
            <a:custGeom>
              <a:avLst/>
              <a:gdLst/>
              <a:ahLst/>
              <a:rect l="l" t="t" r="r" b="b"/>
              <a:pathLst>
                <a:path w="1648" h="2586">
                  <a:moveTo>
                    <a:pt x="453" y="2184"/>
                  </a:moveTo>
                  <a:lnTo>
                    <a:pt x="446" y="2197"/>
                  </a:lnTo>
                  <a:lnTo>
                    <a:pt x="425" y="2231"/>
                  </a:lnTo>
                  <a:lnTo>
                    <a:pt x="395" y="2280"/>
                  </a:lnTo>
                  <a:lnTo>
                    <a:pt x="357" y="2340"/>
                  </a:lnTo>
                  <a:lnTo>
                    <a:pt x="312" y="2402"/>
                  </a:lnTo>
                  <a:lnTo>
                    <a:pt x="262" y="2464"/>
                  </a:lnTo>
                  <a:lnTo>
                    <a:pt x="213" y="2519"/>
                  </a:lnTo>
                  <a:lnTo>
                    <a:pt x="163" y="2562"/>
                  </a:lnTo>
                  <a:lnTo>
                    <a:pt x="117" y="2586"/>
                  </a:lnTo>
                  <a:lnTo>
                    <a:pt x="75" y="2586"/>
                  </a:lnTo>
                  <a:lnTo>
                    <a:pt x="75" y="2586"/>
                  </a:lnTo>
                  <a:lnTo>
                    <a:pt x="27" y="2552"/>
                  </a:lnTo>
                  <a:lnTo>
                    <a:pt x="3" y="2500"/>
                  </a:lnTo>
                  <a:lnTo>
                    <a:pt x="0" y="2434"/>
                  </a:lnTo>
                  <a:lnTo>
                    <a:pt x="14" y="2360"/>
                  </a:lnTo>
                  <a:lnTo>
                    <a:pt x="37" y="2285"/>
                  </a:lnTo>
                  <a:lnTo>
                    <a:pt x="67" y="2212"/>
                  </a:lnTo>
                  <a:lnTo>
                    <a:pt x="99" y="2144"/>
                  </a:lnTo>
                  <a:lnTo>
                    <a:pt x="128" y="2090"/>
                  </a:lnTo>
                  <a:lnTo>
                    <a:pt x="149" y="2055"/>
                  </a:lnTo>
                  <a:lnTo>
                    <a:pt x="157" y="2042"/>
                  </a:lnTo>
                  <a:lnTo>
                    <a:pt x="157" y="2042"/>
                  </a:lnTo>
                  <a:lnTo>
                    <a:pt x="189" y="1986"/>
                  </a:lnTo>
                  <a:lnTo>
                    <a:pt x="280" y="1836"/>
                  </a:lnTo>
                  <a:lnTo>
                    <a:pt x="414" y="1612"/>
                  </a:lnTo>
                  <a:lnTo>
                    <a:pt x="577" y="1341"/>
                  </a:lnTo>
                  <a:lnTo>
                    <a:pt x="755" y="1045"/>
                  </a:lnTo>
                  <a:lnTo>
                    <a:pt x="934" y="749"/>
                  </a:lnTo>
                  <a:lnTo>
                    <a:pt x="1101" y="474"/>
                  </a:lnTo>
                  <a:lnTo>
                    <a:pt x="1240" y="245"/>
                  </a:lnTo>
                  <a:lnTo>
                    <a:pt x="1337" y="87"/>
                  </a:lnTo>
                  <a:lnTo>
                    <a:pt x="1379" y="23"/>
                  </a:lnTo>
                  <a:lnTo>
                    <a:pt x="1379" y="23"/>
                  </a:lnTo>
                  <a:lnTo>
                    <a:pt x="1401" y="7"/>
                  </a:lnTo>
                  <a:lnTo>
                    <a:pt x="1430" y="0"/>
                  </a:lnTo>
                  <a:lnTo>
                    <a:pt x="1464" y="4"/>
                  </a:lnTo>
                  <a:lnTo>
                    <a:pt x="1499" y="15"/>
                  </a:lnTo>
                  <a:lnTo>
                    <a:pt x="1536" y="32"/>
                  </a:lnTo>
                  <a:lnTo>
                    <a:pt x="1569" y="55"/>
                  </a:lnTo>
                  <a:lnTo>
                    <a:pt x="1601" y="82"/>
                  </a:lnTo>
                  <a:lnTo>
                    <a:pt x="1625" y="112"/>
                  </a:lnTo>
                  <a:lnTo>
                    <a:pt x="1641" y="146"/>
                  </a:lnTo>
                  <a:lnTo>
                    <a:pt x="1648" y="181"/>
                  </a:lnTo>
                  <a:lnTo>
                    <a:pt x="453" y="2184"/>
                  </a:lnTo>
                  <a:close/>
                </a:path>
              </a:pathLst>
            </a:custGeom>
            <a:solidFill>
              <a:srgbClr val="b1bed8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0952600">
              <a:off x="3129480" y="1606680"/>
              <a:ext cx="40896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  <a:lnTo>
                    <a:pt x="1459" y="9"/>
                  </a:lnTo>
                  <a:lnTo>
                    <a:pt x="1455" y="8"/>
                  </a:lnTo>
                  <a:lnTo>
                    <a:pt x="1450" y="6"/>
                  </a:lnTo>
                  <a:lnTo>
                    <a:pt x="1445" y="4"/>
                  </a:lnTo>
                  <a:lnTo>
                    <a:pt x="1439" y="3"/>
                  </a:lnTo>
                  <a:lnTo>
                    <a:pt x="1434" y="3"/>
                  </a:lnTo>
                  <a:lnTo>
                    <a:pt x="1429" y="1"/>
                  </a:lnTo>
                  <a:lnTo>
                    <a:pt x="1424" y="1"/>
                  </a:lnTo>
                  <a:lnTo>
                    <a:pt x="1419" y="0"/>
                  </a:lnTo>
                  <a:lnTo>
                    <a:pt x="1415" y="0"/>
                  </a:lnTo>
                  <a:lnTo>
                    <a:pt x="1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0952600">
              <a:off x="3166920" y="1628280"/>
              <a:ext cx="41436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  <a:lnTo>
                    <a:pt x="1479" y="42"/>
                  </a:lnTo>
                  <a:lnTo>
                    <a:pt x="1475" y="37"/>
                  </a:lnTo>
                  <a:lnTo>
                    <a:pt x="1472" y="34"/>
                  </a:lnTo>
                  <a:lnTo>
                    <a:pt x="1471" y="29"/>
                  </a:lnTo>
                  <a:lnTo>
                    <a:pt x="1467" y="24"/>
                  </a:lnTo>
                  <a:lnTo>
                    <a:pt x="1464" y="21"/>
                  </a:lnTo>
                  <a:lnTo>
                    <a:pt x="1461" y="16"/>
                  </a:lnTo>
                  <a:lnTo>
                    <a:pt x="1458" y="13"/>
                  </a:lnTo>
                  <a:lnTo>
                    <a:pt x="1455" y="8"/>
                  </a:lnTo>
                  <a:lnTo>
                    <a:pt x="1450" y="5"/>
                  </a:lnTo>
                  <a:lnTo>
                    <a:pt x="1447" y="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0952600">
              <a:off x="3126240" y="1612440"/>
              <a:ext cx="461520" cy="955440"/>
            </a:xfrm>
            <a:custGeom>
              <a:avLst/>
              <a:gdLst/>
              <a:ahLst/>
              <a:rect l="l" t="t" r="r" b="b"/>
              <a:pathLst>
                <a:path w="1647" h="2557">
                  <a:moveTo>
                    <a:pt x="1647" y="152"/>
                  </a:moveTo>
                  <a:lnTo>
                    <a:pt x="712" y="1714"/>
                  </a:lnTo>
                  <a:lnTo>
                    <a:pt x="440" y="2173"/>
                  </a:lnTo>
                  <a:lnTo>
                    <a:pt x="440" y="2173"/>
                  </a:lnTo>
                  <a:lnTo>
                    <a:pt x="434" y="2184"/>
                  </a:lnTo>
                  <a:lnTo>
                    <a:pt x="415" y="2218"/>
                  </a:lnTo>
                  <a:lnTo>
                    <a:pt x="384" y="2266"/>
                  </a:lnTo>
                  <a:lnTo>
                    <a:pt x="348" y="2323"/>
                  </a:lnTo>
                  <a:lnTo>
                    <a:pt x="303" y="2386"/>
                  </a:lnTo>
                  <a:lnTo>
                    <a:pt x="255" y="2445"/>
                  </a:lnTo>
                  <a:lnTo>
                    <a:pt x="204" y="2498"/>
                  </a:lnTo>
                  <a:lnTo>
                    <a:pt x="154" y="2536"/>
                  </a:lnTo>
                  <a:lnTo>
                    <a:pt x="104" y="2557"/>
                  </a:lnTo>
                  <a:lnTo>
                    <a:pt x="61" y="2554"/>
                  </a:lnTo>
                  <a:lnTo>
                    <a:pt x="61" y="2554"/>
                  </a:lnTo>
                  <a:lnTo>
                    <a:pt x="20" y="2520"/>
                  </a:lnTo>
                  <a:lnTo>
                    <a:pt x="0" y="2469"/>
                  </a:lnTo>
                  <a:lnTo>
                    <a:pt x="0" y="2405"/>
                  </a:lnTo>
                  <a:lnTo>
                    <a:pt x="13" y="2333"/>
                  </a:lnTo>
                  <a:lnTo>
                    <a:pt x="37" y="2259"/>
                  </a:lnTo>
                  <a:lnTo>
                    <a:pt x="66" y="2187"/>
                  </a:lnTo>
                  <a:lnTo>
                    <a:pt x="95" y="2123"/>
                  </a:lnTo>
                  <a:lnTo>
                    <a:pt x="122" y="2071"/>
                  </a:lnTo>
                  <a:lnTo>
                    <a:pt x="141" y="2035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9" y="2023"/>
                  </a:lnTo>
                  <a:lnTo>
                    <a:pt x="149" y="2023"/>
                  </a:lnTo>
                  <a:lnTo>
                    <a:pt x="149" y="2021"/>
                  </a:lnTo>
                  <a:lnTo>
                    <a:pt x="149" y="2021"/>
                  </a:lnTo>
                  <a:lnTo>
                    <a:pt x="151" y="2019"/>
                  </a:lnTo>
                  <a:lnTo>
                    <a:pt x="151" y="2018"/>
                  </a:lnTo>
                  <a:lnTo>
                    <a:pt x="152" y="2018"/>
                  </a:lnTo>
                  <a:lnTo>
                    <a:pt x="152" y="2016"/>
                  </a:lnTo>
                  <a:lnTo>
                    <a:pt x="152" y="2016"/>
                  </a:lnTo>
                  <a:lnTo>
                    <a:pt x="168" y="1991"/>
                  </a:lnTo>
                  <a:lnTo>
                    <a:pt x="192" y="1949"/>
                  </a:lnTo>
                  <a:lnTo>
                    <a:pt x="228" y="1891"/>
                  </a:lnTo>
                  <a:lnTo>
                    <a:pt x="269" y="1821"/>
                  </a:lnTo>
                  <a:lnTo>
                    <a:pt x="319" y="1739"/>
                  </a:lnTo>
                  <a:lnTo>
                    <a:pt x="375" y="1647"/>
                  </a:lnTo>
                  <a:lnTo>
                    <a:pt x="436" y="1544"/>
                  </a:lnTo>
                  <a:lnTo>
                    <a:pt x="501" y="1435"/>
                  </a:lnTo>
                  <a:lnTo>
                    <a:pt x="570" y="1322"/>
                  </a:lnTo>
                  <a:lnTo>
                    <a:pt x="642" y="1203"/>
                  </a:lnTo>
                  <a:lnTo>
                    <a:pt x="642" y="1203"/>
                  </a:lnTo>
                  <a:lnTo>
                    <a:pt x="743" y="1037"/>
                  </a:lnTo>
                  <a:lnTo>
                    <a:pt x="844" y="869"/>
                  </a:lnTo>
                  <a:lnTo>
                    <a:pt x="943" y="704"/>
                  </a:lnTo>
                  <a:lnTo>
                    <a:pt x="1037" y="547"/>
                  </a:lnTo>
                  <a:lnTo>
                    <a:pt x="1125" y="402"/>
                  </a:lnTo>
                  <a:lnTo>
                    <a:pt x="1204" y="274"/>
                  </a:lnTo>
                  <a:lnTo>
                    <a:pt x="1269" y="165"/>
                  </a:lnTo>
                  <a:lnTo>
                    <a:pt x="1322" y="80"/>
                  </a:lnTo>
                  <a:lnTo>
                    <a:pt x="1357" y="24"/>
                  </a:lnTo>
                  <a:lnTo>
                    <a:pt x="13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952600">
              <a:off x="3129480" y="1606680"/>
              <a:ext cx="40896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  <a:lnTo>
                    <a:pt x="141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952600">
              <a:off x="3129480" y="1606680"/>
              <a:ext cx="40896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952600">
              <a:off x="3166920" y="1628280"/>
              <a:ext cx="41436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  <a:lnTo>
                    <a:pt x="1447" y="0"/>
                  </a:lnTo>
                  <a:close/>
                </a:path>
              </a:pathLst>
            </a:custGeom>
            <a:solidFill>
              <a:srgbClr val="444444"/>
            </a:solidFill>
            <a:ln w="1440">
              <a:solidFill>
                <a:srgbClr val="444444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0952600">
              <a:off x="3182760" y="1596600"/>
              <a:ext cx="41436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</a:path>
              </a:pathLst>
            </a:custGeom>
            <a:noFill/>
            <a:ln w="1440">
              <a:solidFill>
                <a:srgbClr val="444444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0952600">
              <a:off x="3209400" y="2444040"/>
              <a:ext cx="74520" cy="141840"/>
            </a:xfrm>
            <a:custGeom>
              <a:avLst/>
              <a:gdLst/>
              <a:ahLst/>
              <a:rect l="l" t="t" r="r" b="b"/>
              <a:pathLst>
                <a:path w="265" h="379">
                  <a:moveTo>
                    <a:pt x="33" y="373"/>
                  </a:moveTo>
                  <a:lnTo>
                    <a:pt x="49" y="378"/>
                  </a:lnTo>
                  <a:lnTo>
                    <a:pt x="67" y="379"/>
                  </a:lnTo>
                  <a:lnTo>
                    <a:pt x="88" y="378"/>
                  </a:lnTo>
                  <a:lnTo>
                    <a:pt x="108" y="373"/>
                  </a:lnTo>
                  <a:lnTo>
                    <a:pt x="131" y="365"/>
                  </a:lnTo>
                  <a:lnTo>
                    <a:pt x="153" y="354"/>
                  </a:lnTo>
                  <a:lnTo>
                    <a:pt x="174" y="338"/>
                  </a:lnTo>
                  <a:lnTo>
                    <a:pt x="195" y="320"/>
                  </a:lnTo>
                  <a:lnTo>
                    <a:pt x="216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46" y="242"/>
                  </a:lnTo>
                  <a:lnTo>
                    <a:pt x="256" y="210"/>
                  </a:lnTo>
                  <a:lnTo>
                    <a:pt x="262" y="178"/>
                  </a:lnTo>
                  <a:lnTo>
                    <a:pt x="265" y="146"/>
                  </a:lnTo>
                  <a:lnTo>
                    <a:pt x="264" y="115"/>
                  </a:lnTo>
                  <a:lnTo>
                    <a:pt x="260" y="85"/>
                  </a:lnTo>
                  <a:lnTo>
                    <a:pt x="252" y="59"/>
                  </a:lnTo>
                  <a:lnTo>
                    <a:pt x="243" y="37"/>
                  </a:lnTo>
                  <a:lnTo>
                    <a:pt x="230" y="18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198" y="0"/>
                  </a:lnTo>
                  <a:lnTo>
                    <a:pt x="179" y="0"/>
                  </a:lnTo>
                  <a:lnTo>
                    <a:pt x="161" y="5"/>
                  </a:lnTo>
                  <a:lnTo>
                    <a:pt x="140" y="14"/>
                  </a:lnTo>
                  <a:lnTo>
                    <a:pt x="121" y="29"/>
                  </a:lnTo>
                  <a:lnTo>
                    <a:pt x="102" y="46"/>
                  </a:lnTo>
                  <a:lnTo>
                    <a:pt x="83" y="67"/>
                  </a:lnTo>
                  <a:lnTo>
                    <a:pt x="64" y="91"/>
                  </a:lnTo>
                  <a:lnTo>
                    <a:pt x="46" y="118"/>
                  </a:lnTo>
                  <a:lnTo>
                    <a:pt x="30" y="146"/>
                  </a:lnTo>
                  <a:lnTo>
                    <a:pt x="30" y="146"/>
                  </a:lnTo>
                  <a:lnTo>
                    <a:pt x="16" y="174"/>
                  </a:lnTo>
                  <a:lnTo>
                    <a:pt x="8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11" y="336"/>
                  </a:lnTo>
                  <a:lnTo>
                    <a:pt x="17" y="354"/>
                  </a:lnTo>
                  <a:lnTo>
                    <a:pt x="25" y="365"/>
                  </a:lnTo>
                  <a:lnTo>
                    <a:pt x="33" y="373"/>
                  </a:lnTo>
                  <a:close/>
                </a:path>
              </a:pathLst>
            </a:custGeom>
            <a:solidFill>
              <a:srgbClr val="daecec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0952600">
              <a:off x="3170160" y="2082960"/>
              <a:ext cx="249840" cy="500760"/>
            </a:xfrm>
            <a:custGeom>
              <a:avLst/>
              <a:gdLst/>
              <a:ahLst/>
              <a:rect l="l" t="t" r="r" b="b"/>
              <a:pathLst>
                <a:path w="891" h="1341">
                  <a:moveTo>
                    <a:pt x="853" y="171"/>
                  </a:moveTo>
                  <a:lnTo>
                    <a:pt x="280" y="1128"/>
                  </a:lnTo>
                  <a:lnTo>
                    <a:pt x="280" y="1128"/>
                  </a:lnTo>
                  <a:lnTo>
                    <a:pt x="278" y="1136"/>
                  </a:lnTo>
                  <a:lnTo>
                    <a:pt x="277" y="1144"/>
                  </a:lnTo>
                  <a:lnTo>
                    <a:pt x="273" y="1152"/>
                  </a:lnTo>
                  <a:lnTo>
                    <a:pt x="272" y="1160"/>
                  </a:lnTo>
                  <a:lnTo>
                    <a:pt x="269" y="1167"/>
                  </a:lnTo>
                  <a:lnTo>
                    <a:pt x="265" y="1175"/>
                  </a:lnTo>
                  <a:lnTo>
                    <a:pt x="264" y="1183"/>
                  </a:lnTo>
                  <a:lnTo>
                    <a:pt x="259" y="1189"/>
                  </a:lnTo>
                  <a:lnTo>
                    <a:pt x="256" y="1197"/>
                  </a:lnTo>
                  <a:lnTo>
                    <a:pt x="253" y="1203"/>
                  </a:lnTo>
                  <a:lnTo>
                    <a:pt x="253" y="1203"/>
                  </a:lnTo>
                  <a:lnTo>
                    <a:pt x="235" y="1231"/>
                  </a:lnTo>
                  <a:lnTo>
                    <a:pt x="216" y="1253"/>
                  </a:lnTo>
                  <a:lnTo>
                    <a:pt x="195" y="1272"/>
                  </a:lnTo>
                  <a:lnTo>
                    <a:pt x="173" y="1287"/>
                  </a:lnTo>
                  <a:lnTo>
                    <a:pt x="150" y="1298"/>
                  </a:lnTo>
                  <a:lnTo>
                    <a:pt x="129" y="1306"/>
                  </a:lnTo>
                  <a:lnTo>
                    <a:pt x="107" y="1311"/>
                  </a:lnTo>
                  <a:lnTo>
                    <a:pt x="88" y="1312"/>
                  </a:lnTo>
                  <a:lnTo>
                    <a:pt x="69" y="1311"/>
                  </a:lnTo>
                  <a:lnTo>
                    <a:pt x="53" y="1306"/>
                  </a:lnTo>
                  <a:lnTo>
                    <a:pt x="53" y="1306"/>
                  </a:lnTo>
                  <a:lnTo>
                    <a:pt x="45" y="1299"/>
                  </a:lnTo>
                  <a:lnTo>
                    <a:pt x="37" y="1287"/>
                  </a:lnTo>
                  <a:lnTo>
                    <a:pt x="30" y="1269"/>
                  </a:lnTo>
                  <a:lnTo>
                    <a:pt x="25" y="1248"/>
                  </a:lnTo>
                  <a:lnTo>
                    <a:pt x="22" y="1223"/>
                  </a:lnTo>
                  <a:lnTo>
                    <a:pt x="21" y="1195"/>
                  </a:lnTo>
                  <a:lnTo>
                    <a:pt x="22" y="1167"/>
                  </a:lnTo>
                  <a:lnTo>
                    <a:pt x="27" y="1138"/>
                  </a:lnTo>
                  <a:lnTo>
                    <a:pt x="37" y="1107"/>
                  </a:lnTo>
                  <a:lnTo>
                    <a:pt x="49" y="1079"/>
                  </a:lnTo>
                  <a:lnTo>
                    <a:pt x="49" y="1079"/>
                  </a:lnTo>
                  <a:lnTo>
                    <a:pt x="51" y="1077"/>
                  </a:lnTo>
                  <a:lnTo>
                    <a:pt x="53" y="1074"/>
                  </a:lnTo>
                  <a:lnTo>
                    <a:pt x="54" y="1072"/>
                  </a:lnTo>
                  <a:lnTo>
                    <a:pt x="54" y="1071"/>
                  </a:lnTo>
                  <a:lnTo>
                    <a:pt x="56" y="1067"/>
                  </a:lnTo>
                  <a:lnTo>
                    <a:pt x="57" y="1066"/>
                  </a:lnTo>
                  <a:lnTo>
                    <a:pt x="59" y="1064"/>
                  </a:lnTo>
                  <a:lnTo>
                    <a:pt x="61" y="1061"/>
                  </a:lnTo>
                  <a:lnTo>
                    <a:pt x="62" y="1059"/>
                  </a:lnTo>
                  <a:lnTo>
                    <a:pt x="62" y="1058"/>
                  </a:lnTo>
                  <a:lnTo>
                    <a:pt x="677" y="32"/>
                  </a:lnTo>
                  <a:lnTo>
                    <a:pt x="677" y="32"/>
                  </a:lnTo>
                  <a:lnTo>
                    <a:pt x="672" y="29"/>
                  </a:lnTo>
                  <a:lnTo>
                    <a:pt x="667" y="26"/>
                  </a:lnTo>
                  <a:lnTo>
                    <a:pt x="664" y="23"/>
                  </a:lnTo>
                  <a:lnTo>
                    <a:pt x="659" y="19"/>
                  </a:lnTo>
                  <a:lnTo>
                    <a:pt x="654" y="16"/>
                  </a:lnTo>
                  <a:lnTo>
                    <a:pt x="651" y="13"/>
                  </a:lnTo>
                  <a:lnTo>
                    <a:pt x="646" y="10"/>
                  </a:lnTo>
                  <a:lnTo>
                    <a:pt x="643" y="7"/>
                  </a:lnTo>
                  <a:lnTo>
                    <a:pt x="638" y="3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558" y="125"/>
                  </a:lnTo>
                  <a:lnTo>
                    <a:pt x="486" y="247"/>
                  </a:lnTo>
                  <a:lnTo>
                    <a:pt x="417" y="360"/>
                  </a:lnTo>
                  <a:lnTo>
                    <a:pt x="355" y="464"/>
                  </a:lnTo>
                  <a:lnTo>
                    <a:pt x="299" y="559"/>
                  </a:lnTo>
                  <a:lnTo>
                    <a:pt x="251" y="639"/>
                  </a:lnTo>
                  <a:lnTo>
                    <a:pt x="211" y="706"/>
                  </a:lnTo>
                  <a:lnTo>
                    <a:pt x="181" y="755"/>
                  </a:lnTo>
                  <a:lnTo>
                    <a:pt x="161" y="786"/>
                  </a:lnTo>
                  <a:lnTo>
                    <a:pt x="155" y="797"/>
                  </a:lnTo>
                  <a:lnTo>
                    <a:pt x="155" y="797"/>
                  </a:lnTo>
                  <a:lnTo>
                    <a:pt x="147" y="810"/>
                  </a:lnTo>
                  <a:lnTo>
                    <a:pt x="126" y="847"/>
                  </a:lnTo>
                  <a:lnTo>
                    <a:pt x="99" y="899"/>
                  </a:lnTo>
                  <a:lnTo>
                    <a:pt x="67" y="967"/>
                  </a:lnTo>
                  <a:lnTo>
                    <a:pt x="37" y="1040"/>
                  </a:lnTo>
                  <a:lnTo>
                    <a:pt x="13" y="1117"/>
                  </a:lnTo>
                  <a:lnTo>
                    <a:pt x="0" y="1189"/>
                  </a:lnTo>
                  <a:lnTo>
                    <a:pt x="3" y="1255"/>
                  </a:lnTo>
                  <a:lnTo>
                    <a:pt x="25" y="1307"/>
                  </a:lnTo>
                  <a:lnTo>
                    <a:pt x="75" y="1341"/>
                  </a:lnTo>
                  <a:lnTo>
                    <a:pt x="75" y="1341"/>
                  </a:lnTo>
                  <a:lnTo>
                    <a:pt x="117" y="1341"/>
                  </a:lnTo>
                  <a:lnTo>
                    <a:pt x="163" y="1317"/>
                  </a:lnTo>
                  <a:lnTo>
                    <a:pt x="211" y="1275"/>
                  </a:lnTo>
                  <a:lnTo>
                    <a:pt x="262" y="1221"/>
                  </a:lnTo>
                  <a:lnTo>
                    <a:pt x="310" y="1159"/>
                  </a:lnTo>
                  <a:lnTo>
                    <a:pt x="355" y="1095"/>
                  </a:lnTo>
                  <a:lnTo>
                    <a:pt x="393" y="1037"/>
                  </a:lnTo>
                  <a:lnTo>
                    <a:pt x="424" y="987"/>
                  </a:lnTo>
                  <a:lnTo>
                    <a:pt x="443" y="954"/>
                  </a:lnTo>
                  <a:lnTo>
                    <a:pt x="451" y="941"/>
                  </a:lnTo>
                  <a:lnTo>
                    <a:pt x="891" y="202"/>
                  </a:lnTo>
                  <a:lnTo>
                    <a:pt x="891" y="202"/>
                  </a:lnTo>
                  <a:lnTo>
                    <a:pt x="888" y="199"/>
                  </a:lnTo>
                  <a:lnTo>
                    <a:pt x="883" y="195"/>
                  </a:lnTo>
                  <a:lnTo>
                    <a:pt x="880" y="192"/>
                  </a:lnTo>
                  <a:lnTo>
                    <a:pt x="877" y="189"/>
                  </a:lnTo>
                  <a:lnTo>
                    <a:pt x="873" y="186"/>
                  </a:lnTo>
                  <a:lnTo>
                    <a:pt x="869" y="183"/>
                  </a:lnTo>
                  <a:lnTo>
                    <a:pt x="865" y="181"/>
                  </a:lnTo>
                  <a:lnTo>
                    <a:pt x="862" y="178"/>
                  </a:lnTo>
                  <a:lnTo>
                    <a:pt x="857" y="175"/>
                  </a:lnTo>
                  <a:lnTo>
                    <a:pt x="853" y="171"/>
                  </a:lnTo>
                  <a:lnTo>
                    <a:pt x="853" y="171"/>
                  </a:lnTo>
                  <a:close/>
                </a:path>
              </a:pathLst>
            </a:custGeom>
            <a:solidFill>
              <a:srgbClr val="d3d9e8"/>
            </a:solidFill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0952600">
              <a:off x="3170160" y="2082960"/>
              <a:ext cx="249840" cy="500760"/>
            </a:xfrm>
            <a:custGeom>
              <a:avLst/>
              <a:gdLst/>
              <a:ahLst/>
              <a:rect l="l" t="t" r="r" b="b"/>
              <a:pathLst>
                <a:path w="891" h="1341">
                  <a:moveTo>
                    <a:pt x="853" y="171"/>
                  </a:moveTo>
                  <a:lnTo>
                    <a:pt x="280" y="1128"/>
                  </a:lnTo>
                  <a:lnTo>
                    <a:pt x="280" y="1128"/>
                  </a:lnTo>
                  <a:lnTo>
                    <a:pt x="278" y="1136"/>
                  </a:lnTo>
                  <a:lnTo>
                    <a:pt x="277" y="1144"/>
                  </a:lnTo>
                  <a:lnTo>
                    <a:pt x="273" y="1152"/>
                  </a:lnTo>
                  <a:lnTo>
                    <a:pt x="272" y="1160"/>
                  </a:lnTo>
                  <a:lnTo>
                    <a:pt x="269" y="1167"/>
                  </a:lnTo>
                  <a:lnTo>
                    <a:pt x="265" y="1175"/>
                  </a:lnTo>
                  <a:lnTo>
                    <a:pt x="264" y="1183"/>
                  </a:lnTo>
                  <a:lnTo>
                    <a:pt x="259" y="1189"/>
                  </a:lnTo>
                  <a:lnTo>
                    <a:pt x="256" y="1197"/>
                  </a:lnTo>
                  <a:lnTo>
                    <a:pt x="253" y="1203"/>
                  </a:lnTo>
                  <a:lnTo>
                    <a:pt x="253" y="1203"/>
                  </a:lnTo>
                  <a:lnTo>
                    <a:pt x="235" y="1231"/>
                  </a:lnTo>
                  <a:lnTo>
                    <a:pt x="216" y="1253"/>
                  </a:lnTo>
                  <a:lnTo>
                    <a:pt x="195" y="1272"/>
                  </a:lnTo>
                  <a:lnTo>
                    <a:pt x="173" y="1287"/>
                  </a:lnTo>
                  <a:lnTo>
                    <a:pt x="150" y="1298"/>
                  </a:lnTo>
                  <a:lnTo>
                    <a:pt x="129" y="1306"/>
                  </a:lnTo>
                  <a:lnTo>
                    <a:pt x="107" y="1311"/>
                  </a:lnTo>
                  <a:lnTo>
                    <a:pt x="88" y="1312"/>
                  </a:lnTo>
                  <a:lnTo>
                    <a:pt x="69" y="1311"/>
                  </a:lnTo>
                  <a:lnTo>
                    <a:pt x="53" y="1306"/>
                  </a:lnTo>
                  <a:lnTo>
                    <a:pt x="53" y="1306"/>
                  </a:lnTo>
                  <a:lnTo>
                    <a:pt x="45" y="1299"/>
                  </a:lnTo>
                  <a:lnTo>
                    <a:pt x="37" y="1287"/>
                  </a:lnTo>
                  <a:lnTo>
                    <a:pt x="30" y="1269"/>
                  </a:lnTo>
                  <a:lnTo>
                    <a:pt x="25" y="1248"/>
                  </a:lnTo>
                  <a:lnTo>
                    <a:pt x="22" y="1223"/>
                  </a:lnTo>
                  <a:lnTo>
                    <a:pt x="21" y="1195"/>
                  </a:lnTo>
                  <a:lnTo>
                    <a:pt x="22" y="1167"/>
                  </a:lnTo>
                  <a:lnTo>
                    <a:pt x="27" y="1138"/>
                  </a:lnTo>
                  <a:lnTo>
                    <a:pt x="37" y="1107"/>
                  </a:lnTo>
                  <a:lnTo>
                    <a:pt x="49" y="1079"/>
                  </a:lnTo>
                  <a:lnTo>
                    <a:pt x="49" y="1079"/>
                  </a:lnTo>
                  <a:lnTo>
                    <a:pt x="51" y="1077"/>
                  </a:lnTo>
                  <a:lnTo>
                    <a:pt x="53" y="1074"/>
                  </a:lnTo>
                  <a:lnTo>
                    <a:pt x="54" y="1072"/>
                  </a:lnTo>
                  <a:lnTo>
                    <a:pt x="54" y="1071"/>
                  </a:lnTo>
                  <a:lnTo>
                    <a:pt x="56" y="1067"/>
                  </a:lnTo>
                  <a:lnTo>
                    <a:pt x="57" y="1066"/>
                  </a:lnTo>
                  <a:lnTo>
                    <a:pt x="59" y="1064"/>
                  </a:lnTo>
                  <a:lnTo>
                    <a:pt x="61" y="1061"/>
                  </a:lnTo>
                  <a:lnTo>
                    <a:pt x="62" y="1059"/>
                  </a:lnTo>
                  <a:lnTo>
                    <a:pt x="62" y="1058"/>
                  </a:lnTo>
                  <a:lnTo>
                    <a:pt x="677" y="32"/>
                  </a:lnTo>
                  <a:lnTo>
                    <a:pt x="677" y="32"/>
                  </a:lnTo>
                  <a:lnTo>
                    <a:pt x="672" y="29"/>
                  </a:lnTo>
                  <a:lnTo>
                    <a:pt x="667" y="26"/>
                  </a:lnTo>
                  <a:lnTo>
                    <a:pt x="664" y="23"/>
                  </a:lnTo>
                  <a:lnTo>
                    <a:pt x="659" y="19"/>
                  </a:lnTo>
                  <a:lnTo>
                    <a:pt x="654" y="16"/>
                  </a:lnTo>
                  <a:lnTo>
                    <a:pt x="651" y="13"/>
                  </a:lnTo>
                  <a:lnTo>
                    <a:pt x="646" y="10"/>
                  </a:lnTo>
                  <a:lnTo>
                    <a:pt x="643" y="7"/>
                  </a:lnTo>
                  <a:lnTo>
                    <a:pt x="638" y="3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558" y="125"/>
                  </a:lnTo>
                  <a:lnTo>
                    <a:pt x="486" y="247"/>
                  </a:lnTo>
                  <a:lnTo>
                    <a:pt x="417" y="360"/>
                  </a:lnTo>
                  <a:lnTo>
                    <a:pt x="355" y="464"/>
                  </a:lnTo>
                  <a:lnTo>
                    <a:pt x="299" y="559"/>
                  </a:lnTo>
                  <a:lnTo>
                    <a:pt x="251" y="639"/>
                  </a:lnTo>
                  <a:lnTo>
                    <a:pt x="211" y="706"/>
                  </a:lnTo>
                  <a:lnTo>
                    <a:pt x="181" y="755"/>
                  </a:lnTo>
                  <a:lnTo>
                    <a:pt x="161" y="786"/>
                  </a:lnTo>
                  <a:lnTo>
                    <a:pt x="155" y="797"/>
                  </a:lnTo>
                  <a:lnTo>
                    <a:pt x="155" y="797"/>
                  </a:lnTo>
                  <a:lnTo>
                    <a:pt x="147" y="810"/>
                  </a:lnTo>
                  <a:lnTo>
                    <a:pt x="126" y="847"/>
                  </a:lnTo>
                  <a:lnTo>
                    <a:pt x="99" y="899"/>
                  </a:lnTo>
                  <a:lnTo>
                    <a:pt x="67" y="967"/>
                  </a:lnTo>
                  <a:lnTo>
                    <a:pt x="37" y="1040"/>
                  </a:lnTo>
                  <a:lnTo>
                    <a:pt x="13" y="1117"/>
                  </a:lnTo>
                  <a:lnTo>
                    <a:pt x="0" y="1189"/>
                  </a:lnTo>
                  <a:lnTo>
                    <a:pt x="3" y="1255"/>
                  </a:lnTo>
                  <a:lnTo>
                    <a:pt x="25" y="1307"/>
                  </a:lnTo>
                  <a:lnTo>
                    <a:pt x="75" y="1341"/>
                  </a:lnTo>
                  <a:lnTo>
                    <a:pt x="75" y="1341"/>
                  </a:lnTo>
                  <a:lnTo>
                    <a:pt x="117" y="1341"/>
                  </a:lnTo>
                  <a:lnTo>
                    <a:pt x="163" y="1317"/>
                  </a:lnTo>
                  <a:lnTo>
                    <a:pt x="211" y="1275"/>
                  </a:lnTo>
                  <a:lnTo>
                    <a:pt x="262" y="1221"/>
                  </a:lnTo>
                  <a:lnTo>
                    <a:pt x="310" y="1159"/>
                  </a:lnTo>
                  <a:lnTo>
                    <a:pt x="355" y="1095"/>
                  </a:lnTo>
                  <a:lnTo>
                    <a:pt x="393" y="1037"/>
                  </a:lnTo>
                  <a:lnTo>
                    <a:pt x="424" y="987"/>
                  </a:lnTo>
                  <a:lnTo>
                    <a:pt x="443" y="954"/>
                  </a:lnTo>
                  <a:lnTo>
                    <a:pt x="451" y="941"/>
                  </a:lnTo>
                  <a:lnTo>
                    <a:pt x="891" y="202"/>
                  </a:lnTo>
                  <a:lnTo>
                    <a:pt x="891" y="202"/>
                  </a:lnTo>
                  <a:lnTo>
                    <a:pt x="888" y="199"/>
                  </a:lnTo>
                  <a:lnTo>
                    <a:pt x="883" y="195"/>
                  </a:lnTo>
                  <a:lnTo>
                    <a:pt x="880" y="192"/>
                  </a:lnTo>
                  <a:lnTo>
                    <a:pt x="877" y="189"/>
                  </a:lnTo>
                  <a:lnTo>
                    <a:pt x="873" y="186"/>
                  </a:lnTo>
                  <a:lnTo>
                    <a:pt x="869" y="183"/>
                  </a:lnTo>
                  <a:lnTo>
                    <a:pt x="865" y="181"/>
                  </a:lnTo>
                  <a:lnTo>
                    <a:pt x="862" y="178"/>
                  </a:lnTo>
                  <a:lnTo>
                    <a:pt x="857" y="175"/>
                  </a:lnTo>
                  <a:lnTo>
                    <a:pt x="853" y="171"/>
                  </a:lnTo>
                  <a:lnTo>
                    <a:pt x="853" y="171"/>
                  </a:lnTo>
                </a:path>
              </a:pathLst>
            </a:custGeom>
            <a:noFill/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0952600">
              <a:off x="3179520" y="2098440"/>
              <a:ext cx="183240" cy="382680"/>
            </a:xfrm>
            <a:custGeom>
              <a:avLst/>
              <a:gdLst/>
              <a:ahLst/>
              <a:rect l="l" t="t" r="r" b="b"/>
              <a:pathLst>
                <a:path w="655" h="1026">
                  <a:moveTo>
                    <a:pt x="135" y="901"/>
                  </a:moveTo>
                  <a:lnTo>
                    <a:pt x="655" y="31"/>
                  </a:lnTo>
                  <a:lnTo>
                    <a:pt x="655" y="31"/>
                  </a:lnTo>
                  <a:lnTo>
                    <a:pt x="650" y="27"/>
                  </a:lnTo>
                  <a:lnTo>
                    <a:pt x="647" y="24"/>
                  </a:lnTo>
                  <a:lnTo>
                    <a:pt x="642" y="23"/>
                  </a:lnTo>
                  <a:lnTo>
                    <a:pt x="639" y="19"/>
                  </a:lnTo>
                  <a:lnTo>
                    <a:pt x="634" y="16"/>
                  </a:lnTo>
                  <a:lnTo>
                    <a:pt x="631" y="13"/>
                  </a:lnTo>
                  <a:lnTo>
                    <a:pt x="626" y="10"/>
                  </a:lnTo>
                  <a:lnTo>
                    <a:pt x="623" y="7"/>
                  </a:lnTo>
                  <a:lnTo>
                    <a:pt x="618" y="3"/>
                  </a:lnTo>
                  <a:lnTo>
                    <a:pt x="615" y="0"/>
                  </a:lnTo>
                  <a:lnTo>
                    <a:pt x="0" y="1026"/>
                  </a:lnTo>
                  <a:lnTo>
                    <a:pt x="0" y="1026"/>
                  </a:lnTo>
                  <a:lnTo>
                    <a:pt x="13" y="1007"/>
                  </a:lnTo>
                  <a:lnTo>
                    <a:pt x="26" y="989"/>
                  </a:lnTo>
                  <a:lnTo>
                    <a:pt x="39" y="971"/>
                  </a:lnTo>
                  <a:lnTo>
                    <a:pt x="53" y="955"/>
                  </a:lnTo>
                  <a:lnTo>
                    <a:pt x="66" y="943"/>
                  </a:lnTo>
                  <a:lnTo>
                    <a:pt x="80" y="930"/>
                  </a:lnTo>
                  <a:lnTo>
                    <a:pt x="95" y="920"/>
                  </a:lnTo>
                  <a:lnTo>
                    <a:pt x="107" y="911"/>
                  </a:lnTo>
                  <a:lnTo>
                    <a:pt x="122" y="906"/>
                  </a:lnTo>
                  <a:lnTo>
                    <a:pt x="135" y="901"/>
                  </a:lnTo>
                  <a:lnTo>
                    <a:pt x="135" y="90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952600">
              <a:off x="3179520" y="2098440"/>
              <a:ext cx="183240" cy="382680"/>
            </a:xfrm>
            <a:custGeom>
              <a:avLst/>
              <a:gdLst/>
              <a:ahLst/>
              <a:rect l="l" t="t" r="r" b="b"/>
              <a:pathLst>
                <a:path w="655" h="1026">
                  <a:moveTo>
                    <a:pt x="135" y="901"/>
                  </a:moveTo>
                  <a:lnTo>
                    <a:pt x="655" y="31"/>
                  </a:lnTo>
                  <a:lnTo>
                    <a:pt x="655" y="31"/>
                  </a:lnTo>
                  <a:lnTo>
                    <a:pt x="650" y="27"/>
                  </a:lnTo>
                  <a:lnTo>
                    <a:pt x="647" y="24"/>
                  </a:lnTo>
                  <a:lnTo>
                    <a:pt x="642" y="23"/>
                  </a:lnTo>
                  <a:lnTo>
                    <a:pt x="639" y="19"/>
                  </a:lnTo>
                  <a:lnTo>
                    <a:pt x="634" y="16"/>
                  </a:lnTo>
                  <a:lnTo>
                    <a:pt x="631" y="13"/>
                  </a:lnTo>
                  <a:lnTo>
                    <a:pt x="626" y="10"/>
                  </a:lnTo>
                  <a:lnTo>
                    <a:pt x="623" y="7"/>
                  </a:lnTo>
                  <a:lnTo>
                    <a:pt x="618" y="3"/>
                  </a:lnTo>
                  <a:lnTo>
                    <a:pt x="615" y="0"/>
                  </a:lnTo>
                  <a:lnTo>
                    <a:pt x="0" y="1026"/>
                  </a:lnTo>
                  <a:lnTo>
                    <a:pt x="0" y="1026"/>
                  </a:lnTo>
                  <a:lnTo>
                    <a:pt x="13" y="1007"/>
                  </a:lnTo>
                  <a:lnTo>
                    <a:pt x="26" y="989"/>
                  </a:lnTo>
                  <a:lnTo>
                    <a:pt x="39" y="971"/>
                  </a:lnTo>
                  <a:lnTo>
                    <a:pt x="53" y="955"/>
                  </a:lnTo>
                  <a:lnTo>
                    <a:pt x="66" y="943"/>
                  </a:lnTo>
                  <a:lnTo>
                    <a:pt x="80" y="930"/>
                  </a:lnTo>
                  <a:lnTo>
                    <a:pt x="95" y="920"/>
                  </a:lnTo>
                  <a:lnTo>
                    <a:pt x="107" y="911"/>
                  </a:lnTo>
                  <a:lnTo>
                    <a:pt x="122" y="906"/>
                  </a:lnTo>
                  <a:lnTo>
                    <a:pt x="135" y="901"/>
                  </a:lnTo>
                  <a:lnTo>
                    <a:pt x="135" y="901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600">
              <a:off x="3216240" y="2103840"/>
              <a:ext cx="173160" cy="361800"/>
            </a:xfrm>
            <a:custGeom>
              <a:avLst/>
              <a:gdLst/>
              <a:ahLst/>
              <a:rect l="l" t="t" r="r" b="b"/>
              <a:pathLst>
                <a:path w="619" h="968">
                  <a:moveTo>
                    <a:pt x="38" y="876"/>
                  </a:moveTo>
                  <a:lnTo>
                    <a:pt x="44" y="881"/>
                  </a:lnTo>
                  <a:lnTo>
                    <a:pt x="51" y="888"/>
                  </a:lnTo>
                  <a:lnTo>
                    <a:pt x="57" y="894"/>
                  </a:lnTo>
                  <a:lnTo>
                    <a:pt x="64" y="902"/>
                  </a:lnTo>
                  <a:lnTo>
                    <a:pt x="68" y="912"/>
                  </a:lnTo>
                  <a:lnTo>
                    <a:pt x="73" y="921"/>
                  </a:lnTo>
                  <a:lnTo>
                    <a:pt x="76" y="932"/>
                  </a:lnTo>
                  <a:lnTo>
                    <a:pt x="80" y="944"/>
                  </a:lnTo>
                  <a:lnTo>
                    <a:pt x="83" y="955"/>
                  </a:lnTo>
                  <a:lnTo>
                    <a:pt x="84" y="968"/>
                  </a:lnTo>
                  <a:lnTo>
                    <a:pt x="619" y="78"/>
                  </a:lnTo>
                  <a:lnTo>
                    <a:pt x="619" y="78"/>
                  </a:lnTo>
                  <a:lnTo>
                    <a:pt x="608" y="70"/>
                  </a:lnTo>
                  <a:lnTo>
                    <a:pt x="598" y="62"/>
                  </a:lnTo>
                  <a:lnTo>
                    <a:pt x="588" y="54"/>
                  </a:lnTo>
                  <a:lnTo>
                    <a:pt x="577" y="46"/>
                  </a:lnTo>
                  <a:lnTo>
                    <a:pt x="568" y="38"/>
                  </a:lnTo>
                  <a:lnTo>
                    <a:pt x="558" y="30"/>
                  </a:lnTo>
                  <a:lnTo>
                    <a:pt x="548" y="24"/>
                  </a:lnTo>
                  <a:lnTo>
                    <a:pt x="539" y="16"/>
                  </a:lnTo>
                  <a:lnTo>
                    <a:pt x="529" y="8"/>
                  </a:lnTo>
                  <a:lnTo>
                    <a:pt x="520" y="0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4" y="870"/>
                  </a:lnTo>
                  <a:lnTo>
                    <a:pt x="8" y="870"/>
                  </a:lnTo>
                  <a:lnTo>
                    <a:pt x="12" y="870"/>
                  </a:lnTo>
                  <a:lnTo>
                    <a:pt x="16" y="870"/>
                  </a:lnTo>
                  <a:lnTo>
                    <a:pt x="19" y="870"/>
                  </a:lnTo>
                  <a:lnTo>
                    <a:pt x="24" y="872"/>
                  </a:lnTo>
                  <a:lnTo>
                    <a:pt x="27" y="872"/>
                  </a:lnTo>
                  <a:lnTo>
                    <a:pt x="30" y="873"/>
                  </a:lnTo>
                  <a:lnTo>
                    <a:pt x="35" y="875"/>
                  </a:lnTo>
                  <a:lnTo>
                    <a:pt x="38" y="876"/>
                  </a:lnTo>
                  <a:lnTo>
                    <a:pt x="38" y="876"/>
                  </a:lnTo>
                  <a:close/>
                </a:path>
              </a:pathLst>
            </a:custGeom>
            <a:solidFill>
              <a:srgbClr val="d3d9e8"/>
            </a:solidFill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600">
              <a:off x="3216240" y="2103840"/>
              <a:ext cx="173160" cy="361800"/>
            </a:xfrm>
            <a:custGeom>
              <a:avLst/>
              <a:gdLst/>
              <a:ahLst/>
              <a:rect l="l" t="t" r="r" b="b"/>
              <a:pathLst>
                <a:path w="619" h="968">
                  <a:moveTo>
                    <a:pt x="38" y="876"/>
                  </a:moveTo>
                  <a:lnTo>
                    <a:pt x="44" y="881"/>
                  </a:lnTo>
                  <a:lnTo>
                    <a:pt x="51" y="888"/>
                  </a:lnTo>
                  <a:lnTo>
                    <a:pt x="57" y="894"/>
                  </a:lnTo>
                  <a:lnTo>
                    <a:pt x="64" y="902"/>
                  </a:lnTo>
                  <a:lnTo>
                    <a:pt x="68" y="912"/>
                  </a:lnTo>
                  <a:lnTo>
                    <a:pt x="73" y="921"/>
                  </a:lnTo>
                  <a:lnTo>
                    <a:pt x="76" y="932"/>
                  </a:lnTo>
                  <a:lnTo>
                    <a:pt x="80" y="944"/>
                  </a:lnTo>
                  <a:lnTo>
                    <a:pt x="83" y="955"/>
                  </a:lnTo>
                  <a:lnTo>
                    <a:pt x="84" y="968"/>
                  </a:lnTo>
                  <a:lnTo>
                    <a:pt x="619" y="78"/>
                  </a:lnTo>
                  <a:lnTo>
                    <a:pt x="619" y="78"/>
                  </a:lnTo>
                  <a:lnTo>
                    <a:pt x="608" y="70"/>
                  </a:lnTo>
                  <a:lnTo>
                    <a:pt x="598" y="62"/>
                  </a:lnTo>
                  <a:lnTo>
                    <a:pt x="588" y="54"/>
                  </a:lnTo>
                  <a:lnTo>
                    <a:pt x="577" y="46"/>
                  </a:lnTo>
                  <a:lnTo>
                    <a:pt x="568" y="38"/>
                  </a:lnTo>
                  <a:lnTo>
                    <a:pt x="558" y="30"/>
                  </a:lnTo>
                  <a:lnTo>
                    <a:pt x="548" y="24"/>
                  </a:lnTo>
                  <a:lnTo>
                    <a:pt x="539" y="16"/>
                  </a:lnTo>
                  <a:lnTo>
                    <a:pt x="529" y="8"/>
                  </a:lnTo>
                  <a:lnTo>
                    <a:pt x="520" y="0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4" y="870"/>
                  </a:lnTo>
                  <a:lnTo>
                    <a:pt x="8" y="870"/>
                  </a:lnTo>
                  <a:lnTo>
                    <a:pt x="12" y="870"/>
                  </a:lnTo>
                  <a:lnTo>
                    <a:pt x="16" y="870"/>
                  </a:lnTo>
                  <a:lnTo>
                    <a:pt x="19" y="870"/>
                  </a:lnTo>
                  <a:lnTo>
                    <a:pt x="24" y="872"/>
                  </a:lnTo>
                  <a:lnTo>
                    <a:pt x="27" y="872"/>
                  </a:lnTo>
                  <a:lnTo>
                    <a:pt x="30" y="873"/>
                  </a:lnTo>
                  <a:lnTo>
                    <a:pt x="35" y="875"/>
                  </a:lnTo>
                  <a:lnTo>
                    <a:pt x="38" y="876"/>
                  </a:lnTo>
                  <a:lnTo>
                    <a:pt x="38" y="876"/>
                  </a:lnTo>
                </a:path>
              </a:pathLst>
            </a:custGeom>
            <a:noFill/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952600">
              <a:off x="3245400" y="2129400"/>
              <a:ext cx="160920" cy="369360"/>
            </a:xfrm>
            <a:custGeom>
              <a:avLst/>
              <a:gdLst/>
              <a:ahLst/>
              <a:rect l="l" t="t" r="r" b="b"/>
              <a:pathLst>
                <a:path w="573" h="987">
                  <a:moveTo>
                    <a:pt x="0" y="987"/>
                  </a:moveTo>
                  <a:lnTo>
                    <a:pt x="573" y="30"/>
                  </a:lnTo>
                  <a:lnTo>
                    <a:pt x="573" y="30"/>
                  </a:lnTo>
                  <a:lnTo>
                    <a:pt x="569" y="27"/>
                  </a:lnTo>
                  <a:lnTo>
                    <a:pt x="566" y="24"/>
                  </a:lnTo>
                  <a:lnTo>
                    <a:pt x="561" y="21"/>
                  </a:lnTo>
                  <a:lnTo>
                    <a:pt x="558" y="18"/>
                  </a:lnTo>
                  <a:lnTo>
                    <a:pt x="553" y="14"/>
                  </a:lnTo>
                  <a:lnTo>
                    <a:pt x="550" y="11"/>
                  </a:lnTo>
                  <a:lnTo>
                    <a:pt x="547" y="10"/>
                  </a:lnTo>
                  <a:lnTo>
                    <a:pt x="542" y="6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1" y="890"/>
                  </a:lnTo>
                  <a:lnTo>
                    <a:pt x="1" y="890"/>
                  </a:lnTo>
                  <a:lnTo>
                    <a:pt x="3" y="899"/>
                  </a:lnTo>
                  <a:lnTo>
                    <a:pt x="5" y="909"/>
                  </a:lnTo>
                  <a:lnTo>
                    <a:pt x="5" y="917"/>
                  </a:lnTo>
                  <a:lnTo>
                    <a:pt x="5" y="928"/>
                  </a:lnTo>
                  <a:lnTo>
                    <a:pt x="5" y="938"/>
                  </a:lnTo>
                  <a:lnTo>
                    <a:pt x="5" y="947"/>
                  </a:lnTo>
                  <a:lnTo>
                    <a:pt x="5" y="957"/>
                  </a:lnTo>
                  <a:lnTo>
                    <a:pt x="3" y="966"/>
                  </a:lnTo>
                  <a:lnTo>
                    <a:pt x="1" y="978"/>
                  </a:lnTo>
                  <a:lnTo>
                    <a:pt x="0" y="987"/>
                  </a:lnTo>
                  <a:lnTo>
                    <a:pt x="0" y="987"/>
                  </a:lnTo>
                  <a:close/>
                </a:path>
              </a:pathLst>
            </a:custGeom>
            <a:solidFill>
              <a:srgbClr val="a2a2a2"/>
            </a:solidFill>
            <a:ln w="1440">
              <a:solidFill>
                <a:srgbClr val="a2a2a2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0952600">
              <a:off x="3245400" y="2129400"/>
              <a:ext cx="160920" cy="369360"/>
            </a:xfrm>
            <a:custGeom>
              <a:avLst/>
              <a:gdLst/>
              <a:ahLst/>
              <a:rect l="l" t="t" r="r" b="b"/>
              <a:pathLst>
                <a:path w="573" h="987">
                  <a:moveTo>
                    <a:pt x="0" y="987"/>
                  </a:moveTo>
                  <a:lnTo>
                    <a:pt x="573" y="30"/>
                  </a:lnTo>
                  <a:lnTo>
                    <a:pt x="573" y="30"/>
                  </a:lnTo>
                  <a:lnTo>
                    <a:pt x="569" y="27"/>
                  </a:lnTo>
                  <a:lnTo>
                    <a:pt x="566" y="24"/>
                  </a:lnTo>
                  <a:lnTo>
                    <a:pt x="561" y="21"/>
                  </a:lnTo>
                  <a:lnTo>
                    <a:pt x="558" y="18"/>
                  </a:lnTo>
                  <a:lnTo>
                    <a:pt x="553" y="14"/>
                  </a:lnTo>
                  <a:lnTo>
                    <a:pt x="550" y="11"/>
                  </a:lnTo>
                  <a:lnTo>
                    <a:pt x="547" y="10"/>
                  </a:lnTo>
                  <a:lnTo>
                    <a:pt x="542" y="6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1" y="890"/>
                  </a:lnTo>
                  <a:lnTo>
                    <a:pt x="1" y="890"/>
                  </a:lnTo>
                  <a:lnTo>
                    <a:pt x="3" y="899"/>
                  </a:lnTo>
                  <a:lnTo>
                    <a:pt x="5" y="909"/>
                  </a:lnTo>
                  <a:lnTo>
                    <a:pt x="5" y="917"/>
                  </a:lnTo>
                  <a:lnTo>
                    <a:pt x="5" y="928"/>
                  </a:lnTo>
                  <a:lnTo>
                    <a:pt x="5" y="938"/>
                  </a:lnTo>
                  <a:lnTo>
                    <a:pt x="5" y="947"/>
                  </a:lnTo>
                  <a:lnTo>
                    <a:pt x="5" y="957"/>
                  </a:lnTo>
                  <a:lnTo>
                    <a:pt x="3" y="966"/>
                  </a:lnTo>
                  <a:lnTo>
                    <a:pt x="1" y="978"/>
                  </a:lnTo>
                  <a:lnTo>
                    <a:pt x="0" y="987"/>
                  </a:lnTo>
                  <a:lnTo>
                    <a:pt x="0" y="987"/>
                  </a:lnTo>
                </a:path>
              </a:pathLst>
            </a:custGeom>
            <a:noFill/>
            <a:ln w="1440">
              <a:solidFill>
                <a:srgbClr val="a2a2a2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0952600">
              <a:off x="3209400" y="2444040"/>
              <a:ext cx="73800" cy="141840"/>
            </a:xfrm>
            <a:custGeom>
              <a:avLst/>
              <a:gdLst/>
              <a:ahLst/>
              <a:rect l="l" t="t" r="r" b="b"/>
              <a:pathLst>
                <a:path w="264" h="379">
                  <a:moveTo>
                    <a:pt x="260" y="98"/>
                  </a:moveTo>
                  <a:lnTo>
                    <a:pt x="259" y="85"/>
                  </a:lnTo>
                  <a:lnTo>
                    <a:pt x="256" y="74"/>
                  </a:lnTo>
                  <a:lnTo>
                    <a:pt x="252" y="62"/>
                  </a:lnTo>
                  <a:lnTo>
                    <a:pt x="249" y="51"/>
                  </a:lnTo>
                  <a:lnTo>
                    <a:pt x="244" y="42"/>
                  </a:lnTo>
                  <a:lnTo>
                    <a:pt x="240" y="32"/>
                  </a:lnTo>
                  <a:lnTo>
                    <a:pt x="233" y="24"/>
                  </a:lnTo>
                  <a:lnTo>
                    <a:pt x="227" y="18"/>
                  </a:lnTo>
                  <a:lnTo>
                    <a:pt x="220" y="11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1" y="5"/>
                  </a:lnTo>
                  <a:lnTo>
                    <a:pt x="206" y="3"/>
                  </a:lnTo>
                  <a:lnTo>
                    <a:pt x="203" y="2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3" y="5"/>
                  </a:lnTo>
                  <a:lnTo>
                    <a:pt x="148" y="10"/>
                  </a:lnTo>
                  <a:lnTo>
                    <a:pt x="136" y="19"/>
                  </a:lnTo>
                  <a:lnTo>
                    <a:pt x="121" y="29"/>
                  </a:lnTo>
                  <a:lnTo>
                    <a:pt x="107" y="42"/>
                  </a:lnTo>
                  <a:lnTo>
                    <a:pt x="94" y="54"/>
                  </a:lnTo>
                  <a:lnTo>
                    <a:pt x="80" y="70"/>
                  </a:lnTo>
                  <a:lnTo>
                    <a:pt x="67" y="88"/>
                  </a:lnTo>
                  <a:lnTo>
                    <a:pt x="54" y="106"/>
                  </a:lnTo>
                  <a:lnTo>
                    <a:pt x="41" y="125"/>
                  </a:lnTo>
                  <a:lnTo>
                    <a:pt x="41" y="125"/>
                  </a:lnTo>
                  <a:lnTo>
                    <a:pt x="41" y="126"/>
                  </a:lnTo>
                  <a:lnTo>
                    <a:pt x="40" y="128"/>
                  </a:lnTo>
                  <a:lnTo>
                    <a:pt x="38" y="131"/>
                  </a:lnTo>
                  <a:lnTo>
                    <a:pt x="36" y="133"/>
                  </a:lnTo>
                  <a:lnTo>
                    <a:pt x="35" y="134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32" y="141"/>
                  </a:lnTo>
                  <a:lnTo>
                    <a:pt x="30" y="144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16" y="174"/>
                  </a:lnTo>
                  <a:lnTo>
                    <a:pt x="6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9" y="336"/>
                  </a:lnTo>
                  <a:lnTo>
                    <a:pt x="16" y="354"/>
                  </a:lnTo>
                  <a:lnTo>
                    <a:pt x="24" y="366"/>
                  </a:lnTo>
                  <a:lnTo>
                    <a:pt x="32" y="373"/>
                  </a:lnTo>
                  <a:lnTo>
                    <a:pt x="32" y="373"/>
                  </a:lnTo>
                  <a:lnTo>
                    <a:pt x="48" y="378"/>
                  </a:lnTo>
                  <a:lnTo>
                    <a:pt x="67" y="379"/>
                  </a:lnTo>
                  <a:lnTo>
                    <a:pt x="86" y="378"/>
                  </a:lnTo>
                  <a:lnTo>
                    <a:pt x="108" y="373"/>
                  </a:lnTo>
                  <a:lnTo>
                    <a:pt x="129" y="365"/>
                  </a:lnTo>
                  <a:lnTo>
                    <a:pt x="152" y="354"/>
                  </a:lnTo>
                  <a:lnTo>
                    <a:pt x="174" y="339"/>
                  </a:lnTo>
                  <a:lnTo>
                    <a:pt x="195" y="320"/>
                  </a:lnTo>
                  <a:lnTo>
                    <a:pt x="214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8" y="256"/>
                  </a:lnTo>
                  <a:lnTo>
                    <a:pt x="243" y="250"/>
                  </a:lnTo>
                  <a:lnTo>
                    <a:pt x="244" y="242"/>
                  </a:lnTo>
                  <a:lnTo>
                    <a:pt x="248" y="234"/>
                  </a:lnTo>
                  <a:lnTo>
                    <a:pt x="251" y="227"/>
                  </a:lnTo>
                  <a:lnTo>
                    <a:pt x="252" y="219"/>
                  </a:lnTo>
                  <a:lnTo>
                    <a:pt x="256" y="211"/>
                  </a:lnTo>
                  <a:lnTo>
                    <a:pt x="257" y="203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0" y="186"/>
                  </a:lnTo>
                  <a:lnTo>
                    <a:pt x="262" y="174"/>
                  </a:lnTo>
                  <a:lnTo>
                    <a:pt x="264" y="165"/>
                  </a:lnTo>
                  <a:lnTo>
                    <a:pt x="264" y="155"/>
                  </a:lnTo>
                  <a:lnTo>
                    <a:pt x="264" y="146"/>
                  </a:lnTo>
                  <a:lnTo>
                    <a:pt x="264" y="136"/>
                  </a:lnTo>
                  <a:lnTo>
                    <a:pt x="264" y="125"/>
                  </a:lnTo>
                  <a:lnTo>
                    <a:pt x="264" y="117"/>
                  </a:lnTo>
                  <a:lnTo>
                    <a:pt x="262" y="107"/>
                  </a:lnTo>
                  <a:lnTo>
                    <a:pt x="260" y="98"/>
                  </a:lnTo>
                  <a:lnTo>
                    <a:pt x="260" y="98"/>
                  </a:lnTo>
                  <a:close/>
                </a:path>
              </a:pathLst>
            </a:custGeom>
            <a:solidFill>
              <a:srgbClr val="ebf5f5"/>
            </a:solidFill>
            <a:ln w="1440">
              <a:solidFill>
                <a:srgbClr val="ebf5f5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952600">
              <a:off x="3209400" y="2444040"/>
              <a:ext cx="73800" cy="141840"/>
            </a:xfrm>
            <a:custGeom>
              <a:avLst/>
              <a:gdLst/>
              <a:ahLst/>
              <a:rect l="l" t="t" r="r" b="b"/>
              <a:pathLst>
                <a:path w="264" h="379">
                  <a:moveTo>
                    <a:pt x="260" y="98"/>
                  </a:moveTo>
                  <a:lnTo>
                    <a:pt x="259" y="85"/>
                  </a:lnTo>
                  <a:lnTo>
                    <a:pt x="256" y="74"/>
                  </a:lnTo>
                  <a:lnTo>
                    <a:pt x="252" y="62"/>
                  </a:lnTo>
                  <a:lnTo>
                    <a:pt x="249" y="51"/>
                  </a:lnTo>
                  <a:lnTo>
                    <a:pt x="244" y="42"/>
                  </a:lnTo>
                  <a:lnTo>
                    <a:pt x="240" y="32"/>
                  </a:lnTo>
                  <a:lnTo>
                    <a:pt x="233" y="24"/>
                  </a:lnTo>
                  <a:lnTo>
                    <a:pt x="227" y="18"/>
                  </a:lnTo>
                  <a:lnTo>
                    <a:pt x="220" y="11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1" y="5"/>
                  </a:lnTo>
                  <a:lnTo>
                    <a:pt x="206" y="3"/>
                  </a:lnTo>
                  <a:lnTo>
                    <a:pt x="203" y="2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3" y="5"/>
                  </a:lnTo>
                  <a:lnTo>
                    <a:pt x="148" y="10"/>
                  </a:lnTo>
                  <a:lnTo>
                    <a:pt x="136" y="19"/>
                  </a:lnTo>
                  <a:lnTo>
                    <a:pt x="121" y="29"/>
                  </a:lnTo>
                  <a:lnTo>
                    <a:pt x="107" y="42"/>
                  </a:lnTo>
                  <a:lnTo>
                    <a:pt x="94" y="54"/>
                  </a:lnTo>
                  <a:lnTo>
                    <a:pt x="80" y="70"/>
                  </a:lnTo>
                  <a:lnTo>
                    <a:pt x="67" y="88"/>
                  </a:lnTo>
                  <a:lnTo>
                    <a:pt x="54" y="106"/>
                  </a:lnTo>
                  <a:lnTo>
                    <a:pt x="41" y="125"/>
                  </a:lnTo>
                  <a:lnTo>
                    <a:pt x="41" y="125"/>
                  </a:lnTo>
                  <a:lnTo>
                    <a:pt x="41" y="126"/>
                  </a:lnTo>
                  <a:lnTo>
                    <a:pt x="40" y="128"/>
                  </a:lnTo>
                  <a:lnTo>
                    <a:pt x="38" y="131"/>
                  </a:lnTo>
                  <a:lnTo>
                    <a:pt x="36" y="133"/>
                  </a:lnTo>
                  <a:lnTo>
                    <a:pt x="35" y="134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32" y="141"/>
                  </a:lnTo>
                  <a:lnTo>
                    <a:pt x="30" y="144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16" y="174"/>
                  </a:lnTo>
                  <a:lnTo>
                    <a:pt x="6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9" y="336"/>
                  </a:lnTo>
                  <a:lnTo>
                    <a:pt x="16" y="354"/>
                  </a:lnTo>
                  <a:lnTo>
                    <a:pt x="24" y="366"/>
                  </a:lnTo>
                  <a:lnTo>
                    <a:pt x="32" y="373"/>
                  </a:lnTo>
                  <a:lnTo>
                    <a:pt x="32" y="373"/>
                  </a:lnTo>
                  <a:lnTo>
                    <a:pt x="48" y="378"/>
                  </a:lnTo>
                  <a:lnTo>
                    <a:pt x="67" y="379"/>
                  </a:lnTo>
                  <a:lnTo>
                    <a:pt x="86" y="378"/>
                  </a:lnTo>
                  <a:lnTo>
                    <a:pt x="108" y="373"/>
                  </a:lnTo>
                  <a:lnTo>
                    <a:pt x="129" y="365"/>
                  </a:lnTo>
                  <a:lnTo>
                    <a:pt x="152" y="354"/>
                  </a:lnTo>
                  <a:lnTo>
                    <a:pt x="174" y="339"/>
                  </a:lnTo>
                  <a:lnTo>
                    <a:pt x="195" y="320"/>
                  </a:lnTo>
                  <a:lnTo>
                    <a:pt x="214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8" y="256"/>
                  </a:lnTo>
                  <a:lnTo>
                    <a:pt x="243" y="250"/>
                  </a:lnTo>
                  <a:lnTo>
                    <a:pt x="244" y="242"/>
                  </a:lnTo>
                  <a:lnTo>
                    <a:pt x="248" y="234"/>
                  </a:lnTo>
                  <a:lnTo>
                    <a:pt x="251" y="227"/>
                  </a:lnTo>
                  <a:lnTo>
                    <a:pt x="252" y="219"/>
                  </a:lnTo>
                  <a:lnTo>
                    <a:pt x="256" y="211"/>
                  </a:lnTo>
                  <a:lnTo>
                    <a:pt x="257" y="203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0" y="186"/>
                  </a:lnTo>
                  <a:lnTo>
                    <a:pt x="262" y="174"/>
                  </a:lnTo>
                  <a:lnTo>
                    <a:pt x="264" y="165"/>
                  </a:lnTo>
                  <a:lnTo>
                    <a:pt x="264" y="155"/>
                  </a:lnTo>
                  <a:lnTo>
                    <a:pt x="264" y="146"/>
                  </a:lnTo>
                  <a:lnTo>
                    <a:pt x="264" y="136"/>
                  </a:lnTo>
                  <a:lnTo>
                    <a:pt x="264" y="125"/>
                  </a:lnTo>
                  <a:lnTo>
                    <a:pt x="264" y="117"/>
                  </a:lnTo>
                  <a:lnTo>
                    <a:pt x="262" y="107"/>
                  </a:lnTo>
                  <a:lnTo>
                    <a:pt x="260" y="98"/>
                  </a:lnTo>
                  <a:lnTo>
                    <a:pt x="260" y="98"/>
                  </a:lnTo>
                </a:path>
              </a:pathLst>
            </a:custGeom>
            <a:noFill/>
            <a:ln w="1440">
              <a:solidFill>
                <a:srgbClr val="ebf5f5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0952600">
              <a:off x="3169080" y="2080440"/>
              <a:ext cx="251640" cy="503280"/>
            </a:xfrm>
            <a:custGeom>
              <a:avLst/>
              <a:gdLst/>
              <a:ahLst/>
              <a:rect l="l" t="t" r="r" b="b"/>
              <a:pathLst>
                <a:path w="897" h="1345">
                  <a:moveTo>
                    <a:pt x="641" y="0"/>
                  </a:moveTo>
                  <a:lnTo>
                    <a:pt x="608" y="57"/>
                  </a:lnTo>
                  <a:lnTo>
                    <a:pt x="558" y="139"/>
                  </a:lnTo>
                  <a:lnTo>
                    <a:pt x="497" y="240"/>
                  </a:lnTo>
                  <a:lnTo>
                    <a:pt x="430" y="350"/>
                  </a:lnTo>
                  <a:lnTo>
                    <a:pt x="361" y="465"/>
                  </a:lnTo>
                  <a:lnTo>
                    <a:pt x="296" y="576"/>
                  </a:lnTo>
                  <a:lnTo>
                    <a:pt x="236" y="673"/>
                  </a:lnTo>
                  <a:lnTo>
                    <a:pt x="188" y="753"/>
                  </a:lnTo>
                  <a:lnTo>
                    <a:pt x="156" y="806"/>
                  </a:lnTo>
                  <a:lnTo>
                    <a:pt x="145" y="825"/>
                  </a:lnTo>
                  <a:lnTo>
                    <a:pt x="145" y="825"/>
                  </a:lnTo>
                  <a:lnTo>
                    <a:pt x="137" y="838"/>
                  </a:lnTo>
                  <a:lnTo>
                    <a:pt x="120" y="872"/>
                  </a:lnTo>
                  <a:lnTo>
                    <a:pt x="92" y="921"/>
                  </a:lnTo>
                  <a:lnTo>
                    <a:pt x="64" y="984"/>
                  </a:lnTo>
                  <a:lnTo>
                    <a:pt x="35" y="1053"/>
                  </a:lnTo>
                  <a:lnTo>
                    <a:pt x="12" y="1125"/>
                  </a:lnTo>
                  <a:lnTo>
                    <a:pt x="0" y="1193"/>
                  </a:lnTo>
                  <a:lnTo>
                    <a:pt x="3" y="1256"/>
                  </a:lnTo>
                  <a:lnTo>
                    <a:pt x="24" y="1307"/>
                  </a:lnTo>
                  <a:lnTo>
                    <a:pt x="68" y="1341"/>
                  </a:lnTo>
                  <a:lnTo>
                    <a:pt x="68" y="1341"/>
                  </a:lnTo>
                  <a:lnTo>
                    <a:pt x="112" y="1345"/>
                  </a:lnTo>
                  <a:lnTo>
                    <a:pt x="160" y="1325"/>
                  </a:lnTo>
                  <a:lnTo>
                    <a:pt x="211" y="1285"/>
                  </a:lnTo>
                  <a:lnTo>
                    <a:pt x="260" y="1233"/>
                  </a:lnTo>
                  <a:lnTo>
                    <a:pt x="310" y="1173"/>
                  </a:lnTo>
                  <a:lnTo>
                    <a:pt x="353" y="1112"/>
                  </a:lnTo>
                  <a:lnTo>
                    <a:pt x="392" y="1054"/>
                  </a:lnTo>
                  <a:lnTo>
                    <a:pt x="422" y="1006"/>
                  </a:lnTo>
                  <a:lnTo>
                    <a:pt x="441" y="973"/>
                  </a:lnTo>
                  <a:lnTo>
                    <a:pt x="448" y="960"/>
                  </a:lnTo>
                  <a:lnTo>
                    <a:pt x="897" y="20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401560" y="1774800"/>
            <a:ext cx="843120" cy="1077120"/>
            <a:chOff x="2401560" y="1774800"/>
            <a:chExt cx="843120" cy="1077120"/>
          </a:xfrm>
        </p:grpSpPr>
        <p:sp>
          <p:nvSpPr>
            <p:cNvPr id="220" name=""/>
            <p:cNvSpPr/>
            <p:nvPr/>
          </p:nvSpPr>
          <p:spPr>
            <a:xfrm rot="20017800">
              <a:off x="2592000" y="1832400"/>
              <a:ext cx="461520" cy="966960"/>
            </a:xfrm>
            <a:custGeom>
              <a:avLst/>
              <a:gdLst/>
              <a:ahLst/>
              <a:rect l="l" t="t" r="r" b="b"/>
              <a:pathLst>
                <a:path w="1648" h="2586">
                  <a:moveTo>
                    <a:pt x="453" y="2184"/>
                  </a:moveTo>
                  <a:lnTo>
                    <a:pt x="446" y="2197"/>
                  </a:lnTo>
                  <a:lnTo>
                    <a:pt x="425" y="2231"/>
                  </a:lnTo>
                  <a:lnTo>
                    <a:pt x="395" y="2280"/>
                  </a:lnTo>
                  <a:lnTo>
                    <a:pt x="357" y="2340"/>
                  </a:lnTo>
                  <a:lnTo>
                    <a:pt x="312" y="2402"/>
                  </a:lnTo>
                  <a:lnTo>
                    <a:pt x="262" y="2464"/>
                  </a:lnTo>
                  <a:lnTo>
                    <a:pt x="213" y="2519"/>
                  </a:lnTo>
                  <a:lnTo>
                    <a:pt x="163" y="2562"/>
                  </a:lnTo>
                  <a:lnTo>
                    <a:pt x="117" y="2586"/>
                  </a:lnTo>
                  <a:lnTo>
                    <a:pt x="75" y="2586"/>
                  </a:lnTo>
                  <a:lnTo>
                    <a:pt x="75" y="2586"/>
                  </a:lnTo>
                  <a:lnTo>
                    <a:pt x="27" y="2552"/>
                  </a:lnTo>
                  <a:lnTo>
                    <a:pt x="3" y="2500"/>
                  </a:lnTo>
                  <a:lnTo>
                    <a:pt x="0" y="2434"/>
                  </a:lnTo>
                  <a:lnTo>
                    <a:pt x="14" y="2360"/>
                  </a:lnTo>
                  <a:lnTo>
                    <a:pt x="37" y="2285"/>
                  </a:lnTo>
                  <a:lnTo>
                    <a:pt x="67" y="2212"/>
                  </a:lnTo>
                  <a:lnTo>
                    <a:pt x="99" y="2144"/>
                  </a:lnTo>
                  <a:lnTo>
                    <a:pt x="128" y="2090"/>
                  </a:lnTo>
                  <a:lnTo>
                    <a:pt x="149" y="2055"/>
                  </a:lnTo>
                  <a:lnTo>
                    <a:pt x="157" y="2042"/>
                  </a:lnTo>
                  <a:lnTo>
                    <a:pt x="157" y="2042"/>
                  </a:lnTo>
                  <a:lnTo>
                    <a:pt x="189" y="1986"/>
                  </a:lnTo>
                  <a:lnTo>
                    <a:pt x="280" y="1836"/>
                  </a:lnTo>
                  <a:lnTo>
                    <a:pt x="414" y="1612"/>
                  </a:lnTo>
                  <a:lnTo>
                    <a:pt x="577" y="1341"/>
                  </a:lnTo>
                  <a:lnTo>
                    <a:pt x="755" y="1045"/>
                  </a:lnTo>
                  <a:lnTo>
                    <a:pt x="934" y="749"/>
                  </a:lnTo>
                  <a:lnTo>
                    <a:pt x="1101" y="474"/>
                  </a:lnTo>
                  <a:lnTo>
                    <a:pt x="1240" y="245"/>
                  </a:lnTo>
                  <a:lnTo>
                    <a:pt x="1337" y="87"/>
                  </a:lnTo>
                  <a:lnTo>
                    <a:pt x="1379" y="23"/>
                  </a:lnTo>
                  <a:lnTo>
                    <a:pt x="1379" y="23"/>
                  </a:lnTo>
                  <a:lnTo>
                    <a:pt x="1401" y="7"/>
                  </a:lnTo>
                  <a:lnTo>
                    <a:pt x="1430" y="0"/>
                  </a:lnTo>
                  <a:lnTo>
                    <a:pt x="1464" y="4"/>
                  </a:lnTo>
                  <a:lnTo>
                    <a:pt x="1499" y="15"/>
                  </a:lnTo>
                  <a:lnTo>
                    <a:pt x="1536" y="32"/>
                  </a:lnTo>
                  <a:lnTo>
                    <a:pt x="1569" y="55"/>
                  </a:lnTo>
                  <a:lnTo>
                    <a:pt x="1601" y="82"/>
                  </a:lnTo>
                  <a:lnTo>
                    <a:pt x="1625" y="112"/>
                  </a:lnTo>
                  <a:lnTo>
                    <a:pt x="1641" y="146"/>
                  </a:lnTo>
                  <a:lnTo>
                    <a:pt x="1648" y="181"/>
                  </a:lnTo>
                  <a:lnTo>
                    <a:pt x="453" y="2184"/>
                  </a:lnTo>
                  <a:close/>
                </a:path>
              </a:pathLst>
            </a:custGeom>
            <a:solidFill>
              <a:srgbClr val="b1bed8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0017800">
              <a:off x="2592720" y="1843920"/>
              <a:ext cx="40860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  <a:lnTo>
                    <a:pt x="1459" y="9"/>
                  </a:lnTo>
                  <a:lnTo>
                    <a:pt x="1455" y="8"/>
                  </a:lnTo>
                  <a:lnTo>
                    <a:pt x="1450" y="6"/>
                  </a:lnTo>
                  <a:lnTo>
                    <a:pt x="1445" y="4"/>
                  </a:lnTo>
                  <a:lnTo>
                    <a:pt x="1439" y="3"/>
                  </a:lnTo>
                  <a:lnTo>
                    <a:pt x="1434" y="3"/>
                  </a:lnTo>
                  <a:lnTo>
                    <a:pt x="1429" y="1"/>
                  </a:lnTo>
                  <a:lnTo>
                    <a:pt x="1424" y="1"/>
                  </a:lnTo>
                  <a:lnTo>
                    <a:pt x="1419" y="0"/>
                  </a:lnTo>
                  <a:lnTo>
                    <a:pt x="1415" y="0"/>
                  </a:lnTo>
                  <a:lnTo>
                    <a:pt x="1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20017800">
              <a:off x="2633040" y="1854360"/>
              <a:ext cx="41400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  <a:lnTo>
                    <a:pt x="1479" y="42"/>
                  </a:lnTo>
                  <a:lnTo>
                    <a:pt x="1475" y="37"/>
                  </a:lnTo>
                  <a:lnTo>
                    <a:pt x="1472" y="34"/>
                  </a:lnTo>
                  <a:lnTo>
                    <a:pt x="1471" y="29"/>
                  </a:lnTo>
                  <a:lnTo>
                    <a:pt x="1467" y="24"/>
                  </a:lnTo>
                  <a:lnTo>
                    <a:pt x="1464" y="21"/>
                  </a:lnTo>
                  <a:lnTo>
                    <a:pt x="1461" y="16"/>
                  </a:lnTo>
                  <a:lnTo>
                    <a:pt x="1458" y="13"/>
                  </a:lnTo>
                  <a:lnTo>
                    <a:pt x="1455" y="8"/>
                  </a:lnTo>
                  <a:lnTo>
                    <a:pt x="1450" y="5"/>
                  </a:lnTo>
                  <a:lnTo>
                    <a:pt x="1447" y="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0017800">
              <a:off x="2594880" y="1842840"/>
              <a:ext cx="461160" cy="955440"/>
            </a:xfrm>
            <a:custGeom>
              <a:avLst/>
              <a:gdLst/>
              <a:ahLst/>
              <a:rect l="l" t="t" r="r" b="b"/>
              <a:pathLst>
                <a:path w="1647" h="2557">
                  <a:moveTo>
                    <a:pt x="1647" y="152"/>
                  </a:moveTo>
                  <a:lnTo>
                    <a:pt x="712" y="1714"/>
                  </a:lnTo>
                  <a:lnTo>
                    <a:pt x="440" y="2173"/>
                  </a:lnTo>
                  <a:lnTo>
                    <a:pt x="440" y="2173"/>
                  </a:lnTo>
                  <a:lnTo>
                    <a:pt x="434" y="2184"/>
                  </a:lnTo>
                  <a:lnTo>
                    <a:pt x="415" y="2218"/>
                  </a:lnTo>
                  <a:lnTo>
                    <a:pt x="384" y="2266"/>
                  </a:lnTo>
                  <a:lnTo>
                    <a:pt x="348" y="2323"/>
                  </a:lnTo>
                  <a:lnTo>
                    <a:pt x="303" y="2386"/>
                  </a:lnTo>
                  <a:lnTo>
                    <a:pt x="255" y="2445"/>
                  </a:lnTo>
                  <a:lnTo>
                    <a:pt x="204" y="2498"/>
                  </a:lnTo>
                  <a:lnTo>
                    <a:pt x="154" y="2536"/>
                  </a:lnTo>
                  <a:lnTo>
                    <a:pt x="104" y="2557"/>
                  </a:lnTo>
                  <a:lnTo>
                    <a:pt x="61" y="2554"/>
                  </a:lnTo>
                  <a:lnTo>
                    <a:pt x="61" y="2554"/>
                  </a:lnTo>
                  <a:lnTo>
                    <a:pt x="20" y="2520"/>
                  </a:lnTo>
                  <a:lnTo>
                    <a:pt x="0" y="2469"/>
                  </a:lnTo>
                  <a:lnTo>
                    <a:pt x="0" y="2405"/>
                  </a:lnTo>
                  <a:lnTo>
                    <a:pt x="13" y="2333"/>
                  </a:lnTo>
                  <a:lnTo>
                    <a:pt x="37" y="2259"/>
                  </a:lnTo>
                  <a:lnTo>
                    <a:pt x="66" y="2187"/>
                  </a:lnTo>
                  <a:lnTo>
                    <a:pt x="95" y="2123"/>
                  </a:lnTo>
                  <a:lnTo>
                    <a:pt x="122" y="2071"/>
                  </a:lnTo>
                  <a:lnTo>
                    <a:pt x="141" y="2035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8" y="2023"/>
                  </a:lnTo>
                  <a:lnTo>
                    <a:pt x="149" y="2023"/>
                  </a:lnTo>
                  <a:lnTo>
                    <a:pt x="149" y="2023"/>
                  </a:lnTo>
                  <a:lnTo>
                    <a:pt x="149" y="2021"/>
                  </a:lnTo>
                  <a:lnTo>
                    <a:pt x="149" y="2021"/>
                  </a:lnTo>
                  <a:lnTo>
                    <a:pt x="151" y="2019"/>
                  </a:lnTo>
                  <a:lnTo>
                    <a:pt x="151" y="2018"/>
                  </a:lnTo>
                  <a:lnTo>
                    <a:pt x="152" y="2018"/>
                  </a:lnTo>
                  <a:lnTo>
                    <a:pt x="152" y="2016"/>
                  </a:lnTo>
                  <a:lnTo>
                    <a:pt x="152" y="2016"/>
                  </a:lnTo>
                  <a:lnTo>
                    <a:pt x="168" y="1991"/>
                  </a:lnTo>
                  <a:lnTo>
                    <a:pt x="192" y="1949"/>
                  </a:lnTo>
                  <a:lnTo>
                    <a:pt x="228" y="1891"/>
                  </a:lnTo>
                  <a:lnTo>
                    <a:pt x="269" y="1821"/>
                  </a:lnTo>
                  <a:lnTo>
                    <a:pt x="319" y="1739"/>
                  </a:lnTo>
                  <a:lnTo>
                    <a:pt x="375" y="1647"/>
                  </a:lnTo>
                  <a:lnTo>
                    <a:pt x="436" y="1544"/>
                  </a:lnTo>
                  <a:lnTo>
                    <a:pt x="501" y="1435"/>
                  </a:lnTo>
                  <a:lnTo>
                    <a:pt x="570" y="1322"/>
                  </a:lnTo>
                  <a:lnTo>
                    <a:pt x="642" y="1203"/>
                  </a:lnTo>
                  <a:lnTo>
                    <a:pt x="642" y="1203"/>
                  </a:lnTo>
                  <a:lnTo>
                    <a:pt x="743" y="1037"/>
                  </a:lnTo>
                  <a:lnTo>
                    <a:pt x="844" y="869"/>
                  </a:lnTo>
                  <a:lnTo>
                    <a:pt x="943" y="704"/>
                  </a:lnTo>
                  <a:lnTo>
                    <a:pt x="1037" y="547"/>
                  </a:lnTo>
                  <a:lnTo>
                    <a:pt x="1125" y="402"/>
                  </a:lnTo>
                  <a:lnTo>
                    <a:pt x="1204" y="274"/>
                  </a:lnTo>
                  <a:lnTo>
                    <a:pt x="1269" y="165"/>
                  </a:lnTo>
                  <a:lnTo>
                    <a:pt x="1322" y="80"/>
                  </a:lnTo>
                  <a:lnTo>
                    <a:pt x="1357" y="24"/>
                  </a:lnTo>
                  <a:lnTo>
                    <a:pt x="13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0017800">
              <a:off x="2592720" y="1843920"/>
              <a:ext cx="40860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  <a:lnTo>
                    <a:pt x="141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0017800">
              <a:off x="2592720" y="1843920"/>
              <a:ext cx="408600" cy="918360"/>
            </a:xfrm>
            <a:custGeom>
              <a:avLst/>
              <a:gdLst/>
              <a:ahLst/>
              <a:rect l="l" t="t" r="r" b="b"/>
              <a:pathLst>
                <a:path w="1459" h="2456">
                  <a:moveTo>
                    <a:pt x="1410" y="0"/>
                  </a:moveTo>
                  <a:lnTo>
                    <a:pt x="21" y="2320"/>
                  </a:lnTo>
                  <a:lnTo>
                    <a:pt x="21" y="2320"/>
                  </a:lnTo>
                  <a:lnTo>
                    <a:pt x="18" y="2332"/>
                  </a:lnTo>
                  <a:lnTo>
                    <a:pt x="15" y="2345"/>
                  </a:lnTo>
                  <a:lnTo>
                    <a:pt x="11" y="2358"/>
                  </a:lnTo>
                  <a:lnTo>
                    <a:pt x="8" y="2372"/>
                  </a:lnTo>
                  <a:lnTo>
                    <a:pt x="7" y="2385"/>
                  </a:lnTo>
                  <a:lnTo>
                    <a:pt x="5" y="2400"/>
                  </a:lnTo>
                  <a:lnTo>
                    <a:pt x="3" y="2412"/>
                  </a:lnTo>
                  <a:lnTo>
                    <a:pt x="2" y="2427"/>
                  </a:lnTo>
                  <a:lnTo>
                    <a:pt x="0" y="2441"/>
                  </a:lnTo>
                  <a:lnTo>
                    <a:pt x="0" y="2456"/>
                  </a:lnTo>
                  <a:lnTo>
                    <a:pt x="1459" y="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0017800">
              <a:off x="2633040" y="1854360"/>
              <a:ext cx="41400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  <a:lnTo>
                    <a:pt x="1447" y="0"/>
                  </a:lnTo>
                  <a:close/>
                </a:path>
              </a:pathLst>
            </a:custGeom>
            <a:solidFill>
              <a:srgbClr val="444444"/>
            </a:solidFill>
            <a:ln w="1440">
              <a:solidFill>
                <a:srgbClr val="444444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0017800">
              <a:off x="2639880" y="1819440"/>
              <a:ext cx="414000" cy="907200"/>
            </a:xfrm>
            <a:custGeom>
              <a:avLst/>
              <a:gdLst/>
              <a:ahLst/>
              <a:rect l="l" t="t" r="r" b="b"/>
              <a:pathLst>
                <a:path w="1479" h="2426">
                  <a:moveTo>
                    <a:pt x="1447" y="0"/>
                  </a:moveTo>
                  <a:lnTo>
                    <a:pt x="0" y="2414"/>
                  </a:lnTo>
                  <a:lnTo>
                    <a:pt x="0" y="2414"/>
                  </a:lnTo>
                  <a:lnTo>
                    <a:pt x="2" y="2416"/>
                  </a:lnTo>
                  <a:lnTo>
                    <a:pt x="3" y="2416"/>
                  </a:lnTo>
                  <a:lnTo>
                    <a:pt x="5" y="2418"/>
                  </a:lnTo>
                  <a:lnTo>
                    <a:pt x="7" y="2418"/>
                  </a:lnTo>
                  <a:lnTo>
                    <a:pt x="8" y="2419"/>
                  </a:lnTo>
                  <a:lnTo>
                    <a:pt x="10" y="2419"/>
                  </a:lnTo>
                  <a:lnTo>
                    <a:pt x="11" y="2421"/>
                  </a:lnTo>
                  <a:lnTo>
                    <a:pt x="13" y="2421"/>
                  </a:lnTo>
                  <a:lnTo>
                    <a:pt x="15" y="2421"/>
                  </a:lnTo>
                  <a:lnTo>
                    <a:pt x="16" y="2422"/>
                  </a:lnTo>
                  <a:lnTo>
                    <a:pt x="16" y="2422"/>
                  </a:lnTo>
                  <a:lnTo>
                    <a:pt x="19" y="2422"/>
                  </a:lnTo>
                  <a:lnTo>
                    <a:pt x="23" y="2424"/>
                  </a:lnTo>
                  <a:lnTo>
                    <a:pt x="26" y="2424"/>
                  </a:lnTo>
                  <a:lnTo>
                    <a:pt x="29" y="2426"/>
                  </a:lnTo>
                  <a:lnTo>
                    <a:pt x="32" y="2426"/>
                  </a:lnTo>
                  <a:lnTo>
                    <a:pt x="37" y="2426"/>
                  </a:lnTo>
                  <a:lnTo>
                    <a:pt x="40" y="2426"/>
                  </a:lnTo>
                  <a:lnTo>
                    <a:pt x="43" y="2424"/>
                  </a:lnTo>
                  <a:lnTo>
                    <a:pt x="47" y="2424"/>
                  </a:lnTo>
                  <a:lnTo>
                    <a:pt x="51" y="2422"/>
                  </a:lnTo>
                  <a:lnTo>
                    <a:pt x="1479" y="42"/>
                  </a:lnTo>
                </a:path>
              </a:pathLst>
            </a:custGeom>
            <a:noFill/>
            <a:ln w="1440">
              <a:solidFill>
                <a:srgbClr val="444444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0017800">
              <a:off x="2796120" y="2688120"/>
              <a:ext cx="74520" cy="141840"/>
            </a:xfrm>
            <a:custGeom>
              <a:avLst/>
              <a:gdLst/>
              <a:ahLst/>
              <a:rect l="l" t="t" r="r" b="b"/>
              <a:pathLst>
                <a:path w="265" h="379">
                  <a:moveTo>
                    <a:pt x="33" y="373"/>
                  </a:moveTo>
                  <a:lnTo>
                    <a:pt x="49" y="378"/>
                  </a:lnTo>
                  <a:lnTo>
                    <a:pt x="67" y="379"/>
                  </a:lnTo>
                  <a:lnTo>
                    <a:pt x="88" y="378"/>
                  </a:lnTo>
                  <a:lnTo>
                    <a:pt x="108" y="373"/>
                  </a:lnTo>
                  <a:lnTo>
                    <a:pt x="131" y="365"/>
                  </a:lnTo>
                  <a:lnTo>
                    <a:pt x="153" y="354"/>
                  </a:lnTo>
                  <a:lnTo>
                    <a:pt x="174" y="338"/>
                  </a:lnTo>
                  <a:lnTo>
                    <a:pt x="195" y="320"/>
                  </a:lnTo>
                  <a:lnTo>
                    <a:pt x="216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46" y="242"/>
                  </a:lnTo>
                  <a:lnTo>
                    <a:pt x="256" y="210"/>
                  </a:lnTo>
                  <a:lnTo>
                    <a:pt x="262" y="178"/>
                  </a:lnTo>
                  <a:lnTo>
                    <a:pt x="265" y="146"/>
                  </a:lnTo>
                  <a:lnTo>
                    <a:pt x="264" y="115"/>
                  </a:lnTo>
                  <a:lnTo>
                    <a:pt x="260" y="85"/>
                  </a:lnTo>
                  <a:lnTo>
                    <a:pt x="252" y="59"/>
                  </a:lnTo>
                  <a:lnTo>
                    <a:pt x="243" y="37"/>
                  </a:lnTo>
                  <a:lnTo>
                    <a:pt x="230" y="18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198" y="0"/>
                  </a:lnTo>
                  <a:lnTo>
                    <a:pt x="179" y="0"/>
                  </a:lnTo>
                  <a:lnTo>
                    <a:pt x="161" y="5"/>
                  </a:lnTo>
                  <a:lnTo>
                    <a:pt x="140" y="14"/>
                  </a:lnTo>
                  <a:lnTo>
                    <a:pt x="121" y="29"/>
                  </a:lnTo>
                  <a:lnTo>
                    <a:pt x="102" y="46"/>
                  </a:lnTo>
                  <a:lnTo>
                    <a:pt x="83" y="67"/>
                  </a:lnTo>
                  <a:lnTo>
                    <a:pt x="64" y="91"/>
                  </a:lnTo>
                  <a:lnTo>
                    <a:pt x="46" y="118"/>
                  </a:lnTo>
                  <a:lnTo>
                    <a:pt x="30" y="146"/>
                  </a:lnTo>
                  <a:lnTo>
                    <a:pt x="30" y="146"/>
                  </a:lnTo>
                  <a:lnTo>
                    <a:pt x="16" y="174"/>
                  </a:lnTo>
                  <a:lnTo>
                    <a:pt x="8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11" y="336"/>
                  </a:lnTo>
                  <a:lnTo>
                    <a:pt x="17" y="354"/>
                  </a:lnTo>
                  <a:lnTo>
                    <a:pt x="25" y="365"/>
                  </a:lnTo>
                  <a:lnTo>
                    <a:pt x="33" y="373"/>
                  </a:lnTo>
                  <a:close/>
                </a:path>
              </a:pathLst>
            </a:custGeom>
            <a:solidFill>
              <a:srgbClr val="daecec"/>
            </a:solid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0017800">
              <a:off x="2706120" y="2320920"/>
              <a:ext cx="249840" cy="500760"/>
            </a:xfrm>
            <a:custGeom>
              <a:avLst/>
              <a:gdLst/>
              <a:ahLst/>
              <a:rect l="l" t="t" r="r" b="b"/>
              <a:pathLst>
                <a:path w="891" h="1341">
                  <a:moveTo>
                    <a:pt x="853" y="171"/>
                  </a:moveTo>
                  <a:lnTo>
                    <a:pt x="280" y="1128"/>
                  </a:lnTo>
                  <a:lnTo>
                    <a:pt x="280" y="1128"/>
                  </a:lnTo>
                  <a:lnTo>
                    <a:pt x="278" y="1136"/>
                  </a:lnTo>
                  <a:lnTo>
                    <a:pt x="277" y="1144"/>
                  </a:lnTo>
                  <a:lnTo>
                    <a:pt x="273" y="1152"/>
                  </a:lnTo>
                  <a:lnTo>
                    <a:pt x="272" y="1160"/>
                  </a:lnTo>
                  <a:lnTo>
                    <a:pt x="269" y="1167"/>
                  </a:lnTo>
                  <a:lnTo>
                    <a:pt x="265" y="1175"/>
                  </a:lnTo>
                  <a:lnTo>
                    <a:pt x="264" y="1183"/>
                  </a:lnTo>
                  <a:lnTo>
                    <a:pt x="259" y="1189"/>
                  </a:lnTo>
                  <a:lnTo>
                    <a:pt x="256" y="1197"/>
                  </a:lnTo>
                  <a:lnTo>
                    <a:pt x="253" y="1203"/>
                  </a:lnTo>
                  <a:lnTo>
                    <a:pt x="253" y="1203"/>
                  </a:lnTo>
                  <a:lnTo>
                    <a:pt x="235" y="1231"/>
                  </a:lnTo>
                  <a:lnTo>
                    <a:pt x="216" y="1253"/>
                  </a:lnTo>
                  <a:lnTo>
                    <a:pt x="195" y="1272"/>
                  </a:lnTo>
                  <a:lnTo>
                    <a:pt x="173" y="1287"/>
                  </a:lnTo>
                  <a:lnTo>
                    <a:pt x="150" y="1298"/>
                  </a:lnTo>
                  <a:lnTo>
                    <a:pt x="129" y="1306"/>
                  </a:lnTo>
                  <a:lnTo>
                    <a:pt x="107" y="1311"/>
                  </a:lnTo>
                  <a:lnTo>
                    <a:pt x="88" y="1312"/>
                  </a:lnTo>
                  <a:lnTo>
                    <a:pt x="69" y="1311"/>
                  </a:lnTo>
                  <a:lnTo>
                    <a:pt x="53" y="1306"/>
                  </a:lnTo>
                  <a:lnTo>
                    <a:pt x="53" y="1306"/>
                  </a:lnTo>
                  <a:lnTo>
                    <a:pt x="45" y="1299"/>
                  </a:lnTo>
                  <a:lnTo>
                    <a:pt x="37" y="1287"/>
                  </a:lnTo>
                  <a:lnTo>
                    <a:pt x="30" y="1269"/>
                  </a:lnTo>
                  <a:lnTo>
                    <a:pt x="25" y="1248"/>
                  </a:lnTo>
                  <a:lnTo>
                    <a:pt x="22" y="1223"/>
                  </a:lnTo>
                  <a:lnTo>
                    <a:pt x="21" y="1195"/>
                  </a:lnTo>
                  <a:lnTo>
                    <a:pt x="22" y="1167"/>
                  </a:lnTo>
                  <a:lnTo>
                    <a:pt x="27" y="1138"/>
                  </a:lnTo>
                  <a:lnTo>
                    <a:pt x="37" y="1107"/>
                  </a:lnTo>
                  <a:lnTo>
                    <a:pt x="49" y="1079"/>
                  </a:lnTo>
                  <a:lnTo>
                    <a:pt x="49" y="1079"/>
                  </a:lnTo>
                  <a:lnTo>
                    <a:pt x="51" y="1077"/>
                  </a:lnTo>
                  <a:lnTo>
                    <a:pt x="53" y="1074"/>
                  </a:lnTo>
                  <a:lnTo>
                    <a:pt x="54" y="1072"/>
                  </a:lnTo>
                  <a:lnTo>
                    <a:pt x="54" y="1071"/>
                  </a:lnTo>
                  <a:lnTo>
                    <a:pt x="56" y="1067"/>
                  </a:lnTo>
                  <a:lnTo>
                    <a:pt x="57" y="1066"/>
                  </a:lnTo>
                  <a:lnTo>
                    <a:pt x="59" y="1064"/>
                  </a:lnTo>
                  <a:lnTo>
                    <a:pt x="61" y="1061"/>
                  </a:lnTo>
                  <a:lnTo>
                    <a:pt x="62" y="1059"/>
                  </a:lnTo>
                  <a:lnTo>
                    <a:pt x="62" y="1058"/>
                  </a:lnTo>
                  <a:lnTo>
                    <a:pt x="677" y="32"/>
                  </a:lnTo>
                  <a:lnTo>
                    <a:pt x="677" y="32"/>
                  </a:lnTo>
                  <a:lnTo>
                    <a:pt x="672" y="29"/>
                  </a:lnTo>
                  <a:lnTo>
                    <a:pt x="667" y="26"/>
                  </a:lnTo>
                  <a:lnTo>
                    <a:pt x="664" y="23"/>
                  </a:lnTo>
                  <a:lnTo>
                    <a:pt x="659" y="19"/>
                  </a:lnTo>
                  <a:lnTo>
                    <a:pt x="654" y="16"/>
                  </a:lnTo>
                  <a:lnTo>
                    <a:pt x="651" y="13"/>
                  </a:lnTo>
                  <a:lnTo>
                    <a:pt x="646" y="10"/>
                  </a:lnTo>
                  <a:lnTo>
                    <a:pt x="643" y="7"/>
                  </a:lnTo>
                  <a:lnTo>
                    <a:pt x="638" y="3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558" y="125"/>
                  </a:lnTo>
                  <a:lnTo>
                    <a:pt x="486" y="247"/>
                  </a:lnTo>
                  <a:lnTo>
                    <a:pt x="417" y="360"/>
                  </a:lnTo>
                  <a:lnTo>
                    <a:pt x="355" y="464"/>
                  </a:lnTo>
                  <a:lnTo>
                    <a:pt x="299" y="559"/>
                  </a:lnTo>
                  <a:lnTo>
                    <a:pt x="251" y="639"/>
                  </a:lnTo>
                  <a:lnTo>
                    <a:pt x="211" y="706"/>
                  </a:lnTo>
                  <a:lnTo>
                    <a:pt x="181" y="755"/>
                  </a:lnTo>
                  <a:lnTo>
                    <a:pt x="161" y="786"/>
                  </a:lnTo>
                  <a:lnTo>
                    <a:pt x="155" y="797"/>
                  </a:lnTo>
                  <a:lnTo>
                    <a:pt x="155" y="797"/>
                  </a:lnTo>
                  <a:lnTo>
                    <a:pt x="147" y="810"/>
                  </a:lnTo>
                  <a:lnTo>
                    <a:pt x="126" y="847"/>
                  </a:lnTo>
                  <a:lnTo>
                    <a:pt x="99" y="899"/>
                  </a:lnTo>
                  <a:lnTo>
                    <a:pt x="67" y="967"/>
                  </a:lnTo>
                  <a:lnTo>
                    <a:pt x="37" y="1040"/>
                  </a:lnTo>
                  <a:lnTo>
                    <a:pt x="13" y="1117"/>
                  </a:lnTo>
                  <a:lnTo>
                    <a:pt x="0" y="1189"/>
                  </a:lnTo>
                  <a:lnTo>
                    <a:pt x="3" y="1255"/>
                  </a:lnTo>
                  <a:lnTo>
                    <a:pt x="25" y="1307"/>
                  </a:lnTo>
                  <a:lnTo>
                    <a:pt x="75" y="1341"/>
                  </a:lnTo>
                  <a:lnTo>
                    <a:pt x="75" y="1341"/>
                  </a:lnTo>
                  <a:lnTo>
                    <a:pt x="117" y="1341"/>
                  </a:lnTo>
                  <a:lnTo>
                    <a:pt x="163" y="1317"/>
                  </a:lnTo>
                  <a:lnTo>
                    <a:pt x="211" y="1275"/>
                  </a:lnTo>
                  <a:lnTo>
                    <a:pt x="262" y="1221"/>
                  </a:lnTo>
                  <a:lnTo>
                    <a:pt x="310" y="1159"/>
                  </a:lnTo>
                  <a:lnTo>
                    <a:pt x="355" y="1095"/>
                  </a:lnTo>
                  <a:lnTo>
                    <a:pt x="393" y="1037"/>
                  </a:lnTo>
                  <a:lnTo>
                    <a:pt x="424" y="987"/>
                  </a:lnTo>
                  <a:lnTo>
                    <a:pt x="443" y="954"/>
                  </a:lnTo>
                  <a:lnTo>
                    <a:pt x="451" y="941"/>
                  </a:lnTo>
                  <a:lnTo>
                    <a:pt x="891" y="202"/>
                  </a:lnTo>
                  <a:lnTo>
                    <a:pt x="891" y="202"/>
                  </a:lnTo>
                  <a:lnTo>
                    <a:pt x="888" y="199"/>
                  </a:lnTo>
                  <a:lnTo>
                    <a:pt x="883" y="195"/>
                  </a:lnTo>
                  <a:lnTo>
                    <a:pt x="880" y="192"/>
                  </a:lnTo>
                  <a:lnTo>
                    <a:pt x="877" y="189"/>
                  </a:lnTo>
                  <a:lnTo>
                    <a:pt x="873" y="186"/>
                  </a:lnTo>
                  <a:lnTo>
                    <a:pt x="869" y="183"/>
                  </a:lnTo>
                  <a:lnTo>
                    <a:pt x="865" y="181"/>
                  </a:lnTo>
                  <a:lnTo>
                    <a:pt x="862" y="178"/>
                  </a:lnTo>
                  <a:lnTo>
                    <a:pt x="857" y="175"/>
                  </a:lnTo>
                  <a:lnTo>
                    <a:pt x="853" y="171"/>
                  </a:lnTo>
                  <a:lnTo>
                    <a:pt x="853" y="171"/>
                  </a:lnTo>
                  <a:close/>
                </a:path>
              </a:pathLst>
            </a:custGeom>
            <a:solidFill>
              <a:srgbClr val="d3d9e8"/>
            </a:solidFill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0017800">
              <a:off x="2706120" y="2320920"/>
              <a:ext cx="249840" cy="500760"/>
            </a:xfrm>
            <a:custGeom>
              <a:avLst/>
              <a:gdLst/>
              <a:ahLst/>
              <a:rect l="l" t="t" r="r" b="b"/>
              <a:pathLst>
                <a:path w="891" h="1341">
                  <a:moveTo>
                    <a:pt x="853" y="171"/>
                  </a:moveTo>
                  <a:lnTo>
                    <a:pt x="280" y="1128"/>
                  </a:lnTo>
                  <a:lnTo>
                    <a:pt x="280" y="1128"/>
                  </a:lnTo>
                  <a:lnTo>
                    <a:pt x="278" y="1136"/>
                  </a:lnTo>
                  <a:lnTo>
                    <a:pt x="277" y="1144"/>
                  </a:lnTo>
                  <a:lnTo>
                    <a:pt x="273" y="1152"/>
                  </a:lnTo>
                  <a:lnTo>
                    <a:pt x="272" y="1160"/>
                  </a:lnTo>
                  <a:lnTo>
                    <a:pt x="269" y="1167"/>
                  </a:lnTo>
                  <a:lnTo>
                    <a:pt x="265" y="1175"/>
                  </a:lnTo>
                  <a:lnTo>
                    <a:pt x="264" y="1183"/>
                  </a:lnTo>
                  <a:lnTo>
                    <a:pt x="259" y="1189"/>
                  </a:lnTo>
                  <a:lnTo>
                    <a:pt x="256" y="1197"/>
                  </a:lnTo>
                  <a:lnTo>
                    <a:pt x="253" y="1203"/>
                  </a:lnTo>
                  <a:lnTo>
                    <a:pt x="253" y="1203"/>
                  </a:lnTo>
                  <a:lnTo>
                    <a:pt x="235" y="1231"/>
                  </a:lnTo>
                  <a:lnTo>
                    <a:pt x="216" y="1253"/>
                  </a:lnTo>
                  <a:lnTo>
                    <a:pt x="195" y="1272"/>
                  </a:lnTo>
                  <a:lnTo>
                    <a:pt x="173" y="1287"/>
                  </a:lnTo>
                  <a:lnTo>
                    <a:pt x="150" y="1298"/>
                  </a:lnTo>
                  <a:lnTo>
                    <a:pt x="129" y="1306"/>
                  </a:lnTo>
                  <a:lnTo>
                    <a:pt x="107" y="1311"/>
                  </a:lnTo>
                  <a:lnTo>
                    <a:pt x="88" y="1312"/>
                  </a:lnTo>
                  <a:lnTo>
                    <a:pt x="69" y="1311"/>
                  </a:lnTo>
                  <a:lnTo>
                    <a:pt x="53" y="1306"/>
                  </a:lnTo>
                  <a:lnTo>
                    <a:pt x="53" y="1306"/>
                  </a:lnTo>
                  <a:lnTo>
                    <a:pt x="45" y="1299"/>
                  </a:lnTo>
                  <a:lnTo>
                    <a:pt x="37" y="1287"/>
                  </a:lnTo>
                  <a:lnTo>
                    <a:pt x="30" y="1269"/>
                  </a:lnTo>
                  <a:lnTo>
                    <a:pt x="25" y="1248"/>
                  </a:lnTo>
                  <a:lnTo>
                    <a:pt x="22" y="1223"/>
                  </a:lnTo>
                  <a:lnTo>
                    <a:pt x="21" y="1195"/>
                  </a:lnTo>
                  <a:lnTo>
                    <a:pt x="22" y="1167"/>
                  </a:lnTo>
                  <a:lnTo>
                    <a:pt x="27" y="1138"/>
                  </a:lnTo>
                  <a:lnTo>
                    <a:pt x="37" y="1107"/>
                  </a:lnTo>
                  <a:lnTo>
                    <a:pt x="49" y="1079"/>
                  </a:lnTo>
                  <a:lnTo>
                    <a:pt x="49" y="1079"/>
                  </a:lnTo>
                  <a:lnTo>
                    <a:pt x="51" y="1077"/>
                  </a:lnTo>
                  <a:lnTo>
                    <a:pt x="53" y="1074"/>
                  </a:lnTo>
                  <a:lnTo>
                    <a:pt x="54" y="1072"/>
                  </a:lnTo>
                  <a:lnTo>
                    <a:pt x="54" y="1071"/>
                  </a:lnTo>
                  <a:lnTo>
                    <a:pt x="56" y="1067"/>
                  </a:lnTo>
                  <a:lnTo>
                    <a:pt x="57" y="1066"/>
                  </a:lnTo>
                  <a:lnTo>
                    <a:pt x="59" y="1064"/>
                  </a:lnTo>
                  <a:lnTo>
                    <a:pt x="61" y="1061"/>
                  </a:lnTo>
                  <a:lnTo>
                    <a:pt x="62" y="1059"/>
                  </a:lnTo>
                  <a:lnTo>
                    <a:pt x="62" y="1058"/>
                  </a:lnTo>
                  <a:lnTo>
                    <a:pt x="677" y="32"/>
                  </a:lnTo>
                  <a:lnTo>
                    <a:pt x="677" y="32"/>
                  </a:lnTo>
                  <a:lnTo>
                    <a:pt x="672" y="29"/>
                  </a:lnTo>
                  <a:lnTo>
                    <a:pt x="667" y="26"/>
                  </a:lnTo>
                  <a:lnTo>
                    <a:pt x="664" y="23"/>
                  </a:lnTo>
                  <a:lnTo>
                    <a:pt x="659" y="19"/>
                  </a:lnTo>
                  <a:lnTo>
                    <a:pt x="654" y="16"/>
                  </a:lnTo>
                  <a:lnTo>
                    <a:pt x="651" y="13"/>
                  </a:lnTo>
                  <a:lnTo>
                    <a:pt x="646" y="10"/>
                  </a:lnTo>
                  <a:lnTo>
                    <a:pt x="643" y="7"/>
                  </a:lnTo>
                  <a:lnTo>
                    <a:pt x="638" y="3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558" y="125"/>
                  </a:lnTo>
                  <a:lnTo>
                    <a:pt x="486" y="247"/>
                  </a:lnTo>
                  <a:lnTo>
                    <a:pt x="417" y="360"/>
                  </a:lnTo>
                  <a:lnTo>
                    <a:pt x="355" y="464"/>
                  </a:lnTo>
                  <a:lnTo>
                    <a:pt x="299" y="559"/>
                  </a:lnTo>
                  <a:lnTo>
                    <a:pt x="251" y="639"/>
                  </a:lnTo>
                  <a:lnTo>
                    <a:pt x="211" y="706"/>
                  </a:lnTo>
                  <a:lnTo>
                    <a:pt x="181" y="755"/>
                  </a:lnTo>
                  <a:lnTo>
                    <a:pt x="161" y="786"/>
                  </a:lnTo>
                  <a:lnTo>
                    <a:pt x="155" y="797"/>
                  </a:lnTo>
                  <a:lnTo>
                    <a:pt x="155" y="797"/>
                  </a:lnTo>
                  <a:lnTo>
                    <a:pt x="147" y="810"/>
                  </a:lnTo>
                  <a:lnTo>
                    <a:pt x="126" y="847"/>
                  </a:lnTo>
                  <a:lnTo>
                    <a:pt x="99" y="899"/>
                  </a:lnTo>
                  <a:lnTo>
                    <a:pt x="67" y="967"/>
                  </a:lnTo>
                  <a:lnTo>
                    <a:pt x="37" y="1040"/>
                  </a:lnTo>
                  <a:lnTo>
                    <a:pt x="13" y="1117"/>
                  </a:lnTo>
                  <a:lnTo>
                    <a:pt x="0" y="1189"/>
                  </a:lnTo>
                  <a:lnTo>
                    <a:pt x="3" y="1255"/>
                  </a:lnTo>
                  <a:lnTo>
                    <a:pt x="25" y="1307"/>
                  </a:lnTo>
                  <a:lnTo>
                    <a:pt x="75" y="1341"/>
                  </a:lnTo>
                  <a:lnTo>
                    <a:pt x="75" y="1341"/>
                  </a:lnTo>
                  <a:lnTo>
                    <a:pt x="117" y="1341"/>
                  </a:lnTo>
                  <a:lnTo>
                    <a:pt x="163" y="1317"/>
                  </a:lnTo>
                  <a:lnTo>
                    <a:pt x="211" y="1275"/>
                  </a:lnTo>
                  <a:lnTo>
                    <a:pt x="262" y="1221"/>
                  </a:lnTo>
                  <a:lnTo>
                    <a:pt x="310" y="1159"/>
                  </a:lnTo>
                  <a:lnTo>
                    <a:pt x="355" y="1095"/>
                  </a:lnTo>
                  <a:lnTo>
                    <a:pt x="393" y="1037"/>
                  </a:lnTo>
                  <a:lnTo>
                    <a:pt x="424" y="987"/>
                  </a:lnTo>
                  <a:lnTo>
                    <a:pt x="443" y="954"/>
                  </a:lnTo>
                  <a:lnTo>
                    <a:pt x="451" y="941"/>
                  </a:lnTo>
                  <a:lnTo>
                    <a:pt x="891" y="202"/>
                  </a:lnTo>
                  <a:lnTo>
                    <a:pt x="891" y="202"/>
                  </a:lnTo>
                  <a:lnTo>
                    <a:pt x="888" y="199"/>
                  </a:lnTo>
                  <a:lnTo>
                    <a:pt x="883" y="195"/>
                  </a:lnTo>
                  <a:lnTo>
                    <a:pt x="880" y="192"/>
                  </a:lnTo>
                  <a:lnTo>
                    <a:pt x="877" y="189"/>
                  </a:lnTo>
                  <a:lnTo>
                    <a:pt x="873" y="186"/>
                  </a:lnTo>
                  <a:lnTo>
                    <a:pt x="869" y="183"/>
                  </a:lnTo>
                  <a:lnTo>
                    <a:pt x="865" y="181"/>
                  </a:lnTo>
                  <a:lnTo>
                    <a:pt x="862" y="178"/>
                  </a:lnTo>
                  <a:lnTo>
                    <a:pt x="857" y="175"/>
                  </a:lnTo>
                  <a:lnTo>
                    <a:pt x="853" y="171"/>
                  </a:lnTo>
                  <a:lnTo>
                    <a:pt x="853" y="171"/>
                  </a:lnTo>
                </a:path>
              </a:pathLst>
            </a:custGeom>
            <a:noFill/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0017800">
              <a:off x="2705040" y="2344320"/>
              <a:ext cx="183240" cy="382680"/>
            </a:xfrm>
            <a:custGeom>
              <a:avLst/>
              <a:gdLst/>
              <a:ahLst/>
              <a:rect l="l" t="t" r="r" b="b"/>
              <a:pathLst>
                <a:path w="655" h="1026">
                  <a:moveTo>
                    <a:pt x="135" y="901"/>
                  </a:moveTo>
                  <a:lnTo>
                    <a:pt x="655" y="31"/>
                  </a:lnTo>
                  <a:lnTo>
                    <a:pt x="655" y="31"/>
                  </a:lnTo>
                  <a:lnTo>
                    <a:pt x="650" y="27"/>
                  </a:lnTo>
                  <a:lnTo>
                    <a:pt x="647" y="24"/>
                  </a:lnTo>
                  <a:lnTo>
                    <a:pt x="642" y="23"/>
                  </a:lnTo>
                  <a:lnTo>
                    <a:pt x="639" y="19"/>
                  </a:lnTo>
                  <a:lnTo>
                    <a:pt x="634" y="16"/>
                  </a:lnTo>
                  <a:lnTo>
                    <a:pt x="631" y="13"/>
                  </a:lnTo>
                  <a:lnTo>
                    <a:pt x="626" y="10"/>
                  </a:lnTo>
                  <a:lnTo>
                    <a:pt x="623" y="7"/>
                  </a:lnTo>
                  <a:lnTo>
                    <a:pt x="618" y="3"/>
                  </a:lnTo>
                  <a:lnTo>
                    <a:pt x="615" y="0"/>
                  </a:lnTo>
                  <a:lnTo>
                    <a:pt x="0" y="1026"/>
                  </a:lnTo>
                  <a:lnTo>
                    <a:pt x="0" y="1026"/>
                  </a:lnTo>
                  <a:lnTo>
                    <a:pt x="13" y="1007"/>
                  </a:lnTo>
                  <a:lnTo>
                    <a:pt x="26" y="989"/>
                  </a:lnTo>
                  <a:lnTo>
                    <a:pt x="39" y="971"/>
                  </a:lnTo>
                  <a:lnTo>
                    <a:pt x="53" y="955"/>
                  </a:lnTo>
                  <a:lnTo>
                    <a:pt x="66" y="943"/>
                  </a:lnTo>
                  <a:lnTo>
                    <a:pt x="80" y="930"/>
                  </a:lnTo>
                  <a:lnTo>
                    <a:pt x="95" y="920"/>
                  </a:lnTo>
                  <a:lnTo>
                    <a:pt x="107" y="911"/>
                  </a:lnTo>
                  <a:lnTo>
                    <a:pt x="122" y="906"/>
                  </a:lnTo>
                  <a:lnTo>
                    <a:pt x="135" y="901"/>
                  </a:lnTo>
                  <a:lnTo>
                    <a:pt x="135" y="901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0017800">
              <a:off x="2705040" y="2344320"/>
              <a:ext cx="183240" cy="382680"/>
            </a:xfrm>
            <a:custGeom>
              <a:avLst/>
              <a:gdLst/>
              <a:ahLst/>
              <a:rect l="l" t="t" r="r" b="b"/>
              <a:pathLst>
                <a:path w="655" h="1026">
                  <a:moveTo>
                    <a:pt x="135" y="901"/>
                  </a:moveTo>
                  <a:lnTo>
                    <a:pt x="655" y="31"/>
                  </a:lnTo>
                  <a:lnTo>
                    <a:pt x="655" y="31"/>
                  </a:lnTo>
                  <a:lnTo>
                    <a:pt x="650" y="27"/>
                  </a:lnTo>
                  <a:lnTo>
                    <a:pt x="647" y="24"/>
                  </a:lnTo>
                  <a:lnTo>
                    <a:pt x="642" y="23"/>
                  </a:lnTo>
                  <a:lnTo>
                    <a:pt x="639" y="19"/>
                  </a:lnTo>
                  <a:lnTo>
                    <a:pt x="634" y="16"/>
                  </a:lnTo>
                  <a:lnTo>
                    <a:pt x="631" y="13"/>
                  </a:lnTo>
                  <a:lnTo>
                    <a:pt x="626" y="10"/>
                  </a:lnTo>
                  <a:lnTo>
                    <a:pt x="623" y="7"/>
                  </a:lnTo>
                  <a:lnTo>
                    <a:pt x="618" y="3"/>
                  </a:lnTo>
                  <a:lnTo>
                    <a:pt x="615" y="0"/>
                  </a:lnTo>
                  <a:lnTo>
                    <a:pt x="0" y="1026"/>
                  </a:lnTo>
                  <a:lnTo>
                    <a:pt x="0" y="1026"/>
                  </a:lnTo>
                  <a:lnTo>
                    <a:pt x="13" y="1007"/>
                  </a:lnTo>
                  <a:lnTo>
                    <a:pt x="26" y="989"/>
                  </a:lnTo>
                  <a:lnTo>
                    <a:pt x="39" y="971"/>
                  </a:lnTo>
                  <a:lnTo>
                    <a:pt x="53" y="955"/>
                  </a:lnTo>
                  <a:lnTo>
                    <a:pt x="66" y="943"/>
                  </a:lnTo>
                  <a:lnTo>
                    <a:pt x="80" y="930"/>
                  </a:lnTo>
                  <a:lnTo>
                    <a:pt x="95" y="920"/>
                  </a:lnTo>
                  <a:lnTo>
                    <a:pt x="107" y="911"/>
                  </a:lnTo>
                  <a:lnTo>
                    <a:pt x="122" y="906"/>
                  </a:lnTo>
                  <a:lnTo>
                    <a:pt x="135" y="901"/>
                  </a:lnTo>
                  <a:lnTo>
                    <a:pt x="135" y="901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20017800">
              <a:off x="2739600" y="2341080"/>
              <a:ext cx="173160" cy="361800"/>
            </a:xfrm>
            <a:custGeom>
              <a:avLst/>
              <a:gdLst/>
              <a:ahLst/>
              <a:rect l="l" t="t" r="r" b="b"/>
              <a:pathLst>
                <a:path w="619" h="968">
                  <a:moveTo>
                    <a:pt x="38" y="876"/>
                  </a:moveTo>
                  <a:lnTo>
                    <a:pt x="44" y="881"/>
                  </a:lnTo>
                  <a:lnTo>
                    <a:pt x="51" y="888"/>
                  </a:lnTo>
                  <a:lnTo>
                    <a:pt x="57" y="894"/>
                  </a:lnTo>
                  <a:lnTo>
                    <a:pt x="64" y="902"/>
                  </a:lnTo>
                  <a:lnTo>
                    <a:pt x="68" y="912"/>
                  </a:lnTo>
                  <a:lnTo>
                    <a:pt x="73" y="921"/>
                  </a:lnTo>
                  <a:lnTo>
                    <a:pt x="76" y="932"/>
                  </a:lnTo>
                  <a:lnTo>
                    <a:pt x="80" y="944"/>
                  </a:lnTo>
                  <a:lnTo>
                    <a:pt x="83" y="955"/>
                  </a:lnTo>
                  <a:lnTo>
                    <a:pt x="84" y="968"/>
                  </a:lnTo>
                  <a:lnTo>
                    <a:pt x="619" y="78"/>
                  </a:lnTo>
                  <a:lnTo>
                    <a:pt x="619" y="78"/>
                  </a:lnTo>
                  <a:lnTo>
                    <a:pt x="608" y="70"/>
                  </a:lnTo>
                  <a:lnTo>
                    <a:pt x="598" y="62"/>
                  </a:lnTo>
                  <a:lnTo>
                    <a:pt x="588" y="54"/>
                  </a:lnTo>
                  <a:lnTo>
                    <a:pt x="577" y="46"/>
                  </a:lnTo>
                  <a:lnTo>
                    <a:pt x="568" y="38"/>
                  </a:lnTo>
                  <a:lnTo>
                    <a:pt x="558" y="30"/>
                  </a:lnTo>
                  <a:lnTo>
                    <a:pt x="548" y="24"/>
                  </a:lnTo>
                  <a:lnTo>
                    <a:pt x="539" y="16"/>
                  </a:lnTo>
                  <a:lnTo>
                    <a:pt x="529" y="8"/>
                  </a:lnTo>
                  <a:lnTo>
                    <a:pt x="520" y="0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4" y="870"/>
                  </a:lnTo>
                  <a:lnTo>
                    <a:pt x="8" y="870"/>
                  </a:lnTo>
                  <a:lnTo>
                    <a:pt x="12" y="870"/>
                  </a:lnTo>
                  <a:lnTo>
                    <a:pt x="16" y="870"/>
                  </a:lnTo>
                  <a:lnTo>
                    <a:pt x="19" y="870"/>
                  </a:lnTo>
                  <a:lnTo>
                    <a:pt x="24" y="872"/>
                  </a:lnTo>
                  <a:lnTo>
                    <a:pt x="27" y="872"/>
                  </a:lnTo>
                  <a:lnTo>
                    <a:pt x="30" y="873"/>
                  </a:lnTo>
                  <a:lnTo>
                    <a:pt x="35" y="875"/>
                  </a:lnTo>
                  <a:lnTo>
                    <a:pt x="38" y="876"/>
                  </a:lnTo>
                  <a:lnTo>
                    <a:pt x="38" y="876"/>
                  </a:lnTo>
                  <a:close/>
                </a:path>
              </a:pathLst>
            </a:custGeom>
            <a:solidFill>
              <a:srgbClr val="d3d9e8"/>
            </a:solidFill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0017800">
              <a:off x="2739600" y="2341080"/>
              <a:ext cx="173160" cy="361800"/>
            </a:xfrm>
            <a:custGeom>
              <a:avLst/>
              <a:gdLst/>
              <a:ahLst/>
              <a:rect l="l" t="t" r="r" b="b"/>
              <a:pathLst>
                <a:path w="619" h="968">
                  <a:moveTo>
                    <a:pt x="38" y="876"/>
                  </a:moveTo>
                  <a:lnTo>
                    <a:pt x="44" y="881"/>
                  </a:lnTo>
                  <a:lnTo>
                    <a:pt x="51" y="888"/>
                  </a:lnTo>
                  <a:lnTo>
                    <a:pt x="57" y="894"/>
                  </a:lnTo>
                  <a:lnTo>
                    <a:pt x="64" y="902"/>
                  </a:lnTo>
                  <a:lnTo>
                    <a:pt x="68" y="912"/>
                  </a:lnTo>
                  <a:lnTo>
                    <a:pt x="73" y="921"/>
                  </a:lnTo>
                  <a:lnTo>
                    <a:pt x="76" y="932"/>
                  </a:lnTo>
                  <a:lnTo>
                    <a:pt x="80" y="944"/>
                  </a:lnTo>
                  <a:lnTo>
                    <a:pt x="83" y="955"/>
                  </a:lnTo>
                  <a:lnTo>
                    <a:pt x="84" y="968"/>
                  </a:lnTo>
                  <a:lnTo>
                    <a:pt x="619" y="78"/>
                  </a:lnTo>
                  <a:lnTo>
                    <a:pt x="619" y="78"/>
                  </a:lnTo>
                  <a:lnTo>
                    <a:pt x="608" y="70"/>
                  </a:lnTo>
                  <a:lnTo>
                    <a:pt x="598" y="62"/>
                  </a:lnTo>
                  <a:lnTo>
                    <a:pt x="588" y="54"/>
                  </a:lnTo>
                  <a:lnTo>
                    <a:pt x="577" y="46"/>
                  </a:lnTo>
                  <a:lnTo>
                    <a:pt x="568" y="38"/>
                  </a:lnTo>
                  <a:lnTo>
                    <a:pt x="558" y="30"/>
                  </a:lnTo>
                  <a:lnTo>
                    <a:pt x="548" y="24"/>
                  </a:lnTo>
                  <a:lnTo>
                    <a:pt x="539" y="16"/>
                  </a:lnTo>
                  <a:lnTo>
                    <a:pt x="529" y="8"/>
                  </a:lnTo>
                  <a:lnTo>
                    <a:pt x="520" y="0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4" y="870"/>
                  </a:lnTo>
                  <a:lnTo>
                    <a:pt x="8" y="870"/>
                  </a:lnTo>
                  <a:lnTo>
                    <a:pt x="12" y="870"/>
                  </a:lnTo>
                  <a:lnTo>
                    <a:pt x="16" y="870"/>
                  </a:lnTo>
                  <a:lnTo>
                    <a:pt x="19" y="870"/>
                  </a:lnTo>
                  <a:lnTo>
                    <a:pt x="24" y="872"/>
                  </a:lnTo>
                  <a:lnTo>
                    <a:pt x="27" y="872"/>
                  </a:lnTo>
                  <a:lnTo>
                    <a:pt x="30" y="873"/>
                  </a:lnTo>
                  <a:lnTo>
                    <a:pt x="35" y="875"/>
                  </a:lnTo>
                  <a:lnTo>
                    <a:pt x="38" y="876"/>
                  </a:lnTo>
                  <a:lnTo>
                    <a:pt x="38" y="876"/>
                  </a:lnTo>
                </a:path>
              </a:pathLst>
            </a:custGeom>
            <a:noFill/>
            <a:ln w="1440">
              <a:solidFill>
                <a:srgbClr val="d3dae8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0017800">
              <a:off x="2775240" y="2359440"/>
              <a:ext cx="160920" cy="369360"/>
            </a:xfrm>
            <a:custGeom>
              <a:avLst/>
              <a:gdLst/>
              <a:ahLst/>
              <a:rect l="l" t="t" r="r" b="b"/>
              <a:pathLst>
                <a:path w="573" h="987">
                  <a:moveTo>
                    <a:pt x="0" y="987"/>
                  </a:moveTo>
                  <a:lnTo>
                    <a:pt x="573" y="30"/>
                  </a:lnTo>
                  <a:lnTo>
                    <a:pt x="573" y="30"/>
                  </a:lnTo>
                  <a:lnTo>
                    <a:pt x="569" y="27"/>
                  </a:lnTo>
                  <a:lnTo>
                    <a:pt x="566" y="24"/>
                  </a:lnTo>
                  <a:lnTo>
                    <a:pt x="561" y="21"/>
                  </a:lnTo>
                  <a:lnTo>
                    <a:pt x="558" y="18"/>
                  </a:lnTo>
                  <a:lnTo>
                    <a:pt x="553" y="14"/>
                  </a:lnTo>
                  <a:lnTo>
                    <a:pt x="550" y="11"/>
                  </a:lnTo>
                  <a:lnTo>
                    <a:pt x="547" y="10"/>
                  </a:lnTo>
                  <a:lnTo>
                    <a:pt x="542" y="6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1" y="890"/>
                  </a:lnTo>
                  <a:lnTo>
                    <a:pt x="1" y="890"/>
                  </a:lnTo>
                  <a:lnTo>
                    <a:pt x="3" y="899"/>
                  </a:lnTo>
                  <a:lnTo>
                    <a:pt x="5" y="909"/>
                  </a:lnTo>
                  <a:lnTo>
                    <a:pt x="5" y="917"/>
                  </a:lnTo>
                  <a:lnTo>
                    <a:pt x="5" y="928"/>
                  </a:lnTo>
                  <a:lnTo>
                    <a:pt x="5" y="938"/>
                  </a:lnTo>
                  <a:lnTo>
                    <a:pt x="5" y="947"/>
                  </a:lnTo>
                  <a:lnTo>
                    <a:pt x="5" y="957"/>
                  </a:lnTo>
                  <a:lnTo>
                    <a:pt x="3" y="966"/>
                  </a:lnTo>
                  <a:lnTo>
                    <a:pt x="1" y="978"/>
                  </a:lnTo>
                  <a:lnTo>
                    <a:pt x="0" y="987"/>
                  </a:lnTo>
                  <a:lnTo>
                    <a:pt x="0" y="987"/>
                  </a:lnTo>
                  <a:close/>
                </a:path>
              </a:pathLst>
            </a:custGeom>
            <a:solidFill>
              <a:srgbClr val="a2a2a2"/>
            </a:solidFill>
            <a:ln w="1440">
              <a:solidFill>
                <a:srgbClr val="a2a2a2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017800">
              <a:off x="2775240" y="2359440"/>
              <a:ext cx="160920" cy="369360"/>
            </a:xfrm>
            <a:custGeom>
              <a:avLst/>
              <a:gdLst/>
              <a:ahLst/>
              <a:rect l="l" t="t" r="r" b="b"/>
              <a:pathLst>
                <a:path w="573" h="987">
                  <a:moveTo>
                    <a:pt x="0" y="987"/>
                  </a:moveTo>
                  <a:lnTo>
                    <a:pt x="573" y="30"/>
                  </a:lnTo>
                  <a:lnTo>
                    <a:pt x="573" y="30"/>
                  </a:lnTo>
                  <a:lnTo>
                    <a:pt x="569" y="27"/>
                  </a:lnTo>
                  <a:lnTo>
                    <a:pt x="566" y="24"/>
                  </a:lnTo>
                  <a:lnTo>
                    <a:pt x="561" y="21"/>
                  </a:lnTo>
                  <a:lnTo>
                    <a:pt x="558" y="18"/>
                  </a:lnTo>
                  <a:lnTo>
                    <a:pt x="553" y="14"/>
                  </a:lnTo>
                  <a:lnTo>
                    <a:pt x="550" y="11"/>
                  </a:lnTo>
                  <a:lnTo>
                    <a:pt x="547" y="10"/>
                  </a:lnTo>
                  <a:lnTo>
                    <a:pt x="542" y="6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1" y="890"/>
                  </a:lnTo>
                  <a:lnTo>
                    <a:pt x="1" y="890"/>
                  </a:lnTo>
                  <a:lnTo>
                    <a:pt x="3" y="899"/>
                  </a:lnTo>
                  <a:lnTo>
                    <a:pt x="5" y="909"/>
                  </a:lnTo>
                  <a:lnTo>
                    <a:pt x="5" y="917"/>
                  </a:lnTo>
                  <a:lnTo>
                    <a:pt x="5" y="928"/>
                  </a:lnTo>
                  <a:lnTo>
                    <a:pt x="5" y="938"/>
                  </a:lnTo>
                  <a:lnTo>
                    <a:pt x="5" y="947"/>
                  </a:lnTo>
                  <a:lnTo>
                    <a:pt x="5" y="957"/>
                  </a:lnTo>
                  <a:lnTo>
                    <a:pt x="3" y="966"/>
                  </a:lnTo>
                  <a:lnTo>
                    <a:pt x="1" y="978"/>
                  </a:lnTo>
                  <a:lnTo>
                    <a:pt x="0" y="987"/>
                  </a:lnTo>
                  <a:lnTo>
                    <a:pt x="0" y="987"/>
                  </a:lnTo>
                </a:path>
              </a:pathLst>
            </a:custGeom>
            <a:noFill/>
            <a:ln w="1440">
              <a:solidFill>
                <a:srgbClr val="a2a2a2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7800">
              <a:off x="2796120" y="2688120"/>
              <a:ext cx="73800" cy="141840"/>
            </a:xfrm>
            <a:custGeom>
              <a:avLst/>
              <a:gdLst/>
              <a:ahLst/>
              <a:rect l="l" t="t" r="r" b="b"/>
              <a:pathLst>
                <a:path w="264" h="379">
                  <a:moveTo>
                    <a:pt x="260" y="98"/>
                  </a:moveTo>
                  <a:lnTo>
                    <a:pt x="259" y="85"/>
                  </a:lnTo>
                  <a:lnTo>
                    <a:pt x="256" y="74"/>
                  </a:lnTo>
                  <a:lnTo>
                    <a:pt x="252" y="62"/>
                  </a:lnTo>
                  <a:lnTo>
                    <a:pt x="249" y="51"/>
                  </a:lnTo>
                  <a:lnTo>
                    <a:pt x="244" y="42"/>
                  </a:lnTo>
                  <a:lnTo>
                    <a:pt x="240" y="32"/>
                  </a:lnTo>
                  <a:lnTo>
                    <a:pt x="233" y="24"/>
                  </a:lnTo>
                  <a:lnTo>
                    <a:pt x="227" y="18"/>
                  </a:lnTo>
                  <a:lnTo>
                    <a:pt x="220" y="11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1" y="5"/>
                  </a:lnTo>
                  <a:lnTo>
                    <a:pt x="206" y="3"/>
                  </a:lnTo>
                  <a:lnTo>
                    <a:pt x="203" y="2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3" y="5"/>
                  </a:lnTo>
                  <a:lnTo>
                    <a:pt x="148" y="10"/>
                  </a:lnTo>
                  <a:lnTo>
                    <a:pt x="136" y="19"/>
                  </a:lnTo>
                  <a:lnTo>
                    <a:pt x="121" y="29"/>
                  </a:lnTo>
                  <a:lnTo>
                    <a:pt x="107" y="42"/>
                  </a:lnTo>
                  <a:lnTo>
                    <a:pt x="94" y="54"/>
                  </a:lnTo>
                  <a:lnTo>
                    <a:pt x="80" y="70"/>
                  </a:lnTo>
                  <a:lnTo>
                    <a:pt x="67" y="88"/>
                  </a:lnTo>
                  <a:lnTo>
                    <a:pt x="54" y="106"/>
                  </a:lnTo>
                  <a:lnTo>
                    <a:pt x="41" y="125"/>
                  </a:lnTo>
                  <a:lnTo>
                    <a:pt x="41" y="125"/>
                  </a:lnTo>
                  <a:lnTo>
                    <a:pt x="41" y="126"/>
                  </a:lnTo>
                  <a:lnTo>
                    <a:pt x="40" y="128"/>
                  </a:lnTo>
                  <a:lnTo>
                    <a:pt x="38" y="131"/>
                  </a:lnTo>
                  <a:lnTo>
                    <a:pt x="36" y="133"/>
                  </a:lnTo>
                  <a:lnTo>
                    <a:pt x="35" y="134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32" y="141"/>
                  </a:lnTo>
                  <a:lnTo>
                    <a:pt x="30" y="144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16" y="174"/>
                  </a:lnTo>
                  <a:lnTo>
                    <a:pt x="6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9" y="336"/>
                  </a:lnTo>
                  <a:lnTo>
                    <a:pt x="16" y="354"/>
                  </a:lnTo>
                  <a:lnTo>
                    <a:pt x="24" y="366"/>
                  </a:lnTo>
                  <a:lnTo>
                    <a:pt x="32" y="373"/>
                  </a:lnTo>
                  <a:lnTo>
                    <a:pt x="32" y="373"/>
                  </a:lnTo>
                  <a:lnTo>
                    <a:pt x="48" y="378"/>
                  </a:lnTo>
                  <a:lnTo>
                    <a:pt x="67" y="379"/>
                  </a:lnTo>
                  <a:lnTo>
                    <a:pt x="86" y="378"/>
                  </a:lnTo>
                  <a:lnTo>
                    <a:pt x="108" y="373"/>
                  </a:lnTo>
                  <a:lnTo>
                    <a:pt x="129" y="365"/>
                  </a:lnTo>
                  <a:lnTo>
                    <a:pt x="152" y="354"/>
                  </a:lnTo>
                  <a:lnTo>
                    <a:pt x="174" y="339"/>
                  </a:lnTo>
                  <a:lnTo>
                    <a:pt x="195" y="320"/>
                  </a:lnTo>
                  <a:lnTo>
                    <a:pt x="214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8" y="256"/>
                  </a:lnTo>
                  <a:lnTo>
                    <a:pt x="243" y="250"/>
                  </a:lnTo>
                  <a:lnTo>
                    <a:pt x="244" y="242"/>
                  </a:lnTo>
                  <a:lnTo>
                    <a:pt x="248" y="234"/>
                  </a:lnTo>
                  <a:lnTo>
                    <a:pt x="251" y="227"/>
                  </a:lnTo>
                  <a:lnTo>
                    <a:pt x="252" y="219"/>
                  </a:lnTo>
                  <a:lnTo>
                    <a:pt x="256" y="211"/>
                  </a:lnTo>
                  <a:lnTo>
                    <a:pt x="257" y="203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0" y="186"/>
                  </a:lnTo>
                  <a:lnTo>
                    <a:pt x="262" y="174"/>
                  </a:lnTo>
                  <a:lnTo>
                    <a:pt x="264" y="165"/>
                  </a:lnTo>
                  <a:lnTo>
                    <a:pt x="264" y="155"/>
                  </a:lnTo>
                  <a:lnTo>
                    <a:pt x="264" y="146"/>
                  </a:lnTo>
                  <a:lnTo>
                    <a:pt x="264" y="136"/>
                  </a:lnTo>
                  <a:lnTo>
                    <a:pt x="264" y="125"/>
                  </a:lnTo>
                  <a:lnTo>
                    <a:pt x="264" y="117"/>
                  </a:lnTo>
                  <a:lnTo>
                    <a:pt x="262" y="107"/>
                  </a:lnTo>
                  <a:lnTo>
                    <a:pt x="260" y="98"/>
                  </a:lnTo>
                  <a:lnTo>
                    <a:pt x="260" y="98"/>
                  </a:lnTo>
                  <a:close/>
                </a:path>
              </a:pathLst>
            </a:custGeom>
            <a:solidFill>
              <a:srgbClr val="ebf5f5"/>
            </a:solidFill>
            <a:ln w="1440">
              <a:solidFill>
                <a:srgbClr val="ebf5f5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0017800">
              <a:off x="2796120" y="2688120"/>
              <a:ext cx="73800" cy="141840"/>
            </a:xfrm>
            <a:custGeom>
              <a:avLst/>
              <a:gdLst/>
              <a:ahLst/>
              <a:rect l="l" t="t" r="r" b="b"/>
              <a:pathLst>
                <a:path w="264" h="379">
                  <a:moveTo>
                    <a:pt x="260" y="98"/>
                  </a:moveTo>
                  <a:lnTo>
                    <a:pt x="259" y="85"/>
                  </a:lnTo>
                  <a:lnTo>
                    <a:pt x="256" y="74"/>
                  </a:lnTo>
                  <a:lnTo>
                    <a:pt x="252" y="62"/>
                  </a:lnTo>
                  <a:lnTo>
                    <a:pt x="249" y="51"/>
                  </a:lnTo>
                  <a:lnTo>
                    <a:pt x="244" y="42"/>
                  </a:lnTo>
                  <a:lnTo>
                    <a:pt x="240" y="32"/>
                  </a:lnTo>
                  <a:lnTo>
                    <a:pt x="233" y="24"/>
                  </a:lnTo>
                  <a:lnTo>
                    <a:pt x="227" y="18"/>
                  </a:lnTo>
                  <a:lnTo>
                    <a:pt x="220" y="11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1" y="5"/>
                  </a:lnTo>
                  <a:lnTo>
                    <a:pt x="206" y="3"/>
                  </a:lnTo>
                  <a:lnTo>
                    <a:pt x="203" y="2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3" y="5"/>
                  </a:lnTo>
                  <a:lnTo>
                    <a:pt x="148" y="10"/>
                  </a:lnTo>
                  <a:lnTo>
                    <a:pt x="136" y="19"/>
                  </a:lnTo>
                  <a:lnTo>
                    <a:pt x="121" y="29"/>
                  </a:lnTo>
                  <a:lnTo>
                    <a:pt x="107" y="42"/>
                  </a:lnTo>
                  <a:lnTo>
                    <a:pt x="94" y="54"/>
                  </a:lnTo>
                  <a:lnTo>
                    <a:pt x="80" y="70"/>
                  </a:lnTo>
                  <a:lnTo>
                    <a:pt x="67" y="88"/>
                  </a:lnTo>
                  <a:lnTo>
                    <a:pt x="54" y="106"/>
                  </a:lnTo>
                  <a:lnTo>
                    <a:pt x="41" y="125"/>
                  </a:lnTo>
                  <a:lnTo>
                    <a:pt x="41" y="125"/>
                  </a:lnTo>
                  <a:lnTo>
                    <a:pt x="41" y="126"/>
                  </a:lnTo>
                  <a:lnTo>
                    <a:pt x="40" y="128"/>
                  </a:lnTo>
                  <a:lnTo>
                    <a:pt x="38" y="131"/>
                  </a:lnTo>
                  <a:lnTo>
                    <a:pt x="36" y="133"/>
                  </a:lnTo>
                  <a:lnTo>
                    <a:pt x="35" y="134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32" y="141"/>
                  </a:lnTo>
                  <a:lnTo>
                    <a:pt x="30" y="144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16" y="174"/>
                  </a:lnTo>
                  <a:lnTo>
                    <a:pt x="6" y="205"/>
                  </a:lnTo>
                  <a:lnTo>
                    <a:pt x="1" y="234"/>
                  </a:lnTo>
                  <a:lnTo>
                    <a:pt x="0" y="262"/>
                  </a:lnTo>
                  <a:lnTo>
                    <a:pt x="1" y="290"/>
                  </a:lnTo>
                  <a:lnTo>
                    <a:pt x="4" y="315"/>
                  </a:lnTo>
                  <a:lnTo>
                    <a:pt x="9" y="336"/>
                  </a:lnTo>
                  <a:lnTo>
                    <a:pt x="16" y="354"/>
                  </a:lnTo>
                  <a:lnTo>
                    <a:pt x="24" y="366"/>
                  </a:lnTo>
                  <a:lnTo>
                    <a:pt x="32" y="373"/>
                  </a:lnTo>
                  <a:lnTo>
                    <a:pt x="32" y="373"/>
                  </a:lnTo>
                  <a:lnTo>
                    <a:pt x="48" y="378"/>
                  </a:lnTo>
                  <a:lnTo>
                    <a:pt x="67" y="379"/>
                  </a:lnTo>
                  <a:lnTo>
                    <a:pt x="86" y="378"/>
                  </a:lnTo>
                  <a:lnTo>
                    <a:pt x="108" y="373"/>
                  </a:lnTo>
                  <a:lnTo>
                    <a:pt x="129" y="365"/>
                  </a:lnTo>
                  <a:lnTo>
                    <a:pt x="152" y="354"/>
                  </a:lnTo>
                  <a:lnTo>
                    <a:pt x="174" y="339"/>
                  </a:lnTo>
                  <a:lnTo>
                    <a:pt x="195" y="320"/>
                  </a:lnTo>
                  <a:lnTo>
                    <a:pt x="214" y="298"/>
                  </a:lnTo>
                  <a:lnTo>
                    <a:pt x="232" y="270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8" y="256"/>
                  </a:lnTo>
                  <a:lnTo>
                    <a:pt x="243" y="250"/>
                  </a:lnTo>
                  <a:lnTo>
                    <a:pt x="244" y="242"/>
                  </a:lnTo>
                  <a:lnTo>
                    <a:pt x="248" y="234"/>
                  </a:lnTo>
                  <a:lnTo>
                    <a:pt x="251" y="227"/>
                  </a:lnTo>
                  <a:lnTo>
                    <a:pt x="252" y="219"/>
                  </a:lnTo>
                  <a:lnTo>
                    <a:pt x="256" y="211"/>
                  </a:lnTo>
                  <a:lnTo>
                    <a:pt x="257" y="203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0" y="186"/>
                  </a:lnTo>
                  <a:lnTo>
                    <a:pt x="262" y="174"/>
                  </a:lnTo>
                  <a:lnTo>
                    <a:pt x="264" y="165"/>
                  </a:lnTo>
                  <a:lnTo>
                    <a:pt x="264" y="155"/>
                  </a:lnTo>
                  <a:lnTo>
                    <a:pt x="264" y="146"/>
                  </a:lnTo>
                  <a:lnTo>
                    <a:pt x="264" y="136"/>
                  </a:lnTo>
                  <a:lnTo>
                    <a:pt x="264" y="125"/>
                  </a:lnTo>
                  <a:lnTo>
                    <a:pt x="264" y="117"/>
                  </a:lnTo>
                  <a:lnTo>
                    <a:pt x="262" y="107"/>
                  </a:lnTo>
                  <a:lnTo>
                    <a:pt x="260" y="98"/>
                  </a:lnTo>
                  <a:lnTo>
                    <a:pt x="260" y="98"/>
                  </a:lnTo>
                </a:path>
              </a:pathLst>
            </a:custGeom>
            <a:noFill/>
            <a:ln w="1440">
              <a:solidFill>
                <a:srgbClr val="ebf5f5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0017800">
              <a:off x="2705400" y="2318040"/>
              <a:ext cx="251640" cy="503280"/>
            </a:xfrm>
            <a:custGeom>
              <a:avLst/>
              <a:gdLst/>
              <a:ahLst/>
              <a:rect l="l" t="t" r="r" b="b"/>
              <a:pathLst>
                <a:path w="897" h="1345">
                  <a:moveTo>
                    <a:pt x="641" y="0"/>
                  </a:moveTo>
                  <a:lnTo>
                    <a:pt x="608" y="57"/>
                  </a:lnTo>
                  <a:lnTo>
                    <a:pt x="558" y="139"/>
                  </a:lnTo>
                  <a:lnTo>
                    <a:pt x="497" y="240"/>
                  </a:lnTo>
                  <a:lnTo>
                    <a:pt x="430" y="350"/>
                  </a:lnTo>
                  <a:lnTo>
                    <a:pt x="361" y="465"/>
                  </a:lnTo>
                  <a:lnTo>
                    <a:pt x="296" y="576"/>
                  </a:lnTo>
                  <a:lnTo>
                    <a:pt x="236" y="673"/>
                  </a:lnTo>
                  <a:lnTo>
                    <a:pt x="188" y="753"/>
                  </a:lnTo>
                  <a:lnTo>
                    <a:pt x="156" y="806"/>
                  </a:lnTo>
                  <a:lnTo>
                    <a:pt x="145" y="825"/>
                  </a:lnTo>
                  <a:lnTo>
                    <a:pt x="145" y="825"/>
                  </a:lnTo>
                  <a:lnTo>
                    <a:pt x="137" y="838"/>
                  </a:lnTo>
                  <a:lnTo>
                    <a:pt x="120" y="872"/>
                  </a:lnTo>
                  <a:lnTo>
                    <a:pt x="92" y="921"/>
                  </a:lnTo>
                  <a:lnTo>
                    <a:pt x="64" y="984"/>
                  </a:lnTo>
                  <a:lnTo>
                    <a:pt x="35" y="1053"/>
                  </a:lnTo>
                  <a:lnTo>
                    <a:pt x="12" y="1125"/>
                  </a:lnTo>
                  <a:lnTo>
                    <a:pt x="0" y="1193"/>
                  </a:lnTo>
                  <a:lnTo>
                    <a:pt x="3" y="1256"/>
                  </a:lnTo>
                  <a:lnTo>
                    <a:pt x="24" y="1307"/>
                  </a:lnTo>
                  <a:lnTo>
                    <a:pt x="68" y="1341"/>
                  </a:lnTo>
                  <a:lnTo>
                    <a:pt x="68" y="1341"/>
                  </a:lnTo>
                  <a:lnTo>
                    <a:pt x="112" y="1345"/>
                  </a:lnTo>
                  <a:lnTo>
                    <a:pt x="160" y="1325"/>
                  </a:lnTo>
                  <a:lnTo>
                    <a:pt x="211" y="1285"/>
                  </a:lnTo>
                  <a:lnTo>
                    <a:pt x="260" y="1233"/>
                  </a:lnTo>
                  <a:lnTo>
                    <a:pt x="310" y="1173"/>
                  </a:lnTo>
                  <a:lnTo>
                    <a:pt x="353" y="1112"/>
                  </a:lnTo>
                  <a:lnTo>
                    <a:pt x="392" y="1054"/>
                  </a:lnTo>
                  <a:lnTo>
                    <a:pt x="422" y="1006"/>
                  </a:lnTo>
                  <a:lnTo>
                    <a:pt x="441" y="973"/>
                  </a:lnTo>
                  <a:lnTo>
                    <a:pt x="448" y="960"/>
                  </a:lnTo>
                  <a:lnTo>
                    <a:pt x="897" y="20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199560" y="2267280"/>
            <a:ext cx="1860480" cy="2370240"/>
            <a:chOff x="6199560" y="2267280"/>
            <a:chExt cx="1860480" cy="2370240"/>
          </a:xfrm>
        </p:grpSpPr>
        <p:grpSp>
          <p:nvGrpSpPr>
            <p:cNvPr id="241" name=""/>
            <p:cNvGrpSpPr/>
            <p:nvPr/>
          </p:nvGrpSpPr>
          <p:grpSpPr>
            <a:xfrm>
              <a:off x="6199560" y="2267280"/>
              <a:ext cx="1860480" cy="2370240"/>
              <a:chOff x="6199560" y="2267280"/>
              <a:chExt cx="1860480" cy="2370240"/>
            </a:xfrm>
          </p:grpSpPr>
          <p:sp>
            <p:nvSpPr>
              <p:cNvPr id="242" name=""/>
              <p:cNvSpPr/>
              <p:nvPr/>
            </p:nvSpPr>
            <p:spPr>
              <a:xfrm rot="21183000">
                <a:off x="6326280" y="2355840"/>
                <a:ext cx="1565640" cy="2194920"/>
              </a:xfrm>
              <a:custGeom>
                <a:avLst/>
                <a:gdLst/>
                <a:ahLst/>
                <a:rect l="l" t="t" r="r" b="b"/>
                <a:pathLst>
                  <a:path w="1648" h="2586">
                    <a:moveTo>
                      <a:pt x="453" y="2184"/>
                    </a:moveTo>
                    <a:lnTo>
                      <a:pt x="446" y="2197"/>
                    </a:lnTo>
                    <a:lnTo>
                      <a:pt x="425" y="2231"/>
                    </a:lnTo>
                    <a:lnTo>
                      <a:pt x="395" y="2280"/>
                    </a:lnTo>
                    <a:lnTo>
                      <a:pt x="357" y="2340"/>
                    </a:lnTo>
                    <a:lnTo>
                      <a:pt x="312" y="2402"/>
                    </a:lnTo>
                    <a:lnTo>
                      <a:pt x="262" y="2464"/>
                    </a:lnTo>
                    <a:lnTo>
                      <a:pt x="213" y="2519"/>
                    </a:lnTo>
                    <a:lnTo>
                      <a:pt x="163" y="2562"/>
                    </a:lnTo>
                    <a:lnTo>
                      <a:pt x="117" y="2586"/>
                    </a:lnTo>
                    <a:lnTo>
                      <a:pt x="75" y="2586"/>
                    </a:lnTo>
                    <a:lnTo>
                      <a:pt x="75" y="2586"/>
                    </a:lnTo>
                    <a:lnTo>
                      <a:pt x="27" y="2552"/>
                    </a:lnTo>
                    <a:lnTo>
                      <a:pt x="3" y="2500"/>
                    </a:lnTo>
                    <a:lnTo>
                      <a:pt x="0" y="2434"/>
                    </a:lnTo>
                    <a:lnTo>
                      <a:pt x="14" y="2360"/>
                    </a:lnTo>
                    <a:lnTo>
                      <a:pt x="37" y="2285"/>
                    </a:lnTo>
                    <a:lnTo>
                      <a:pt x="67" y="2212"/>
                    </a:lnTo>
                    <a:lnTo>
                      <a:pt x="99" y="2144"/>
                    </a:lnTo>
                    <a:lnTo>
                      <a:pt x="128" y="2090"/>
                    </a:lnTo>
                    <a:lnTo>
                      <a:pt x="149" y="2055"/>
                    </a:lnTo>
                    <a:lnTo>
                      <a:pt x="157" y="2042"/>
                    </a:lnTo>
                    <a:lnTo>
                      <a:pt x="157" y="2042"/>
                    </a:lnTo>
                    <a:lnTo>
                      <a:pt x="189" y="1986"/>
                    </a:lnTo>
                    <a:lnTo>
                      <a:pt x="280" y="1836"/>
                    </a:lnTo>
                    <a:lnTo>
                      <a:pt x="414" y="1612"/>
                    </a:lnTo>
                    <a:lnTo>
                      <a:pt x="577" y="1341"/>
                    </a:lnTo>
                    <a:lnTo>
                      <a:pt x="755" y="1045"/>
                    </a:lnTo>
                    <a:lnTo>
                      <a:pt x="934" y="749"/>
                    </a:lnTo>
                    <a:lnTo>
                      <a:pt x="1101" y="474"/>
                    </a:lnTo>
                    <a:lnTo>
                      <a:pt x="1240" y="245"/>
                    </a:lnTo>
                    <a:lnTo>
                      <a:pt x="1337" y="87"/>
                    </a:lnTo>
                    <a:lnTo>
                      <a:pt x="1379" y="23"/>
                    </a:lnTo>
                    <a:lnTo>
                      <a:pt x="1379" y="23"/>
                    </a:lnTo>
                    <a:lnTo>
                      <a:pt x="1401" y="7"/>
                    </a:lnTo>
                    <a:lnTo>
                      <a:pt x="1430" y="0"/>
                    </a:lnTo>
                    <a:lnTo>
                      <a:pt x="1464" y="4"/>
                    </a:lnTo>
                    <a:lnTo>
                      <a:pt x="1499" y="15"/>
                    </a:lnTo>
                    <a:lnTo>
                      <a:pt x="1536" y="32"/>
                    </a:lnTo>
                    <a:lnTo>
                      <a:pt x="1569" y="55"/>
                    </a:lnTo>
                    <a:lnTo>
                      <a:pt x="1601" y="82"/>
                    </a:lnTo>
                    <a:lnTo>
                      <a:pt x="1625" y="112"/>
                    </a:lnTo>
                    <a:lnTo>
                      <a:pt x="1641" y="146"/>
                    </a:lnTo>
                    <a:lnTo>
                      <a:pt x="1648" y="181"/>
                    </a:lnTo>
                    <a:lnTo>
                      <a:pt x="453" y="2184"/>
                    </a:lnTo>
                    <a:close/>
                  </a:path>
                </a:pathLst>
              </a:custGeom>
              <a:solidFill>
                <a:srgbClr val="b1bed8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1183000">
                <a:off x="6350760" y="2366640"/>
                <a:ext cx="1385640" cy="2084760"/>
              </a:xfrm>
              <a:custGeom>
                <a:avLst/>
                <a:gdLst/>
                <a:ahLst/>
                <a:rect l="l" t="t" r="r" b="b"/>
                <a:pathLst>
                  <a:path w="1459" h="2456">
                    <a:moveTo>
                      <a:pt x="1410" y="0"/>
                    </a:moveTo>
                    <a:lnTo>
                      <a:pt x="21" y="2320"/>
                    </a:lnTo>
                    <a:lnTo>
                      <a:pt x="21" y="2320"/>
                    </a:lnTo>
                    <a:lnTo>
                      <a:pt x="18" y="2332"/>
                    </a:lnTo>
                    <a:lnTo>
                      <a:pt x="15" y="2345"/>
                    </a:lnTo>
                    <a:lnTo>
                      <a:pt x="11" y="2358"/>
                    </a:lnTo>
                    <a:lnTo>
                      <a:pt x="8" y="2372"/>
                    </a:lnTo>
                    <a:lnTo>
                      <a:pt x="7" y="2385"/>
                    </a:lnTo>
                    <a:lnTo>
                      <a:pt x="5" y="2400"/>
                    </a:lnTo>
                    <a:lnTo>
                      <a:pt x="3" y="2412"/>
                    </a:lnTo>
                    <a:lnTo>
                      <a:pt x="2" y="2427"/>
                    </a:lnTo>
                    <a:lnTo>
                      <a:pt x="0" y="2441"/>
                    </a:lnTo>
                    <a:lnTo>
                      <a:pt x="0" y="2456"/>
                    </a:lnTo>
                    <a:lnTo>
                      <a:pt x="1459" y="9"/>
                    </a:lnTo>
                    <a:lnTo>
                      <a:pt x="1459" y="9"/>
                    </a:lnTo>
                    <a:lnTo>
                      <a:pt x="1455" y="8"/>
                    </a:lnTo>
                    <a:lnTo>
                      <a:pt x="1450" y="6"/>
                    </a:lnTo>
                    <a:lnTo>
                      <a:pt x="1445" y="4"/>
                    </a:lnTo>
                    <a:lnTo>
                      <a:pt x="1439" y="3"/>
                    </a:lnTo>
                    <a:lnTo>
                      <a:pt x="1434" y="3"/>
                    </a:lnTo>
                    <a:lnTo>
                      <a:pt x="1429" y="1"/>
                    </a:lnTo>
                    <a:lnTo>
                      <a:pt x="1424" y="1"/>
                    </a:lnTo>
                    <a:lnTo>
                      <a:pt x="1419" y="0"/>
                    </a:lnTo>
                    <a:lnTo>
                      <a:pt x="1415" y="0"/>
                    </a:lnTo>
                    <a:lnTo>
                      <a:pt x="14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1183000">
                <a:off x="6470640" y="2417400"/>
                <a:ext cx="1404360" cy="2059200"/>
              </a:xfrm>
              <a:custGeom>
                <a:avLst/>
                <a:gdLst/>
                <a:ahLst/>
                <a:rect l="l" t="t" r="r" b="b"/>
                <a:pathLst>
                  <a:path w="1479" h="2426">
                    <a:moveTo>
                      <a:pt x="1447" y="0"/>
                    </a:moveTo>
                    <a:lnTo>
                      <a:pt x="0" y="2414"/>
                    </a:lnTo>
                    <a:lnTo>
                      <a:pt x="0" y="2414"/>
                    </a:lnTo>
                    <a:lnTo>
                      <a:pt x="2" y="2416"/>
                    </a:lnTo>
                    <a:lnTo>
                      <a:pt x="3" y="2416"/>
                    </a:lnTo>
                    <a:lnTo>
                      <a:pt x="5" y="2418"/>
                    </a:lnTo>
                    <a:lnTo>
                      <a:pt x="7" y="2418"/>
                    </a:lnTo>
                    <a:lnTo>
                      <a:pt x="8" y="2419"/>
                    </a:lnTo>
                    <a:lnTo>
                      <a:pt x="10" y="2419"/>
                    </a:lnTo>
                    <a:lnTo>
                      <a:pt x="11" y="2421"/>
                    </a:lnTo>
                    <a:lnTo>
                      <a:pt x="13" y="2421"/>
                    </a:lnTo>
                    <a:lnTo>
                      <a:pt x="15" y="2421"/>
                    </a:lnTo>
                    <a:lnTo>
                      <a:pt x="16" y="2422"/>
                    </a:lnTo>
                    <a:lnTo>
                      <a:pt x="16" y="2422"/>
                    </a:lnTo>
                    <a:lnTo>
                      <a:pt x="19" y="2422"/>
                    </a:lnTo>
                    <a:lnTo>
                      <a:pt x="23" y="2424"/>
                    </a:lnTo>
                    <a:lnTo>
                      <a:pt x="26" y="2424"/>
                    </a:lnTo>
                    <a:lnTo>
                      <a:pt x="29" y="2426"/>
                    </a:lnTo>
                    <a:lnTo>
                      <a:pt x="32" y="2426"/>
                    </a:lnTo>
                    <a:lnTo>
                      <a:pt x="37" y="2426"/>
                    </a:lnTo>
                    <a:lnTo>
                      <a:pt x="40" y="2426"/>
                    </a:lnTo>
                    <a:lnTo>
                      <a:pt x="43" y="2424"/>
                    </a:lnTo>
                    <a:lnTo>
                      <a:pt x="47" y="2424"/>
                    </a:lnTo>
                    <a:lnTo>
                      <a:pt x="51" y="2422"/>
                    </a:lnTo>
                    <a:lnTo>
                      <a:pt x="1479" y="42"/>
                    </a:lnTo>
                    <a:lnTo>
                      <a:pt x="1479" y="42"/>
                    </a:lnTo>
                    <a:lnTo>
                      <a:pt x="1475" y="37"/>
                    </a:lnTo>
                    <a:lnTo>
                      <a:pt x="1472" y="34"/>
                    </a:lnTo>
                    <a:lnTo>
                      <a:pt x="1471" y="29"/>
                    </a:lnTo>
                    <a:lnTo>
                      <a:pt x="1467" y="24"/>
                    </a:lnTo>
                    <a:lnTo>
                      <a:pt x="1464" y="21"/>
                    </a:lnTo>
                    <a:lnTo>
                      <a:pt x="1461" y="16"/>
                    </a:lnTo>
                    <a:lnTo>
                      <a:pt x="1458" y="13"/>
                    </a:lnTo>
                    <a:lnTo>
                      <a:pt x="1455" y="8"/>
                    </a:lnTo>
                    <a:lnTo>
                      <a:pt x="1450" y="5"/>
                    </a:lnTo>
                    <a:lnTo>
                      <a:pt x="1447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1183000">
                <a:off x="6329520" y="2381400"/>
                <a:ext cx="1563840" cy="2169360"/>
              </a:xfrm>
              <a:custGeom>
                <a:avLst/>
                <a:gdLst/>
                <a:ahLst/>
                <a:rect l="l" t="t" r="r" b="b"/>
                <a:pathLst>
                  <a:path w="1647" h="2557">
                    <a:moveTo>
                      <a:pt x="1647" y="152"/>
                    </a:moveTo>
                    <a:lnTo>
                      <a:pt x="712" y="1714"/>
                    </a:lnTo>
                    <a:lnTo>
                      <a:pt x="440" y="2173"/>
                    </a:lnTo>
                    <a:lnTo>
                      <a:pt x="440" y="2173"/>
                    </a:lnTo>
                    <a:lnTo>
                      <a:pt x="434" y="2184"/>
                    </a:lnTo>
                    <a:lnTo>
                      <a:pt x="415" y="2218"/>
                    </a:lnTo>
                    <a:lnTo>
                      <a:pt x="384" y="2266"/>
                    </a:lnTo>
                    <a:lnTo>
                      <a:pt x="348" y="2323"/>
                    </a:lnTo>
                    <a:lnTo>
                      <a:pt x="303" y="2386"/>
                    </a:lnTo>
                    <a:lnTo>
                      <a:pt x="255" y="2445"/>
                    </a:lnTo>
                    <a:lnTo>
                      <a:pt x="204" y="2498"/>
                    </a:lnTo>
                    <a:lnTo>
                      <a:pt x="154" y="2536"/>
                    </a:lnTo>
                    <a:lnTo>
                      <a:pt x="104" y="2557"/>
                    </a:lnTo>
                    <a:lnTo>
                      <a:pt x="61" y="2554"/>
                    </a:lnTo>
                    <a:lnTo>
                      <a:pt x="61" y="2554"/>
                    </a:lnTo>
                    <a:lnTo>
                      <a:pt x="20" y="2520"/>
                    </a:lnTo>
                    <a:lnTo>
                      <a:pt x="0" y="2469"/>
                    </a:lnTo>
                    <a:lnTo>
                      <a:pt x="0" y="2405"/>
                    </a:lnTo>
                    <a:lnTo>
                      <a:pt x="13" y="2333"/>
                    </a:lnTo>
                    <a:lnTo>
                      <a:pt x="37" y="2259"/>
                    </a:lnTo>
                    <a:lnTo>
                      <a:pt x="66" y="2187"/>
                    </a:lnTo>
                    <a:lnTo>
                      <a:pt x="95" y="2123"/>
                    </a:lnTo>
                    <a:lnTo>
                      <a:pt x="122" y="2071"/>
                    </a:lnTo>
                    <a:lnTo>
                      <a:pt x="141" y="2035"/>
                    </a:lnTo>
                    <a:lnTo>
                      <a:pt x="148" y="2023"/>
                    </a:lnTo>
                    <a:lnTo>
                      <a:pt x="148" y="2023"/>
                    </a:lnTo>
                    <a:lnTo>
                      <a:pt x="148" y="2023"/>
                    </a:lnTo>
                    <a:lnTo>
                      <a:pt x="148" y="2023"/>
                    </a:lnTo>
                    <a:lnTo>
                      <a:pt x="149" y="2023"/>
                    </a:lnTo>
                    <a:lnTo>
                      <a:pt x="149" y="2023"/>
                    </a:lnTo>
                    <a:lnTo>
                      <a:pt x="149" y="2021"/>
                    </a:lnTo>
                    <a:lnTo>
                      <a:pt x="149" y="2021"/>
                    </a:lnTo>
                    <a:lnTo>
                      <a:pt x="151" y="2019"/>
                    </a:lnTo>
                    <a:lnTo>
                      <a:pt x="151" y="2018"/>
                    </a:lnTo>
                    <a:lnTo>
                      <a:pt x="152" y="2018"/>
                    </a:lnTo>
                    <a:lnTo>
                      <a:pt x="152" y="2016"/>
                    </a:lnTo>
                    <a:lnTo>
                      <a:pt x="152" y="2016"/>
                    </a:lnTo>
                    <a:lnTo>
                      <a:pt x="168" y="1991"/>
                    </a:lnTo>
                    <a:lnTo>
                      <a:pt x="192" y="1949"/>
                    </a:lnTo>
                    <a:lnTo>
                      <a:pt x="228" y="1891"/>
                    </a:lnTo>
                    <a:lnTo>
                      <a:pt x="269" y="1821"/>
                    </a:lnTo>
                    <a:lnTo>
                      <a:pt x="319" y="1739"/>
                    </a:lnTo>
                    <a:lnTo>
                      <a:pt x="375" y="1647"/>
                    </a:lnTo>
                    <a:lnTo>
                      <a:pt x="436" y="1544"/>
                    </a:lnTo>
                    <a:lnTo>
                      <a:pt x="501" y="1435"/>
                    </a:lnTo>
                    <a:lnTo>
                      <a:pt x="570" y="1322"/>
                    </a:lnTo>
                    <a:lnTo>
                      <a:pt x="642" y="1203"/>
                    </a:lnTo>
                    <a:lnTo>
                      <a:pt x="642" y="1203"/>
                    </a:lnTo>
                    <a:lnTo>
                      <a:pt x="743" y="1037"/>
                    </a:lnTo>
                    <a:lnTo>
                      <a:pt x="844" y="869"/>
                    </a:lnTo>
                    <a:lnTo>
                      <a:pt x="943" y="704"/>
                    </a:lnTo>
                    <a:lnTo>
                      <a:pt x="1037" y="547"/>
                    </a:lnTo>
                    <a:lnTo>
                      <a:pt x="1125" y="402"/>
                    </a:lnTo>
                    <a:lnTo>
                      <a:pt x="1204" y="274"/>
                    </a:lnTo>
                    <a:lnTo>
                      <a:pt x="1269" y="165"/>
                    </a:lnTo>
                    <a:lnTo>
                      <a:pt x="1322" y="80"/>
                    </a:lnTo>
                    <a:lnTo>
                      <a:pt x="1357" y="24"/>
                    </a:lnTo>
                    <a:lnTo>
                      <a:pt x="137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183000">
                <a:off x="6350760" y="2366640"/>
                <a:ext cx="1385640" cy="2084760"/>
              </a:xfrm>
              <a:custGeom>
                <a:avLst/>
                <a:gdLst/>
                <a:ahLst/>
                <a:rect l="l" t="t" r="r" b="b"/>
                <a:pathLst>
                  <a:path w="1459" h="2456">
                    <a:moveTo>
                      <a:pt x="1410" y="0"/>
                    </a:moveTo>
                    <a:lnTo>
                      <a:pt x="21" y="2320"/>
                    </a:lnTo>
                    <a:lnTo>
                      <a:pt x="21" y="2320"/>
                    </a:lnTo>
                    <a:lnTo>
                      <a:pt x="18" y="2332"/>
                    </a:lnTo>
                    <a:lnTo>
                      <a:pt x="15" y="2345"/>
                    </a:lnTo>
                    <a:lnTo>
                      <a:pt x="11" y="2358"/>
                    </a:lnTo>
                    <a:lnTo>
                      <a:pt x="8" y="2372"/>
                    </a:lnTo>
                    <a:lnTo>
                      <a:pt x="7" y="2385"/>
                    </a:lnTo>
                    <a:lnTo>
                      <a:pt x="5" y="2400"/>
                    </a:lnTo>
                    <a:lnTo>
                      <a:pt x="3" y="2412"/>
                    </a:lnTo>
                    <a:lnTo>
                      <a:pt x="2" y="2427"/>
                    </a:lnTo>
                    <a:lnTo>
                      <a:pt x="0" y="2441"/>
                    </a:lnTo>
                    <a:lnTo>
                      <a:pt x="0" y="2456"/>
                    </a:lnTo>
                    <a:lnTo>
                      <a:pt x="1459" y="9"/>
                    </a:lnTo>
                    <a:lnTo>
                      <a:pt x="14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ffff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183000">
                <a:off x="6350760" y="2366640"/>
                <a:ext cx="1385640" cy="2084760"/>
              </a:xfrm>
              <a:custGeom>
                <a:avLst/>
                <a:gdLst/>
                <a:ahLst/>
                <a:rect l="l" t="t" r="r" b="b"/>
                <a:pathLst>
                  <a:path w="1459" h="2456">
                    <a:moveTo>
                      <a:pt x="1410" y="0"/>
                    </a:moveTo>
                    <a:lnTo>
                      <a:pt x="21" y="2320"/>
                    </a:lnTo>
                    <a:lnTo>
                      <a:pt x="21" y="2320"/>
                    </a:lnTo>
                    <a:lnTo>
                      <a:pt x="18" y="2332"/>
                    </a:lnTo>
                    <a:lnTo>
                      <a:pt x="15" y="2345"/>
                    </a:lnTo>
                    <a:lnTo>
                      <a:pt x="11" y="2358"/>
                    </a:lnTo>
                    <a:lnTo>
                      <a:pt x="8" y="2372"/>
                    </a:lnTo>
                    <a:lnTo>
                      <a:pt x="7" y="2385"/>
                    </a:lnTo>
                    <a:lnTo>
                      <a:pt x="5" y="2400"/>
                    </a:lnTo>
                    <a:lnTo>
                      <a:pt x="3" y="2412"/>
                    </a:lnTo>
                    <a:lnTo>
                      <a:pt x="2" y="2427"/>
                    </a:lnTo>
                    <a:lnTo>
                      <a:pt x="0" y="2441"/>
                    </a:lnTo>
                    <a:lnTo>
                      <a:pt x="0" y="2456"/>
                    </a:lnTo>
                    <a:lnTo>
                      <a:pt x="1459" y="9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183000">
                <a:off x="6470640" y="2417400"/>
                <a:ext cx="1404360" cy="2059200"/>
              </a:xfrm>
              <a:custGeom>
                <a:avLst/>
                <a:gdLst/>
                <a:ahLst/>
                <a:rect l="l" t="t" r="r" b="b"/>
                <a:pathLst>
                  <a:path w="1479" h="2426">
                    <a:moveTo>
                      <a:pt x="1447" y="0"/>
                    </a:moveTo>
                    <a:lnTo>
                      <a:pt x="0" y="2414"/>
                    </a:lnTo>
                    <a:lnTo>
                      <a:pt x="0" y="2414"/>
                    </a:lnTo>
                    <a:lnTo>
                      <a:pt x="2" y="2416"/>
                    </a:lnTo>
                    <a:lnTo>
                      <a:pt x="3" y="2416"/>
                    </a:lnTo>
                    <a:lnTo>
                      <a:pt x="5" y="2418"/>
                    </a:lnTo>
                    <a:lnTo>
                      <a:pt x="7" y="2418"/>
                    </a:lnTo>
                    <a:lnTo>
                      <a:pt x="8" y="2419"/>
                    </a:lnTo>
                    <a:lnTo>
                      <a:pt x="10" y="2419"/>
                    </a:lnTo>
                    <a:lnTo>
                      <a:pt x="11" y="2421"/>
                    </a:lnTo>
                    <a:lnTo>
                      <a:pt x="13" y="2421"/>
                    </a:lnTo>
                    <a:lnTo>
                      <a:pt x="15" y="2421"/>
                    </a:lnTo>
                    <a:lnTo>
                      <a:pt x="16" y="2422"/>
                    </a:lnTo>
                    <a:lnTo>
                      <a:pt x="16" y="2422"/>
                    </a:lnTo>
                    <a:lnTo>
                      <a:pt x="19" y="2422"/>
                    </a:lnTo>
                    <a:lnTo>
                      <a:pt x="23" y="2424"/>
                    </a:lnTo>
                    <a:lnTo>
                      <a:pt x="26" y="2424"/>
                    </a:lnTo>
                    <a:lnTo>
                      <a:pt x="29" y="2426"/>
                    </a:lnTo>
                    <a:lnTo>
                      <a:pt x="32" y="2426"/>
                    </a:lnTo>
                    <a:lnTo>
                      <a:pt x="37" y="2426"/>
                    </a:lnTo>
                    <a:lnTo>
                      <a:pt x="40" y="2426"/>
                    </a:lnTo>
                    <a:lnTo>
                      <a:pt x="43" y="2424"/>
                    </a:lnTo>
                    <a:lnTo>
                      <a:pt x="47" y="2424"/>
                    </a:lnTo>
                    <a:lnTo>
                      <a:pt x="51" y="2422"/>
                    </a:lnTo>
                    <a:lnTo>
                      <a:pt x="1479" y="42"/>
                    </a:lnTo>
                    <a:lnTo>
                      <a:pt x="1447" y="0"/>
                    </a:lnTo>
                    <a:close/>
                  </a:path>
                </a:pathLst>
              </a:custGeom>
              <a:solidFill>
                <a:srgbClr val="444444"/>
              </a:solidFill>
              <a:ln w="1440">
                <a:solidFill>
                  <a:srgbClr val="444444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183000">
                <a:off x="6536160" y="2344320"/>
                <a:ext cx="1404360" cy="2059200"/>
              </a:xfrm>
              <a:custGeom>
                <a:avLst/>
                <a:gdLst/>
                <a:ahLst/>
                <a:rect l="l" t="t" r="r" b="b"/>
                <a:pathLst>
                  <a:path w="1479" h="2426">
                    <a:moveTo>
                      <a:pt x="1447" y="0"/>
                    </a:moveTo>
                    <a:lnTo>
                      <a:pt x="0" y="2414"/>
                    </a:lnTo>
                    <a:lnTo>
                      <a:pt x="0" y="2414"/>
                    </a:lnTo>
                    <a:lnTo>
                      <a:pt x="2" y="2416"/>
                    </a:lnTo>
                    <a:lnTo>
                      <a:pt x="3" y="2416"/>
                    </a:lnTo>
                    <a:lnTo>
                      <a:pt x="5" y="2418"/>
                    </a:lnTo>
                    <a:lnTo>
                      <a:pt x="7" y="2418"/>
                    </a:lnTo>
                    <a:lnTo>
                      <a:pt x="8" y="2419"/>
                    </a:lnTo>
                    <a:lnTo>
                      <a:pt x="10" y="2419"/>
                    </a:lnTo>
                    <a:lnTo>
                      <a:pt x="11" y="2421"/>
                    </a:lnTo>
                    <a:lnTo>
                      <a:pt x="13" y="2421"/>
                    </a:lnTo>
                    <a:lnTo>
                      <a:pt x="15" y="2421"/>
                    </a:lnTo>
                    <a:lnTo>
                      <a:pt x="16" y="2422"/>
                    </a:lnTo>
                    <a:lnTo>
                      <a:pt x="16" y="2422"/>
                    </a:lnTo>
                    <a:lnTo>
                      <a:pt x="19" y="2422"/>
                    </a:lnTo>
                    <a:lnTo>
                      <a:pt x="23" y="2424"/>
                    </a:lnTo>
                    <a:lnTo>
                      <a:pt x="26" y="2424"/>
                    </a:lnTo>
                    <a:lnTo>
                      <a:pt x="29" y="2426"/>
                    </a:lnTo>
                    <a:lnTo>
                      <a:pt x="32" y="2426"/>
                    </a:lnTo>
                    <a:lnTo>
                      <a:pt x="37" y="2426"/>
                    </a:lnTo>
                    <a:lnTo>
                      <a:pt x="40" y="2426"/>
                    </a:lnTo>
                    <a:lnTo>
                      <a:pt x="43" y="2424"/>
                    </a:lnTo>
                    <a:lnTo>
                      <a:pt x="47" y="2424"/>
                    </a:lnTo>
                    <a:lnTo>
                      <a:pt x="51" y="2422"/>
                    </a:lnTo>
                    <a:lnTo>
                      <a:pt x="1479" y="42"/>
                    </a:lnTo>
                  </a:path>
                </a:pathLst>
              </a:custGeom>
              <a:noFill/>
              <a:ln w="1440">
                <a:solidFill>
                  <a:srgbClr val="444444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183000">
                <a:off x="6462360" y="4275000"/>
                <a:ext cx="252720" cy="322200"/>
              </a:xfrm>
              <a:custGeom>
                <a:avLst/>
                <a:gdLst/>
                <a:ahLst/>
                <a:rect l="l" t="t" r="r" b="b"/>
                <a:pathLst>
                  <a:path w="265" h="379">
                    <a:moveTo>
                      <a:pt x="33" y="373"/>
                    </a:moveTo>
                    <a:lnTo>
                      <a:pt x="49" y="378"/>
                    </a:lnTo>
                    <a:lnTo>
                      <a:pt x="67" y="379"/>
                    </a:lnTo>
                    <a:lnTo>
                      <a:pt x="88" y="378"/>
                    </a:lnTo>
                    <a:lnTo>
                      <a:pt x="108" y="373"/>
                    </a:lnTo>
                    <a:lnTo>
                      <a:pt x="131" y="365"/>
                    </a:lnTo>
                    <a:lnTo>
                      <a:pt x="153" y="354"/>
                    </a:lnTo>
                    <a:lnTo>
                      <a:pt x="174" y="338"/>
                    </a:lnTo>
                    <a:lnTo>
                      <a:pt x="195" y="320"/>
                    </a:lnTo>
                    <a:lnTo>
                      <a:pt x="216" y="298"/>
                    </a:lnTo>
                    <a:lnTo>
                      <a:pt x="232" y="270"/>
                    </a:lnTo>
                    <a:lnTo>
                      <a:pt x="232" y="270"/>
                    </a:lnTo>
                    <a:lnTo>
                      <a:pt x="246" y="242"/>
                    </a:lnTo>
                    <a:lnTo>
                      <a:pt x="256" y="210"/>
                    </a:lnTo>
                    <a:lnTo>
                      <a:pt x="262" y="178"/>
                    </a:lnTo>
                    <a:lnTo>
                      <a:pt x="265" y="146"/>
                    </a:lnTo>
                    <a:lnTo>
                      <a:pt x="264" y="115"/>
                    </a:lnTo>
                    <a:lnTo>
                      <a:pt x="260" y="85"/>
                    </a:lnTo>
                    <a:lnTo>
                      <a:pt x="252" y="59"/>
                    </a:lnTo>
                    <a:lnTo>
                      <a:pt x="243" y="37"/>
                    </a:lnTo>
                    <a:lnTo>
                      <a:pt x="230" y="18"/>
                    </a:lnTo>
                    <a:lnTo>
                      <a:pt x="214" y="6"/>
                    </a:lnTo>
                    <a:lnTo>
                      <a:pt x="214" y="6"/>
                    </a:lnTo>
                    <a:lnTo>
                      <a:pt x="198" y="0"/>
                    </a:lnTo>
                    <a:lnTo>
                      <a:pt x="179" y="0"/>
                    </a:lnTo>
                    <a:lnTo>
                      <a:pt x="161" y="5"/>
                    </a:lnTo>
                    <a:lnTo>
                      <a:pt x="140" y="14"/>
                    </a:lnTo>
                    <a:lnTo>
                      <a:pt x="121" y="29"/>
                    </a:lnTo>
                    <a:lnTo>
                      <a:pt x="102" y="46"/>
                    </a:lnTo>
                    <a:lnTo>
                      <a:pt x="83" y="67"/>
                    </a:lnTo>
                    <a:lnTo>
                      <a:pt x="64" y="91"/>
                    </a:lnTo>
                    <a:lnTo>
                      <a:pt x="46" y="118"/>
                    </a:lnTo>
                    <a:lnTo>
                      <a:pt x="30" y="146"/>
                    </a:lnTo>
                    <a:lnTo>
                      <a:pt x="30" y="146"/>
                    </a:lnTo>
                    <a:lnTo>
                      <a:pt x="16" y="174"/>
                    </a:lnTo>
                    <a:lnTo>
                      <a:pt x="8" y="205"/>
                    </a:lnTo>
                    <a:lnTo>
                      <a:pt x="1" y="234"/>
                    </a:lnTo>
                    <a:lnTo>
                      <a:pt x="0" y="262"/>
                    </a:lnTo>
                    <a:lnTo>
                      <a:pt x="1" y="290"/>
                    </a:lnTo>
                    <a:lnTo>
                      <a:pt x="4" y="315"/>
                    </a:lnTo>
                    <a:lnTo>
                      <a:pt x="11" y="336"/>
                    </a:lnTo>
                    <a:lnTo>
                      <a:pt x="17" y="354"/>
                    </a:lnTo>
                    <a:lnTo>
                      <a:pt x="25" y="365"/>
                    </a:lnTo>
                    <a:lnTo>
                      <a:pt x="33" y="373"/>
                    </a:lnTo>
                    <a:close/>
                  </a:path>
                </a:pathLst>
              </a:custGeom>
              <a:solidFill>
                <a:srgbClr val="daecec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183000">
                <a:off x="6392880" y="3453120"/>
                <a:ext cx="847080" cy="1137240"/>
              </a:xfrm>
              <a:custGeom>
                <a:avLst/>
                <a:gdLst/>
                <a:ahLst/>
                <a:rect l="l" t="t" r="r" b="b"/>
                <a:pathLst>
                  <a:path w="891" h="1341">
                    <a:moveTo>
                      <a:pt x="853" y="171"/>
                    </a:moveTo>
                    <a:lnTo>
                      <a:pt x="280" y="1128"/>
                    </a:lnTo>
                    <a:lnTo>
                      <a:pt x="280" y="1128"/>
                    </a:lnTo>
                    <a:lnTo>
                      <a:pt x="278" y="1136"/>
                    </a:lnTo>
                    <a:lnTo>
                      <a:pt x="277" y="1144"/>
                    </a:lnTo>
                    <a:lnTo>
                      <a:pt x="273" y="1152"/>
                    </a:lnTo>
                    <a:lnTo>
                      <a:pt x="272" y="1160"/>
                    </a:lnTo>
                    <a:lnTo>
                      <a:pt x="269" y="1167"/>
                    </a:lnTo>
                    <a:lnTo>
                      <a:pt x="265" y="1175"/>
                    </a:lnTo>
                    <a:lnTo>
                      <a:pt x="264" y="1183"/>
                    </a:lnTo>
                    <a:lnTo>
                      <a:pt x="259" y="1189"/>
                    </a:lnTo>
                    <a:lnTo>
                      <a:pt x="256" y="1197"/>
                    </a:lnTo>
                    <a:lnTo>
                      <a:pt x="253" y="1203"/>
                    </a:lnTo>
                    <a:lnTo>
                      <a:pt x="253" y="1203"/>
                    </a:lnTo>
                    <a:lnTo>
                      <a:pt x="235" y="1231"/>
                    </a:lnTo>
                    <a:lnTo>
                      <a:pt x="216" y="1253"/>
                    </a:lnTo>
                    <a:lnTo>
                      <a:pt x="195" y="1272"/>
                    </a:lnTo>
                    <a:lnTo>
                      <a:pt x="173" y="1287"/>
                    </a:lnTo>
                    <a:lnTo>
                      <a:pt x="150" y="1298"/>
                    </a:lnTo>
                    <a:lnTo>
                      <a:pt x="129" y="1306"/>
                    </a:lnTo>
                    <a:lnTo>
                      <a:pt x="107" y="1311"/>
                    </a:lnTo>
                    <a:lnTo>
                      <a:pt x="88" y="1312"/>
                    </a:lnTo>
                    <a:lnTo>
                      <a:pt x="69" y="1311"/>
                    </a:lnTo>
                    <a:lnTo>
                      <a:pt x="53" y="1306"/>
                    </a:lnTo>
                    <a:lnTo>
                      <a:pt x="53" y="1306"/>
                    </a:lnTo>
                    <a:lnTo>
                      <a:pt x="45" y="1299"/>
                    </a:lnTo>
                    <a:lnTo>
                      <a:pt x="37" y="1287"/>
                    </a:lnTo>
                    <a:lnTo>
                      <a:pt x="30" y="1269"/>
                    </a:lnTo>
                    <a:lnTo>
                      <a:pt x="25" y="1248"/>
                    </a:lnTo>
                    <a:lnTo>
                      <a:pt x="22" y="1223"/>
                    </a:lnTo>
                    <a:lnTo>
                      <a:pt x="21" y="1195"/>
                    </a:lnTo>
                    <a:lnTo>
                      <a:pt x="22" y="1167"/>
                    </a:lnTo>
                    <a:lnTo>
                      <a:pt x="27" y="1138"/>
                    </a:lnTo>
                    <a:lnTo>
                      <a:pt x="37" y="1107"/>
                    </a:lnTo>
                    <a:lnTo>
                      <a:pt x="49" y="1079"/>
                    </a:lnTo>
                    <a:lnTo>
                      <a:pt x="49" y="1079"/>
                    </a:lnTo>
                    <a:lnTo>
                      <a:pt x="51" y="1077"/>
                    </a:lnTo>
                    <a:lnTo>
                      <a:pt x="53" y="1074"/>
                    </a:lnTo>
                    <a:lnTo>
                      <a:pt x="54" y="1072"/>
                    </a:lnTo>
                    <a:lnTo>
                      <a:pt x="54" y="1071"/>
                    </a:lnTo>
                    <a:lnTo>
                      <a:pt x="56" y="1067"/>
                    </a:lnTo>
                    <a:lnTo>
                      <a:pt x="57" y="1066"/>
                    </a:lnTo>
                    <a:lnTo>
                      <a:pt x="59" y="1064"/>
                    </a:lnTo>
                    <a:lnTo>
                      <a:pt x="61" y="1061"/>
                    </a:lnTo>
                    <a:lnTo>
                      <a:pt x="62" y="1059"/>
                    </a:lnTo>
                    <a:lnTo>
                      <a:pt x="62" y="1058"/>
                    </a:lnTo>
                    <a:lnTo>
                      <a:pt x="677" y="32"/>
                    </a:lnTo>
                    <a:lnTo>
                      <a:pt x="677" y="32"/>
                    </a:lnTo>
                    <a:lnTo>
                      <a:pt x="672" y="29"/>
                    </a:lnTo>
                    <a:lnTo>
                      <a:pt x="667" y="26"/>
                    </a:lnTo>
                    <a:lnTo>
                      <a:pt x="664" y="23"/>
                    </a:lnTo>
                    <a:lnTo>
                      <a:pt x="659" y="19"/>
                    </a:lnTo>
                    <a:lnTo>
                      <a:pt x="654" y="16"/>
                    </a:lnTo>
                    <a:lnTo>
                      <a:pt x="651" y="13"/>
                    </a:lnTo>
                    <a:lnTo>
                      <a:pt x="646" y="10"/>
                    </a:lnTo>
                    <a:lnTo>
                      <a:pt x="643" y="7"/>
                    </a:lnTo>
                    <a:lnTo>
                      <a:pt x="638" y="3"/>
                    </a:lnTo>
                    <a:lnTo>
                      <a:pt x="635" y="0"/>
                    </a:lnTo>
                    <a:lnTo>
                      <a:pt x="635" y="0"/>
                    </a:lnTo>
                    <a:lnTo>
                      <a:pt x="558" y="125"/>
                    </a:lnTo>
                    <a:lnTo>
                      <a:pt x="486" y="247"/>
                    </a:lnTo>
                    <a:lnTo>
                      <a:pt x="417" y="360"/>
                    </a:lnTo>
                    <a:lnTo>
                      <a:pt x="355" y="464"/>
                    </a:lnTo>
                    <a:lnTo>
                      <a:pt x="299" y="559"/>
                    </a:lnTo>
                    <a:lnTo>
                      <a:pt x="251" y="639"/>
                    </a:lnTo>
                    <a:lnTo>
                      <a:pt x="211" y="706"/>
                    </a:lnTo>
                    <a:lnTo>
                      <a:pt x="181" y="755"/>
                    </a:lnTo>
                    <a:lnTo>
                      <a:pt x="161" y="786"/>
                    </a:lnTo>
                    <a:lnTo>
                      <a:pt x="155" y="797"/>
                    </a:lnTo>
                    <a:lnTo>
                      <a:pt x="155" y="797"/>
                    </a:lnTo>
                    <a:lnTo>
                      <a:pt x="147" y="810"/>
                    </a:lnTo>
                    <a:lnTo>
                      <a:pt x="126" y="847"/>
                    </a:lnTo>
                    <a:lnTo>
                      <a:pt x="99" y="899"/>
                    </a:lnTo>
                    <a:lnTo>
                      <a:pt x="67" y="967"/>
                    </a:lnTo>
                    <a:lnTo>
                      <a:pt x="37" y="1040"/>
                    </a:lnTo>
                    <a:lnTo>
                      <a:pt x="13" y="1117"/>
                    </a:lnTo>
                    <a:lnTo>
                      <a:pt x="0" y="1189"/>
                    </a:lnTo>
                    <a:lnTo>
                      <a:pt x="3" y="1255"/>
                    </a:lnTo>
                    <a:lnTo>
                      <a:pt x="25" y="1307"/>
                    </a:lnTo>
                    <a:lnTo>
                      <a:pt x="75" y="1341"/>
                    </a:lnTo>
                    <a:lnTo>
                      <a:pt x="75" y="1341"/>
                    </a:lnTo>
                    <a:lnTo>
                      <a:pt x="117" y="1341"/>
                    </a:lnTo>
                    <a:lnTo>
                      <a:pt x="163" y="1317"/>
                    </a:lnTo>
                    <a:lnTo>
                      <a:pt x="211" y="1275"/>
                    </a:lnTo>
                    <a:lnTo>
                      <a:pt x="262" y="1221"/>
                    </a:lnTo>
                    <a:lnTo>
                      <a:pt x="310" y="1159"/>
                    </a:lnTo>
                    <a:lnTo>
                      <a:pt x="355" y="1095"/>
                    </a:lnTo>
                    <a:lnTo>
                      <a:pt x="393" y="1037"/>
                    </a:lnTo>
                    <a:lnTo>
                      <a:pt x="424" y="987"/>
                    </a:lnTo>
                    <a:lnTo>
                      <a:pt x="443" y="954"/>
                    </a:lnTo>
                    <a:lnTo>
                      <a:pt x="451" y="941"/>
                    </a:lnTo>
                    <a:lnTo>
                      <a:pt x="891" y="202"/>
                    </a:lnTo>
                    <a:lnTo>
                      <a:pt x="891" y="202"/>
                    </a:lnTo>
                    <a:lnTo>
                      <a:pt x="888" y="199"/>
                    </a:lnTo>
                    <a:lnTo>
                      <a:pt x="883" y="195"/>
                    </a:lnTo>
                    <a:lnTo>
                      <a:pt x="880" y="192"/>
                    </a:lnTo>
                    <a:lnTo>
                      <a:pt x="877" y="189"/>
                    </a:lnTo>
                    <a:lnTo>
                      <a:pt x="873" y="186"/>
                    </a:lnTo>
                    <a:lnTo>
                      <a:pt x="869" y="183"/>
                    </a:lnTo>
                    <a:lnTo>
                      <a:pt x="865" y="181"/>
                    </a:lnTo>
                    <a:lnTo>
                      <a:pt x="862" y="178"/>
                    </a:lnTo>
                    <a:lnTo>
                      <a:pt x="857" y="175"/>
                    </a:lnTo>
                    <a:lnTo>
                      <a:pt x="853" y="171"/>
                    </a:lnTo>
                    <a:lnTo>
                      <a:pt x="853" y="171"/>
                    </a:lnTo>
                    <a:close/>
                  </a:path>
                </a:pathLst>
              </a:custGeom>
              <a:solidFill>
                <a:srgbClr val="d3d9e8"/>
              </a:solidFill>
              <a:ln w="1440">
                <a:solidFill>
                  <a:srgbClr val="d3dae8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83000">
                <a:off x="6392880" y="3453120"/>
                <a:ext cx="847080" cy="1137240"/>
              </a:xfrm>
              <a:custGeom>
                <a:avLst/>
                <a:gdLst/>
                <a:ahLst/>
                <a:rect l="l" t="t" r="r" b="b"/>
                <a:pathLst>
                  <a:path w="891" h="1341">
                    <a:moveTo>
                      <a:pt x="853" y="171"/>
                    </a:moveTo>
                    <a:lnTo>
                      <a:pt x="280" y="1128"/>
                    </a:lnTo>
                    <a:lnTo>
                      <a:pt x="280" y="1128"/>
                    </a:lnTo>
                    <a:lnTo>
                      <a:pt x="278" y="1136"/>
                    </a:lnTo>
                    <a:lnTo>
                      <a:pt x="277" y="1144"/>
                    </a:lnTo>
                    <a:lnTo>
                      <a:pt x="273" y="1152"/>
                    </a:lnTo>
                    <a:lnTo>
                      <a:pt x="272" y="1160"/>
                    </a:lnTo>
                    <a:lnTo>
                      <a:pt x="269" y="1167"/>
                    </a:lnTo>
                    <a:lnTo>
                      <a:pt x="265" y="1175"/>
                    </a:lnTo>
                    <a:lnTo>
                      <a:pt x="264" y="1183"/>
                    </a:lnTo>
                    <a:lnTo>
                      <a:pt x="259" y="1189"/>
                    </a:lnTo>
                    <a:lnTo>
                      <a:pt x="256" y="1197"/>
                    </a:lnTo>
                    <a:lnTo>
                      <a:pt x="253" y="1203"/>
                    </a:lnTo>
                    <a:lnTo>
                      <a:pt x="253" y="1203"/>
                    </a:lnTo>
                    <a:lnTo>
                      <a:pt x="235" y="1231"/>
                    </a:lnTo>
                    <a:lnTo>
                      <a:pt x="216" y="1253"/>
                    </a:lnTo>
                    <a:lnTo>
                      <a:pt x="195" y="1272"/>
                    </a:lnTo>
                    <a:lnTo>
                      <a:pt x="173" y="1287"/>
                    </a:lnTo>
                    <a:lnTo>
                      <a:pt x="150" y="1298"/>
                    </a:lnTo>
                    <a:lnTo>
                      <a:pt x="129" y="1306"/>
                    </a:lnTo>
                    <a:lnTo>
                      <a:pt x="107" y="1311"/>
                    </a:lnTo>
                    <a:lnTo>
                      <a:pt x="88" y="1312"/>
                    </a:lnTo>
                    <a:lnTo>
                      <a:pt x="69" y="1311"/>
                    </a:lnTo>
                    <a:lnTo>
                      <a:pt x="53" y="1306"/>
                    </a:lnTo>
                    <a:lnTo>
                      <a:pt x="53" y="1306"/>
                    </a:lnTo>
                    <a:lnTo>
                      <a:pt x="45" y="1299"/>
                    </a:lnTo>
                    <a:lnTo>
                      <a:pt x="37" y="1287"/>
                    </a:lnTo>
                    <a:lnTo>
                      <a:pt x="30" y="1269"/>
                    </a:lnTo>
                    <a:lnTo>
                      <a:pt x="25" y="1248"/>
                    </a:lnTo>
                    <a:lnTo>
                      <a:pt x="22" y="1223"/>
                    </a:lnTo>
                    <a:lnTo>
                      <a:pt x="21" y="1195"/>
                    </a:lnTo>
                    <a:lnTo>
                      <a:pt x="22" y="1167"/>
                    </a:lnTo>
                    <a:lnTo>
                      <a:pt x="27" y="1138"/>
                    </a:lnTo>
                    <a:lnTo>
                      <a:pt x="37" y="1107"/>
                    </a:lnTo>
                    <a:lnTo>
                      <a:pt x="49" y="1079"/>
                    </a:lnTo>
                    <a:lnTo>
                      <a:pt x="49" y="1079"/>
                    </a:lnTo>
                    <a:lnTo>
                      <a:pt x="51" y="1077"/>
                    </a:lnTo>
                    <a:lnTo>
                      <a:pt x="53" y="1074"/>
                    </a:lnTo>
                    <a:lnTo>
                      <a:pt x="54" y="1072"/>
                    </a:lnTo>
                    <a:lnTo>
                      <a:pt x="54" y="1071"/>
                    </a:lnTo>
                    <a:lnTo>
                      <a:pt x="56" y="1067"/>
                    </a:lnTo>
                    <a:lnTo>
                      <a:pt x="57" y="1066"/>
                    </a:lnTo>
                    <a:lnTo>
                      <a:pt x="59" y="1064"/>
                    </a:lnTo>
                    <a:lnTo>
                      <a:pt x="61" y="1061"/>
                    </a:lnTo>
                    <a:lnTo>
                      <a:pt x="62" y="1059"/>
                    </a:lnTo>
                    <a:lnTo>
                      <a:pt x="62" y="1058"/>
                    </a:lnTo>
                    <a:lnTo>
                      <a:pt x="677" y="32"/>
                    </a:lnTo>
                    <a:lnTo>
                      <a:pt x="677" y="32"/>
                    </a:lnTo>
                    <a:lnTo>
                      <a:pt x="672" y="29"/>
                    </a:lnTo>
                    <a:lnTo>
                      <a:pt x="667" y="26"/>
                    </a:lnTo>
                    <a:lnTo>
                      <a:pt x="664" y="23"/>
                    </a:lnTo>
                    <a:lnTo>
                      <a:pt x="659" y="19"/>
                    </a:lnTo>
                    <a:lnTo>
                      <a:pt x="654" y="16"/>
                    </a:lnTo>
                    <a:lnTo>
                      <a:pt x="651" y="13"/>
                    </a:lnTo>
                    <a:lnTo>
                      <a:pt x="646" y="10"/>
                    </a:lnTo>
                    <a:lnTo>
                      <a:pt x="643" y="7"/>
                    </a:lnTo>
                    <a:lnTo>
                      <a:pt x="638" y="3"/>
                    </a:lnTo>
                    <a:lnTo>
                      <a:pt x="635" y="0"/>
                    </a:lnTo>
                    <a:lnTo>
                      <a:pt x="635" y="0"/>
                    </a:lnTo>
                    <a:lnTo>
                      <a:pt x="558" y="125"/>
                    </a:lnTo>
                    <a:lnTo>
                      <a:pt x="486" y="247"/>
                    </a:lnTo>
                    <a:lnTo>
                      <a:pt x="417" y="360"/>
                    </a:lnTo>
                    <a:lnTo>
                      <a:pt x="355" y="464"/>
                    </a:lnTo>
                    <a:lnTo>
                      <a:pt x="299" y="559"/>
                    </a:lnTo>
                    <a:lnTo>
                      <a:pt x="251" y="639"/>
                    </a:lnTo>
                    <a:lnTo>
                      <a:pt x="211" y="706"/>
                    </a:lnTo>
                    <a:lnTo>
                      <a:pt x="181" y="755"/>
                    </a:lnTo>
                    <a:lnTo>
                      <a:pt x="161" y="786"/>
                    </a:lnTo>
                    <a:lnTo>
                      <a:pt x="155" y="797"/>
                    </a:lnTo>
                    <a:lnTo>
                      <a:pt x="155" y="797"/>
                    </a:lnTo>
                    <a:lnTo>
                      <a:pt x="147" y="810"/>
                    </a:lnTo>
                    <a:lnTo>
                      <a:pt x="126" y="847"/>
                    </a:lnTo>
                    <a:lnTo>
                      <a:pt x="99" y="899"/>
                    </a:lnTo>
                    <a:lnTo>
                      <a:pt x="67" y="967"/>
                    </a:lnTo>
                    <a:lnTo>
                      <a:pt x="37" y="1040"/>
                    </a:lnTo>
                    <a:lnTo>
                      <a:pt x="13" y="1117"/>
                    </a:lnTo>
                    <a:lnTo>
                      <a:pt x="0" y="1189"/>
                    </a:lnTo>
                    <a:lnTo>
                      <a:pt x="3" y="1255"/>
                    </a:lnTo>
                    <a:lnTo>
                      <a:pt x="25" y="1307"/>
                    </a:lnTo>
                    <a:lnTo>
                      <a:pt x="75" y="1341"/>
                    </a:lnTo>
                    <a:lnTo>
                      <a:pt x="75" y="1341"/>
                    </a:lnTo>
                    <a:lnTo>
                      <a:pt x="117" y="1341"/>
                    </a:lnTo>
                    <a:lnTo>
                      <a:pt x="163" y="1317"/>
                    </a:lnTo>
                    <a:lnTo>
                      <a:pt x="211" y="1275"/>
                    </a:lnTo>
                    <a:lnTo>
                      <a:pt x="262" y="1221"/>
                    </a:lnTo>
                    <a:lnTo>
                      <a:pt x="310" y="1159"/>
                    </a:lnTo>
                    <a:lnTo>
                      <a:pt x="355" y="1095"/>
                    </a:lnTo>
                    <a:lnTo>
                      <a:pt x="393" y="1037"/>
                    </a:lnTo>
                    <a:lnTo>
                      <a:pt x="424" y="987"/>
                    </a:lnTo>
                    <a:lnTo>
                      <a:pt x="443" y="954"/>
                    </a:lnTo>
                    <a:lnTo>
                      <a:pt x="451" y="941"/>
                    </a:lnTo>
                    <a:lnTo>
                      <a:pt x="891" y="202"/>
                    </a:lnTo>
                    <a:lnTo>
                      <a:pt x="891" y="202"/>
                    </a:lnTo>
                    <a:lnTo>
                      <a:pt x="888" y="199"/>
                    </a:lnTo>
                    <a:lnTo>
                      <a:pt x="883" y="195"/>
                    </a:lnTo>
                    <a:lnTo>
                      <a:pt x="880" y="192"/>
                    </a:lnTo>
                    <a:lnTo>
                      <a:pt x="877" y="189"/>
                    </a:lnTo>
                    <a:lnTo>
                      <a:pt x="873" y="186"/>
                    </a:lnTo>
                    <a:lnTo>
                      <a:pt x="869" y="183"/>
                    </a:lnTo>
                    <a:lnTo>
                      <a:pt x="865" y="181"/>
                    </a:lnTo>
                    <a:lnTo>
                      <a:pt x="862" y="178"/>
                    </a:lnTo>
                    <a:lnTo>
                      <a:pt x="857" y="175"/>
                    </a:lnTo>
                    <a:lnTo>
                      <a:pt x="853" y="171"/>
                    </a:lnTo>
                    <a:lnTo>
                      <a:pt x="853" y="171"/>
                    </a:lnTo>
                  </a:path>
                </a:pathLst>
              </a:custGeom>
              <a:noFill/>
              <a:ln w="1440">
                <a:solidFill>
                  <a:srgbClr val="d3dae8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83000">
                <a:off x="6441120" y="3486960"/>
                <a:ext cx="621360" cy="869040"/>
              </a:xfrm>
              <a:custGeom>
                <a:avLst/>
                <a:gdLst/>
                <a:ahLst/>
                <a:rect l="l" t="t" r="r" b="b"/>
                <a:pathLst>
                  <a:path w="655" h="1026">
                    <a:moveTo>
                      <a:pt x="135" y="901"/>
                    </a:moveTo>
                    <a:lnTo>
                      <a:pt x="655" y="31"/>
                    </a:lnTo>
                    <a:lnTo>
                      <a:pt x="655" y="31"/>
                    </a:lnTo>
                    <a:lnTo>
                      <a:pt x="650" y="27"/>
                    </a:lnTo>
                    <a:lnTo>
                      <a:pt x="647" y="24"/>
                    </a:lnTo>
                    <a:lnTo>
                      <a:pt x="642" y="23"/>
                    </a:lnTo>
                    <a:lnTo>
                      <a:pt x="639" y="19"/>
                    </a:lnTo>
                    <a:lnTo>
                      <a:pt x="634" y="16"/>
                    </a:lnTo>
                    <a:lnTo>
                      <a:pt x="631" y="13"/>
                    </a:lnTo>
                    <a:lnTo>
                      <a:pt x="626" y="10"/>
                    </a:lnTo>
                    <a:lnTo>
                      <a:pt x="623" y="7"/>
                    </a:lnTo>
                    <a:lnTo>
                      <a:pt x="618" y="3"/>
                    </a:lnTo>
                    <a:lnTo>
                      <a:pt x="615" y="0"/>
                    </a:lnTo>
                    <a:lnTo>
                      <a:pt x="0" y="1026"/>
                    </a:lnTo>
                    <a:lnTo>
                      <a:pt x="0" y="1026"/>
                    </a:lnTo>
                    <a:lnTo>
                      <a:pt x="13" y="1007"/>
                    </a:lnTo>
                    <a:lnTo>
                      <a:pt x="26" y="989"/>
                    </a:lnTo>
                    <a:lnTo>
                      <a:pt x="39" y="971"/>
                    </a:lnTo>
                    <a:lnTo>
                      <a:pt x="53" y="955"/>
                    </a:lnTo>
                    <a:lnTo>
                      <a:pt x="66" y="943"/>
                    </a:lnTo>
                    <a:lnTo>
                      <a:pt x="80" y="930"/>
                    </a:lnTo>
                    <a:lnTo>
                      <a:pt x="95" y="920"/>
                    </a:lnTo>
                    <a:lnTo>
                      <a:pt x="107" y="911"/>
                    </a:lnTo>
                    <a:lnTo>
                      <a:pt x="122" y="906"/>
                    </a:lnTo>
                    <a:lnTo>
                      <a:pt x="135" y="901"/>
                    </a:lnTo>
                    <a:lnTo>
                      <a:pt x="135" y="90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ffff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183000">
                <a:off x="6441120" y="3486960"/>
                <a:ext cx="621360" cy="869040"/>
              </a:xfrm>
              <a:custGeom>
                <a:avLst/>
                <a:gdLst/>
                <a:ahLst/>
                <a:rect l="l" t="t" r="r" b="b"/>
                <a:pathLst>
                  <a:path w="655" h="1026">
                    <a:moveTo>
                      <a:pt x="135" y="901"/>
                    </a:moveTo>
                    <a:lnTo>
                      <a:pt x="655" y="31"/>
                    </a:lnTo>
                    <a:lnTo>
                      <a:pt x="655" y="31"/>
                    </a:lnTo>
                    <a:lnTo>
                      <a:pt x="650" y="27"/>
                    </a:lnTo>
                    <a:lnTo>
                      <a:pt x="647" y="24"/>
                    </a:lnTo>
                    <a:lnTo>
                      <a:pt x="642" y="23"/>
                    </a:lnTo>
                    <a:lnTo>
                      <a:pt x="639" y="19"/>
                    </a:lnTo>
                    <a:lnTo>
                      <a:pt x="634" y="16"/>
                    </a:lnTo>
                    <a:lnTo>
                      <a:pt x="631" y="13"/>
                    </a:lnTo>
                    <a:lnTo>
                      <a:pt x="626" y="10"/>
                    </a:lnTo>
                    <a:lnTo>
                      <a:pt x="623" y="7"/>
                    </a:lnTo>
                    <a:lnTo>
                      <a:pt x="618" y="3"/>
                    </a:lnTo>
                    <a:lnTo>
                      <a:pt x="615" y="0"/>
                    </a:lnTo>
                    <a:lnTo>
                      <a:pt x="0" y="1026"/>
                    </a:lnTo>
                    <a:lnTo>
                      <a:pt x="0" y="1026"/>
                    </a:lnTo>
                    <a:lnTo>
                      <a:pt x="13" y="1007"/>
                    </a:lnTo>
                    <a:lnTo>
                      <a:pt x="26" y="989"/>
                    </a:lnTo>
                    <a:lnTo>
                      <a:pt x="39" y="971"/>
                    </a:lnTo>
                    <a:lnTo>
                      <a:pt x="53" y="955"/>
                    </a:lnTo>
                    <a:lnTo>
                      <a:pt x="66" y="943"/>
                    </a:lnTo>
                    <a:lnTo>
                      <a:pt x="80" y="930"/>
                    </a:lnTo>
                    <a:lnTo>
                      <a:pt x="95" y="920"/>
                    </a:lnTo>
                    <a:lnTo>
                      <a:pt x="107" y="911"/>
                    </a:lnTo>
                    <a:lnTo>
                      <a:pt x="122" y="906"/>
                    </a:lnTo>
                    <a:lnTo>
                      <a:pt x="135" y="901"/>
                    </a:lnTo>
                    <a:lnTo>
                      <a:pt x="135" y="901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183000">
                <a:off x="6567840" y="3499200"/>
                <a:ext cx="587160" cy="821880"/>
              </a:xfrm>
              <a:custGeom>
                <a:avLst/>
                <a:gdLst/>
                <a:ahLst/>
                <a:rect l="l" t="t" r="r" b="b"/>
                <a:pathLst>
                  <a:path w="619" h="968">
                    <a:moveTo>
                      <a:pt x="38" y="876"/>
                    </a:moveTo>
                    <a:lnTo>
                      <a:pt x="44" y="881"/>
                    </a:lnTo>
                    <a:lnTo>
                      <a:pt x="51" y="888"/>
                    </a:lnTo>
                    <a:lnTo>
                      <a:pt x="57" y="894"/>
                    </a:lnTo>
                    <a:lnTo>
                      <a:pt x="64" y="902"/>
                    </a:lnTo>
                    <a:lnTo>
                      <a:pt x="68" y="912"/>
                    </a:lnTo>
                    <a:lnTo>
                      <a:pt x="73" y="921"/>
                    </a:lnTo>
                    <a:lnTo>
                      <a:pt x="76" y="932"/>
                    </a:lnTo>
                    <a:lnTo>
                      <a:pt x="80" y="944"/>
                    </a:lnTo>
                    <a:lnTo>
                      <a:pt x="83" y="955"/>
                    </a:lnTo>
                    <a:lnTo>
                      <a:pt x="84" y="968"/>
                    </a:lnTo>
                    <a:lnTo>
                      <a:pt x="619" y="78"/>
                    </a:lnTo>
                    <a:lnTo>
                      <a:pt x="619" y="78"/>
                    </a:lnTo>
                    <a:lnTo>
                      <a:pt x="608" y="70"/>
                    </a:lnTo>
                    <a:lnTo>
                      <a:pt x="598" y="62"/>
                    </a:lnTo>
                    <a:lnTo>
                      <a:pt x="588" y="54"/>
                    </a:lnTo>
                    <a:lnTo>
                      <a:pt x="577" y="46"/>
                    </a:lnTo>
                    <a:lnTo>
                      <a:pt x="568" y="38"/>
                    </a:lnTo>
                    <a:lnTo>
                      <a:pt x="558" y="30"/>
                    </a:lnTo>
                    <a:lnTo>
                      <a:pt x="548" y="24"/>
                    </a:lnTo>
                    <a:lnTo>
                      <a:pt x="539" y="16"/>
                    </a:lnTo>
                    <a:lnTo>
                      <a:pt x="529" y="8"/>
                    </a:lnTo>
                    <a:lnTo>
                      <a:pt x="520" y="0"/>
                    </a:lnTo>
                    <a:lnTo>
                      <a:pt x="0" y="870"/>
                    </a:lnTo>
                    <a:lnTo>
                      <a:pt x="0" y="870"/>
                    </a:lnTo>
                    <a:lnTo>
                      <a:pt x="4" y="870"/>
                    </a:lnTo>
                    <a:lnTo>
                      <a:pt x="8" y="870"/>
                    </a:lnTo>
                    <a:lnTo>
                      <a:pt x="12" y="870"/>
                    </a:lnTo>
                    <a:lnTo>
                      <a:pt x="16" y="870"/>
                    </a:lnTo>
                    <a:lnTo>
                      <a:pt x="19" y="870"/>
                    </a:lnTo>
                    <a:lnTo>
                      <a:pt x="24" y="872"/>
                    </a:lnTo>
                    <a:lnTo>
                      <a:pt x="27" y="872"/>
                    </a:lnTo>
                    <a:lnTo>
                      <a:pt x="30" y="873"/>
                    </a:lnTo>
                    <a:lnTo>
                      <a:pt x="35" y="875"/>
                    </a:lnTo>
                    <a:lnTo>
                      <a:pt x="38" y="876"/>
                    </a:lnTo>
                    <a:lnTo>
                      <a:pt x="38" y="876"/>
                    </a:lnTo>
                    <a:close/>
                  </a:path>
                </a:pathLst>
              </a:custGeom>
              <a:solidFill>
                <a:srgbClr val="d3d9e8"/>
              </a:solidFill>
              <a:ln w="1440">
                <a:solidFill>
                  <a:srgbClr val="d3dae8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1183000">
                <a:off x="6567840" y="3499200"/>
                <a:ext cx="587160" cy="821880"/>
              </a:xfrm>
              <a:custGeom>
                <a:avLst/>
                <a:gdLst/>
                <a:ahLst/>
                <a:rect l="l" t="t" r="r" b="b"/>
                <a:pathLst>
                  <a:path w="619" h="968">
                    <a:moveTo>
                      <a:pt x="38" y="876"/>
                    </a:moveTo>
                    <a:lnTo>
                      <a:pt x="44" y="881"/>
                    </a:lnTo>
                    <a:lnTo>
                      <a:pt x="51" y="888"/>
                    </a:lnTo>
                    <a:lnTo>
                      <a:pt x="57" y="894"/>
                    </a:lnTo>
                    <a:lnTo>
                      <a:pt x="64" y="902"/>
                    </a:lnTo>
                    <a:lnTo>
                      <a:pt x="68" y="912"/>
                    </a:lnTo>
                    <a:lnTo>
                      <a:pt x="73" y="921"/>
                    </a:lnTo>
                    <a:lnTo>
                      <a:pt x="76" y="932"/>
                    </a:lnTo>
                    <a:lnTo>
                      <a:pt x="80" y="944"/>
                    </a:lnTo>
                    <a:lnTo>
                      <a:pt x="83" y="955"/>
                    </a:lnTo>
                    <a:lnTo>
                      <a:pt x="84" y="968"/>
                    </a:lnTo>
                    <a:lnTo>
                      <a:pt x="619" y="78"/>
                    </a:lnTo>
                    <a:lnTo>
                      <a:pt x="619" y="78"/>
                    </a:lnTo>
                    <a:lnTo>
                      <a:pt x="608" y="70"/>
                    </a:lnTo>
                    <a:lnTo>
                      <a:pt x="598" y="62"/>
                    </a:lnTo>
                    <a:lnTo>
                      <a:pt x="588" y="54"/>
                    </a:lnTo>
                    <a:lnTo>
                      <a:pt x="577" y="46"/>
                    </a:lnTo>
                    <a:lnTo>
                      <a:pt x="568" y="38"/>
                    </a:lnTo>
                    <a:lnTo>
                      <a:pt x="558" y="30"/>
                    </a:lnTo>
                    <a:lnTo>
                      <a:pt x="548" y="24"/>
                    </a:lnTo>
                    <a:lnTo>
                      <a:pt x="539" y="16"/>
                    </a:lnTo>
                    <a:lnTo>
                      <a:pt x="529" y="8"/>
                    </a:lnTo>
                    <a:lnTo>
                      <a:pt x="520" y="0"/>
                    </a:lnTo>
                    <a:lnTo>
                      <a:pt x="0" y="870"/>
                    </a:lnTo>
                    <a:lnTo>
                      <a:pt x="0" y="870"/>
                    </a:lnTo>
                    <a:lnTo>
                      <a:pt x="4" y="870"/>
                    </a:lnTo>
                    <a:lnTo>
                      <a:pt x="8" y="870"/>
                    </a:lnTo>
                    <a:lnTo>
                      <a:pt x="12" y="870"/>
                    </a:lnTo>
                    <a:lnTo>
                      <a:pt x="16" y="870"/>
                    </a:lnTo>
                    <a:lnTo>
                      <a:pt x="19" y="870"/>
                    </a:lnTo>
                    <a:lnTo>
                      <a:pt x="24" y="872"/>
                    </a:lnTo>
                    <a:lnTo>
                      <a:pt x="27" y="872"/>
                    </a:lnTo>
                    <a:lnTo>
                      <a:pt x="30" y="873"/>
                    </a:lnTo>
                    <a:lnTo>
                      <a:pt x="35" y="875"/>
                    </a:lnTo>
                    <a:lnTo>
                      <a:pt x="38" y="876"/>
                    </a:lnTo>
                    <a:lnTo>
                      <a:pt x="38" y="876"/>
                    </a:lnTo>
                  </a:path>
                </a:pathLst>
              </a:custGeom>
              <a:noFill/>
              <a:ln w="1440">
                <a:solidFill>
                  <a:srgbClr val="d3dae8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1183000">
                <a:off x="6654600" y="3557880"/>
                <a:ext cx="545400" cy="838800"/>
              </a:xfrm>
              <a:custGeom>
                <a:avLst/>
                <a:gdLst/>
                <a:ahLst/>
                <a:rect l="l" t="t" r="r" b="b"/>
                <a:pathLst>
                  <a:path w="573" h="987">
                    <a:moveTo>
                      <a:pt x="0" y="987"/>
                    </a:moveTo>
                    <a:lnTo>
                      <a:pt x="573" y="30"/>
                    </a:lnTo>
                    <a:lnTo>
                      <a:pt x="573" y="30"/>
                    </a:lnTo>
                    <a:lnTo>
                      <a:pt x="569" y="27"/>
                    </a:lnTo>
                    <a:lnTo>
                      <a:pt x="566" y="24"/>
                    </a:lnTo>
                    <a:lnTo>
                      <a:pt x="561" y="21"/>
                    </a:lnTo>
                    <a:lnTo>
                      <a:pt x="558" y="18"/>
                    </a:lnTo>
                    <a:lnTo>
                      <a:pt x="553" y="14"/>
                    </a:lnTo>
                    <a:lnTo>
                      <a:pt x="550" y="11"/>
                    </a:lnTo>
                    <a:lnTo>
                      <a:pt x="547" y="10"/>
                    </a:lnTo>
                    <a:lnTo>
                      <a:pt x="542" y="6"/>
                    </a:lnTo>
                    <a:lnTo>
                      <a:pt x="539" y="3"/>
                    </a:lnTo>
                    <a:lnTo>
                      <a:pt x="536" y="0"/>
                    </a:lnTo>
                    <a:lnTo>
                      <a:pt x="1" y="890"/>
                    </a:lnTo>
                    <a:lnTo>
                      <a:pt x="1" y="890"/>
                    </a:lnTo>
                    <a:lnTo>
                      <a:pt x="3" y="899"/>
                    </a:lnTo>
                    <a:lnTo>
                      <a:pt x="5" y="909"/>
                    </a:lnTo>
                    <a:lnTo>
                      <a:pt x="5" y="917"/>
                    </a:lnTo>
                    <a:lnTo>
                      <a:pt x="5" y="928"/>
                    </a:lnTo>
                    <a:lnTo>
                      <a:pt x="5" y="938"/>
                    </a:lnTo>
                    <a:lnTo>
                      <a:pt x="5" y="947"/>
                    </a:lnTo>
                    <a:lnTo>
                      <a:pt x="5" y="957"/>
                    </a:lnTo>
                    <a:lnTo>
                      <a:pt x="3" y="966"/>
                    </a:lnTo>
                    <a:lnTo>
                      <a:pt x="1" y="978"/>
                    </a:lnTo>
                    <a:lnTo>
                      <a:pt x="0" y="987"/>
                    </a:lnTo>
                    <a:lnTo>
                      <a:pt x="0" y="987"/>
                    </a:lnTo>
                    <a:close/>
                  </a:path>
                </a:pathLst>
              </a:custGeom>
              <a:solidFill>
                <a:srgbClr val="a2a2a2"/>
              </a:solidFill>
              <a:ln w="1440">
                <a:solidFill>
                  <a:srgbClr val="a2a2a2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1183000">
                <a:off x="6654600" y="3557880"/>
                <a:ext cx="545400" cy="838800"/>
              </a:xfrm>
              <a:custGeom>
                <a:avLst/>
                <a:gdLst/>
                <a:ahLst/>
                <a:rect l="l" t="t" r="r" b="b"/>
                <a:pathLst>
                  <a:path w="573" h="987">
                    <a:moveTo>
                      <a:pt x="0" y="987"/>
                    </a:moveTo>
                    <a:lnTo>
                      <a:pt x="573" y="30"/>
                    </a:lnTo>
                    <a:lnTo>
                      <a:pt x="573" y="30"/>
                    </a:lnTo>
                    <a:lnTo>
                      <a:pt x="569" y="27"/>
                    </a:lnTo>
                    <a:lnTo>
                      <a:pt x="566" y="24"/>
                    </a:lnTo>
                    <a:lnTo>
                      <a:pt x="561" y="21"/>
                    </a:lnTo>
                    <a:lnTo>
                      <a:pt x="558" y="18"/>
                    </a:lnTo>
                    <a:lnTo>
                      <a:pt x="553" y="14"/>
                    </a:lnTo>
                    <a:lnTo>
                      <a:pt x="550" y="11"/>
                    </a:lnTo>
                    <a:lnTo>
                      <a:pt x="547" y="10"/>
                    </a:lnTo>
                    <a:lnTo>
                      <a:pt x="542" y="6"/>
                    </a:lnTo>
                    <a:lnTo>
                      <a:pt x="539" y="3"/>
                    </a:lnTo>
                    <a:lnTo>
                      <a:pt x="536" y="0"/>
                    </a:lnTo>
                    <a:lnTo>
                      <a:pt x="1" y="890"/>
                    </a:lnTo>
                    <a:lnTo>
                      <a:pt x="1" y="890"/>
                    </a:lnTo>
                    <a:lnTo>
                      <a:pt x="3" y="899"/>
                    </a:lnTo>
                    <a:lnTo>
                      <a:pt x="5" y="909"/>
                    </a:lnTo>
                    <a:lnTo>
                      <a:pt x="5" y="917"/>
                    </a:lnTo>
                    <a:lnTo>
                      <a:pt x="5" y="928"/>
                    </a:lnTo>
                    <a:lnTo>
                      <a:pt x="5" y="938"/>
                    </a:lnTo>
                    <a:lnTo>
                      <a:pt x="5" y="947"/>
                    </a:lnTo>
                    <a:lnTo>
                      <a:pt x="5" y="957"/>
                    </a:lnTo>
                    <a:lnTo>
                      <a:pt x="3" y="966"/>
                    </a:lnTo>
                    <a:lnTo>
                      <a:pt x="1" y="978"/>
                    </a:lnTo>
                    <a:lnTo>
                      <a:pt x="0" y="987"/>
                    </a:lnTo>
                    <a:lnTo>
                      <a:pt x="0" y="987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1183000">
                <a:off x="6462360" y="4275000"/>
                <a:ext cx="250560" cy="322200"/>
              </a:xfrm>
              <a:custGeom>
                <a:avLst/>
                <a:gdLst/>
                <a:ahLst/>
                <a:rect l="l" t="t" r="r" b="b"/>
                <a:pathLst>
                  <a:path w="264" h="379">
                    <a:moveTo>
                      <a:pt x="260" y="98"/>
                    </a:moveTo>
                    <a:lnTo>
                      <a:pt x="259" y="85"/>
                    </a:lnTo>
                    <a:lnTo>
                      <a:pt x="256" y="74"/>
                    </a:lnTo>
                    <a:lnTo>
                      <a:pt x="252" y="62"/>
                    </a:lnTo>
                    <a:lnTo>
                      <a:pt x="249" y="51"/>
                    </a:lnTo>
                    <a:lnTo>
                      <a:pt x="244" y="42"/>
                    </a:lnTo>
                    <a:lnTo>
                      <a:pt x="240" y="32"/>
                    </a:lnTo>
                    <a:lnTo>
                      <a:pt x="233" y="24"/>
                    </a:lnTo>
                    <a:lnTo>
                      <a:pt x="227" y="18"/>
                    </a:lnTo>
                    <a:lnTo>
                      <a:pt x="220" y="11"/>
                    </a:lnTo>
                    <a:lnTo>
                      <a:pt x="214" y="6"/>
                    </a:lnTo>
                    <a:lnTo>
                      <a:pt x="214" y="6"/>
                    </a:lnTo>
                    <a:lnTo>
                      <a:pt x="211" y="5"/>
                    </a:lnTo>
                    <a:lnTo>
                      <a:pt x="206" y="3"/>
                    </a:lnTo>
                    <a:lnTo>
                      <a:pt x="203" y="2"/>
                    </a:lnTo>
                    <a:lnTo>
                      <a:pt x="200" y="2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188" y="0"/>
                    </a:lnTo>
                    <a:lnTo>
                      <a:pt x="184" y="0"/>
                    </a:lnTo>
                    <a:lnTo>
                      <a:pt x="180" y="0"/>
                    </a:lnTo>
                    <a:lnTo>
                      <a:pt x="176" y="0"/>
                    </a:lnTo>
                    <a:lnTo>
                      <a:pt x="176" y="0"/>
                    </a:lnTo>
                    <a:lnTo>
                      <a:pt x="163" y="5"/>
                    </a:lnTo>
                    <a:lnTo>
                      <a:pt x="148" y="10"/>
                    </a:lnTo>
                    <a:lnTo>
                      <a:pt x="136" y="19"/>
                    </a:lnTo>
                    <a:lnTo>
                      <a:pt x="121" y="29"/>
                    </a:lnTo>
                    <a:lnTo>
                      <a:pt x="107" y="42"/>
                    </a:lnTo>
                    <a:lnTo>
                      <a:pt x="94" y="54"/>
                    </a:lnTo>
                    <a:lnTo>
                      <a:pt x="80" y="70"/>
                    </a:lnTo>
                    <a:lnTo>
                      <a:pt x="67" y="88"/>
                    </a:lnTo>
                    <a:lnTo>
                      <a:pt x="54" y="106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26"/>
                    </a:lnTo>
                    <a:lnTo>
                      <a:pt x="40" y="128"/>
                    </a:lnTo>
                    <a:lnTo>
                      <a:pt x="38" y="131"/>
                    </a:lnTo>
                    <a:lnTo>
                      <a:pt x="36" y="133"/>
                    </a:lnTo>
                    <a:lnTo>
                      <a:pt x="35" y="134"/>
                    </a:lnTo>
                    <a:lnTo>
                      <a:pt x="33" y="138"/>
                    </a:lnTo>
                    <a:lnTo>
                      <a:pt x="33" y="139"/>
                    </a:lnTo>
                    <a:lnTo>
                      <a:pt x="32" y="141"/>
                    </a:lnTo>
                    <a:lnTo>
                      <a:pt x="30" y="144"/>
                    </a:lnTo>
                    <a:lnTo>
                      <a:pt x="28" y="146"/>
                    </a:lnTo>
                    <a:lnTo>
                      <a:pt x="28" y="146"/>
                    </a:lnTo>
                    <a:lnTo>
                      <a:pt x="16" y="174"/>
                    </a:lnTo>
                    <a:lnTo>
                      <a:pt x="6" y="205"/>
                    </a:lnTo>
                    <a:lnTo>
                      <a:pt x="1" y="234"/>
                    </a:lnTo>
                    <a:lnTo>
                      <a:pt x="0" y="262"/>
                    </a:lnTo>
                    <a:lnTo>
                      <a:pt x="1" y="290"/>
                    </a:lnTo>
                    <a:lnTo>
                      <a:pt x="4" y="315"/>
                    </a:lnTo>
                    <a:lnTo>
                      <a:pt x="9" y="336"/>
                    </a:lnTo>
                    <a:lnTo>
                      <a:pt x="16" y="354"/>
                    </a:lnTo>
                    <a:lnTo>
                      <a:pt x="24" y="366"/>
                    </a:lnTo>
                    <a:lnTo>
                      <a:pt x="32" y="373"/>
                    </a:lnTo>
                    <a:lnTo>
                      <a:pt x="32" y="373"/>
                    </a:lnTo>
                    <a:lnTo>
                      <a:pt x="48" y="378"/>
                    </a:lnTo>
                    <a:lnTo>
                      <a:pt x="67" y="379"/>
                    </a:lnTo>
                    <a:lnTo>
                      <a:pt x="86" y="378"/>
                    </a:lnTo>
                    <a:lnTo>
                      <a:pt x="108" y="373"/>
                    </a:lnTo>
                    <a:lnTo>
                      <a:pt x="129" y="365"/>
                    </a:lnTo>
                    <a:lnTo>
                      <a:pt x="152" y="354"/>
                    </a:lnTo>
                    <a:lnTo>
                      <a:pt x="174" y="339"/>
                    </a:lnTo>
                    <a:lnTo>
                      <a:pt x="195" y="320"/>
                    </a:lnTo>
                    <a:lnTo>
                      <a:pt x="214" y="298"/>
                    </a:lnTo>
                    <a:lnTo>
                      <a:pt x="232" y="270"/>
                    </a:lnTo>
                    <a:lnTo>
                      <a:pt x="232" y="270"/>
                    </a:lnTo>
                    <a:lnTo>
                      <a:pt x="235" y="264"/>
                    </a:lnTo>
                    <a:lnTo>
                      <a:pt x="238" y="256"/>
                    </a:lnTo>
                    <a:lnTo>
                      <a:pt x="243" y="250"/>
                    </a:lnTo>
                    <a:lnTo>
                      <a:pt x="244" y="242"/>
                    </a:lnTo>
                    <a:lnTo>
                      <a:pt x="248" y="234"/>
                    </a:lnTo>
                    <a:lnTo>
                      <a:pt x="251" y="227"/>
                    </a:lnTo>
                    <a:lnTo>
                      <a:pt x="252" y="219"/>
                    </a:lnTo>
                    <a:lnTo>
                      <a:pt x="256" y="211"/>
                    </a:lnTo>
                    <a:lnTo>
                      <a:pt x="257" y="203"/>
                    </a:lnTo>
                    <a:lnTo>
                      <a:pt x="259" y="195"/>
                    </a:lnTo>
                    <a:lnTo>
                      <a:pt x="259" y="195"/>
                    </a:lnTo>
                    <a:lnTo>
                      <a:pt x="260" y="186"/>
                    </a:lnTo>
                    <a:lnTo>
                      <a:pt x="262" y="174"/>
                    </a:lnTo>
                    <a:lnTo>
                      <a:pt x="264" y="165"/>
                    </a:lnTo>
                    <a:lnTo>
                      <a:pt x="264" y="155"/>
                    </a:lnTo>
                    <a:lnTo>
                      <a:pt x="264" y="146"/>
                    </a:lnTo>
                    <a:lnTo>
                      <a:pt x="264" y="136"/>
                    </a:lnTo>
                    <a:lnTo>
                      <a:pt x="264" y="125"/>
                    </a:lnTo>
                    <a:lnTo>
                      <a:pt x="264" y="117"/>
                    </a:lnTo>
                    <a:lnTo>
                      <a:pt x="262" y="107"/>
                    </a:lnTo>
                    <a:lnTo>
                      <a:pt x="260" y="98"/>
                    </a:lnTo>
                    <a:lnTo>
                      <a:pt x="260" y="98"/>
                    </a:lnTo>
                    <a:close/>
                  </a:path>
                </a:pathLst>
              </a:custGeom>
              <a:solidFill>
                <a:srgbClr val="ebf5f5"/>
              </a:solidFill>
              <a:ln w="1440">
                <a:solidFill>
                  <a:srgbClr val="ebf5f5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1183000">
                <a:off x="6462360" y="4275000"/>
                <a:ext cx="250560" cy="322200"/>
              </a:xfrm>
              <a:custGeom>
                <a:avLst/>
                <a:gdLst/>
                <a:ahLst/>
                <a:rect l="l" t="t" r="r" b="b"/>
                <a:pathLst>
                  <a:path w="264" h="379">
                    <a:moveTo>
                      <a:pt x="260" y="98"/>
                    </a:moveTo>
                    <a:lnTo>
                      <a:pt x="259" y="85"/>
                    </a:lnTo>
                    <a:lnTo>
                      <a:pt x="256" y="74"/>
                    </a:lnTo>
                    <a:lnTo>
                      <a:pt x="252" y="62"/>
                    </a:lnTo>
                    <a:lnTo>
                      <a:pt x="249" y="51"/>
                    </a:lnTo>
                    <a:lnTo>
                      <a:pt x="244" y="42"/>
                    </a:lnTo>
                    <a:lnTo>
                      <a:pt x="240" y="32"/>
                    </a:lnTo>
                    <a:lnTo>
                      <a:pt x="233" y="24"/>
                    </a:lnTo>
                    <a:lnTo>
                      <a:pt x="227" y="18"/>
                    </a:lnTo>
                    <a:lnTo>
                      <a:pt x="220" y="11"/>
                    </a:lnTo>
                    <a:lnTo>
                      <a:pt x="214" y="6"/>
                    </a:lnTo>
                    <a:lnTo>
                      <a:pt x="214" y="6"/>
                    </a:lnTo>
                    <a:lnTo>
                      <a:pt x="211" y="5"/>
                    </a:lnTo>
                    <a:lnTo>
                      <a:pt x="206" y="3"/>
                    </a:lnTo>
                    <a:lnTo>
                      <a:pt x="203" y="2"/>
                    </a:lnTo>
                    <a:lnTo>
                      <a:pt x="200" y="2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188" y="0"/>
                    </a:lnTo>
                    <a:lnTo>
                      <a:pt x="184" y="0"/>
                    </a:lnTo>
                    <a:lnTo>
                      <a:pt x="180" y="0"/>
                    </a:lnTo>
                    <a:lnTo>
                      <a:pt x="176" y="0"/>
                    </a:lnTo>
                    <a:lnTo>
                      <a:pt x="176" y="0"/>
                    </a:lnTo>
                    <a:lnTo>
                      <a:pt x="163" y="5"/>
                    </a:lnTo>
                    <a:lnTo>
                      <a:pt x="148" y="10"/>
                    </a:lnTo>
                    <a:lnTo>
                      <a:pt x="136" y="19"/>
                    </a:lnTo>
                    <a:lnTo>
                      <a:pt x="121" y="29"/>
                    </a:lnTo>
                    <a:lnTo>
                      <a:pt x="107" y="42"/>
                    </a:lnTo>
                    <a:lnTo>
                      <a:pt x="94" y="54"/>
                    </a:lnTo>
                    <a:lnTo>
                      <a:pt x="80" y="70"/>
                    </a:lnTo>
                    <a:lnTo>
                      <a:pt x="67" y="88"/>
                    </a:lnTo>
                    <a:lnTo>
                      <a:pt x="54" y="106"/>
                    </a:lnTo>
                    <a:lnTo>
                      <a:pt x="41" y="125"/>
                    </a:lnTo>
                    <a:lnTo>
                      <a:pt x="41" y="125"/>
                    </a:lnTo>
                    <a:lnTo>
                      <a:pt x="41" y="126"/>
                    </a:lnTo>
                    <a:lnTo>
                      <a:pt x="40" y="128"/>
                    </a:lnTo>
                    <a:lnTo>
                      <a:pt x="38" y="131"/>
                    </a:lnTo>
                    <a:lnTo>
                      <a:pt x="36" y="133"/>
                    </a:lnTo>
                    <a:lnTo>
                      <a:pt x="35" y="134"/>
                    </a:lnTo>
                    <a:lnTo>
                      <a:pt x="33" y="138"/>
                    </a:lnTo>
                    <a:lnTo>
                      <a:pt x="33" y="139"/>
                    </a:lnTo>
                    <a:lnTo>
                      <a:pt x="32" y="141"/>
                    </a:lnTo>
                    <a:lnTo>
                      <a:pt x="30" y="144"/>
                    </a:lnTo>
                    <a:lnTo>
                      <a:pt x="28" y="146"/>
                    </a:lnTo>
                    <a:lnTo>
                      <a:pt x="28" y="146"/>
                    </a:lnTo>
                    <a:lnTo>
                      <a:pt x="16" y="174"/>
                    </a:lnTo>
                    <a:lnTo>
                      <a:pt x="6" y="205"/>
                    </a:lnTo>
                    <a:lnTo>
                      <a:pt x="1" y="234"/>
                    </a:lnTo>
                    <a:lnTo>
                      <a:pt x="0" y="262"/>
                    </a:lnTo>
                    <a:lnTo>
                      <a:pt x="1" y="290"/>
                    </a:lnTo>
                    <a:lnTo>
                      <a:pt x="4" y="315"/>
                    </a:lnTo>
                    <a:lnTo>
                      <a:pt x="9" y="336"/>
                    </a:lnTo>
                    <a:lnTo>
                      <a:pt x="16" y="354"/>
                    </a:lnTo>
                    <a:lnTo>
                      <a:pt x="24" y="366"/>
                    </a:lnTo>
                    <a:lnTo>
                      <a:pt x="32" y="373"/>
                    </a:lnTo>
                    <a:lnTo>
                      <a:pt x="32" y="373"/>
                    </a:lnTo>
                    <a:lnTo>
                      <a:pt x="48" y="378"/>
                    </a:lnTo>
                    <a:lnTo>
                      <a:pt x="67" y="379"/>
                    </a:lnTo>
                    <a:lnTo>
                      <a:pt x="86" y="378"/>
                    </a:lnTo>
                    <a:lnTo>
                      <a:pt x="108" y="373"/>
                    </a:lnTo>
                    <a:lnTo>
                      <a:pt x="129" y="365"/>
                    </a:lnTo>
                    <a:lnTo>
                      <a:pt x="152" y="354"/>
                    </a:lnTo>
                    <a:lnTo>
                      <a:pt x="174" y="339"/>
                    </a:lnTo>
                    <a:lnTo>
                      <a:pt x="195" y="320"/>
                    </a:lnTo>
                    <a:lnTo>
                      <a:pt x="214" y="298"/>
                    </a:lnTo>
                    <a:lnTo>
                      <a:pt x="232" y="270"/>
                    </a:lnTo>
                    <a:lnTo>
                      <a:pt x="232" y="270"/>
                    </a:lnTo>
                    <a:lnTo>
                      <a:pt x="235" y="264"/>
                    </a:lnTo>
                    <a:lnTo>
                      <a:pt x="238" y="256"/>
                    </a:lnTo>
                    <a:lnTo>
                      <a:pt x="243" y="250"/>
                    </a:lnTo>
                    <a:lnTo>
                      <a:pt x="244" y="242"/>
                    </a:lnTo>
                    <a:lnTo>
                      <a:pt x="248" y="234"/>
                    </a:lnTo>
                    <a:lnTo>
                      <a:pt x="251" y="227"/>
                    </a:lnTo>
                    <a:lnTo>
                      <a:pt x="252" y="219"/>
                    </a:lnTo>
                    <a:lnTo>
                      <a:pt x="256" y="211"/>
                    </a:lnTo>
                    <a:lnTo>
                      <a:pt x="257" y="203"/>
                    </a:lnTo>
                    <a:lnTo>
                      <a:pt x="259" y="195"/>
                    </a:lnTo>
                    <a:lnTo>
                      <a:pt x="259" y="195"/>
                    </a:lnTo>
                    <a:lnTo>
                      <a:pt x="260" y="186"/>
                    </a:lnTo>
                    <a:lnTo>
                      <a:pt x="262" y="174"/>
                    </a:lnTo>
                    <a:lnTo>
                      <a:pt x="264" y="165"/>
                    </a:lnTo>
                    <a:lnTo>
                      <a:pt x="264" y="155"/>
                    </a:lnTo>
                    <a:lnTo>
                      <a:pt x="264" y="146"/>
                    </a:lnTo>
                    <a:lnTo>
                      <a:pt x="264" y="136"/>
                    </a:lnTo>
                    <a:lnTo>
                      <a:pt x="264" y="125"/>
                    </a:lnTo>
                    <a:lnTo>
                      <a:pt x="264" y="117"/>
                    </a:lnTo>
                    <a:lnTo>
                      <a:pt x="262" y="107"/>
                    </a:lnTo>
                    <a:lnTo>
                      <a:pt x="260" y="98"/>
                    </a:lnTo>
                    <a:lnTo>
                      <a:pt x="260" y="98"/>
                    </a:lnTo>
                  </a:path>
                </a:pathLst>
              </a:custGeom>
              <a:noFill/>
              <a:ln w="1440">
                <a:solidFill>
                  <a:srgbClr val="ebf5f5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1183000">
                <a:off x="6390720" y="3445920"/>
                <a:ext cx="853200" cy="1142640"/>
              </a:xfrm>
              <a:custGeom>
                <a:avLst/>
                <a:gdLst/>
                <a:ahLst/>
                <a:rect l="l" t="t" r="r" b="b"/>
                <a:pathLst>
                  <a:path w="897" h="1345">
                    <a:moveTo>
                      <a:pt x="641" y="0"/>
                    </a:moveTo>
                    <a:lnTo>
                      <a:pt x="608" y="57"/>
                    </a:lnTo>
                    <a:lnTo>
                      <a:pt x="558" y="139"/>
                    </a:lnTo>
                    <a:lnTo>
                      <a:pt x="497" y="240"/>
                    </a:lnTo>
                    <a:lnTo>
                      <a:pt x="430" y="350"/>
                    </a:lnTo>
                    <a:lnTo>
                      <a:pt x="361" y="465"/>
                    </a:lnTo>
                    <a:lnTo>
                      <a:pt x="296" y="576"/>
                    </a:lnTo>
                    <a:lnTo>
                      <a:pt x="236" y="673"/>
                    </a:lnTo>
                    <a:lnTo>
                      <a:pt x="188" y="753"/>
                    </a:lnTo>
                    <a:lnTo>
                      <a:pt x="156" y="806"/>
                    </a:lnTo>
                    <a:lnTo>
                      <a:pt x="145" y="825"/>
                    </a:lnTo>
                    <a:lnTo>
                      <a:pt x="145" y="825"/>
                    </a:lnTo>
                    <a:lnTo>
                      <a:pt x="137" y="838"/>
                    </a:lnTo>
                    <a:lnTo>
                      <a:pt x="120" y="872"/>
                    </a:lnTo>
                    <a:lnTo>
                      <a:pt x="92" y="921"/>
                    </a:lnTo>
                    <a:lnTo>
                      <a:pt x="64" y="984"/>
                    </a:lnTo>
                    <a:lnTo>
                      <a:pt x="35" y="1053"/>
                    </a:lnTo>
                    <a:lnTo>
                      <a:pt x="12" y="1125"/>
                    </a:lnTo>
                    <a:lnTo>
                      <a:pt x="0" y="1193"/>
                    </a:lnTo>
                    <a:lnTo>
                      <a:pt x="3" y="1256"/>
                    </a:lnTo>
                    <a:lnTo>
                      <a:pt x="24" y="1307"/>
                    </a:lnTo>
                    <a:lnTo>
                      <a:pt x="68" y="1341"/>
                    </a:lnTo>
                    <a:lnTo>
                      <a:pt x="68" y="1341"/>
                    </a:lnTo>
                    <a:lnTo>
                      <a:pt x="112" y="1345"/>
                    </a:lnTo>
                    <a:lnTo>
                      <a:pt x="160" y="1325"/>
                    </a:lnTo>
                    <a:lnTo>
                      <a:pt x="211" y="1285"/>
                    </a:lnTo>
                    <a:lnTo>
                      <a:pt x="260" y="1233"/>
                    </a:lnTo>
                    <a:lnTo>
                      <a:pt x="310" y="1173"/>
                    </a:lnTo>
                    <a:lnTo>
                      <a:pt x="353" y="1112"/>
                    </a:lnTo>
                    <a:lnTo>
                      <a:pt x="392" y="1054"/>
                    </a:lnTo>
                    <a:lnTo>
                      <a:pt x="422" y="1006"/>
                    </a:lnTo>
                    <a:lnTo>
                      <a:pt x="441" y="973"/>
                    </a:lnTo>
                    <a:lnTo>
                      <a:pt x="448" y="960"/>
                    </a:lnTo>
                    <a:lnTo>
                      <a:pt x="897" y="20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 rot="1523400">
              <a:off x="6504840" y="4300200"/>
              <a:ext cx="152640" cy="2714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12841" t="7997" r="5062" b="967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38120" y="239760"/>
            <a:ext cx="62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ponents Used for 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82800" y="2529000"/>
            <a:ext cx="65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theter inserted into brain at risk for tumor infil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43440" y="4192560"/>
            <a:ext cx="45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yringe with drug solution;  Fits into p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1519200"/>
            <a:ext cx="45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ubing attached to cath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6232680"/>
            <a:ext cx="7467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heter, tubing and pump are FDA appro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a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0948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arget Selection and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theter Trajectory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04920" y="1752480"/>
            <a:ext cx="8610120" cy="3352680"/>
            <a:chOff x="304920" y="1752480"/>
            <a:chExt cx="8610120" cy="335268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rcRect l="40098" t="46013" r="22910" b="10463"/>
            <a:stretch/>
          </p:blipFill>
          <p:spPr>
            <a:xfrm>
              <a:off x="6063120" y="1770120"/>
              <a:ext cx="2851920" cy="33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"/>
            <a:srcRect l="933" t="45975" r="60587" b="10463"/>
            <a:stretch/>
          </p:blipFill>
          <p:spPr>
            <a:xfrm>
              <a:off x="3076560" y="1752480"/>
              <a:ext cx="2971440" cy="33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3"/>
            <a:srcRect l="40098" t="1248" r="23654" b="55218"/>
            <a:stretch/>
          </p:blipFill>
          <p:spPr>
            <a:xfrm>
              <a:off x="304920" y="1754280"/>
              <a:ext cx="2783160" cy="332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533520" y="5334120"/>
            <a:ext cx="81532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ing a post-resection MRI, neurosurgeon finds the area of remaining infiltrative tumor and plans where to place two to four catheters to ensure that the treatment reaches the remaining tumor cel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2:10:35Z</dcterms:created>
  <dc:creator>Sandeep Kunwar</dc:creator>
  <dc:description/>
  <dc:language>en-US</dc:language>
  <cp:lastModifiedBy>Giselle Bleecker</cp:lastModifiedBy>
  <dcterms:modified xsi:type="dcterms:W3CDTF">2006-03-17T18:55:16Z</dcterms:modified>
  <cp:revision>57</cp:revision>
  <dc:subject/>
  <dc:title>Peritumoral Convection-Enhanced Delivery (CED) of IL13-PE38QQR, a Recombinant Tumor-Targeted Cytoxin, in Recurrent Malignant  What have we learned so far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022737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>Presentation</vt:lpwstr>
  </property>
  <property fmtid="{D5CDD505-2E9C-101B-9397-08002B2CF9AE}" pid="6" name="_NewReviewCycle">
    <vt:lpwstr/>
  </property>
</Properties>
</file>