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C9C-6F70-4337-B20C-1057E2E8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4E0-7621-44E7-A831-A838A582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DCF-BC28-458E-B514-9A82E231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5A1-989C-439F-B63C-E9AE514D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DB4-4726-46FF-93AE-0DE61F6E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A9A-5047-43FC-919C-AEF080F4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DC9-1E08-4785-95F7-CFC2E20F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0AA-1740-48B3-985C-0634CA15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095-7B65-4351-A5D0-51117E57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3AB-1E5D-497F-B938-95D445AF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B14-75DE-4785-AD38-4CE4667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392-FADB-4028-BAFE-75F6245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DA62-803D-42B8-86D2-E41B10B1B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ms.hhs.gov/paymentsystems/icd9/icd10.as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&amp; M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3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- Baltimore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DEC-77A1-486D-88A0-33BF00F14D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Industry-driven changes in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a set of guidelines for coding with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input from CMS, AHA, NCHS and AH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d the definition and application of root operatio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Medical/Surgical s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321-42E7-4F35-95FB-CA7C83C0F9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-driven changes in 2004, cont’d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wrote the Reference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d the Laboratory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F96-2B50-4E68-8FEE-05CAA017AD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-driven 2004 changes, cont’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description file was converted to tex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s were converted into a machine-readable format that preserves the positions and relationships of the values within the7- character code struc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52C-F7AB-464B-89DE-108244E592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e 2006 Upd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 update for new ICD-9-CM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/Surg: Specificity for coding medical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: Specificity for coding administered sub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066-F20E-415B-9B06-640E30BBFA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e 2006 Upd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 outside assistance to update the Radiology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ICD-9-CM to ICD-10-PCS crossw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mapping 9-CM ‘unspecified’ codes to specific 10-PCS c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FBB-C84E-44AB-BAD1-3ED1567A9E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e 2006 Upd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n the task of converting the DRGs into ICD-10-CM &amp; P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Complete a prototype of the DRGs in the new code sets by the end of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C7D-4C00-4A36-BA74-609B29411B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recent update is available on the CMS webs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ms.hhs.gov/paymentsystems/icd9/icd10.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CFC-128C-46D9-B15B-B89915F777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brief history of ICD-10-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in 1998 by 3M HIS under a contract from CMS (then HCF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guided by a Technical Advisory Committee of industry represent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pdated annually by the contractor, unti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on the CMS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C4D-320F-4F51-868D-4E9DB1C24F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character alphanum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s 0-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s A-Z, except “i” and “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3D1-C249-44F7-92FC-50C502AC49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ICD-10-P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developed according to 4 guiding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que code for every substantially different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addition of new codes for new procedures a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9B9-F7E7-4261-A36A-44A1CB6856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termi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ssential term has a precise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ding system includes the definitions of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axi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ode character has the same meaning within a section, and across sections where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0B2-AE70-4AA3-821C-7C2EC70373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4f89"/>
                </a:solidFill>
                <a:latin typeface="Arial"/>
              </a:rPr>
              <a:t>Characters</a:t>
            </a:r>
            <a:br>
              <a:rPr sz="3600"/>
            </a:br>
            <a:r>
              <a:rPr b="0" lang="en-US" sz="2800" spc="-1" strike="noStrike">
                <a:solidFill>
                  <a:srgbClr val="234f89"/>
                </a:solidFill>
                <a:latin typeface="Arial"/>
              </a:rPr>
              <a:t>Medical and Surgical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0680" y="2319480"/>
            <a:ext cx="8305560" cy="642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eaeaea"/>
              </a:gs>
              <a:gs pos="100000">
                <a:srgbClr val="dddddd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e0ad12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54c247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ea1db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299926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85c7e3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ec7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573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1968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3864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79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009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0680" y="3843360"/>
            <a:ext cx="1066680" cy="398880"/>
          </a:xfrm>
          <a:prstGeom prst="rect">
            <a:avLst/>
          </a:prstGeom>
          <a:solidFill>
            <a:srgbClr val="fad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47880" y="300528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fad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57360" y="4681440"/>
            <a:ext cx="1143000" cy="703800"/>
          </a:xfrm>
          <a:prstGeom prst="rect">
            <a:avLst/>
          </a:prstGeom>
          <a:solidFill>
            <a:srgbClr val="a8d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14560" y="3005280"/>
            <a:ext cx="228600" cy="1600200"/>
          </a:xfrm>
          <a:prstGeom prst="upArrow">
            <a:avLst>
              <a:gd name="adj1" fmla="val 50000"/>
              <a:gd name="adj2" fmla="val 175000"/>
            </a:avLst>
          </a:prstGeom>
          <a:solidFill>
            <a:srgbClr val="a8d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24040" y="3614760"/>
            <a:ext cx="1371600" cy="703800"/>
          </a:xfrm>
          <a:prstGeom prst="rect">
            <a:avLst/>
          </a:prstGeom>
          <a:solidFill>
            <a:srgbClr val="9ea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57560" y="308124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ea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8280" y="4616280"/>
            <a:ext cx="914400" cy="703800"/>
          </a:xfrm>
          <a:prstGeom prst="rect">
            <a:avLst/>
          </a:prstGeom>
          <a:solidFill>
            <a:srgbClr val="54c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52840" y="3005280"/>
            <a:ext cx="228600" cy="1523880"/>
          </a:xfrm>
          <a:prstGeom prst="upArrow">
            <a:avLst>
              <a:gd name="adj1" fmla="val 50000"/>
              <a:gd name="adj2" fmla="val 166654"/>
            </a:avLst>
          </a:prstGeom>
          <a:solidFill>
            <a:srgbClr val="54c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38640" y="3691080"/>
            <a:ext cx="1371600" cy="398880"/>
          </a:xfrm>
          <a:prstGeom prst="rect">
            <a:avLst/>
          </a:prstGeom>
          <a:solidFill>
            <a:srgbClr val="85c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48480" y="3005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85c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86560" y="4844880"/>
            <a:ext cx="99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1480" y="3005280"/>
            <a:ext cx="228600" cy="1752480"/>
          </a:xfrm>
          <a:prstGeom prst="up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00960" y="3691080"/>
            <a:ext cx="1143000" cy="39888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3005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AEE-25C0-4574-884B-7CEA85AA60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 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as grids with rows and columns to delineate valid combinations of cod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first three or four characters of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specific grid that must be used to complete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F19-C2BE-4298-B8AC-E206BCB20D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57120" y="46080"/>
          <a:ext cx="8786880" cy="68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080"/>
                    <a:ext cx="8786880" cy="6811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691-C879-4700-94F1-3827CA7B5E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revision is a requirement in the maintenanc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 is to keep current with medical technology and coding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&amp;M meetings are a significant source for PCS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debate guides our deci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ICD-9-CM procedure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63B-A3B2-4C62-99BE-F5D28E1ECA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0:20:03Z</dcterms:created>
  <dc:creator>grant</dc:creator>
  <dc:description/>
  <dc:language>en-US</dc:language>
  <cp:lastModifiedBy>CMS</cp:lastModifiedBy>
  <dcterms:modified xsi:type="dcterms:W3CDTF">2005-03-31T20:43:28Z</dcterms:modified>
  <cp:revision>57</cp:revision>
  <dc:subject/>
  <dc:title>ICD-10-PCS Update</dc:title>
</cp:coreProperties>
</file>