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998-12A4-48AC-A79F-D6E2EF33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1C1-43A8-45C1-A736-107B2EB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03E-4FB6-4FAF-A72B-841215FE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490-C5DD-43FC-B98B-039C7FED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88D-043A-4395-B8D3-09C1FA05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327-C6D4-4DCB-8A8E-D449DB7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A8D-4151-4209-A527-FC3BDC8B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5BC-3703-4BA1-B02C-E91F4892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4F3-F8EE-4085-91EB-82059D5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968-8F6C-429B-B805-C400588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5F3-B950-4C29-BB3B-616ACAF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07B-B540-4BCF-8E6F-224E20F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1EF-699A-43EE-BE64-422D9917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ms.hhs.gov/paymentsystems/icd9/icd10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 M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3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- Baltimore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198-1936-43CD-8E27-8AADC0D5F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Industry-driven changes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 set of guidelines for coding with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input from CMS, AHA, NCHS and AH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d the definition and application of root opera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Medical/Surgical s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284-2528-4623-9E14-17A9AF08DC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-driven changes in 2004, cont’d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wrote the Reference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d the Laboratory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650-81C1-4ECA-B4AB-48D50B3A4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-driven 2004 changes, cont’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description file was converted to tex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 were converted into a machine-readable format that preserves the positions and relationships of the values within the7- character code struc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07D-1749-4007-85D5-94C05CBC25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 update for new ICD-9-CM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/Surg: Specificity for coding medical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: Specificity for coding administered sub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5A5-C912-42EA-8F4D-02555D0EFC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 outside assistance to update the Radiology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ICD-9-CM to ICD-10-PCS cross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mapping 9-CM ‘unspecified’ codes to specific 10-PCS c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C5-785F-4196-9D52-B4CF0E6C4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e 2006 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n the task of converting the DRGs into ICD-10-CM &amp; P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Complete a prototype of the DRGs in the new code sets by the end of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3B9-FCE4-443E-AE7B-FA944B33BF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recent update is available on the CMS web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ms.hhs.gov/paymentsystems/icd9/icd10.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AD1-DA7F-409B-87AC-FBE0AE43B8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brief history of ICD-10-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98 by 3M HIS under a contract from CMS (then HCF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guided by a Technical Advisory Committee of industry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pdated annually by the contractor, unti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on the CMS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4AE-C1AE-49B4-AC2F-97D5F849F2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character alphanum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s 0-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A-Z, except “i” and “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F12-A535-4384-A8C9-D19723F14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developed according to 4 guid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que code for every substantially different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addition of new codes for new procedures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92A-5341-42B4-B7C8-8F441C84E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termi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ssential term has a precise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ding system includes the definitions of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axi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ode character has the same meaning within a section, and across sections whe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9A6-3BD3-4889-A8A7-D9FF258A1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89"/>
                </a:solidFill>
                <a:latin typeface="Arial"/>
              </a:rPr>
              <a:t>Characters</a:t>
            </a:r>
            <a:br>
              <a:rPr sz="3600"/>
            </a:br>
            <a:r>
              <a:rPr b="0" lang="en-US" sz="2800" spc="-1" strike="noStrike">
                <a:solidFill>
                  <a:srgbClr val="234f89"/>
                </a:solidFill>
                <a:latin typeface="Arial"/>
              </a:rPr>
              <a:t>Medical and Surgica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0680" y="2319480"/>
            <a:ext cx="8305560" cy="642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e0ad12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54c247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ea1db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29992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85c7e3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ec7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57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968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3864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7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00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3843360"/>
            <a:ext cx="1066680" cy="398880"/>
          </a:xfrm>
          <a:prstGeom prst="rect">
            <a:avLst/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47880" y="300528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57360" y="4681440"/>
            <a:ext cx="1143000" cy="703800"/>
          </a:xfrm>
          <a:prstGeom prst="rect">
            <a:avLst/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4560" y="3005280"/>
            <a:ext cx="228600" cy="1600200"/>
          </a:xfrm>
          <a:prstGeom prst="upArrow">
            <a:avLst>
              <a:gd name="adj1" fmla="val 50000"/>
              <a:gd name="adj2" fmla="val 175000"/>
            </a:avLst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24040" y="3614760"/>
            <a:ext cx="1371600" cy="703800"/>
          </a:xfrm>
          <a:prstGeom prst="rect">
            <a:avLst/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57560" y="308124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8280" y="4616280"/>
            <a:ext cx="914400" cy="703800"/>
          </a:xfrm>
          <a:prstGeom prst="rect">
            <a:avLst/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2840" y="3005280"/>
            <a:ext cx="228600" cy="1523880"/>
          </a:xfrm>
          <a:prstGeom prst="upArrow">
            <a:avLst>
              <a:gd name="adj1" fmla="val 50000"/>
              <a:gd name="adj2" fmla="val 166654"/>
            </a:avLst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38640" y="3691080"/>
            <a:ext cx="1371600" cy="398880"/>
          </a:xfrm>
          <a:prstGeom prst="rect">
            <a:avLst/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848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86560" y="4844880"/>
            <a:ext cx="99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1480" y="3005280"/>
            <a:ext cx="228600" cy="1752480"/>
          </a:xfrm>
          <a:prstGeom prst="up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00960" y="3691080"/>
            <a:ext cx="1143000" cy="39888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26D-6975-4FFE-A6DD-EA236E838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as grids with rows and columns to delineate valid combinations of cod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first three or four characters of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specific grid that must be used to complete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D59-CD25-40C6-87B8-9A33EC411B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57120" y="46080"/>
          <a:ext cx="8786880" cy="68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080"/>
                    <a:ext cx="8786880" cy="6811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523-8D2F-49EA-BB6D-8D4D337DB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vision is a requirement in the maintenanc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is to keep current with medical technology and coding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M meetings are a significant source for PCS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debate guides our deci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ICD-9-CM procedur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44D-4D53-4AF6-A3EE-E45F04CBA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CMS</cp:lastModifiedBy>
  <dcterms:modified xsi:type="dcterms:W3CDTF">2005-03-31T20:43:28Z</dcterms:modified>
  <cp:revision>57</cp:revision>
  <dc:subject/>
  <dc:title>ICD-10-PCS Update</dc:title>
</cp:coreProperties>
</file>