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59CB-0867-4C33-B5C2-23D4EE1A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120" y="38390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CF97-F0E2-49E9-A375-FD5D22B8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8800" y="38390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7EC-09E5-403B-9F39-97724917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4520" y="13712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9920" y="13712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120" y="38390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4520" y="38390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9920" y="38390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557B-9D38-4D61-8D9C-A834EE2D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465-04D9-4E8D-A6F8-06611207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C91A-D102-406C-A19A-EB09E53E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3823-973F-4355-9CE5-ACFE6CD7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405-2BB5-491A-8991-7573E829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943-6097-4DF1-974C-6A30B381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482-07B1-4EB5-81C5-0E9DA811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8800" y="38390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A087-F0FD-4069-B7ED-4736F1F4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5434-9F97-4593-BBB8-7E9EB3F1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4876920"/>
          </a:xfrm>
          <a:prstGeom prst="rect">
            <a:avLst/>
          </a:prstGeom>
          <a:gradFill rotWithShape="0">
            <a:gsLst>
              <a:gs pos="0">
                <a:srgbClr val="5e5e46"/>
              </a:gs>
              <a:gs pos="100000">
                <a:srgbClr val="cc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57200" y="1143000"/>
            <a:ext cx="8229600" cy="182520"/>
            <a:chOff x="457200" y="1143000"/>
            <a:chExt cx="8229600" cy="182520"/>
          </a:xfrm>
        </p:grpSpPr>
        <p:sp>
          <p:nvSpPr>
            <p:cNvPr id="2" name=""/>
            <p:cNvSpPr/>
            <p:nvPr/>
          </p:nvSpPr>
          <p:spPr>
            <a:xfrm>
              <a:off x="6874560" y="1143000"/>
              <a:ext cx="1811880" cy="182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" y="1219320"/>
              <a:ext cx="8229600" cy="0"/>
            </a:xfrm>
            <a:prstGeom prst="line">
              <a:avLst/>
            </a:prstGeom>
            <a:ln w="190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040" y="6400440"/>
            <a:ext cx="1981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320" y="6324120"/>
            <a:ext cx="2971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0659-F5BF-42B4-B0B9-5A5CEA80F1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4876920"/>
            <a:ext cx="45720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1523880"/>
            <a:ext cx="7086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"/>
              </a:rPr>
              <a:t>ICD-9-CM Procedure Code for Anular Repair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4267080"/>
            <a:ext cx="4876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inald Davis, MD, F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 of Neurosurgery          Greater Baltimore Medical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29718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D-9-CM Coding &amp; Maintenance Committee September 27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E9C5-5E00-4C56-8DBD-BA78D0C298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re-operations and improve patient outcome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ing nucleus material from re-extrudin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ng inflammation and scar formatio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0,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ing less extensive disc remov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21957" t="39335" r="32211" b="32222"/>
          <a:stretch/>
        </p:blipFill>
        <p:spPr>
          <a:xfrm>
            <a:off x="2971800" y="3124080"/>
            <a:ext cx="3048120" cy="232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Why Repair the Anulus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5781600"/>
            <a:ext cx="89154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uthen, JC. Chapter 11. Microsurgical Anular Reconstruction (Anuloplasty) Following Lumbar Microdiscectomy: pp 155-177 . In: Spinal Arthroplasty; A New Era in Spine Care, Guyer RD, editor. St. Louis MO: Quality Medical Publishing, 200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wakami M, et al. The Role of Phospholipase A2 and Nitric Oxide in Pain-Related Behavior Produced by an Allograft of Intervertebral Disc Material to the Sciatic Nerve of the Rat. Spine 22(10):1074-1079, 199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marker K, et al. Pathogenesis of Sciatic Pain: Role of Herniated Nucleus Pulposus and Deformation of Spinal Nerve Root and Dorsal Root Ganglion. Pain 78(2):99-105, 199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ragee et al.  A Prospective Controlled Study of Limited Versus Subtotal Posterior Discectomy:  Short-Term Outcomes in Patients with Herniated Lumbar Intervertebral Discs and Large Posterior Anular Defect.  Spine 2006: 31:  pp653-65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93AC-20A4-4674-92F3-9D6A604FBC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Current Procedure Option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urgical Suture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 Tissue Re-Approximation Repair With Tension 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gical Mesh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629400" y="4876920"/>
            <a:ext cx="1739880" cy="1752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752480" cy="1676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rcRect l="8627" t="25790" r="29001" b="8864"/>
          <a:stretch/>
        </p:blipFill>
        <p:spPr>
          <a:xfrm>
            <a:off x="6629400" y="1447920"/>
            <a:ext cx="1752480" cy="1450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A7A-0F01-4C11-A620-4B80F63F35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Microsurgical Suture Repai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49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ly difficult and time consuming (approx 45 minut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often achieves closure with two or three 4-0 absorbable sutures with manual knot t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cial autograft may be used to augment the rep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year human clinical data has shown a 68% reduction in reop rates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3009960" cy="2460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457200" y="6172200"/>
            <a:ext cx="82836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uthen, JC. Chapter 11. Microsurgical Anular Reconstruction (Anuloplasty) Following Lumbar Microdiscectomy: pp 155-177 . In: Spinal Arthroplasty; A New Era in Spine Care, Guyer RD, editor. St. Louis MO: Quality Medical Publishing, 2005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2C1F-B5C7-4CA1-9611-67F4D60DB6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Soft Tissue Re-Approximation Repair with Tension Band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5715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tissue is re-approximated with the use of Tension Band System consisting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tissue T-anc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on 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delivery tools facilitate placement and inser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allows for easier and more efficient repair than microsurgical sutu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77120" y="1600200"/>
            <a:ext cx="1746000" cy="185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24480" y="3809880"/>
            <a:ext cx="2163960" cy="228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543800" y="3886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-Anch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584120" y="4133880"/>
            <a:ext cx="14760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01000" y="41911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48520" y="579132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nsion 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934320" y="525744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934320" y="5486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CB7-789D-4303-925F-4EF8D40117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Surgical Mesh Repai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49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6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Mesh System consists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3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ester (PET) m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3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hor band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delivery tools facilitate placement and inser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h system allows for repair of larger size defects than microsurgical suturing or tension band rep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868480" cy="2892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1304-34EE-44BE-9650-3B69225FC2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ular repair following lumbar discectomy is a worthwhile procedure to improve patient outc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, surgeons are beginning to repair the anulus fibrosus by using various procedure o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4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ique ICD-9-CM procedure code(s) exist to report use of instruments and insertion of devices to repair the anulus fibros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2BCD-9AAD-48D1-BF5C-169A0F465D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361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6245-FF64-480C-9042-CC4C65FD2B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Speaker Background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nald Davis, MD, F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nder of Baltimore Neurosurgical Associates, Baltimore, M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ef of Neurosurgery at Greater Baltimore Medical Cen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ulty Member at John Hopkins School of Medicine and University of Maryla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llow of the American College of Surge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plomate of the American Board of Surge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87C7-755E-487F-901F-7B96C0D05F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Anular Repair Application 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submitted by David Wong, M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pedic Spine Surgeon, Denver 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 President, North American Spine Society (N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code creation to report repair of the anulus fibrosus with graft or prosthesis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urgical suture re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tissue re-approximation repair with tension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mesh re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207-D830-491A-9197-0443CDC552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Issue 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ular Repai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bar discectomy surgery is performed to remove a herniated disc of the s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ly, an open pathway was left in the anulus following discectomy surg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, surgeons are beginning to repair the anulus fibros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ing Iss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codes exist for discectomy, there is no unique code(s) to report use of instruments and insertion of devices to repair the anulus fibros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19660" t="24720" r="19611" b="23596"/>
          <a:stretch/>
        </p:blipFill>
        <p:spPr>
          <a:xfrm>
            <a:off x="6172200" y="1981080"/>
            <a:ext cx="2654280" cy="27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0914-5162-48F2-8CAD-F306EBA036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Background – Lumbar Disc Anatom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c is Comprised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ucleus Pulpos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oft, gel-like inner sub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ulus Fibros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ough, outer ring that contains the nucleus pulpo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635" t="20337" r="15139" b="20337"/>
          <a:stretch/>
        </p:blipFill>
        <p:spPr>
          <a:xfrm>
            <a:off x="5410080" y="1828800"/>
            <a:ext cx="3200400" cy="3139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CA39-E9A5-4212-881C-FB184CFB29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Background – Herniated Disc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niated Dis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pture or protrusion in anulus fibro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 compresses nerve root causing p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7867" t="17336" r="20728" b="36111"/>
          <a:stretch/>
        </p:blipFill>
        <p:spPr>
          <a:xfrm>
            <a:off x="5257800" y="1828800"/>
            <a:ext cx="3279600" cy="3051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47FC-2509-46D6-A56E-419735A8B7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Background – Lumbar Discectomy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267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ar Discecto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procedure to remove a herniated di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frequently performed spinal surg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UP data shows majority of procedures performed in the inpatient hospital setting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18955" t="24524" r="30015" b="29733"/>
          <a:stretch/>
        </p:blipFill>
        <p:spPr>
          <a:xfrm>
            <a:off x="5562720" y="1676520"/>
            <a:ext cx="2909880" cy="3198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228600" y="617148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en &amp; Anders, Ltd (2002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04DF-CEAD-4754-9707-FDE242CE80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Discectomy Clinical Outcom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ar discectomy surgery is a well accepted procedure with a proven track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still room for improved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8% of patients continue to suffer from back or leg pain following discectomy surgery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,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patients either continue with conservative treatment or require a re-oper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5942880"/>
            <a:ext cx="7010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upasis et al.  Seven-to-20-Year Outcome of Lumbar Discectomy.  Spine 1999;24:  pp 2313-231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uthen et al.  Economic Impact of Improving Outcomes of Lumbar Discectomy.  Study presented at the 23rd Annual Meeting of the AANS/CNS Section on Disorders of the Spine and Peripheral Nerves.  Phoenix, AZ – March 200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DC78-F59A-4F29-B287-E28CE3DB72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ectomy Reoperation Rat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2666880"/>
          <a:ext cx="7467480" cy="2081160"/>
        </p:xfrm>
        <a:graphic>
          <a:graphicData uri="http://schemas.openxmlformats.org/drawingml/2006/table">
            <a:tbl>
              <a:tblPr/>
              <a:tblGrid>
                <a:gridCol w="1366560"/>
                <a:gridCol w="1438560"/>
                <a:gridCol w="1422360"/>
                <a:gridCol w="1420560"/>
                <a:gridCol w="1819440"/>
              </a:tblGrid>
              <a:tr h="394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-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Op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ati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tario, Can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ington 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l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of M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er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l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of M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380880" y="63244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5334120"/>
            <a:ext cx="830556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u R, et al.  A Population Based Study of Reoperations After Back Surgery. Spine 1997;22:2265-2271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alter A., et al.  5-Year Reoperation Rates After Different Types of Lumbar Surgery.  Spine 1998;23:814-820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las S., et al.  Surgical and Nonsurgical Management of Sciatica Secondary to Lumbar Disc Herniation:  Five-Year Outcomes from the Maine Lumbar Spine Study.  Spine 2001;26:1179-118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sterman H., et al.  Risk of Multiple Reoperations After Lumbar Disecectomy: A Population Based Study.  Spine 2003;28:621-62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las et. al.  Long-Term Outcomes of Surgical and Nonsurgical Management of Sciatica to a Lumbar Herniation:  10 Year Results from the Maine Lumbar Spine Study.  Spine 2005;30:927-935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5238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, published, population based studies report re-operation rates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9-25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in 5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D396-85FB-4840-B59E-8EE5BE8E1A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5:45:13Z</dcterms:created>
  <dc:creator> </dc:creator>
  <dc:description/>
  <dc:language>en-US</dc:language>
  <cp:lastModifiedBy> </cp:lastModifiedBy>
  <dcterms:modified xsi:type="dcterms:W3CDTF">2007-09-11T18:46:16Z</dcterms:modified>
  <cp:revision>100</cp:revision>
  <dc:subject/>
  <dc:title>Lumbar Discectomy:  New Surgical Advances  Dr.__________ Hospital________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61471880</vt:r8>
  </property>
  <property fmtid="{D5CDD505-2E9C-101B-9397-08002B2CF9AE}" pid="3" name="_AuthorEmail">
    <vt:lpwstr>Marilu.Hue@cms.hhs.gov</vt:lpwstr>
  </property>
  <property fmtid="{D5CDD505-2E9C-101B-9397-08002B2CF9AE}" pid="4" name="_AuthorEmailDisplayName">
    <vt:lpwstr>Hue, Marilu (CMS/CMM)</vt:lpwstr>
  </property>
  <property fmtid="{D5CDD505-2E9C-101B-9397-08002B2CF9AE}" pid="5" name="_EmailSubject">
    <vt:lpwstr/>
  </property>
  <property fmtid="{D5CDD505-2E9C-101B-9397-08002B2CF9AE}" pid="6" name="_NewReviewCycle">
    <vt:lpwstr/>
  </property>
</Properties>
</file>