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D16CF5-568C-41BB-AE34-4A1EBCF37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4D17588-5798-4C4F-9670-1B68ACE57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C1DF6B-C757-4109-A688-1ED78BC12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92B6BBA-9FEB-4DEC-8164-E8CF2FF13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6307102-363B-42CD-907E-7FE14868D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850B72-63A4-40EC-B040-155018275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A5C9D2-17AA-44AD-9859-9F861846F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1303-2809-4E39-98CF-02B6A239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031C-36A7-4110-9A0B-0F1D9713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992E-7180-4368-BF0A-FC665389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C875-34DF-46DF-BCDD-8A766B72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4E50-AF7A-4FC9-9CB4-1AF79F37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199D-61F1-4B7F-9ED2-80435EA2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9366-2DC0-44C3-95EC-6C6598D5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8D2E-6862-48DA-95D8-3AB5C7F1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B7E2-E175-4C4F-B0BC-150044A9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A933-AD0F-4276-BE73-2544C5CA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9347-843B-47AA-BB2F-7E3B3041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8267-E6C8-4AC4-AF62-71867E46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0E2A-6674-4061-BB86-87A07CF39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asurement of Intra-sac Pressure in an Aneurysm Following EV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an P. Roddy, M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mber, Health Policy Committ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ciety for Vascular Surg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ociate Professor of Surgery, Albany Medical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320" y="2179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potential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ralateral (recommend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ps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ed by endograft type, patient anatomy, vessel condition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gical placement of pressure measurement sen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267080" y="1981080"/>
            <a:ext cx="426744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791320" y="338040"/>
            <a:ext cx="2286000" cy="1643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80880" y="228600"/>
            <a:ext cx="51818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Recommended surgical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ttain bilateral guidewire ac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91320" y="2031840"/>
            <a:ext cx="2286000" cy="1549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266688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sert main body of stent graf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791320" y="3633840"/>
            <a:ext cx="2286000" cy="1547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3886200"/>
            <a:ext cx="457200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sert sheath on contralateral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Use wire to locate g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791320" y="5234040"/>
            <a:ext cx="2286000" cy="1547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56272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Insert additional wire through contralateral sheath next to gate wire and advance into sa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791320" y="279360"/>
            <a:ext cx="2286000" cy="1549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152280"/>
            <a:ext cx="518184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commended surgical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Insert sensor over guidewire through contralateral sheath and advance into sa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Calibrate sensor and take first reading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791320" y="1905120"/>
            <a:ext cx="2286000" cy="1555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1981080"/>
            <a:ext cx="51055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Remove contralateral sheath over sensor catheter and gate wire, maintaining sensor position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troduce contralateral graft limb (or limb delivery sheath) over gate w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791320" y="3529080"/>
            <a:ext cx="2334960" cy="1576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0880" y="3886200"/>
            <a:ext cx="51055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Deploy contralateral limb and fix graf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Take final sensor rea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791320" y="5181480"/>
            <a:ext cx="2361960" cy="1595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600" y="5530680"/>
            <a:ext cx="5334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Confirm sensor position, release sensor and remove sensor delivery cathe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y Documentation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ian includes in dict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dure performed in operating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ment of pressure measurement sen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external electronic monitoring equipment to measure pressure/verify appropriate placement of g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ta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of specific ICD-9-CM codes for placement of a pressure measurement sensor and monitoring intra-arterial pressure during endovascular repair of an aneurysm creates ongoing data issu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ability to track procedures clearly in the encod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ability to differentiate EVAR procedures that use pressure measurement sen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ability to review and analyze data specific to these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asurement of Intra-sac Pressure in an Aneurysm Following EV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nk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ortic Aneury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cur when a weak area of the aorta expands or bul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dominal Aortic Aneurysm (AA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oracic Aortic Aneurysm (TA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65,000 aneurysms repaired an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potential trea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pen re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dovascular aneurysm re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27950" t="0" r="0" b="0"/>
          <a:stretch/>
        </p:blipFill>
        <p:spPr>
          <a:xfrm>
            <a:off x="5607000" y="1905120"/>
            <a:ext cx="3156120" cy="350496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ndovascular Aneurysm Repair (EVA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R accounts for the majority of aneurysm repair surg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d complications / morbidity vs. open surgical 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l EVAR com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olea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ft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12501" t="0" r="6249" b="0"/>
          <a:stretch/>
        </p:blipFill>
        <p:spPr>
          <a:xfrm>
            <a:off x="4495680" y="2133720"/>
            <a:ext cx="4343400" cy="31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798120" y="510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04800" y="960480"/>
            <a:ext cx="212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76280" y="1473120"/>
          <a:ext cx="8439120" cy="820800"/>
        </p:xfrm>
        <a:graphic>
          <a:graphicData uri="http://schemas.openxmlformats.org/drawingml/2006/table">
            <a:tbl>
              <a:tblPr/>
              <a:tblGrid>
                <a:gridCol w="2084400"/>
                <a:gridCol w="2084400"/>
                <a:gridCol w="2084400"/>
                <a:gridCol w="2185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adequate Se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llateral Vess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slodged or Torn Lim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bric Weep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ndoleaks – The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6095880"/>
            <a:ext cx="541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age courtesy of T. Ohki, M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8229600" cy="39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raining 30" descr=""/>
          <p:cNvPicPr/>
          <p:nvPr/>
        </p:nvPicPr>
        <p:blipFill>
          <a:blip r:embed="rId2"/>
          <a:srcRect l="24143" t="0" r="24143" b="0"/>
          <a:stretch/>
        </p:blipFill>
        <p:spPr>
          <a:xfrm>
            <a:off x="1231920" y="2133720"/>
            <a:ext cx="2286000" cy="3314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0000" y="131760"/>
            <a:ext cx="834876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ireless pressure sensors were recently introduced to help identify successful aneurysm exclusion following endovascular aneurysm repair (EVAR).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20720" y="2421000"/>
            <a:ext cx="384120" cy="1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504880" y="2421000"/>
            <a:ext cx="384120" cy="1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98760" y="4708440"/>
            <a:ext cx="318960" cy="21600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2284560" y="5105160"/>
            <a:ext cx="318960" cy="215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1828800"/>
            <a:ext cx="161604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roximal S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8920" y="4305240"/>
            <a:ext cx="140184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istal S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819520" y="5334120"/>
            <a:ext cx="380880" cy="3045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5715000"/>
            <a:ext cx="2048040" cy="580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  <a:ea typeface="ＭＳ Ｐゴシック"/>
              </a:rPr>
              <a:t>Entry site of Cath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1600200"/>
            <a:ext cx="4267080" cy="5063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leared by FDA in November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ngiography/CTA provide images which are not definitive about the existence, location or type of l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afety – radiation, contrast tox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nconvenience (every 6 month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Measuring sac pressure provides evidence for successful aneurysm exclusion which should translate into long-term graft stability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ＭＳ Ｐゴシック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ffffff"/>
                </a:solidFill>
                <a:latin typeface="Times New Roman"/>
                <a:ea typeface="ＭＳ Ｐゴシック"/>
              </a:rPr>
              <a:t>1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Treharne, et al., 19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ffffff"/>
                </a:solidFill>
                <a:latin typeface="Times New Roman"/>
                <a:ea typeface="ＭＳ Ｐゴシック"/>
              </a:rPr>
              <a:t>2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ias et al.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4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9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90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4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tra-arterial pressure sensor and electronic monitoring equi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3112920" cy="2068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687920" y="2209680"/>
            <a:ext cx="2386080" cy="24400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364440" y="3352680"/>
            <a:ext cx="2093760" cy="312444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Intra-Sac Pres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a-arterial pressure sensors are indicated for measuring intra-sac pressure during endovascular abdominal aortic aneurysm (AAA) repair or thoracic aortic aneurysm (TAA) repa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sure readings taken during the EVAR proced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-ex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t-ex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Sensor 11C013526 Implant(rev1)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91520" cy="5545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25760" y="1812960"/>
            <a:ext cx="286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Arial"/>
                <a:ea typeface="Arial"/>
              </a:rPr>
              <a:t>Pre Exclusion=70mmH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22860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Pre Balloon=17mmH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909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Post Balloon=11mmH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82960" y="2147760"/>
            <a:ext cx="1440" cy="67176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814480"/>
            <a:ext cx="1440" cy="766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95680" y="2971800"/>
            <a:ext cx="0" cy="7351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tient Selection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ently, EVAR patients with higher risk anatomy or concern after deployment of the main body de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better data is collected, a broader indication may be reason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0T23:12:37Z</dcterms:created>
  <dc:creator>Pierre Gobin</dc:creator>
  <dc:description/>
  <dc:language>en-US</dc:language>
  <cp:lastModifiedBy>Amy</cp:lastModifiedBy>
  <dcterms:modified xsi:type="dcterms:W3CDTF">2007-10-04T15:08:07Z</dcterms:modified>
  <cp:revision>361</cp:revision>
  <dc:subject/>
  <dc:title>Mechanical Revascularization and Hypothermia: Potential for the Treatment of Ischemic Strok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64667958</vt:r8>
  </property>
  <property fmtid="{D5CDD505-2E9C-101B-9397-08002B2CF9AE}" pid="3" name="_AuthorEmail">
    <vt:lpwstr>Marilu.Hue@cms.hhs.gov</vt:lpwstr>
  </property>
  <property fmtid="{D5CDD505-2E9C-101B-9397-08002B2CF9AE}" pid="4" name="_AuthorEmailDisplayName">
    <vt:lpwstr>Hue, Marilu (CMS/CMM)</vt:lpwstr>
  </property>
  <property fmtid="{D5CDD505-2E9C-101B-9397-08002B2CF9AE}" pid="5" name="_EmailSubject">
    <vt:lpwstr/>
  </property>
  <property fmtid="{D5CDD505-2E9C-101B-9397-08002B2CF9AE}" pid="6" name="_NewReviewCycle">
    <vt:lpwstr/>
  </property>
</Properties>
</file>