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ACE-2060-4930-B8B8-F96CDDB4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9C9-5A8A-48C7-B310-7D14FE0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2E1-A574-4977-8B5C-CFE70990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F06-9EF7-4373-99AB-BC1B9078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3D1-CF3F-4903-B8D9-CC66D9E0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93E0-A963-49F0-B522-E3C062B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1FAA-90DC-489B-A64B-776789C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2B5-E411-43B9-B9CE-D12DD9C1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8B47-1584-43AC-BBA5-75881DD2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0BC-9F8D-41EB-888F-4B2EAC2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4CC6-C37A-4BBF-8A88-6459F03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F14-55FC-4885-8FEF-59D0E0B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D7BB-016C-4EA6-ADDB-25BA915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C14A-0E0A-4376-8736-0C541A3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61F6-4B01-4909-B1CD-4B7C41A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7899-7070-4734-AF23-2EBFC8AF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245F-7070-47B3-B1CE-E39C6388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83A-289D-476A-B3DE-2C27C463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3C2-A69D-491E-9669-BCEA630A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A26-0672-467A-856A-F847E6E8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91F-5105-4234-8E39-5994B14D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962-C8A9-4114-8A65-70EF417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C21-B604-4373-9C60-49CB147D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FB0-F707-4D12-B961-BFF13F9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977-CDCF-4487-A2A5-750362F61C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4A0-288B-47A9-B7F6-2567FF203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D-9-CM Coordination and Maintenance Committee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-ventricular Replace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tley P. Griffith, M.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Cardiac Surgery Director, Heart and Lung Transpla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y of Maryland Medical Center (U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0231" r="0" b="0"/>
          <a:stretch/>
        </p:blipFill>
        <p:spPr>
          <a:xfrm>
            <a:off x="1676520" y="344664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242"/>
                </a:solidFill>
                <a:latin typeface="Arial"/>
              </a:rPr>
              <a:t>1985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Griff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0200" cy="5635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2160" y="613260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3480" y="469800"/>
            <a:ext cx="4395600" cy="59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918480" y="59040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65680" cy="541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6324480"/>
            <a:ext cx="21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92200" y="341280"/>
            <a:ext cx="4359600" cy="6175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18480" y="63612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84960" y="6284880"/>
            <a:ext cx="24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99160" y="6056280"/>
            <a:ext cx="28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anted CardioWest TAH-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59320" cy="506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75680" y="613260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5680" y="62085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0800" y="630720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ntricular Assist Devi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(V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862" t="1469" r="1709" b="4415"/>
          <a:stretch/>
        </p:blipFill>
        <p:spPr>
          <a:xfrm>
            <a:off x="533520" y="1600200"/>
            <a:ext cx="198108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2859" t="1512" r="15535" b="1512"/>
          <a:stretch/>
        </p:blipFill>
        <p:spPr>
          <a:xfrm>
            <a:off x="2743200" y="16002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32183" t="1512" r="1609" b="1512"/>
          <a:stretch/>
        </p:blipFill>
        <p:spPr>
          <a:xfrm>
            <a:off x="5943600" y="1600200"/>
            <a:ext cx="274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562720" cy="526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0199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resentative Resected He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97000" y="1176480"/>
            <a:ext cx="6918480" cy="52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90080" y="6002280"/>
            <a:ext cx="85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ourte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. Cope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41960" cy="548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03560" cy="512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13560" y="6132600"/>
            <a:ext cx="153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9920" y="6002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883560" cy="456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617220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29120" cy="569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18480" y="605628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0:30:28Z</dcterms:created>
  <dc:creator>cmarcot</dc:creator>
  <dc:description/>
  <dc:language>en-US</dc:language>
  <cp:lastModifiedBy>cmarcot</cp:lastModifiedBy>
  <dcterms:modified xsi:type="dcterms:W3CDTF">2007-10-05T18:55:02Z</dcterms:modified>
  <cp:revision>10</cp:revision>
  <dc:subject/>
  <dc:title>Slide 1</dc:title>
</cp:coreProperties>
</file>