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681788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0605-2E9A-44C8-9369-71BCE47D7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7658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86960" y="3777120"/>
            <a:ext cx="7658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944B-A509-43B5-AB7F-DA9D98F9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3737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1320" y="1269720"/>
            <a:ext cx="3737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86960" y="3777120"/>
            <a:ext cx="3737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1320" y="3777120"/>
            <a:ext cx="3737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F1E7-8456-4C9D-981B-2BE868CAC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2465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76440" y="1269720"/>
            <a:ext cx="2465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5560" y="1269720"/>
            <a:ext cx="2465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86960" y="3777120"/>
            <a:ext cx="2465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76440" y="3777120"/>
            <a:ext cx="2465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5560" y="3777120"/>
            <a:ext cx="2465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2683-9947-4AFA-8BBC-F3F1DB55B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86960" y="1269720"/>
            <a:ext cx="7658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3D84-0566-4807-907D-F966BD57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765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B972-6FBD-4408-9C26-FEB83147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3737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1320" y="1269720"/>
            <a:ext cx="3737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7FAF-6809-4DCE-A928-9DFE7C8C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719E-C82B-4C5E-863C-405204A6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62520"/>
            <a:ext cx="77724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3B6B-45EF-4845-832D-2BB15A12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3737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1320" y="1269720"/>
            <a:ext cx="3737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86960" y="3777120"/>
            <a:ext cx="3737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365D-7835-4EF5-9CEE-A5EEAC73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3737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1320" y="1269720"/>
            <a:ext cx="3737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1320" y="3777120"/>
            <a:ext cx="3737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A0E4-C884-46D1-AE00-E4C9CBC3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3737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1320" y="1269720"/>
            <a:ext cx="3737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86960" y="3777120"/>
            <a:ext cx="7658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B852-E3B7-4D9A-8159-7E44AED5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86960" y="1269720"/>
            <a:ext cx="765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5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434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499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434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  <a:p>
            <a:pPr lvl="2" marL="1257480" indent="-343080">
              <a:lnSpc>
                <a:spcPct val="95000"/>
              </a:lnSpc>
              <a:spcBef>
                <a:spcPts val="499"/>
              </a:spcBef>
              <a:buClr>
                <a:srgbClr val="124574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434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499"/>
              </a:spcBef>
              <a:buClr>
                <a:srgbClr val="1245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434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  <a:p>
            <a:pPr lvl="4" marL="2006640" indent="-177840">
              <a:lnSpc>
                <a:spcPct val="95000"/>
              </a:lnSpc>
              <a:spcBef>
                <a:spcPts val="499"/>
              </a:spcBef>
              <a:buClr>
                <a:srgbClr val="1245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434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  <a:p>
            <a:pPr lvl="5" marL="2006640" indent="-177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434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  <a:p>
            <a:pPr lvl="6" marL="2006640" indent="-177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434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048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51920" y="6235560"/>
            <a:ext cx="82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C5F4-1A24-4883-8404-FAE83C2EC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11400"/>
            <a:ext cx="7772400" cy="6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24574"/>
                </a:solidFill>
                <a:latin typeface="Arial"/>
              </a:rPr>
              <a:t>Colon Diseases</a:t>
            </a:r>
            <a:endParaRPr b="0" lang="en-US" sz="40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765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Cancer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Diverticular disease / diverticulitis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Ulcerative Colitis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Chrohns disease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Polyps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Trauma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Volvulus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4120" y="1945800"/>
            <a:ext cx="633420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24574"/>
                </a:solidFill>
                <a:latin typeface="Arial"/>
              </a:rPr>
              <a:t>Heralding the Comparisons </a:t>
            </a:r>
            <a:br>
              <a:rPr sz="3600"/>
            </a:br>
            <a:r>
              <a:rPr b="0" lang="en-US" sz="3600" spc="-1" strike="noStrike">
                <a:solidFill>
                  <a:srgbClr val="124574"/>
                </a:solidFill>
                <a:latin typeface="Arial"/>
              </a:rPr>
              <a:t>of Minimally Invasive and Open Colon Surgery</a:t>
            </a:r>
            <a:endParaRPr b="0" lang="en-US" sz="36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Referring Physicians Already Know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765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5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4343"/>
                </a:solidFill>
                <a:latin typeface="Arial"/>
              </a:rPr>
              <a:t>Minimally invasive colon surgery is a patient-friendly option with meaningful advantages</a:t>
            </a: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349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4343"/>
                </a:solidFill>
                <a:latin typeface="Arial"/>
              </a:rPr>
              <a:t>Less scarring</a:t>
            </a:r>
            <a:endParaRPr b="0" lang="en-US" sz="19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349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4343"/>
                </a:solidFill>
                <a:latin typeface="Arial"/>
              </a:rPr>
              <a:t>Less pain</a:t>
            </a:r>
            <a:endParaRPr b="0" lang="en-US" sz="19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349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4343"/>
                </a:solidFill>
                <a:latin typeface="Arial"/>
              </a:rPr>
              <a:t>Less recovery time</a:t>
            </a:r>
            <a:endParaRPr b="0" lang="en-US" sz="1900" spc="-1" strike="noStrike">
              <a:solidFill>
                <a:srgbClr val="434343"/>
              </a:solidFill>
              <a:latin typeface="Arial"/>
            </a:endParaRPr>
          </a:p>
          <a:p>
            <a:pPr marL="29196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Referring Physicians Need To Know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765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5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4343"/>
                </a:solidFill>
                <a:latin typeface="Arial"/>
              </a:rPr>
              <a:t>Numerous advantages of minimally invasive surgery (MIS) for colon cancer </a:t>
            </a: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349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4343"/>
                </a:solidFill>
                <a:latin typeface="Arial"/>
              </a:rPr>
              <a:t>Equal oncological clearance to open colectomy</a:t>
            </a:r>
            <a:endParaRPr b="0" lang="en-US" sz="19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349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4343"/>
                </a:solidFill>
                <a:latin typeface="Arial"/>
              </a:rPr>
              <a:t>Fewer complications of wound infection, anastomotic leak, etc</a:t>
            </a:r>
            <a:endParaRPr b="0" lang="en-US" sz="19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349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4343"/>
                </a:solidFill>
                <a:latin typeface="Arial"/>
              </a:rPr>
              <a:t>Greater range of patients than previously thought</a:t>
            </a:r>
            <a:endParaRPr b="0" lang="en-US" sz="19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349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4343"/>
                </a:solidFill>
                <a:latin typeface="Arial"/>
              </a:rPr>
              <a:t>Patient-friendly (shorter hospital stay, less pain, etc)</a:t>
            </a:r>
            <a:endParaRPr b="0" lang="en-US" sz="19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34343"/>
              </a:solidFill>
              <a:latin typeface="Arial"/>
            </a:endParaRPr>
          </a:p>
          <a:p>
            <a:pPr marL="29196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Key Findings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765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5840" indent="-285840">
              <a:lnSpc>
                <a:spcPct val="85000"/>
              </a:lnSpc>
              <a:spcBef>
                <a:spcPts val="451"/>
              </a:spcBef>
              <a:buSzPct val="1086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343"/>
                </a:solidFill>
                <a:latin typeface="Arial"/>
              </a:rPr>
              <a:t>Efficacy comparisons via</a:t>
            </a:r>
            <a:endParaRPr b="0" lang="en-US" sz="1800" spc="-1" strike="noStrike">
              <a:solidFill>
                <a:srgbClr val="434343"/>
              </a:solidFill>
              <a:latin typeface="Arial"/>
            </a:endParaRPr>
          </a:p>
          <a:p>
            <a:pPr lvl="1" marL="671760" indent="-22392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COST Trial – 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lvl="2" marL="1232280" indent="-335880">
              <a:lnSpc>
                <a:spcPct val="100000"/>
              </a:lnSpc>
              <a:spcBef>
                <a:spcPts val="187"/>
              </a:spcBef>
              <a:buClr>
                <a:srgbClr val="124574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At 3 years, rates of recurrence were similar: 16% MIS and 18% open 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(</a:t>
            </a:r>
            <a:r>
              <a:rPr b="0" i="1" lang="en-US" sz="10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=.32, 95% CI)</a:t>
            </a:r>
            <a:endParaRPr b="0" lang="en-US" sz="1000" spc="-1" strike="noStrike">
              <a:solidFill>
                <a:srgbClr val="434343"/>
              </a:solidFill>
              <a:latin typeface="Arial"/>
            </a:endParaRPr>
          </a:p>
          <a:p>
            <a:pPr lvl="2" marL="1232280" indent="-335880">
              <a:lnSpc>
                <a:spcPct val="100000"/>
              </a:lnSpc>
              <a:spcBef>
                <a:spcPts val="187"/>
              </a:spcBef>
              <a:buClr>
                <a:srgbClr val="124574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Recurrence rates in surgical wounds were less than 1% in both</a:t>
            </a:r>
            <a:r>
              <a:rPr b="0" lang="en-US" sz="1600" spc="-1" strike="noStrike">
                <a:solidFill>
                  <a:srgbClr val="434343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(</a:t>
            </a:r>
            <a:r>
              <a:rPr b="0" i="1" lang="en-US" sz="10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=.50, 95% CI)</a:t>
            </a:r>
            <a:endParaRPr b="0" lang="en-US" sz="1000" spc="-1" strike="noStrike">
              <a:solidFill>
                <a:srgbClr val="434343"/>
              </a:solidFill>
              <a:latin typeface="Arial"/>
            </a:endParaRPr>
          </a:p>
          <a:p>
            <a:pPr lvl="2" marL="1232280" indent="-335880">
              <a:lnSpc>
                <a:spcPct val="100000"/>
              </a:lnSpc>
              <a:spcBef>
                <a:spcPts val="187"/>
              </a:spcBef>
              <a:buClr>
                <a:srgbClr val="124574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At 3 years, overall survival rates was similar in both groups: 86% MIS and 85% open 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(</a:t>
            </a:r>
            <a:r>
              <a:rPr b="0" i="1" lang="en-US" sz="10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=.51, 95% CI)</a:t>
            </a:r>
            <a:endParaRPr b="0" lang="en-US" sz="1000" spc="-1" strike="noStrike">
              <a:solidFill>
                <a:srgbClr val="434343"/>
              </a:solidFill>
              <a:latin typeface="Arial"/>
            </a:endParaRPr>
          </a:p>
          <a:p>
            <a:pPr lvl="1" marL="671760" indent="-22392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Barcelona Trial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lvl="2" marL="1232280" indent="-335880">
              <a:lnSpc>
                <a:spcPct val="100000"/>
              </a:lnSpc>
              <a:spcBef>
                <a:spcPts val="187"/>
              </a:spcBef>
              <a:buClr>
                <a:srgbClr val="124574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MIS associated with reduced risk of tumor relapse 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(</a:t>
            </a:r>
            <a:r>
              <a:rPr b="0" i="1" lang="en-US" sz="10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=.07,95% CI)</a:t>
            </a:r>
            <a:endParaRPr b="0" lang="en-US" sz="1000" spc="-1" strike="noStrike">
              <a:solidFill>
                <a:srgbClr val="434343"/>
              </a:solidFill>
              <a:latin typeface="Arial"/>
            </a:endParaRPr>
          </a:p>
          <a:p>
            <a:pPr lvl="2" marL="1232280" indent="-335880">
              <a:lnSpc>
                <a:spcPct val="100000"/>
              </a:lnSpc>
              <a:spcBef>
                <a:spcPts val="264"/>
              </a:spcBef>
              <a:buClr>
                <a:srgbClr val="124574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Overall Survival - MIS associated with reduced risk of death from any cause 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(</a:t>
            </a:r>
            <a:r>
              <a:rPr b="0" i="1" lang="en-US" sz="10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=.22)</a:t>
            </a: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434343"/>
              </a:solidFill>
              <a:latin typeface="Arial"/>
            </a:endParaRPr>
          </a:p>
          <a:p>
            <a:pPr lvl="2" marL="1232280" indent="-335880">
              <a:lnSpc>
                <a:spcPct val="100000"/>
              </a:lnSpc>
              <a:spcBef>
                <a:spcPts val="187"/>
              </a:spcBef>
              <a:buClr>
                <a:srgbClr val="124574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Cancer Survival - MIS associated with reduced risk death from a cancer-related cause 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(</a:t>
            </a:r>
            <a:r>
              <a:rPr b="0" i="1" lang="en-US" sz="10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=.03)</a:t>
            </a:r>
            <a:endParaRPr b="0" lang="en-US" sz="1000" spc="-1" strike="noStrike">
              <a:solidFill>
                <a:srgbClr val="434343"/>
              </a:solidFill>
              <a:latin typeface="Arial"/>
            </a:endParaRPr>
          </a:p>
          <a:p>
            <a:pPr lvl="1" marL="671760" indent="-22392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COLOR Trial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lvl="2" marL="1232280" indent="-335880">
              <a:lnSpc>
                <a:spcPct val="100000"/>
              </a:lnSpc>
              <a:spcBef>
                <a:spcPts val="264"/>
              </a:spcBef>
              <a:buClr>
                <a:srgbClr val="124574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Postoperative exam showed no differences between resected samples</a:t>
            </a:r>
            <a:endParaRPr b="0" lang="en-US" sz="1400" spc="-1" strike="noStrike">
              <a:solidFill>
                <a:srgbClr val="434343"/>
              </a:solidFill>
              <a:latin typeface="Arial"/>
            </a:endParaRPr>
          </a:p>
          <a:p>
            <a:pPr lvl="2" marL="1232280" indent="-335880">
              <a:lnSpc>
                <a:spcPct val="100000"/>
              </a:lnSpc>
              <a:spcBef>
                <a:spcPts val="264"/>
              </a:spcBef>
              <a:buClr>
                <a:srgbClr val="124574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No difference in morbidity/mortality 28 days after colectomy according to location of resection</a:t>
            </a:r>
            <a:endParaRPr b="0" lang="en-US" sz="1400" spc="-1" strike="noStrike">
              <a:solidFill>
                <a:srgbClr val="434343"/>
              </a:solidFill>
              <a:latin typeface="Arial"/>
            </a:endParaRPr>
          </a:p>
          <a:p>
            <a:pPr lvl="2" marL="1232280" indent="-335880">
              <a:lnSpc>
                <a:spcPct val="100000"/>
              </a:lnSpc>
              <a:spcBef>
                <a:spcPts val="264"/>
              </a:spcBef>
              <a:buClr>
                <a:srgbClr val="124574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Elderly patients were not excluded from trial </a:t>
            </a:r>
            <a:br>
              <a:rPr sz="1400"/>
            </a:b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(median age=71)</a:t>
            </a:r>
            <a:endParaRPr b="0" lang="en-US" sz="1400" spc="-1" strike="noStrike">
              <a:solidFill>
                <a:srgbClr val="434343"/>
              </a:solidFill>
              <a:latin typeface="Arial"/>
            </a:endParaRPr>
          </a:p>
          <a:p>
            <a:pPr lvl="2" marL="1232280" indent="-335880">
              <a:lnSpc>
                <a:spcPct val="100000"/>
              </a:lnSpc>
              <a:spcBef>
                <a:spcPts val="264"/>
              </a:spcBef>
              <a:buClr>
                <a:srgbClr val="124574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Obesity no longer regarded as contraindication</a:t>
            </a:r>
            <a:endParaRPr b="0" lang="en-US" sz="14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00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574"/>
                </a:solidFill>
                <a:latin typeface="FranklinGothic-Demi"/>
              </a:rPr>
              <a:t>M</a:t>
            </a:r>
            <a:r>
              <a:rPr b="0" lang="en-US" sz="2800" spc="-1" strike="noStrike">
                <a:solidFill>
                  <a:srgbClr val="124574"/>
                </a:solidFill>
                <a:latin typeface="FranklinGothic-Demi"/>
              </a:rPr>
              <a:t>inimally </a:t>
            </a:r>
            <a:r>
              <a:rPr b="1" lang="en-US" sz="2800" spc="-1" strike="noStrike">
                <a:solidFill>
                  <a:srgbClr val="124574"/>
                </a:solidFill>
                <a:latin typeface="FranklinGothic-Demi"/>
              </a:rPr>
              <a:t>I</a:t>
            </a:r>
            <a:r>
              <a:rPr b="0" lang="en-US" sz="2800" spc="-1" strike="noStrike">
                <a:solidFill>
                  <a:srgbClr val="124574"/>
                </a:solidFill>
                <a:latin typeface="FranklinGothic-Demi"/>
              </a:rPr>
              <a:t>nvasive </a:t>
            </a:r>
            <a:r>
              <a:rPr b="1" lang="en-US" sz="2800" spc="-1" strike="noStrike">
                <a:solidFill>
                  <a:srgbClr val="124574"/>
                </a:solidFill>
                <a:latin typeface="FranklinGothic-Demi"/>
              </a:rPr>
              <a:t>C</a:t>
            </a:r>
            <a:r>
              <a:rPr b="0" lang="en-US" sz="2800" spc="-1" strike="noStrike">
                <a:solidFill>
                  <a:srgbClr val="124574"/>
                </a:solidFill>
                <a:latin typeface="FranklinGothic-Demi"/>
              </a:rPr>
              <a:t>olorectal </a:t>
            </a:r>
            <a:r>
              <a:rPr b="1" lang="en-US" sz="2800" spc="-1" strike="noStrike">
                <a:solidFill>
                  <a:srgbClr val="124574"/>
                </a:solidFill>
                <a:latin typeface="FranklinGothic-Demi"/>
              </a:rPr>
              <a:t>R</a:t>
            </a:r>
            <a:r>
              <a:rPr b="0" lang="en-US" sz="2800" spc="-1" strike="noStrike">
                <a:solidFill>
                  <a:srgbClr val="124574"/>
                </a:solidFill>
                <a:latin typeface="FranklinGothic-Demi"/>
              </a:rPr>
              <a:t>esection </a:t>
            </a:r>
            <a:r>
              <a:rPr b="1" lang="en-US" sz="2800" spc="-1" strike="noStrike">
                <a:solidFill>
                  <a:srgbClr val="124574"/>
                </a:solidFill>
                <a:latin typeface="FranklinGothic-Demi"/>
              </a:rPr>
              <a:t>O</a:t>
            </a:r>
            <a:r>
              <a:rPr b="0" lang="en-US" sz="2800" spc="-1" strike="noStrike">
                <a:solidFill>
                  <a:srgbClr val="124574"/>
                </a:solidFill>
                <a:latin typeface="FranklinGothic-Demi"/>
              </a:rPr>
              <a:t>utcomes</a:t>
            </a:r>
            <a:r>
              <a:rPr b="0" lang="en-US" sz="2400" spc="-1" strike="noStrike">
                <a:solidFill>
                  <a:srgbClr val="124574"/>
                </a:solidFill>
                <a:latin typeface="FranklinGothic-Demi"/>
              </a:rPr>
              <a:t>: Short-term Comparison with Open Procedures: </a:t>
            </a:r>
            <a:r>
              <a:rPr b="0" lang="en-US" sz="2000" spc="-1" strike="noStrike">
                <a:solidFill>
                  <a:srgbClr val="124574"/>
                </a:solidFill>
                <a:latin typeface="FranklinGothic-Demi"/>
              </a:rPr>
              <a:t>MICRO Review</a:t>
            </a:r>
            <a:br>
              <a:rPr sz="2000"/>
            </a:br>
            <a:endParaRPr b="0" lang="en-US" sz="20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765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5000"/>
              </a:lnSpc>
              <a:spcBef>
                <a:spcPts val="451"/>
              </a:spcBef>
              <a:buSzPct val="1086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343"/>
                </a:solidFill>
                <a:latin typeface="Arial"/>
              </a:rPr>
              <a:t>Minimally invasive colon surgery means fewer intraoperative and perioperative complications:</a:t>
            </a:r>
            <a:endParaRPr b="0" lang="en-US" sz="18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Significantly lower rates of wound infection (</a:t>
            </a:r>
            <a:r>
              <a:rPr b="0" i="1" lang="en-US" sz="17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&lt;.001)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Lower rates of anastomotic leak and venous thromboembolism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Lower rates of cardiac events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buSzPct val="1086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343"/>
                </a:solidFill>
                <a:latin typeface="Arial"/>
              </a:rPr>
              <a:t>Despite minimally invasive colon surgery requiring longer surgical time:</a:t>
            </a:r>
            <a:endParaRPr b="0" lang="en-US" sz="18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Significantly smaller incisions (</a:t>
            </a:r>
            <a:r>
              <a:rPr b="0" i="1" lang="en-US" sz="17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=.001)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Significantly less blood loss (</a:t>
            </a:r>
            <a:r>
              <a:rPr b="0" i="1" lang="en-US" sz="17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=.001)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Fewer transfusions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buSzPct val="1086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343"/>
                </a:solidFill>
                <a:latin typeface="Arial"/>
              </a:rPr>
              <a:t>Mean GI recovery times were faster for minimally invasive colon surgery than open surgery:</a:t>
            </a:r>
            <a:endParaRPr b="0" lang="en-US" sz="18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First bowel movement (</a:t>
            </a:r>
            <a:r>
              <a:rPr b="0" i="1" lang="en-US" sz="17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=.001)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Time to oral intake (</a:t>
            </a:r>
            <a:r>
              <a:rPr b="0" i="1" lang="en-US" sz="17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=.001)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Time to normal diet (</a:t>
            </a:r>
            <a:r>
              <a:rPr b="0" i="1" lang="en-US" sz="17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=.001)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marL="29196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00"/>
              </a:spcBef>
              <a:buSzPct val="12234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34343"/>
                </a:solidFill>
                <a:latin typeface="Arial"/>
              </a:rPr>
              <a:t>Benefits consistent across all conditions </a:t>
            </a:r>
            <a:br>
              <a:rPr sz="1600"/>
            </a:br>
            <a:r>
              <a:rPr b="0" lang="en-US" sz="1600" spc="-1" strike="noStrike">
                <a:solidFill>
                  <a:srgbClr val="434343"/>
                </a:solidFill>
                <a:latin typeface="Arial"/>
              </a:rPr>
              <a:t>(cancer, IBD, diverticular disease)</a:t>
            </a:r>
            <a:endParaRPr b="0" lang="en-US" sz="1600" spc="-1" strike="noStrike">
              <a:solidFill>
                <a:srgbClr val="434343"/>
              </a:solidFill>
              <a:latin typeface="Arial"/>
            </a:endParaRPr>
          </a:p>
          <a:p>
            <a:pPr marL="29196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Open Colon Surgery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765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Abdominal Incision 6-10 inches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Wound edges held apart to allow access to abdominal contents.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Portion of diseased colon mobilized and resected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After operation completed abdominal wound is closed with sutures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Laparoscopic Colon Surgery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765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5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343"/>
                </a:solidFill>
                <a:latin typeface="Arial"/>
              </a:rPr>
              <a:t>Abdomen insufflated with CO2 gas to create working space</a:t>
            </a:r>
            <a:endParaRPr b="0" lang="en-US" sz="24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343"/>
                </a:solidFill>
                <a:latin typeface="Arial"/>
              </a:rPr>
              <a:t>Trocars placed to allow camera and instrument insertion into the abdomen</a:t>
            </a:r>
            <a:endParaRPr b="0" lang="en-US" sz="24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343"/>
                </a:solidFill>
                <a:latin typeface="Arial"/>
              </a:rPr>
              <a:t>Operation performed by viewing on video monitor</a:t>
            </a:r>
            <a:endParaRPr b="0" lang="en-US" sz="24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343"/>
                </a:solidFill>
                <a:latin typeface="Arial"/>
              </a:rPr>
              <a:t>Diseased colon mobilized and removed through small abdominal incision</a:t>
            </a:r>
            <a:endParaRPr b="0" lang="en-US" sz="24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343"/>
                </a:solidFill>
                <a:latin typeface="Arial"/>
              </a:rPr>
              <a:t>After operation completed small incisions closed with suture</a:t>
            </a:r>
            <a:endParaRPr b="0" lang="en-US" sz="24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343"/>
                </a:solidFill>
                <a:latin typeface="Arial"/>
              </a:rPr>
              <a:t>See video / pictures</a:t>
            </a:r>
            <a:endParaRPr b="0" lang="en-US" sz="2400" spc="-1" strike="noStrike">
              <a:solidFill>
                <a:srgbClr val="434343"/>
              </a:solidFill>
              <a:latin typeface="Arial"/>
            </a:endParaRPr>
          </a:p>
          <a:p>
            <a:pPr marL="29196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Open v. Lap Colectomy Video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Open Colon / Video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Lap Colon Set Up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Anastomosis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Stapler on Colon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Stapled Colon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17:33:32Z</dcterms:created>
  <dc:creator>John Hart</dc:creator>
  <dc:description/>
  <dc:language>en-US</dc:language>
  <cp:lastModifiedBy>MMoore2</cp:lastModifiedBy>
  <dcterms:modified xsi:type="dcterms:W3CDTF">2007-09-24T21:18:45Z</dcterms:modified>
  <cp:revision>96</cp:revision>
  <dc:subject/>
  <dc:title>Comparison of Short-term Outcomes for Minimally Invasive versus Open Surgery for Colorectal Resection:  A Systematic Literature Re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76019270</vt:r8>
  </property>
  <property fmtid="{D5CDD505-2E9C-101B-9397-08002B2CF9AE}" pid="3" name="_AuthorEmail">
    <vt:lpwstr>Marilu.Hue@cms.hhs.gov</vt:lpwstr>
  </property>
  <property fmtid="{D5CDD505-2E9C-101B-9397-08002B2CF9AE}" pid="4" name="_AuthorEmailDisplayName">
    <vt:lpwstr>Hue, Marilu (CMS/CMM)</vt:lpwstr>
  </property>
  <property fmtid="{D5CDD505-2E9C-101B-9397-08002B2CF9AE}" pid="5" name="_EmailSubject">
    <vt:lpwstr/>
  </property>
  <property fmtid="{D5CDD505-2E9C-101B-9397-08002B2CF9AE}" pid="6" name="_NewReviewCycle">
    <vt:lpwstr/>
  </property>
</Properties>
</file>