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90160" y="704880"/>
            <a:ext cx="4629240" cy="34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21960" y="4446360"/>
            <a:ext cx="5140440" cy="390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46640" y="8664480"/>
            <a:ext cx="117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8BA60F4-0E6E-407D-BDC2-67F6FAD664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21960" y="4446360"/>
            <a:ext cx="5140440" cy="390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animal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tuximab is an integral part of tx for patients with systemic lymphoma (lymphoma in the rest of the bo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stuzumab (Hercept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™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21960" y="4446360"/>
            <a:ext cx="5140440" cy="390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therapy for CNS lymphoma causes dementia in up to 50% of patients depending on th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RI shows atrophy (loss of tissue) in the brain occurring several years after whole brain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hings 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s are ratios of disrupted right hemisphere to nondisrupted left, showing again that drug delivery is improved almost 30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therapy decreases drug delivery to the brain by more than 50%. This is another reason to delay radiation therapy in favor of IA/BB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A/BBBD is a multidisciplinary procedure that requires a team of dedicated health care professio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21960" y="4446360"/>
            <a:ext cx="5140440" cy="390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mptoms and effects progress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icated by need for steroids which have substantial side eff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essive neurologic decline with increasing pressure in brain and decreasing brain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18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y of drug to tumor is goal.  Already described effect of P450 anticonvulsants.  Also BBB 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 delivery with standard therapy. Only a fraction of drug gets to the tum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18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y of drug to tumor is goal.  Already described effect of P450 anticonvulsants.  Also BBB 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ww.mypacs.net/cgi-bin/repos/mpv3_repo/wrm/repo-view.pl?cx_subject=4107256&amp;mode=NOBANNER&amp;bgcolor=BLACK&amp;cx_image_only_mode=on&amp;cx_repo=mpv3_repo&amp;cx_prefsize=medium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320" y="7452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8600" y="15228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od-brain Barrier Disruptio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pplications and Advant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esentation to C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04080" y="17938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133720"/>
            <a:ext cx="3581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avid M. Peereboom, MD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leveland Clinic Brain Tumor Institute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leveland Clinic Taussig Cancer Center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eptember 28,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499080" cy="48751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8000" y="22824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"/>
              </a:rPr>
              <a:t>Primary CNS Lymphoma</a:t>
            </a:r>
            <a:endParaRPr b="1" lang="en-US" sz="4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960" y="2895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An unmet need:</a:t>
            </a:r>
            <a:br>
              <a:rPr sz="5000"/>
            </a:br>
            <a:r>
              <a:rPr b="1" lang="en-US" sz="5600" spc="-1" strike="noStrike">
                <a:solidFill>
                  <a:srgbClr val="ffff00"/>
                </a:solidFill>
                <a:latin typeface="Arial"/>
              </a:rPr>
              <a:t>Getting drugs to the brain tumor</a:t>
            </a:r>
            <a:endParaRPr b="1" lang="en-US" sz="5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Strategy to optimize drug delivery to tumor</a:t>
            </a:r>
            <a:endParaRPr b="1" lang="en-US" sz="5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36680" indent="-262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od brain barrier disruption (BBB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6680" indent="-262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ed out of need for better drug delive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6680" indent="-262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365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ility to deliver 10 – 100 times as much chemotherapy to the tumor (c/w IV or ora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365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tential to deliver large molecules to bra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1040" indent="-392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tuximab (Rituxa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™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or CNS lymphom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81040" indent="-392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stuzumab (Hercepti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™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or breast canc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6680" indent="-262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void need for radiation therap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Long term affect of combined chemo-radiation therapy</a:t>
            </a: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25229" t="0" r="25225" b="1562"/>
          <a:stretch/>
        </p:blipFill>
        <p:spPr>
          <a:xfrm>
            <a:off x="4781520" y="1752480"/>
            <a:ext cx="4057560" cy="4648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174760" y="138240"/>
            <a:ext cx="9720" cy="95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3"/>
          </p:cNvPr>
          <p:cNvPicPr/>
          <p:nvPr/>
        </p:nvPicPr>
        <p:blipFill>
          <a:blip r:embed="rId4"/>
          <a:srcRect l="0" t="4564" r="0" b="0"/>
          <a:stretch/>
        </p:blipFill>
        <p:spPr>
          <a:xfrm>
            <a:off x="457200" y="1752480"/>
            <a:ext cx="4192560" cy="4648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67760" y="649116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05240" y="649116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ter radi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336840" y="1126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Metastatic Ovarian Cancer</a:t>
            </a:r>
            <a:br>
              <a:rPr sz="4200"/>
            </a:b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before &amp; after IA/BBBD</a:t>
            </a: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121920" y="6284880"/>
            <a:ext cx="28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urtesy Edward Neuw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Intra-arterial chemo/BBB disruption (IA/BBBD)</a:t>
            </a:r>
            <a:endParaRPr b="1" lang="en-US" sz="5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ic toxicity limits dose of IV chemotherapy that can be giv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A tx + BBBD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rug delivery to brain tumor by ~ 10-100 tim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st useful for patients with chemotherapy-sensitive cancers such as CNS lymphoma, brain metastases from breast cancer, testicular cancer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BBBD improves drug delivery to tumor and brain around tumor</a:t>
            </a:r>
            <a:br>
              <a:rPr sz="4200"/>
            </a:b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TX Concentration (ng/g)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81200" y="2666880"/>
          <a:ext cx="7677000" cy="2133360"/>
        </p:xfrm>
        <a:graphic>
          <a:graphicData uri="http://schemas.openxmlformats.org/drawingml/2006/table">
            <a:tbl>
              <a:tblPr/>
              <a:tblGrid>
                <a:gridCol w="1400040"/>
                <a:gridCol w="1780920"/>
                <a:gridCol w="1505160"/>
                <a:gridCol w="1390680"/>
                <a:gridCol w="16002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24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CONTR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OPEN BARRI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3366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UM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9933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3366"/>
                      </a:solidFill>
                    </a:lnL>
                    <a:lnR>
                      <a:noFill/>
                    </a:lnR>
                    <a:lnT w="13680">
                      <a:solidFill>
                        <a:srgbClr val="993366"/>
                      </a:solidFill>
                    </a:lnT>
                    <a:lnB w="13680">
                      <a:solidFill>
                        <a:srgbClr val="993366"/>
                      </a:solidFill>
                    </a:lnB>
                    <a:solidFill>
                      <a:srgbClr val="bbbb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3366"/>
                      </a:solidFill>
                    </a:lnT>
                    <a:lnB w="13680">
                      <a:solidFill>
                        <a:srgbClr val="993366"/>
                      </a:solidFill>
                    </a:lnB>
                    <a:solidFill>
                      <a:srgbClr val="bbbb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3366"/>
                      </a:solidFill>
                    </a:lnT>
                    <a:lnB w="13680">
                      <a:solidFill>
                        <a:srgbClr val="993366"/>
                      </a:solidFill>
                    </a:lnB>
                    <a:solidFill>
                      <a:srgbClr val="bbbb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993366"/>
                      </a:solidFill>
                    </a:lnR>
                    <a:lnT w="13680">
                      <a:solidFill>
                        <a:srgbClr val="993366"/>
                      </a:solidFill>
                    </a:lnT>
                    <a:lnB w="13680">
                      <a:solidFill>
                        <a:srgbClr val="993366"/>
                      </a:solidFill>
                    </a:lnB>
                    <a:solidFill>
                      <a:srgbClr val="bbbbf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9933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3366"/>
                      </a:solidFill>
                    </a:lnL>
                    <a:lnR>
                      <a:noFill/>
                    </a:lnR>
                    <a:lnT w="13680">
                      <a:solidFill>
                        <a:srgbClr val="993366"/>
                      </a:solidFill>
                    </a:lnT>
                    <a:lnB w="13680">
                      <a:solidFill>
                        <a:srgbClr val="993366"/>
                      </a:solidFill>
                    </a:lnB>
                    <a:solidFill>
                      <a:srgbClr val="bbbb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3366"/>
                      </a:solidFill>
                    </a:lnT>
                    <a:lnB w="13680">
                      <a:solidFill>
                        <a:srgbClr val="993366"/>
                      </a:solidFill>
                    </a:lnB>
                    <a:solidFill>
                      <a:srgbClr val="bbbb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3366"/>
                      </a:solidFill>
                    </a:lnT>
                    <a:lnB w="13680">
                      <a:solidFill>
                        <a:srgbClr val="993366"/>
                      </a:solidFill>
                    </a:lnB>
                    <a:solidFill>
                      <a:srgbClr val="bbbb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3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993366"/>
                      </a:solidFill>
                    </a:lnR>
                    <a:lnT w="13680">
                      <a:solidFill>
                        <a:srgbClr val="993366"/>
                      </a:solidFill>
                    </a:lnT>
                    <a:lnB w="13680">
                      <a:solidFill>
                        <a:srgbClr val="993366"/>
                      </a:solidFill>
                    </a:lnB>
                    <a:solidFill>
                      <a:srgbClr val="bbbbf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914400" y="5486400"/>
            <a:ext cx="3505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 = intraven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 = intracarot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T = brain around tum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71440" y="8377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Sequencing of BBBD Chemotherapy and Radiotherapy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66760" y="2743200"/>
          <a:ext cx="8610480" cy="3351240"/>
        </p:xfrm>
        <a:graphic>
          <a:graphicData uri="http://schemas.openxmlformats.org/drawingml/2006/table">
            <a:tbl>
              <a:tblPr/>
              <a:tblGrid>
                <a:gridCol w="4838760"/>
                <a:gridCol w="3771720"/>
              </a:tblGrid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ffect on Drug Deliver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3366"/>
                      </a:solidFill>
                    </a:lnL>
                    <a:lnR w="13680">
                      <a:solidFill>
                        <a:srgbClr val="993366"/>
                      </a:solidFill>
                    </a:lnR>
                    <a:lnT w="13680">
                      <a:solidFill>
                        <a:srgbClr val="993366"/>
                      </a:solidFill>
                    </a:lnT>
                    <a:lnB w="13680">
                      <a:solidFill>
                        <a:srgbClr val="993366"/>
                      </a:solidFill>
                    </a:lnB>
                    <a:solidFill>
                      <a:srgbClr val="bbbb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trexate delivery to rat brain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3366"/>
                      </a:solidFill>
                    </a:lnL>
                    <a:lnR w="13680">
                      <a:solidFill>
                        <a:srgbClr val="993366"/>
                      </a:solidFill>
                    </a:lnR>
                    <a:lnT w="13680">
                      <a:solidFill>
                        <a:srgbClr val="993366"/>
                      </a:solidFill>
                    </a:lnT>
                    <a:lnB w="13680">
                      <a:solidFill>
                        <a:srgbClr val="993366"/>
                      </a:solidFill>
                    </a:lnB>
                    <a:solidFill>
                      <a:srgbClr val="bbbbff"/>
                    </a:solidFill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tion 30 days before BBB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3366"/>
                      </a:solidFill>
                    </a:lnL>
                    <a:lnR w="13680">
                      <a:solidFill>
                        <a:srgbClr val="993366"/>
                      </a:solidFill>
                    </a:lnR>
                    <a:lnT w="13680">
                      <a:solidFill>
                        <a:srgbClr val="993366"/>
                      </a:solidFill>
                    </a:lnT>
                    <a:lnB w="13680">
                      <a:solidFill>
                        <a:srgbClr val="993366"/>
                      </a:solidFill>
                    </a:lnB>
                    <a:solidFill>
                      <a:srgbClr val="bbbb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 3.1, n = 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3366"/>
                      </a:solidFill>
                    </a:lnL>
                    <a:lnR w="13680">
                      <a:solidFill>
                        <a:srgbClr val="993366"/>
                      </a:solidFill>
                    </a:lnR>
                    <a:lnT w="13680">
                      <a:solidFill>
                        <a:srgbClr val="993366"/>
                      </a:solidFill>
                    </a:lnT>
                    <a:lnB w="13680">
                      <a:solidFill>
                        <a:srgbClr val="993366"/>
                      </a:solidFill>
                    </a:lnB>
                    <a:solidFill>
                      <a:srgbClr val="bbbbff"/>
                    </a:solidFill>
                  </a:tcPr>
                </a:tc>
              </a:tr>
              <a:tr h="91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adi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3366"/>
                      </a:solidFill>
                    </a:lnL>
                    <a:lnR w="13680">
                      <a:solidFill>
                        <a:srgbClr val="993366"/>
                      </a:solidFill>
                    </a:lnR>
                    <a:lnT w="13680">
                      <a:solidFill>
                        <a:srgbClr val="993366"/>
                      </a:solidFill>
                    </a:lnT>
                    <a:lnB w="13680">
                      <a:solidFill>
                        <a:srgbClr val="993366"/>
                      </a:solidFill>
                    </a:lnB>
                    <a:solidFill>
                      <a:srgbClr val="bbbb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8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 5.7, n = 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3366"/>
                      </a:solidFill>
                    </a:lnL>
                    <a:lnR w="13680">
                      <a:solidFill>
                        <a:srgbClr val="993366"/>
                      </a:solidFill>
                    </a:lnR>
                    <a:lnT w="13680">
                      <a:solidFill>
                        <a:srgbClr val="993366"/>
                      </a:solidFill>
                    </a:lnT>
                    <a:lnB w="13680">
                      <a:solidFill>
                        <a:srgbClr val="993366"/>
                      </a:solidFill>
                    </a:lnB>
                    <a:solidFill>
                      <a:srgbClr val="bbbbff"/>
                    </a:solidFill>
                  </a:tcPr>
                </a:tc>
              </a:tr>
            </a:tbl>
          </a:graphicData>
        </a:graphic>
      </p:graphicFrame>
      <p:pic>
        <p:nvPicPr>
          <p:cNvPr id="156" name="" descr=""/>
          <p:cNvPicPr/>
          <p:nvPr/>
        </p:nvPicPr>
        <p:blipFill>
          <a:blip r:embed="rId1"/>
          <a:srcRect l="6902" t="10099" r="73859" b="65686"/>
          <a:stretch/>
        </p:blipFill>
        <p:spPr>
          <a:xfrm>
            <a:off x="914400" y="304920"/>
            <a:ext cx="2057400" cy="194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647640" y="6172200"/>
            <a:ext cx="81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*Disrupted right hemisphere compared to nondisrupted left hemi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Less cognitive toxicity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, primary CNS lymphom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 yr survival 42% with no radiation therapy (RT) and no cognitive los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ares with same surviva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u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2% dementia with combined chemo + R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</a:rPr>
              <a:t>McAllister, Neurosurgery, 46:51, 2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</a:rPr>
              <a:t>Abrey, J Clin Oncol 16:859, 1998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NS Lymphoma after IA/BBBD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8320" y="990720"/>
            <a:ext cx="3276360" cy="2514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3276360" cy="2514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219320" y="3611520"/>
            <a:ext cx="3276360" cy="2789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4648320" y="3618000"/>
            <a:ext cx="3303360" cy="2782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168720" y="6477120"/>
            <a:ext cx="27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rtesy Lilyana Angel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00"/>
                </a:solidFill>
                <a:latin typeface="Arial"/>
              </a:rPr>
              <a:t>Abbreviations</a:t>
            </a:r>
            <a:endParaRPr b="1" lang="en-US" sz="6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960" y="20574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BB – blood-brain barri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BBD – blood-brain barrier disrup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A/BBBD – intra-arterial chemo with BBB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NS – central nervous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CNSL – primary CNS lymphom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T – radiation therap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V – intraveno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304920" y="351000"/>
          <a:ext cx="8458200" cy="6203880"/>
        </p:xfrm>
        <a:graphic>
          <a:graphicData uri="http://schemas.openxmlformats.org/drawingml/2006/table">
            <a:tbl>
              <a:tblPr/>
              <a:tblGrid>
                <a:gridCol w="1371600"/>
                <a:gridCol w="1350720"/>
                <a:gridCol w="1544760"/>
                <a:gridCol w="1295280"/>
                <a:gridCol w="1600200"/>
                <a:gridCol w="1295640"/>
              </a:tblGrid>
              <a:tr h="73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St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Patients 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Previously T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RR (CR+PR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edian PFS (mo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OS (mo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TO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3-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D Mtx + WBX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4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6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ORTC 209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D Mtx + WBX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&lt; 65 y.o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1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ORTC 269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D Mtx +  Che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&gt; 60 y.o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8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4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ABT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6-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D Mtx +  Che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4 %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3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Arial"/>
                          <a:ea typeface="Times New Roman"/>
                        </a:rPr>
                        <a:t>BBB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ff99"/>
                          </a:solidFill>
                          <a:latin typeface="Arial"/>
                          <a:ea typeface="Times New Roman"/>
                        </a:rPr>
                        <a:t>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ff99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ff99"/>
                          </a:solidFill>
                          <a:latin typeface="Arial"/>
                          <a:ea typeface="Times New Roman"/>
                        </a:rPr>
                        <a:t>84 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ff99"/>
                          </a:solidFill>
                          <a:latin typeface="Arial"/>
                          <a:ea typeface="Times New Roman"/>
                        </a:rPr>
                        <a:t>--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ff99"/>
                          </a:solidFill>
                          <a:latin typeface="Arial"/>
                          <a:ea typeface="Times New Roman"/>
                        </a:rPr>
                        <a:t>40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"/>
              </a:rPr>
              <a:t>Blood-brain barrier disruption</a:t>
            </a:r>
            <a:br>
              <a:rPr sz="4600"/>
            </a:br>
            <a:r>
              <a:rPr b="1" lang="en-US" sz="4600" spc="-1" strike="noStrike">
                <a:solidFill>
                  <a:srgbClr val="ffff00"/>
                </a:solidFill>
                <a:latin typeface="Arial"/>
              </a:rPr>
              <a:t>How it’s done</a:t>
            </a:r>
            <a:endParaRPr b="1" lang="en-US" sz="4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patient proced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ient placed under general anesthesia; anti-seizure meds given to patient to prevent seiz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theter placed in artery in groin (femoral artery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theter advanced into arteries that lead to brain (carotid or vertebral artery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"/>
              </a:rPr>
              <a:t>Blood-brain barrier disruption</a:t>
            </a:r>
            <a:br>
              <a:rPr sz="4600"/>
            </a:br>
            <a:r>
              <a:rPr b="1" lang="en-US" sz="4600" spc="-1" strike="noStrike">
                <a:solidFill>
                  <a:srgbClr val="ffff00"/>
                </a:solidFill>
                <a:latin typeface="Arial"/>
              </a:rPr>
              <a:t>How it’s done</a:t>
            </a:r>
            <a:endParaRPr b="1" lang="en-US" sz="4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nitol infused into catheter to open (disrupt) BB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ug infused through same catheter to deliver maximum concentration to tum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giogram done to make sure artery not damag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Blood-brain barrier disruption</a:t>
            </a:r>
            <a:br>
              <a:rPr sz="4200"/>
            </a:b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How it’s done</a:t>
            </a: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ient taken to recovery roo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BB closes few hours la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ure repeated next day using a different arte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ient leaves hospital day 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9440" y="30456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Blood-brain barrier disruption</a:t>
            </a:r>
            <a:br>
              <a:rPr sz="4200"/>
            </a:b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arotid artery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233960" y="1676520"/>
            <a:ext cx="4605120" cy="4843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69920" y="1671480"/>
            <a:ext cx="447048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00"/>
                </a:solidFill>
                <a:latin typeface="Arial"/>
              </a:rPr>
              <a:t>Possible risks</a:t>
            </a:r>
            <a:endParaRPr b="1" lang="en-US" sz="6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arable to those seen with standard chemotherap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ural ris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 anesthes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mage to arte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se are rare; much less common than neurotoxicity due to radiation therap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5761" t="6521" r="4049" b="41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BBB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Potential future uses</a:t>
            </a:r>
            <a:endParaRPr b="1" lang="en-US" sz="5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ivery of larger substances to bra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tibodies for treatment of lymphoma, breast canc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ified viruses that will deliver genes for gene therap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ugs for treatment of other CNS diseases - ?Alzheimer’s dis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BBB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Potential future uses</a:t>
            </a:r>
            <a:endParaRPr b="1" lang="en-US" sz="5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nical trials in progress or star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CNSL: Rituximab + chemotherap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grade glioma: Chemotherapy + S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ain metastases from breast cancer: Trastuzumab + chemotherap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diatric brain tumors: chemotherapy + NA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S = sodium thiosulfate – protects against bone marrow and hearing side effec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C = N-acetyl cysteine – protects bone marrow against side effec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Take home messages</a:t>
            </a: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BBD is a uniquely useful option for delivery of medicines to the brain for treatment of patients with brain canc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atment of patients with PCNSL using BBBD affords long term survival without the need for radiation therap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BBD can avoid the long term cognitive effects of radiation therap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BBD offers the possibility of delivering important drugs to the brain such as rituximab, trastuzumab, antibodies or ge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Take home messages</a:t>
            </a: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BBD is a uniquely useful option for delivery of medicines to the brain for treatment of patients with brain canc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atment of patients with PCNSL using BBBD affords long term survival without the need for radiation therap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BBD can avoid the long term cognitive effects of radiation therap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BBD offers the possibility of delivering important drugs to the brain such as rituximab, trastuzumab, antibodies or ge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1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1" lang="en-US" sz="10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00"/>
                </a:solidFill>
                <a:latin typeface="Arial"/>
              </a:rPr>
              <a:t>Brain Cancer</a:t>
            </a:r>
            <a:endParaRPr b="1" lang="en-US" sz="6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x 200,000 patients per ye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~ 150,000+ death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mary tumors and brain metasta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emotherapy can improve surviv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ten younger pati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leading cause of cancer death in child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Burden of brain cancer</a:t>
            </a:r>
            <a:endParaRPr b="1" lang="en-US" sz="5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sonality chan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s of communication – speech impair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s of motor fun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ion lo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iz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s of independe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ess on caregivers – high rate of divor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icated by need for steroi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 flipV="1">
            <a:off x="5859360" y="3276360"/>
            <a:ext cx="1285920" cy="2057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52440" y="3276720"/>
            <a:ext cx="3387960" cy="1828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Delivery of Drug to the Brain Tumor</a:t>
            </a: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92280" y="3581280"/>
            <a:ext cx="1942920" cy="1162080"/>
          </a:xfrm>
          <a:custGeom>
            <a:avLst/>
            <a:gdLst/>
            <a:ahLst/>
            <a:rect l="l" t="t" r="r" b="b"/>
            <a:pathLst>
              <a:path w="1377" h="732">
                <a:moveTo>
                  <a:pt x="40" y="420"/>
                </a:moveTo>
                <a:cubicBezTo>
                  <a:pt x="55" y="328"/>
                  <a:pt x="95" y="256"/>
                  <a:pt x="124" y="168"/>
                </a:cubicBezTo>
                <a:cubicBezTo>
                  <a:pt x="136" y="133"/>
                  <a:pt x="240" y="105"/>
                  <a:pt x="268" y="96"/>
                </a:cubicBezTo>
                <a:cubicBezTo>
                  <a:pt x="320" y="79"/>
                  <a:pt x="371" y="72"/>
                  <a:pt x="424" y="60"/>
                </a:cubicBezTo>
                <a:cubicBezTo>
                  <a:pt x="473" y="49"/>
                  <a:pt x="455" y="44"/>
                  <a:pt x="508" y="24"/>
                </a:cubicBezTo>
                <a:cubicBezTo>
                  <a:pt x="555" y="6"/>
                  <a:pt x="636" y="4"/>
                  <a:pt x="676" y="0"/>
                </a:cubicBezTo>
                <a:cubicBezTo>
                  <a:pt x="808" y="4"/>
                  <a:pt x="940" y="5"/>
                  <a:pt x="1072" y="12"/>
                </a:cubicBezTo>
                <a:cubicBezTo>
                  <a:pt x="1106" y="14"/>
                  <a:pt x="1115" y="34"/>
                  <a:pt x="1144" y="48"/>
                </a:cubicBezTo>
                <a:cubicBezTo>
                  <a:pt x="1195" y="74"/>
                  <a:pt x="1244" y="94"/>
                  <a:pt x="1300" y="108"/>
                </a:cubicBezTo>
                <a:cubicBezTo>
                  <a:pt x="1341" y="169"/>
                  <a:pt x="1343" y="242"/>
                  <a:pt x="1360" y="312"/>
                </a:cubicBezTo>
                <a:cubicBezTo>
                  <a:pt x="1359" y="325"/>
                  <a:pt x="1377" y="560"/>
                  <a:pt x="1312" y="612"/>
                </a:cubicBezTo>
                <a:cubicBezTo>
                  <a:pt x="1302" y="620"/>
                  <a:pt x="1287" y="618"/>
                  <a:pt x="1276" y="624"/>
                </a:cubicBezTo>
                <a:cubicBezTo>
                  <a:pt x="1136" y="702"/>
                  <a:pt x="1272" y="649"/>
                  <a:pt x="1132" y="696"/>
                </a:cubicBezTo>
                <a:cubicBezTo>
                  <a:pt x="1108" y="704"/>
                  <a:pt x="1084" y="712"/>
                  <a:pt x="1060" y="720"/>
                </a:cubicBezTo>
                <a:cubicBezTo>
                  <a:pt x="1048" y="724"/>
                  <a:pt x="1024" y="732"/>
                  <a:pt x="1024" y="732"/>
                </a:cubicBezTo>
                <a:cubicBezTo>
                  <a:pt x="948" y="728"/>
                  <a:pt x="872" y="729"/>
                  <a:pt x="796" y="720"/>
                </a:cubicBezTo>
                <a:cubicBezTo>
                  <a:pt x="758" y="715"/>
                  <a:pt x="726" y="686"/>
                  <a:pt x="688" y="684"/>
                </a:cubicBezTo>
                <a:cubicBezTo>
                  <a:pt x="392" y="670"/>
                  <a:pt x="520" y="680"/>
                  <a:pt x="304" y="660"/>
                </a:cubicBezTo>
                <a:cubicBezTo>
                  <a:pt x="280" y="652"/>
                  <a:pt x="250" y="654"/>
                  <a:pt x="232" y="636"/>
                </a:cubicBezTo>
                <a:cubicBezTo>
                  <a:pt x="220" y="624"/>
                  <a:pt x="211" y="608"/>
                  <a:pt x="196" y="600"/>
                </a:cubicBezTo>
                <a:cubicBezTo>
                  <a:pt x="174" y="588"/>
                  <a:pt x="148" y="584"/>
                  <a:pt x="124" y="576"/>
                </a:cubicBezTo>
                <a:cubicBezTo>
                  <a:pt x="99" y="568"/>
                  <a:pt x="77" y="548"/>
                  <a:pt x="52" y="540"/>
                </a:cubicBezTo>
                <a:cubicBezTo>
                  <a:pt x="14" y="483"/>
                  <a:pt x="33" y="518"/>
                  <a:pt x="4" y="432"/>
                </a:cubicBezTo>
                <a:cubicBezTo>
                  <a:pt x="0" y="420"/>
                  <a:pt x="28" y="424"/>
                  <a:pt x="40" y="420"/>
                </a:cubicBezTo>
                <a:close/>
              </a:path>
            </a:pathLst>
          </a:custGeom>
          <a:solidFill>
            <a:srgbClr val="ffcc00">
              <a:alpha val="80000"/>
            </a:srgbClr>
          </a:solidFill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230960" y="2413080"/>
            <a:ext cx="914400" cy="812880"/>
          </a:xfrm>
          <a:prstGeom prst="blockArc">
            <a:avLst>
              <a:gd name="adj1" fmla="val 2700000"/>
              <a:gd name="adj2" fmla="val 8100000"/>
              <a:gd name="adj3" fmla="val 41162"/>
            </a:avLst>
          </a:prstGeom>
          <a:solidFill>
            <a:srgbClr val="dc0081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5058000" y="4999680"/>
            <a:ext cx="914400" cy="973080"/>
          </a:xfrm>
          <a:prstGeom prst="blockArc">
            <a:avLst>
              <a:gd name="adj1" fmla="val 21170619"/>
              <a:gd name="adj2" fmla="val 11229381"/>
              <a:gd name="adj3" fmla="val 45801"/>
            </a:avLst>
          </a:prstGeom>
          <a:solidFill>
            <a:srgbClr val="dc0081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73680" y="391176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320" y="4861080"/>
            <a:ext cx="443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sm may be increased by certain med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3886200"/>
            <a:ext cx="3055680" cy="685800"/>
          </a:xfrm>
          <a:prstGeom prst="roundRect">
            <a:avLst>
              <a:gd name="adj" fmla="val 50000"/>
            </a:avLst>
          </a:prstGeom>
          <a:solidFill>
            <a:srgbClr val="ffcc00">
              <a:alpha val="80000"/>
            </a:srgbClr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oo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ain Barr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49400" y="2087640"/>
            <a:ext cx="1218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al or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87880" y="1676520"/>
            <a:ext cx="224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ug rea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ain tum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2666880"/>
            <a:ext cx="965160" cy="914400"/>
          </a:xfrm>
          <a:prstGeom prst="donut">
            <a:avLst>
              <a:gd name="adj" fmla="val 47916"/>
            </a:avLst>
          </a:prstGeom>
          <a:solidFill>
            <a:srgbClr val="dc0081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00400" y="6324480"/>
            <a:ext cx="2762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ourtesy Stuart Grossm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 flipV="1">
            <a:off x="5859360" y="3276360"/>
            <a:ext cx="1285920" cy="20574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52440" y="3276720"/>
            <a:ext cx="3387960" cy="1828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1568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Delivery of Drug to the Brain Tumor</a:t>
            </a: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3581280"/>
            <a:ext cx="1943280" cy="1162080"/>
          </a:xfrm>
          <a:custGeom>
            <a:avLst/>
            <a:gdLst/>
            <a:ahLst/>
            <a:rect l="l" t="t" r="r" b="b"/>
            <a:pathLst>
              <a:path w="1377" h="732">
                <a:moveTo>
                  <a:pt x="40" y="420"/>
                </a:moveTo>
                <a:cubicBezTo>
                  <a:pt x="55" y="328"/>
                  <a:pt x="95" y="256"/>
                  <a:pt x="124" y="168"/>
                </a:cubicBezTo>
                <a:cubicBezTo>
                  <a:pt x="136" y="133"/>
                  <a:pt x="240" y="105"/>
                  <a:pt x="268" y="96"/>
                </a:cubicBezTo>
                <a:cubicBezTo>
                  <a:pt x="320" y="79"/>
                  <a:pt x="371" y="72"/>
                  <a:pt x="424" y="60"/>
                </a:cubicBezTo>
                <a:cubicBezTo>
                  <a:pt x="473" y="49"/>
                  <a:pt x="455" y="44"/>
                  <a:pt x="508" y="24"/>
                </a:cubicBezTo>
                <a:cubicBezTo>
                  <a:pt x="555" y="6"/>
                  <a:pt x="636" y="4"/>
                  <a:pt x="676" y="0"/>
                </a:cubicBezTo>
                <a:cubicBezTo>
                  <a:pt x="808" y="4"/>
                  <a:pt x="940" y="5"/>
                  <a:pt x="1072" y="12"/>
                </a:cubicBezTo>
                <a:cubicBezTo>
                  <a:pt x="1106" y="14"/>
                  <a:pt x="1115" y="34"/>
                  <a:pt x="1144" y="48"/>
                </a:cubicBezTo>
                <a:cubicBezTo>
                  <a:pt x="1195" y="74"/>
                  <a:pt x="1244" y="94"/>
                  <a:pt x="1300" y="108"/>
                </a:cubicBezTo>
                <a:cubicBezTo>
                  <a:pt x="1341" y="169"/>
                  <a:pt x="1343" y="242"/>
                  <a:pt x="1360" y="312"/>
                </a:cubicBezTo>
                <a:cubicBezTo>
                  <a:pt x="1359" y="325"/>
                  <a:pt x="1377" y="560"/>
                  <a:pt x="1312" y="612"/>
                </a:cubicBezTo>
                <a:cubicBezTo>
                  <a:pt x="1302" y="620"/>
                  <a:pt x="1287" y="618"/>
                  <a:pt x="1276" y="624"/>
                </a:cubicBezTo>
                <a:cubicBezTo>
                  <a:pt x="1136" y="702"/>
                  <a:pt x="1272" y="649"/>
                  <a:pt x="1132" y="696"/>
                </a:cubicBezTo>
                <a:cubicBezTo>
                  <a:pt x="1108" y="704"/>
                  <a:pt x="1084" y="712"/>
                  <a:pt x="1060" y="720"/>
                </a:cubicBezTo>
                <a:cubicBezTo>
                  <a:pt x="1048" y="724"/>
                  <a:pt x="1024" y="732"/>
                  <a:pt x="1024" y="732"/>
                </a:cubicBezTo>
                <a:cubicBezTo>
                  <a:pt x="948" y="728"/>
                  <a:pt x="872" y="729"/>
                  <a:pt x="796" y="720"/>
                </a:cubicBezTo>
                <a:cubicBezTo>
                  <a:pt x="758" y="715"/>
                  <a:pt x="726" y="686"/>
                  <a:pt x="688" y="684"/>
                </a:cubicBezTo>
                <a:cubicBezTo>
                  <a:pt x="392" y="670"/>
                  <a:pt x="520" y="680"/>
                  <a:pt x="304" y="660"/>
                </a:cubicBezTo>
                <a:cubicBezTo>
                  <a:pt x="280" y="652"/>
                  <a:pt x="250" y="654"/>
                  <a:pt x="232" y="636"/>
                </a:cubicBezTo>
                <a:cubicBezTo>
                  <a:pt x="220" y="624"/>
                  <a:pt x="211" y="608"/>
                  <a:pt x="196" y="600"/>
                </a:cubicBezTo>
                <a:cubicBezTo>
                  <a:pt x="174" y="588"/>
                  <a:pt x="148" y="584"/>
                  <a:pt x="124" y="576"/>
                </a:cubicBezTo>
                <a:cubicBezTo>
                  <a:pt x="99" y="568"/>
                  <a:pt x="77" y="548"/>
                  <a:pt x="52" y="540"/>
                </a:cubicBezTo>
                <a:cubicBezTo>
                  <a:pt x="14" y="483"/>
                  <a:pt x="33" y="518"/>
                  <a:pt x="4" y="432"/>
                </a:cubicBezTo>
                <a:cubicBezTo>
                  <a:pt x="0" y="420"/>
                  <a:pt x="28" y="424"/>
                  <a:pt x="40" y="420"/>
                </a:cubicBezTo>
                <a:close/>
              </a:path>
            </a:pathLst>
          </a:custGeom>
          <a:solidFill>
            <a:srgbClr val="ffcc00">
              <a:alpha val="80000"/>
            </a:srgbClr>
          </a:solidFill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5058000" y="4999680"/>
            <a:ext cx="914400" cy="973080"/>
          </a:xfrm>
          <a:prstGeom prst="blockArc">
            <a:avLst>
              <a:gd name="adj1" fmla="val 21170619"/>
              <a:gd name="adj2" fmla="val 11229381"/>
              <a:gd name="adj3" fmla="val 45801"/>
            </a:avLst>
          </a:prstGeom>
          <a:solidFill>
            <a:srgbClr val="dc0081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11480" y="39117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6440" y="4800600"/>
            <a:ext cx="443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bolism may be increased by certain med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3886200"/>
            <a:ext cx="3055680" cy="685800"/>
          </a:xfrm>
          <a:prstGeom prst="roundRect">
            <a:avLst>
              <a:gd name="adj" fmla="val 50000"/>
            </a:avLst>
          </a:prstGeom>
          <a:solidFill>
            <a:srgbClr val="ffcc00">
              <a:alpha val="80000"/>
            </a:srgbClr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Brain Barr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9400" y="208764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83480" y="1676520"/>
            <a:ext cx="224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ug rea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ain tum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2514600"/>
            <a:ext cx="965160" cy="914400"/>
          </a:xfrm>
          <a:prstGeom prst="donut">
            <a:avLst>
              <a:gd name="adj" fmla="val 47916"/>
            </a:avLst>
          </a:prstGeom>
          <a:solidFill>
            <a:srgbClr val="dc0081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6392880"/>
            <a:ext cx="3505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dapted from Stuart Grossm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2971800"/>
            <a:ext cx="556236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08240" y="2057400"/>
            <a:ext cx="2911680" cy="581400"/>
          </a:xfrm>
          <a:prstGeom prst="rect">
            <a:avLst/>
          </a:prstGeom>
          <a:solidFill>
            <a:srgbClr val="ffcc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A/BBB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2514600"/>
            <a:ext cx="965160" cy="914400"/>
          </a:xfrm>
          <a:prstGeom prst="donut">
            <a:avLst>
              <a:gd name="adj" fmla="val 47916"/>
            </a:avLst>
          </a:prstGeom>
          <a:solidFill>
            <a:srgbClr val="dc0081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3200400"/>
            <a:ext cx="8686800" cy="3048120"/>
          </a:xfrm>
          <a:prstGeom prst="ellipse">
            <a:avLst/>
          </a:prstGeom>
          <a:gradFill rotWithShape="0">
            <a:gsLst>
              <a:gs pos="0">
                <a:srgbClr val="ffcc00">
                  <a:alpha val="80392"/>
                </a:srgbClr>
              </a:gs>
              <a:gs pos="100000">
                <a:srgbClr val="755e00">
                  <a:alpha val="80392"/>
                </a:srgbClr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"/>
              </a:rPr>
              <a:t>Drug delivery to the brain</a:t>
            </a:r>
            <a:endParaRPr b="1" lang="en-US" sz="4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limitation of chemotherapy for brain tumo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fter passing through the liver, most chemotherapy drugs do not reach brain tum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4343400"/>
            <a:ext cx="66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72760" y="4560840"/>
            <a:ext cx="6331680" cy="170244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lood-brain barri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89240" y="228240"/>
            <a:ext cx="636552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Blood-brain barrier</a:t>
            </a:r>
            <a:endParaRPr b="1" lang="en-US" sz="5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37940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tects brain from toxi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vents entry of most drugs into the bra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4511520" cy="5029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943600" y="5715000"/>
            <a:ext cx="2209680" cy="3128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Brain or Tumor ce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51640" y="1219320"/>
            <a:ext cx="1025640" cy="587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lood vess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95840" y="3546360"/>
            <a:ext cx="7812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B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27560" y="2384280"/>
            <a:ext cx="1017720" cy="587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ining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15040" y="3429000"/>
            <a:ext cx="1017720" cy="587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ining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8:48:34Z</dcterms:created>
  <dc:creator>Mark Gilbert</dc:creator>
  <dc:description/>
  <dc:language>en-US</dc:language>
  <cp:lastModifiedBy>belleys</cp:lastModifiedBy>
  <cp:lastPrinted>2004-11-02T20:19:04Z</cp:lastPrinted>
  <dcterms:modified xsi:type="dcterms:W3CDTF">2006-09-25T12:36:40Z</dcterms:modified>
  <cp:revision>318</cp:revision>
  <dc:subject/>
  <dc:title>Brain Metastases: Diagnosis and Treatment</dc:title>
</cp:coreProperties>
</file>