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2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16.jpeg" ContentType="image/jpeg"/>
  <Override PartName="/ppt/media/image14.png" ContentType="image/png"/>
  <Override PartName="/ppt/media/image1.jpeg" ContentType="image/jpeg"/>
  <Override PartName="/ppt/media/image10.png" ContentType="image/png"/>
  <Override PartName="/ppt/media/image2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5.png" ContentType="image/pn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90160" y="704880"/>
            <a:ext cx="4629240" cy="3471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1" lang="en-US" sz="4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21960" y="4446360"/>
            <a:ext cx="5140440" cy="39099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146640" y="8664480"/>
            <a:ext cx="1171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DDF96ECF-175C-459F-A4D3-657D2FDBB39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90520" y="704880"/>
            <a:ext cx="4629240" cy="347184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21960" y="4446360"/>
            <a:ext cx="5140440" cy="39099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d on animal mod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tuximab is an integral part of tx for patients with systemic lymphoma (lymphoma in the rest of the bod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stuzumab (Hercepti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™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90520" y="704880"/>
            <a:ext cx="4629240" cy="347184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21960" y="4446360"/>
            <a:ext cx="5140440" cy="39099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diation therapy for CNS lymphoma causes dementia in up to 50% of patients depending on the 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MRI shows atrophy (loss of tissue) in the brain occurring several years after whole brain radiotherap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things her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centrations are ratios of disrupted right hemisphere to nondisrupted left, showing again that drug delivery is improved almost 30 ti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diation therapy decreases drug delivery to the brain by more than 50%. This is another reason to delay radiation therapy in favor of IA/BB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A/BBBD is a multidisciplinary procedure that requires a team of dedicated health care profession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90520" y="704880"/>
            <a:ext cx="4629240" cy="347184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21960" y="4446360"/>
            <a:ext cx="5140440" cy="39099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ymptoms and effects progress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licated by need for steroids which have substantial side effec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gressive neurologic decline with increasing pressure in brain and decreasing brain fun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82600" y="70020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18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ivery of drug to tumor is goal.  Already described effect of P450 anticonvulsants.  Also BBB fac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ug delivery with standard therapy. Only a fraction of drug gets to the tumo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82600" y="70020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18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ivery of drug to tumor is goal.  Already described effect of P450 anticonvulsants.  Also BBB fac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7460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41444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75356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75356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75356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85716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200240" algn="ctr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54296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5429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5429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hyperlink" Target="http://www.mypacs.net/cgi-bin/repos/mpv3_repo/wrm/repo-view.pl?cx_subject=4107256&amp;mode=NOBANNER&amp;bgcolor=BLACK&amp;cx_image_only_mode=on&amp;cx_repo=mpv3_repo&amp;cx_prefsize=medium" TargetMode="External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76320" y="74520"/>
            <a:ext cx="9144000" cy="68598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228600" y="152280"/>
            <a:ext cx="8839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Blood-brain Barrier Disruption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pplications and Advantag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resentation to CM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04080" y="1793880"/>
            <a:ext cx="183960" cy="4572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562720" y="2133720"/>
            <a:ext cx="35812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David M. Peereboom, MD</a:t>
            </a:r>
            <a:br>
              <a:rPr sz="1400"/>
            </a:b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Cleveland Clinic Brain Tumor Institute</a:t>
            </a:r>
            <a:br>
              <a:rPr sz="1400"/>
            </a:b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Cleveland Clinic Taussig Cancer Center</a:t>
            </a:r>
            <a:br>
              <a:rPr sz="1400"/>
            </a:b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September 28, 200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447920" y="1600200"/>
            <a:ext cx="6499080" cy="487512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08000" y="228240"/>
            <a:ext cx="722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00"/>
                </a:solidFill>
                <a:latin typeface="Arial"/>
              </a:rPr>
              <a:t>Primary CNS Lymphoma</a:t>
            </a:r>
            <a:endParaRPr b="1" lang="en-US" sz="46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5960" y="28951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Arial"/>
              </a:rPr>
              <a:t>An unmet need:</a:t>
            </a:r>
            <a:br>
              <a:rPr sz="5000"/>
            </a:br>
            <a:r>
              <a:rPr b="1" lang="en-US" sz="5600" spc="-1" strike="noStrike">
                <a:solidFill>
                  <a:srgbClr val="ffff00"/>
                </a:solidFill>
                <a:latin typeface="Arial"/>
              </a:rPr>
              <a:t>Getting drugs to the brain tumor</a:t>
            </a:r>
            <a:endParaRPr b="1" lang="en-US" sz="56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Arial"/>
              </a:rPr>
              <a:t>Strategy to optimize drug delivery to tumor</a:t>
            </a:r>
            <a:endParaRPr b="1" lang="en-US" sz="5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28600" y="2057040"/>
            <a:ext cx="861048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36680" indent="-262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lood brain barrier disruption (BBBD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36680" indent="-262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veloped out of need for better drug deliver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36680" indent="-262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dvantages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5840" indent="-365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ility to deliver 10 – 100 times as much chemotherapy to the tumor (c/w IV or oral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5840" indent="-365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tential to deliver large molecules to brai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481040" indent="-3920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ituximab (Rituxa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™)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for CNS lymphom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481040" indent="-3920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astuzumab (Hercepti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™)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for breast canc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6680" indent="-262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void need for radiation therap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00"/>
                </a:solidFill>
                <a:latin typeface="Arial"/>
              </a:rPr>
              <a:t>Long term affect of combined chemo-radiation therapy</a:t>
            </a:r>
            <a:r>
              <a:rPr b="1" lang="en-US" sz="3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3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rcRect l="25229" t="0" r="25225" b="1562"/>
          <a:stretch/>
        </p:blipFill>
        <p:spPr>
          <a:xfrm>
            <a:off x="4781520" y="1752480"/>
            <a:ext cx="4057560" cy="464832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2174760" y="138240"/>
            <a:ext cx="9720" cy="9504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>
            <a:hlinkClick r:id="rId3"/>
          </p:cNvPr>
          <p:cNvPicPr/>
          <p:nvPr/>
        </p:nvPicPr>
        <p:blipFill>
          <a:blip r:embed="rId4"/>
          <a:srcRect l="0" t="4564" r="0" b="0"/>
          <a:stretch/>
        </p:blipFill>
        <p:spPr>
          <a:xfrm>
            <a:off x="457200" y="1752480"/>
            <a:ext cx="4192560" cy="46483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1967760" y="649116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rm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105240" y="6491160"/>
            <a:ext cx="157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fter radi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3336840" y="112680"/>
            <a:ext cx="184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00"/>
                </a:solidFill>
                <a:latin typeface="Arial"/>
              </a:rPr>
              <a:t>Metastatic Ovarian Cancer</a:t>
            </a:r>
            <a:br>
              <a:rPr sz="4200"/>
            </a:br>
            <a:r>
              <a:rPr b="1" lang="en-US" sz="4200" spc="-1" strike="noStrike">
                <a:solidFill>
                  <a:srgbClr val="ffff00"/>
                </a:solidFill>
                <a:latin typeface="Arial"/>
              </a:rPr>
              <a:t>before &amp; after IA/BBBD</a:t>
            </a:r>
            <a:endParaRPr b="1" lang="en-US" sz="42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380880" y="1447920"/>
            <a:ext cx="8382240" cy="434340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3121920" y="6284880"/>
            <a:ext cx="281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ourtesy Edward Neuwel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Arial"/>
              </a:rPr>
              <a:t>Intra-arterial chemo/BBB disruption (IA/BBBD)</a:t>
            </a:r>
            <a:endParaRPr b="1" lang="en-US" sz="5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ystemic toxicity limits dose of IV chemotherapy that can be give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A tx + BBBD 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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drug delivery to brain tumor by ~ 10-100 tim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ost useful for patients with chemotherapy-sensitive cancers such as CNS lymphoma, brain metastases from breast cancer, testicular cancer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00"/>
                </a:solidFill>
                <a:latin typeface="Arial"/>
              </a:rPr>
              <a:t>BBBD improves drug delivery to tumor and brain around tumor</a:t>
            </a:r>
            <a:br>
              <a:rPr sz="4200"/>
            </a:b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MTX Concentration (ng/g)</a:t>
            </a: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781200" y="2666880"/>
          <a:ext cx="7677000" cy="2133360"/>
        </p:xfrm>
        <a:graphic>
          <a:graphicData uri="http://schemas.openxmlformats.org/drawingml/2006/table">
            <a:tbl>
              <a:tblPr/>
              <a:tblGrid>
                <a:gridCol w="1400040"/>
                <a:gridCol w="1780920"/>
                <a:gridCol w="1505160"/>
                <a:gridCol w="1390680"/>
                <a:gridCol w="1600200"/>
              </a:tblGrid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         </a:t>
                      </a:r>
                      <a:r>
                        <a:rPr b="1" lang="en-US" sz="2400" spc="-1" strike="noStrike" u="sng">
                          <a:solidFill>
                            <a:srgbClr val="ffff00"/>
                          </a:solidFill>
                          <a:uFillTx/>
                          <a:latin typeface="Arial"/>
                        </a:rPr>
                        <a:t>CONTRO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 u="sng">
                          <a:solidFill>
                            <a:srgbClr val="ffff00"/>
                          </a:solidFill>
                          <a:uFillTx/>
                          <a:latin typeface="Arial"/>
                        </a:rPr>
                        <a:t>OPEN BARRI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IV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99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IC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99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IV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99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IC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993366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UMO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993366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993366"/>
                      </a:solidFill>
                    </a:lnL>
                    <a:lnR>
                      <a:noFill/>
                    </a:lnR>
                    <a:lnT w="13680">
                      <a:solidFill>
                        <a:srgbClr val="993366"/>
                      </a:solidFill>
                    </a:lnT>
                    <a:lnB w="13680">
                      <a:solidFill>
                        <a:srgbClr val="993366"/>
                      </a:solidFill>
                    </a:lnB>
                    <a:solidFill>
                      <a:srgbClr val="bbbb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2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993366"/>
                      </a:solidFill>
                    </a:lnT>
                    <a:lnB w="13680">
                      <a:solidFill>
                        <a:srgbClr val="993366"/>
                      </a:solidFill>
                    </a:lnB>
                    <a:solidFill>
                      <a:srgbClr val="bbbb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4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993366"/>
                      </a:solidFill>
                    </a:lnT>
                    <a:lnB w="13680">
                      <a:solidFill>
                        <a:srgbClr val="993366"/>
                      </a:solidFill>
                    </a:lnB>
                    <a:solidFill>
                      <a:srgbClr val="bbbb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7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993366"/>
                      </a:solidFill>
                    </a:lnR>
                    <a:lnT w="13680">
                      <a:solidFill>
                        <a:srgbClr val="993366"/>
                      </a:solidFill>
                    </a:lnT>
                    <a:lnB w="13680">
                      <a:solidFill>
                        <a:srgbClr val="993366"/>
                      </a:solidFill>
                    </a:lnB>
                    <a:solidFill>
                      <a:srgbClr val="bbbbff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BA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993366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993366"/>
                      </a:solidFill>
                    </a:lnL>
                    <a:lnR>
                      <a:noFill/>
                    </a:lnR>
                    <a:lnT w="13680">
                      <a:solidFill>
                        <a:srgbClr val="993366"/>
                      </a:solidFill>
                    </a:lnT>
                    <a:lnB w="13680">
                      <a:solidFill>
                        <a:srgbClr val="993366"/>
                      </a:solidFill>
                    </a:lnB>
                    <a:solidFill>
                      <a:srgbClr val="bbbb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993366"/>
                      </a:solidFill>
                    </a:lnT>
                    <a:lnB w="13680">
                      <a:solidFill>
                        <a:srgbClr val="993366"/>
                      </a:solidFill>
                    </a:lnB>
                    <a:solidFill>
                      <a:srgbClr val="bbbb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8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993366"/>
                      </a:solidFill>
                    </a:lnT>
                    <a:lnB w="13680">
                      <a:solidFill>
                        <a:srgbClr val="993366"/>
                      </a:solidFill>
                    </a:lnB>
                    <a:solidFill>
                      <a:srgbClr val="bbbb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3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993366"/>
                      </a:solidFill>
                    </a:lnR>
                    <a:lnT w="13680">
                      <a:solidFill>
                        <a:srgbClr val="993366"/>
                      </a:solidFill>
                    </a:lnT>
                    <a:lnB w="13680">
                      <a:solidFill>
                        <a:srgbClr val="993366"/>
                      </a:solidFill>
                    </a:lnB>
                    <a:solidFill>
                      <a:srgbClr val="bbbbff"/>
                    </a:solidFill>
                  </a:tcPr>
                </a:tc>
              </a:tr>
            </a:tbl>
          </a:graphicData>
        </a:graphic>
      </p:graphicFrame>
      <p:sp>
        <p:nvSpPr>
          <p:cNvPr id="153" name=""/>
          <p:cNvSpPr/>
          <p:nvPr/>
        </p:nvSpPr>
        <p:spPr>
          <a:xfrm>
            <a:off x="914400" y="5486400"/>
            <a:ext cx="350532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V = intravenou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C = intracarot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AT = brain around tum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971440" y="837720"/>
            <a:ext cx="5715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00"/>
                </a:solidFill>
                <a:latin typeface="Arial"/>
              </a:rPr>
              <a:t>Sequencing of BBBD Chemotherapy and Radiotherapy</a:t>
            </a:r>
            <a:endParaRPr b="1" lang="en-US" sz="38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266760" y="2743200"/>
          <a:ext cx="8610480" cy="3351240"/>
        </p:xfrm>
        <a:graphic>
          <a:graphicData uri="http://schemas.openxmlformats.org/drawingml/2006/table">
            <a:tbl>
              <a:tblPr/>
              <a:tblGrid>
                <a:gridCol w="4838760"/>
                <a:gridCol w="3771720"/>
              </a:tblGrid>
              <a:tr h="5814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Effect on Drug Delivery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993366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eatmen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993366"/>
                      </a:solidFill>
                    </a:lnL>
                    <a:lnR w="13680">
                      <a:solidFill>
                        <a:srgbClr val="993366"/>
                      </a:solidFill>
                    </a:lnR>
                    <a:lnT w="13680">
                      <a:solidFill>
                        <a:srgbClr val="993366"/>
                      </a:solidFill>
                    </a:lnT>
                    <a:lnB w="13680">
                      <a:solidFill>
                        <a:srgbClr val="993366"/>
                      </a:solidFill>
                    </a:lnB>
                    <a:solidFill>
                      <a:srgbClr val="bbbb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hotrexate delivery to rat brain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993366"/>
                      </a:solidFill>
                    </a:lnL>
                    <a:lnR w="13680">
                      <a:solidFill>
                        <a:srgbClr val="993366"/>
                      </a:solidFill>
                    </a:lnR>
                    <a:lnT w="13680">
                      <a:solidFill>
                        <a:srgbClr val="993366"/>
                      </a:solidFill>
                    </a:lnT>
                    <a:lnB w="13680">
                      <a:solidFill>
                        <a:srgbClr val="993366"/>
                      </a:solidFill>
                    </a:lnB>
                    <a:solidFill>
                      <a:srgbClr val="bbbbff"/>
                    </a:solidFill>
                  </a:tcPr>
                </a:tc>
              </a:tr>
              <a:tr h="911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diation 30 days before BBB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993366"/>
                      </a:solidFill>
                    </a:lnL>
                    <a:lnR w="13680">
                      <a:solidFill>
                        <a:srgbClr val="993366"/>
                      </a:solidFill>
                    </a:lnR>
                    <a:lnT w="13680">
                      <a:solidFill>
                        <a:srgbClr val="993366"/>
                      </a:solidFill>
                    </a:lnT>
                    <a:lnB w="13680">
                      <a:solidFill>
                        <a:srgbClr val="993366"/>
                      </a:solidFill>
                    </a:lnB>
                    <a:solidFill>
                      <a:srgbClr val="bbbb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9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± 3.1, n = 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993366"/>
                      </a:solidFill>
                    </a:lnL>
                    <a:lnR w="13680">
                      <a:solidFill>
                        <a:srgbClr val="993366"/>
                      </a:solidFill>
                    </a:lnR>
                    <a:lnT w="13680">
                      <a:solidFill>
                        <a:srgbClr val="993366"/>
                      </a:solidFill>
                    </a:lnT>
                    <a:lnB w="13680">
                      <a:solidFill>
                        <a:srgbClr val="993366"/>
                      </a:solidFill>
                    </a:lnB>
                    <a:solidFill>
                      <a:srgbClr val="bbbbff"/>
                    </a:solidFill>
                  </a:tcPr>
                </a:tc>
              </a:tr>
              <a:tr h="911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radiatio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993366"/>
                      </a:solidFill>
                    </a:lnL>
                    <a:lnR w="13680">
                      <a:solidFill>
                        <a:srgbClr val="993366"/>
                      </a:solidFill>
                    </a:lnR>
                    <a:lnT w="13680">
                      <a:solidFill>
                        <a:srgbClr val="993366"/>
                      </a:solidFill>
                    </a:lnT>
                    <a:lnB w="13680">
                      <a:solidFill>
                        <a:srgbClr val="993366"/>
                      </a:solidFill>
                    </a:lnB>
                    <a:solidFill>
                      <a:srgbClr val="bbbb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.8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± 5.7, n = 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993366"/>
                      </a:solidFill>
                    </a:lnL>
                    <a:lnR w="13680">
                      <a:solidFill>
                        <a:srgbClr val="993366"/>
                      </a:solidFill>
                    </a:lnR>
                    <a:lnT w="13680">
                      <a:solidFill>
                        <a:srgbClr val="993366"/>
                      </a:solidFill>
                    </a:lnT>
                    <a:lnB w="13680">
                      <a:solidFill>
                        <a:srgbClr val="993366"/>
                      </a:solidFill>
                    </a:lnB>
                    <a:solidFill>
                      <a:srgbClr val="bbbbff"/>
                    </a:solidFill>
                  </a:tcPr>
                </a:tc>
              </a:tr>
            </a:tbl>
          </a:graphicData>
        </a:graphic>
      </p:graphicFrame>
      <p:pic>
        <p:nvPicPr>
          <p:cNvPr id="156" name="" descr=""/>
          <p:cNvPicPr/>
          <p:nvPr/>
        </p:nvPicPr>
        <p:blipFill>
          <a:blip r:embed="rId1"/>
          <a:srcRect l="6902" t="10099" r="73859" b="65686"/>
          <a:stretch/>
        </p:blipFill>
        <p:spPr>
          <a:xfrm>
            <a:off x="914400" y="304920"/>
            <a:ext cx="2057400" cy="19429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57" name=""/>
          <p:cNvSpPr/>
          <p:nvPr/>
        </p:nvSpPr>
        <p:spPr>
          <a:xfrm>
            <a:off x="647640" y="6172200"/>
            <a:ext cx="819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*Disrupted right hemisphere compared to nondisrupted left hemisp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Less cognitive toxicity</a:t>
            </a:r>
            <a:endParaRPr b="1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ple, primary CNS lymphom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 yr survival 42% with no radiation therapy (RT) and no cognitive loss</a:t>
            </a:r>
            <a:r>
              <a:rPr b="1" lang="en-US" sz="3200" spc="-1" strike="noStrike" baseline="30000">
                <a:solidFill>
                  <a:srgbClr val="ffffff"/>
                </a:solidFill>
                <a:latin typeface="Arial"/>
              </a:rPr>
              <a:t>1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mpares with same survival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but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32% dementia with combined chemo + RT</a:t>
            </a:r>
            <a:r>
              <a:rPr b="1" lang="en-US" sz="32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 baseline="30000">
                <a:solidFill>
                  <a:srgbClr val="ffff00"/>
                </a:solidFill>
                <a:latin typeface="Arial"/>
              </a:rPr>
              <a:t>1</a:t>
            </a:r>
            <a:r>
              <a:rPr b="0" i="1" lang="en-US" sz="1600" spc="-1" strike="noStrike">
                <a:solidFill>
                  <a:srgbClr val="ffff00"/>
                </a:solidFill>
                <a:latin typeface="Arial"/>
              </a:rPr>
              <a:t>McAllister, Neurosurgery, 46:51, 2000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i="1" lang="en-US" sz="1600" spc="-1" strike="noStrike">
                <a:solidFill>
                  <a:srgbClr val="ffff00"/>
                </a:solidFill>
                <a:latin typeface="Arial"/>
              </a:rPr>
              <a:t>Abrey, J Clin Oncol 16:859, 1998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5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00"/>
                </a:solidFill>
                <a:latin typeface="Arial"/>
              </a:rPr>
              <a:t>CNS Lymphoma after IA/BBBD</a:t>
            </a:r>
            <a:endParaRPr b="1" lang="en-US" sz="3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4648320" y="990720"/>
            <a:ext cx="3276360" cy="251460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1219320" y="990720"/>
            <a:ext cx="3276360" cy="251460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1219320" y="3611520"/>
            <a:ext cx="3276360" cy="278928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4"/>
          <a:stretch/>
        </p:blipFill>
        <p:spPr>
          <a:xfrm>
            <a:off x="4648320" y="3618000"/>
            <a:ext cx="3303360" cy="278280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3168720" y="6477120"/>
            <a:ext cx="277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urtesy Lilyana Angelo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00"/>
                </a:solidFill>
                <a:latin typeface="Arial"/>
              </a:rPr>
              <a:t>Abbreviations</a:t>
            </a:r>
            <a:endParaRPr b="1" lang="en-US" sz="6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75960" y="205740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BB – blood-brain barrie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BBD – blood-brain barrier disrup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A/BBBD – intra-arterial chemo with BBB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NS – central nervous syste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CNSL – primary CNS lymphom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T – radiation therap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V – intravenou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6" name=""/>
          <p:cNvGraphicFramePr/>
          <p:nvPr/>
        </p:nvGraphicFramePr>
        <p:xfrm>
          <a:off x="304920" y="351000"/>
          <a:ext cx="8458200" cy="6203880"/>
        </p:xfrm>
        <a:graphic>
          <a:graphicData uri="http://schemas.openxmlformats.org/drawingml/2006/table">
            <a:tbl>
              <a:tblPr/>
              <a:tblGrid>
                <a:gridCol w="1371600"/>
                <a:gridCol w="1350720"/>
                <a:gridCol w="1544760"/>
                <a:gridCol w="1295280"/>
                <a:gridCol w="1600200"/>
                <a:gridCol w="1295640"/>
              </a:tblGrid>
              <a:tr h="733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Stud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Patients (n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Previously Tx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RR (CR+PR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Median PFS (mos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cccc"/>
                          </a:solidFill>
                          <a:latin typeface="Arial"/>
                        </a:rPr>
                        <a:t>OS (mos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RTO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93-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HD Mtx + WBXR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0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N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94 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36.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EORTC 2096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HD Mtx + WBXR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5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(&lt; 65 y.o.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N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81 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--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4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EORTC 2695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HD Mtx +  Chem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5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(&gt; 60 y.o.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N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48 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0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4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NABT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96-0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HD Mtx +  Chem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N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74 %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2.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3+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5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ff99"/>
                          </a:solidFill>
                          <a:latin typeface="Arial"/>
                          <a:ea typeface="Times New Roman"/>
                        </a:rPr>
                        <a:t>BBBD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ccff99"/>
                          </a:solidFill>
                          <a:latin typeface="Arial"/>
                          <a:ea typeface="Times New Roman"/>
                        </a:rPr>
                        <a:t>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ccff99"/>
                          </a:solidFill>
                          <a:latin typeface="Arial"/>
                          <a:ea typeface="Times New Roman"/>
                        </a:rPr>
                        <a:t>No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ccff99"/>
                          </a:solidFill>
                          <a:latin typeface="Arial"/>
                          <a:ea typeface="Times New Roman"/>
                        </a:rPr>
                        <a:t>84 %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ccff99"/>
                          </a:solidFill>
                          <a:latin typeface="Arial"/>
                          <a:ea typeface="Times New Roman"/>
                        </a:rPr>
                        <a:t>---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ccff99"/>
                          </a:solidFill>
                          <a:latin typeface="Arial"/>
                          <a:ea typeface="Times New Roman"/>
                        </a:rPr>
                        <a:t>40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00"/>
                </a:solidFill>
                <a:latin typeface="Arial"/>
              </a:rPr>
              <a:t>Blood-brain barrier disruption</a:t>
            </a:r>
            <a:br>
              <a:rPr sz="4600"/>
            </a:br>
            <a:r>
              <a:rPr b="1" lang="en-US" sz="4600" spc="-1" strike="noStrike">
                <a:solidFill>
                  <a:srgbClr val="ffff00"/>
                </a:solidFill>
                <a:latin typeface="Arial"/>
              </a:rPr>
              <a:t>How it’s done</a:t>
            </a:r>
            <a:endParaRPr b="1" lang="en-US" sz="4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patient procedur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atient placed under general anesthesia; anti-seizure meds given to patient to prevent seizur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theter placed in artery in groin (femoral artery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theter advanced into arteries that lead to brain (carotid or vertebral artery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00"/>
                </a:solidFill>
                <a:latin typeface="Arial"/>
              </a:rPr>
              <a:t>Blood-brain barrier disruption</a:t>
            </a:r>
            <a:br>
              <a:rPr sz="4600"/>
            </a:br>
            <a:r>
              <a:rPr b="1" lang="en-US" sz="4600" spc="-1" strike="noStrike">
                <a:solidFill>
                  <a:srgbClr val="ffff00"/>
                </a:solidFill>
                <a:latin typeface="Arial"/>
              </a:rPr>
              <a:t>How it’s done</a:t>
            </a:r>
            <a:endParaRPr b="1" lang="en-US" sz="4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52280" y="1980720"/>
            <a:ext cx="87631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nnitol infused into catheter to open (disrupt) BB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rug infused through same catheter to deliver maximum concentration to tumo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ngiogram done to make sure artery not damag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00"/>
                </a:solidFill>
                <a:latin typeface="Arial"/>
              </a:rPr>
              <a:t>Blood-brain barrier disruption</a:t>
            </a:r>
            <a:br>
              <a:rPr sz="4200"/>
            </a:br>
            <a:r>
              <a:rPr b="1" lang="en-US" sz="4200" spc="-1" strike="noStrike">
                <a:solidFill>
                  <a:srgbClr val="ffff00"/>
                </a:solidFill>
                <a:latin typeface="Arial"/>
              </a:rPr>
              <a:t>How it’s done</a:t>
            </a:r>
            <a:endParaRPr b="1" lang="en-US" sz="4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atient taken to recovery roo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BB closes few hours late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cedure repeated next day using a different arter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atient leaves hospital day 4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69440" y="30456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00"/>
                </a:solidFill>
                <a:latin typeface="Arial"/>
              </a:rPr>
              <a:t>Blood-brain barrier disruption</a:t>
            </a:r>
            <a:br>
              <a:rPr sz="4200"/>
            </a:br>
            <a:r>
              <a:rPr b="1" lang="en-US" sz="42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1" lang="en-US" sz="3800" spc="-1" strike="noStrike">
                <a:solidFill>
                  <a:srgbClr val="ffff00"/>
                </a:solidFill>
                <a:latin typeface="Arial"/>
              </a:rPr>
              <a:t>arotid artery</a:t>
            </a:r>
            <a:endParaRPr b="1" lang="en-US" sz="3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4233960" y="1676520"/>
            <a:ext cx="4605120" cy="484344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169920" y="1671480"/>
            <a:ext cx="4470480" cy="488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200" spc="-1" strike="noStrike">
                <a:solidFill>
                  <a:srgbClr val="ffff00"/>
                </a:solidFill>
                <a:latin typeface="Arial"/>
              </a:rPr>
              <a:t>Possible risks</a:t>
            </a:r>
            <a:endParaRPr b="1" lang="en-US" sz="6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mparable to those seen with standard chemotherap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cedural risk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 anesthesi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mage to arter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se are rare; much less common than neurotoxicity due to radiation therap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rcRect l="5761" t="6521" r="4049" b="413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Arial"/>
              </a:rPr>
              <a:t>BBB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Arial"/>
              </a:rPr>
              <a:t>Potential future uses</a:t>
            </a:r>
            <a:endParaRPr b="1" lang="en-US" sz="5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livery of larger substances to brai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ntibodies for treatment of lymphoma, breast cance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odified viruses that will deliver genes for gene therap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rugs for treatment of other CNS diseases - ?Alzheimer’s dis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Arial"/>
              </a:rPr>
              <a:t>BBB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Arial"/>
              </a:rPr>
              <a:t>Potential future uses</a:t>
            </a:r>
            <a:endParaRPr b="1" lang="en-US" sz="5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nical trials in progress or starting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CNSL: Rituximab + chemotherap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 grade glioma: Chemotherapy + S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rain metastases from breast cancer: Trastuzumab + chemotherap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ediatric brain tumors: chemotherapy + NAC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TS = sodium thiosulfate – protects against bone marrow and hearing side effect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AC = N-acetyl cysteine – protects bone marrow against side effect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00"/>
                </a:solidFill>
                <a:latin typeface="Arial"/>
              </a:rPr>
              <a:t>Take home messages</a:t>
            </a:r>
            <a:endParaRPr b="1" lang="en-US" sz="4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BBD is a uniquely useful option for delivery of medicines to the brain for treatment of patients with brain canc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atment of patients with PCNSL using BBBD affords long term survival without the need for radiation therapy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BBD can avoid the long term cognitive effects of radiation therap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BBD offers the possibility of delivering important drugs to the brain such as rituximab, trastuzumab, antibodies or gen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00"/>
                </a:solidFill>
                <a:latin typeface="Arial"/>
              </a:rPr>
              <a:t>Take home messages</a:t>
            </a:r>
            <a:endParaRPr b="1" lang="en-US" sz="4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BBD is a uniquely useful option for delivery of medicines to the brain for treatment of patients with brain canc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atment of patients with PCNSL using BBBD affords long term survival without the need for radiation therapy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BBD can avoid the long term cognitive effects of radiation therap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BBD offers the possibility of delivering important drugs to the brain such as rituximab, trastuzumab, antibodies or gen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100" spc="-1" strike="noStrike">
                <a:solidFill>
                  <a:srgbClr val="ffffff"/>
                </a:solidFill>
                <a:latin typeface="Arial"/>
              </a:rPr>
              <a:t>Thank you!</a:t>
            </a:r>
            <a:endParaRPr b="1" lang="en-US" sz="101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00"/>
                </a:solidFill>
                <a:latin typeface="Arial"/>
              </a:rPr>
              <a:t>Brain Cancer</a:t>
            </a:r>
            <a:endParaRPr b="1" lang="en-US" sz="6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rox 200,000 patients per ye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~ 150,000+ death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mary tumors and brain metastas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emotherapy can improve surviv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ften younger pati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 leading cause of cancer death in childr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64832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Arial"/>
              </a:rPr>
              <a:t>Burden of brain cancer</a:t>
            </a:r>
            <a:endParaRPr b="1" lang="en-US" sz="5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-30168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ersonality chang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oss of communication – speech impair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oss of motor fun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ision los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izur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oss of independenc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tress on caregivers – high rate of divorc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mplicated by need for steroi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 flipV="1">
            <a:off x="5859360" y="3276360"/>
            <a:ext cx="1285920" cy="205740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252440" y="3276720"/>
            <a:ext cx="3387960" cy="182880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65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Delivery of Drug to the Brain Tumor</a:t>
            </a:r>
            <a:endParaRPr b="1" lang="en-US" sz="4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592280" y="3581280"/>
            <a:ext cx="1942920" cy="1162080"/>
          </a:xfrm>
          <a:custGeom>
            <a:avLst/>
            <a:gdLst/>
            <a:ahLst/>
            <a:rect l="l" t="t" r="r" b="b"/>
            <a:pathLst>
              <a:path w="1377" h="732">
                <a:moveTo>
                  <a:pt x="40" y="420"/>
                </a:moveTo>
                <a:cubicBezTo>
                  <a:pt x="55" y="328"/>
                  <a:pt x="95" y="256"/>
                  <a:pt x="124" y="168"/>
                </a:cubicBezTo>
                <a:cubicBezTo>
                  <a:pt x="136" y="133"/>
                  <a:pt x="240" y="105"/>
                  <a:pt x="268" y="96"/>
                </a:cubicBezTo>
                <a:cubicBezTo>
                  <a:pt x="320" y="79"/>
                  <a:pt x="371" y="72"/>
                  <a:pt x="424" y="60"/>
                </a:cubicBezTo>
                <a:cubicBezTo>
                  <a:pt x="473" y="49"/>
                  <a:pt x="455" y="44"/>
                  <a:pt x="508" y="24"/>
                </a:cubicBezTo>
                <a:cubicBezTo>
                  <a:pt x="555" y="6"/>
                  <a:pt x="636" y="4"/>
                  <a:pt x="676" y="0"/>
                </a:cubicBezTo>
                <a:cubicBezTo>
                  <a:pt x="808" y="4"/>
                  <a:pt x="940" y="5"/>
                  <a:pt x="1072" y="12"/>
                </a:cubicBezTo>
                <a:cubicBezTo>
                  <a:pt x="1106" y="14"/>
                  <a:pt x="1115" y="34"/>
                  <a:pt x="1144" y="48"/>
                </a:cubicBezTo>
                <a:cubicBezTo>
                  <a:pt x="1195" y="74"/>
                  <a:pt x="1244" y="94"/>
                  <a:pt x="1300" y="108"/>
                </a:cubicBezTo>
                <a:cubicBezTo>
                  <a:pt x="1341" y="169"/>
                  <a:pt x="1343" y="242"/>
                  <a:pt x="1360" y="312"/>
                </a:cubicBezTo>
                <a:cubicBezTo>
                  <a:pt x="1359" y="325"/>
                  <a:pt x="1377" y="560"/>
                  <a:pt x="1312" y="612"/>
                </a:cubicBezTo>
                <a:cubicBezTo>
                  <a:pt x="1302" y="620"/>
                  <a:pt x="1287" y="618"/>
                  <a:pt x="1276" y="624"/>
                </a:cubicBezTo>
                <a:cubicBezTo>
                  <a:pt x="1136" y="702"/>
                  <a:pt x="1272" y="649"/>
                  <a:pt x="1132" y="696"/>
                </a:cubicBezTo>
                <a:cubicBezTo>
                  <a:pt x="1108" y="704"/>
                  <a:pt x="1084" y="712"/>
                  <a:pt x="1060" y="720"/>
                </a:cubicBezTo>
                <a:cubicBezTo>
                  <a:pt x="1048" y="724"/>
                  <a:pt x="1024" y="732"/>
                  <a:pt x="1024" y="732"/>
                </a:cubicBezTo>
                <a:cubicBezTo>
                  <a:pt x="948" y="728"/>
                  <a:pt x="872" y="729"/>
                  <a:pt x="796" y="720"/>
                </a:cubicBezTo>
                <a:cubicBezTo>
                  <a:pt x="758" y="715"/>
                  <a:pt x="726" y="686"/>
                  <a:pt x="688" y="684"/>
                </a:cubicBezTo>
                <a:cubicBezTo>
                  <a:pt x="392" y="670"/>
                  <a:pt x="520" y="680"/>
                  <a:pt x="304" y="660"/>
                </a:cubicBezTo>
                <a:cubicBezTo>
                  <a:pt x="280" y="652"/>
                  <a:pt x="250" y="654"/>
                  <a:pt x="232" y="636"/>
                </a:cubicBezTo>
                <a:cubicBezTo>
                  <a:pt x="220" y="624"/>
                  <a:pt x="211" y="608"/>
                  <a:pt x="196" y="600"/>
                </a:cubicBezTo>
                <a:cubicBezTo>
                  <a:pt x="174" y="588"/>
                  <a:pt x="148" y="584"/>
                  <a:pt x="124" y="576"/>
                </a:cubicBezTo>
                <a:cubicBezTo>
                  <a:pt x="99" y="568"/>
                  <a:pt x="77" y="548"/>
                  <a:pt x="52" y="540"/>
                </a:cubicBezTo>
                <a:cubicBezTo>
                  <a:pt x="14" y="483"/>
                  <a:pt x="33" y="518"/>
                  <a:pt x="4" y="432"/>
                </a:cubicBezTo>
                <a:cubicBezTo>
                  <a:pt x="0" y="420"/>
                  <a:pt x="28" y="424"/>
                  <a:pt x="40" y="420"/>
                </a:cubicBezTo>
                <a:close/>
              </a:path>
            </a:pathLst>
          </a:custGeom>
          <a:solidFill>
            <a:srgbClr val="ffcc00">
              <a:alpha val="80000"/>
            </a:srgbClr>
          </a:solidFill>
          <a:ln w="2844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rot="5400000">
            <a:off x="7230960" y="2413080"/>
            <a:ext cx="914400" cy="812880"/>
          </a:xfrm>
          <a:prstGeom prst="blockArc">
            <a:avLst>
              <a:gd name="adj1" fmla="val 2700000"/>
              <a:gd name="adj2" fmla="val 8100000"/>
              <a:gd name="adj3" fmla="val 41162"/>
            </a:avLst>
          </a:prstGeom>
          <a:solidFill>
            <a:srgbClr val="dc0081"/>
          </a:solidFill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rot="5400000">
            <a:off x="5058000" y="4999680"/>
            <a:ext cx="914400" cy="973080"/>
          </a:xfrm>
          <a:prstGeom prst="blockArc">
            <a:avLst>
              <a:gd name="adj1" fmla="val 21170619"/>
              <a:gd name="adj2" fmla="val 11229381"/>
              <a:gd name="adj3" fmla="val 45801"/>
            </a:avLst>
          </a:prstGeom>
          <a:solidFill>
            <a:srgbClr val="dc0081"/>
          </a:solidFill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173680" y="3911760"/>
            <a:ext cx="103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6320" y="4861080"/>
            <a:ext cx="443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sm may be increased by certain medica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105520" y="3886200"/>
            <a:ext cx="3055680" cy="685800"/>
          </a:xfrm>
          <a:prstGeom prst="roundRect">
            <a:avLst>
              <a:gd name="adj" fmla="val 50000"/>
            </a:avLst>
          </a:prstGeom>
          <a:solidFill>
            <a:srgbClr val="ffcc00">
              <a:alpha val="80000"/>
            </a:srgbClr>
          </a:solidFill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loo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rain Barri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049400" y="2087640"/>
            <a:ext cx="12189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ral or I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887880" y="1676520"/>
            <a:ext cx="2245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ug reach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rain tum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52280" y="2666880"/>
            <a:ext cx="965160" cy="914400"/>
          </a:xfrm>
          <a:prstGeom prst="donut">
            <a:avLst>
              <a:gd name="adj" fmla="val 47916"/>
            </a:avLst>
          </a:prstGeom>
          <a:solidFill>
            <a:srgbClr val="dc0081"/>
          </a:solidFill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200400" y="6324480"/>
            <a:ext cx="27622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Courtesy Stuart Grossma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 flipV="1">
            <a:off x="5859360" y="3276360"/>
            <a:ext cx="1285920" cy="205740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252440" y="3276720"/>
            <a:ext cx="3387960" cy="182880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715680"/>
            <a:ext cx="8229600" cy="65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Delivery of Drug to the Brain Tumor</a:t>
            </a:r>
            <a:endParaRPr b="1" lang="en-US" sz="4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600200" y="3581280"/>
            <a:ext cx="1943280" cy="1162080"/>
          </a:xfrm>
          <a:custGeom>
            <a:avLst/>
            <a:gdLst/>
            <a:ahLst/>
            <a:rect l="l" t="t" r="r" b="b"/>
            <a:pathLst>
              <a:path w="1377" h="732">
                <a:moveTo>
                  <a:pt x="40" y="420"/>
                </a:moveTo>
                <a:cubicBezTo>
                  <a:pt x="55" y="328"/>
                  <a:pt x="95" y="256"/>
                  <a:pt x="124" y="168"/>
                </a:cubicBezTo>
                <a:cubicBezTo>
                  <a:pt x="136" y="133"/>
                  <a:pt x="240" y="105"/>
                  <a:pt x="268" y="96"/>
                </a:cubicBezTo>
                <a:cubicBezTo>
                  <a:pt x="320" y="79"/>
                  <a:pt x="371" y="72"/>
                  <a:pt x="424" y="60"/>
                </a:cubicBezTo>
                <a:cubicBezTo>
                  <a:pt x="473" y="49"/>
                  <a:pt x="455" y="44"/>
                  <a:pt x="508" y="24"/>
                </a:cubicBezTo>
                <a:cubicBezTo>
                  <a:pt x="555" y="6"/>
                  <a:pt x="636" y="4"/>
                  <a:pt x="676" y="0"/>
                </a:cubicBezTo>
                <a:cubicBezTo>
                  <a:pt x="808" y="4"/>
                  <a:pt x="940" y="5"/>
                  <a:pt x="1072" y="12"/>
                </a:cubicBezTo>
                <a:cubicBezTo>
                  <a:pt x="1106" y="14"/>
                  <a:pt x="1115" y="34"/>
                  <a:pt x="1144" y="48"/>
                </a:cubicBezTo>
                <a:cubicBezTo>
                  <a:pt x="1195" y="74"/>
                  <a:pt x="1244" y="94"/>
                  <a:pt x="1300" y="108"/>
                </a:cubicBezTo>
                <a:cubicBezTo>
                  <a:pt x="1341" y="169"/>
                  <a:pt x="1343" y="242"/>
                  <a:pt x="1360" y="312"/>
                </a:cubicBezTo>
                <a:cubicBezTo>
                  <a:pt x="1359" y="325"/>
                  <a:pt x="1377" y="560"/>
                  <a:pt x="1312" y="612"/>
                </a:cubicBezTo>
                <a:cubicBezTo>
                  <a:pt x="1302" y="620"/>
                  <a:pt x="1287" y="618"/>
                  <a:pt x="1276" y="624"/>
                </a:cubicBezTo>
                <a:cubicBezTo>
                  <a:pt x="1136" y="702"/>
                  <a:pt x="1272" y="649"/>
                  <a:pt x="1132" y="696"/>
                </a:cubicBezTo>
                <a:cubicBezTo>
                  <a:pt x="1108" y="704"/>
                  <a:pt x="1084" y="712"/>
                  <a:pt x="1060" y="720"/>
                </a:cubicBezTo>
                <a:cubicBezTo>
                  <a:pt x="1048" y="724"/>
                  <a:pt x="1024" y="732"/>
                  <a:pt x="1024" y="732"/>
                </a:cubicBezTo>
                <a:cubicBezTo>
                  <a:pt x="948" y="728"/>
                  <a:pt x="872" y="729"/>
                  <a:pt x="796" y="720"/>
                </a:cubicBezTo>
                <a:cubicBezTo>
                  <a:pt x="758" y="715"/>
                  <a:pt x="726" y="686"/>
                  <a:pt x="688" y="684"/>
                </a:cubicBezTo>
                <a:cubicBezTo>
                  <a:pt x="392" y="670"/>
                  <a:pt x="520" y="680"/>
                  <a:pt x="304" y="660"/>
                </a:cubicBezTo>
                <a:cubicBezTo>
                  <a:pt x="280" y="652"/>
                  <a:pt x="250" y="654"/>
                  <a:pt x="232" y="636"/>
                </a:cubicBezTo>
                <a:cubicBezTo>
                  <a:pt x="220" y="624"/>
                  <a:pt x="211" y="608"/>
                  <a:pt x="196" y="600"/>
                </a:cubicBezTo>
                <a:cubicBezTo>
                  <a:pt x="174" y="588"/>
                  <a:pt x="148" y="584"/>
                  <a:pt x="124" y="576"/>
                </a:cubicBezTo>
                <a:cubicBezTo>
                  <a:pt x="99" y="568"/>
                  <a:pt x="77" y="548"/>
                  <a:pt x="52" y="540"/>
                </a:cubicBezTo>
                <a:cubicBezTo>
                  <a:pt x="14" y="483"/>
                  <a:pt x="33" y="518"/>
                  <a:pt x="4" y="432"/>
                </a:cubicBezTo>
                <a:cubicBezTo>
                  <a:pt x="0" y="420"/>
                  <a:pt x="28" y="424"/>
                  <a:pt x="40" y="420"/>
                </a:cubicBezTo>
                <a:close/>
              </a:path>
            </a:pathLst>
          </a:custGeom>
          <a:solidFill>
            <a:srgbClr val="ffcc00">
              <a:alpha val="80000"/>
            </a:srgbClr>
          </a:solidFill>
          <a:ln w="2844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rot="5400000">
            <a:off x="5058000" y="4999680"/>
            <a:ext cx="914400" cy="973080"/>
          </a:xfrm>
          <a:prstGeom prst="blockArc">
            <a:avLst>
              <a:gd name="adj1" fmla="val 21170619"/>
              <a:gd name="adj2" fmla="val 11229381"/>
              <a:gd name="adj3" fmla="val 45801"/>
            </a:avLst>
          </a:prstGeom>
          <a:solidFill>
            <a:srgbClr val="dc0081"/>
          </a:solidFill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211480" y="3911760"/>
            <a:ext cx="9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v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36440" y="4800600"/>
            <a:ext cx="4435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tabolism may be increased by certain medica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105520" y="3886200"/>
            <a:ext cx="3055680" cy="685800"/>
          </a:xfrm>
          <a:prstGeom prst="roundRect">
            <a:avLst>
              <a:gd name="adj" fmla="val 50000"/>
            </a:avLst>
          </a:prstGeom>
          <a:solidFill>
            <a:srgbClr val="ffcc00">
              <a:alpha val="80000"/>
            </a:srgbClr>
          </a:solidFill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lood Brain Barri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049400" y="2087640"/>
            <a:ext cx="121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783480" y="1676520"/>
            <a:ext cx="2245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ug reach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rain tum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52280" y="2514600"/>
            <a:ext cx="965160" cy="914400"/>
          </a:xfrm>
          <a:prstGeom prst="donut">
            <a:avLst>
              <a:gd name="adj" fmla="val 47916"/>
            </a:avLst>
          </a:prstGeom>
          <a:solidFill>
            <a:srgbClr val="dc0081"/>
          </a:solidFill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743200" y="6392880"/>
            <a:ext cx="35053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Adapted from Stuart Grossma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447920" y="2971800"/>
            <a:ext cx="5562360" cy="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108240" y="2057400"/>
            <a:ext cx="2911680" cy="581400"/>
          </a:xfrm>
          <a:prstGeom prst="rect">
            <a:avLst/>
          </a:prstGeom>
          <a:solidFill>
            <a:srgbClr val="ffcc00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A/BBB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238880" y="2514600"/>
            <a:ext cx="965160" cy="914400"/>
          </a:xfrm>
          <a:prstGeom prst="donut">
            <a:avLst>
              <a:gd name="adj" fmla="val 47916"/>
            </a:avLst>
          </a:prstGeom>
          <a:solidFill>
            <a:srgbClr val="dc0081"/>
          </a:solidFill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28600" y="3200400"/>
            <a:ext cx="8686800" cy="3048120"/>
          </a:xfrm>
          <a:prstGeom prst="ellipse">
            <a:avLst/>
          </a:prstGeom>
          <a:gradFill rotWithShape="0">
            <a:gsLst>
              <a:gs pos="0">
                <a:srgbClr val="ffcc00">
                  <a:alpha val="80392"/>
                </a:srgbClr>
              </a:gs>
              <a:gs pos="100000">
                <a:srgbClr val="755e00">
                  <a:alpha val="80392"/>
                </a:srgbClr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00"/>
                </a:solidFill>
                <a:latin typeface="Arial"/>
              </a:rPr>
              <a:t>Drug delivery to the brain</a:t>
            </a:r>
            <a:endParaRPr b="1" lang="en-US" sz="4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jor limitation of chemotherapy for brain tumo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fter passing through the liver, most chemotherapy drugs do not reach brain tumo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143000" y="4343400"/>
            <a:ext cx="6645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472760" y="4560840"/>
            <a:ext cx="6331680" cy="1702440"/>
          </a:xfrm>
          <a:prstGeom prst="rect">
            <a:avLst/>
          </a:prstGeom>
          <a:solidFill>
            <a:srgbClr val="ffff00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y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he blood-brain barri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89240" y="228240"/>
            <a:ext cx="6365520" cy="77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Arial"/>
              </a:rPr>
              <a:t>Blood-brain barrier</a:t>
            </a:r>
            <a:endParaRPr b="1" lang="en-US" sz="5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379404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tects brain from toxi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events entry of most drugs into the brai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114800" y="1143000"/>
            <a:ext cx="4511520" cy="50292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5943600" y="5715000"/>
            <a:ext cx="2209680" cy="31284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Brain or Tumor ce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451640" y="1219320"/>
            <a:ext cx="1025640" cy="58716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Blood vess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595840" y="3546360"/>
            <a:ext cx="781200" cy="3682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BB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327560" y="2384280"/>
            <a:ext cx="1017720" cy="58716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Lining cel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115040" y="3429000"/>
            <a:ext cx="1017720" cy="58716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Lining cel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10T18:48:34Z</dcterms:created>
  <dc:creator>Mark Gilbert</dc:creator>
  <dc:description/>
  <dc:language>en-US</dc:language>
  <cp:lastModifiedBy>belleys</cp:lastModifiedBy>
  <cp:lastPrinted>2004-11-02T20:19:04Z</cp:lastPrinted>
  <dcterms:modified xsi:type="dcterms:W3CDTF">2006-09-25T12:36:40Z</dcterms:modified>
  <cp:revision>318</cp:revision>
  <dc:subject/>
  <dc:title>Brain Metastases: Diagnosis and Treatment</dc:title>
</cp:coreProperties>
</file>