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4011840"/>
            <a:ext cx="8135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2800" y="134136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401184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52800" y="401184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2619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4760" y="1341360"/>
            <a:ext cx="2619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5520" y="1341360"/>
            <a:ext cx="2619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4011840"/>
            <a:ext cx="2619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4760" y="4011840"/>
            <a:ext cx="2619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5520" y="4011840"/>
            <a:ext cx="2619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70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2800" y="1341360"/>
            <a:ext cx="3970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918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2800" y="1341360"/>
            <a:ext cx="3970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401184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70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2800" y="134136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52800" y="401184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06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2800" y="1341360"/>
            <a:ext cx="3970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4011840"/>
            <a:ext cx="8135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35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4360"/>
            <a:ext cx="9144000" cy="502920"/>
          </a:xfrm>
          <a:prstGeom prst="rect">
            <a:avLst/>
          </a:prstGeom>
          <a:gradFill rotWithShape="0">
            <a:gsLst>
              <a:gs pos="0">
                <a:srgbClr val="6d828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000" y="1341360"/>
            <a:ext cx="8135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868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9144000" cy="407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d828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69080" y="6531120"/>
            <a:ext cx="1150920" cy="25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426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. Bruce Ferguson, Jr. M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sor and Associate Chie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ion of Vascular and CT Surg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st Carolina Univers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ef Medical Advi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adaq Technologie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86200" cy="287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67080" y="4952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586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ascular angiography using florescent properties of generic dye in conjunction with proprietary high speed digital infrared photograp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1067040" cy="6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96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MS Coordination and Maintenance Committee Meeting</a:t>
            </a:r>
            <a:r>
              <a:rPr b="1" lang="en-US" sz="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ptember 28, 2006, Baltimore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Arial"/>
              </a:rPr>
              <a:t>Reduction in Myocardial Injury During CABG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990720" y="5561640"/>
            <a:ext cx="73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192 Matched patients in the SPY angiography group had significantly less perioperative MI (12.0% versus 20.3% in contr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219320"/>
          <a:ext cx="6402240" cy="43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640224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116960" y="21477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= 0.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9280" y="152388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alifornian FB"/>
              </a:rPr>
              <a:t>P = 0.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rk Flow &amp; Resource Allocation: Image Acquisition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9320"/>
            <a:ext cx="41482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ff-Pump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e 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A to LAD (Additional in-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ee Grafts (1 image per g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ximal Anastom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678168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-Pump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e 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A to LAD Post (Additional in-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ee Grafts (1 image per g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ximal Anastom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A to LAD Post w/beating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648320"/>
            <a:ext cx="678168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-Pump Procedures (Direct-To-Graft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e 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ee Grafts (1 image per g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A to LAD Post (Additional in-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ximal Anastom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A to LAD Post w / beating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854360"/>
            <a:ext cx="272736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Average of 6 image sequences per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rk Flow &amp; Resource Allocation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143000"/>
          <a:ext cx="8153280" cy="5321160"/>
        </p:xfrm>
        <a:graphic>
          <a:graphicData uri="http://schemas.openxmlformats.org/drawingml/2006/table">
            <a:tbl>
              <a:tblPr/>
              <a:tblGrid>
                <a:gridCol w="2598840"/>
                <a:gridCol w="2259000"/>
                <a:gridCol w="1649160"/>
                <a:gridCol w="16462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Resource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Per Sequ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Work Eff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System Setup/Dra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Injection Prepar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Circulating Nurse, Scrub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CN, Anesthesiologist &amp;/or Perfus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10 - 2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Image Captur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Imag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Surgeon, CN, Anesthesi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Surge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2-3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3-5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30 - 4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Procedure Comple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Doc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Records Arch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Surgeon/ 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Circulating Nur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fornian FB"/>
                          <a:ea typeface="Times New Roman"/>
                        </a:rPr>
                        <a:t>10 - 1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Total Time (aver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5-8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Californian FB"/>
                          <a:ea typeface="Times New Roman"/>
                        </a:rPr>
                        <a:t>50 - 74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rk Flow &amp; Resource Allocation: Image Interpretation</a:t>
            </a:r>
            <a:r>
              <a:rPr b="1" lang="en-US" sz="20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990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143000"/>
          <a:ext cx="4340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4340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969520" y="24750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-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r Sequence</a:t>
            </a:r>
            <a:r>
              <a:rPr b="1" lang="en-US" sz="18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t-Market Clinical Data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CTORIA Multi-Center Clinical Registry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sual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terpretation of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mpleteness and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chn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rativ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ults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tra-operativ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teriography in Coronary Bypass Surg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0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que clinical and image datab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lying clinical disease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teral 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etitive 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urrent Status of SPY in CABG Practice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% Correlation of SPY IFVA with X-ray Angiograph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- 8% Graft Revision Rate with use of SPY IFVA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1% Reduction in Myocardial Injury Rate  (Desa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%  SPY Rate of Utilization within CABG Cases at early adoption  sites  (range 5% - 10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 US Centers (Sept. 200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0 Patients - VICTORIA Multi Center Clinical Reg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w Paradigm in CABG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9600" y="1219320"/>
            <a:ext cx="6333480" cy="1981080"/>
            <a:chOff x="219600" y="1219320"/>
            <a:chExt cx="6333480" cy="1981080"/>
          </a:xfrm>
        </p:grpSpPr>
        <p:sp>
          <p:nvSpPr>
            <p:cNvPr id="115" name=""/>
            <p:cNvSpPr/>
            <p:nvPr/>
          </p:nvSpPr>
          <p:spPr>
            <a:xfrm>
              <a:off x="228600" y="2514600"/>
              <a:ext cx="6324480" cy="0"/>
            </a:xfrm>
            <a:prstGeom prst="line">
              <a:avLst/>
            </a:prstGeom>
            <a:ln w="31752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124080" y="1295280"/>
              <a:ext cx="21337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9600" y="1219320"/>
              <a:ext cx="2899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fornian FB"/>
                </a:rPr>
                <a:t>Current CAB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fornian FB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fornian FB"/>
                </a:rPr>
                <a:t>Memory-Guided” an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fornian FB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fornian FB"/>
                </a:rPr>
                <a:t>Judgment-Assessed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05320" y="3505320"/>
            <a:ext cx="5669280" cy="1523880"/>
            <a:chOff x="3505320" y="3505320"/>
            <a:chExt cx="5669280" cy="1523880"/>
          </a:xfrm>
        </p:grpSpPr>
        <p:sp>
          <p:nvSpPr>
            <p:cNvPr id="119" name=""/>
            <p:cNvSpPr/>
            <p:nvPr/>
          </p:nvSpPr>
          <p:spPr>
            <a:xfrm>
              <a:off x="3505320" y="4114800"/>
              <a:ext cx="2209680" cy="914400"/>
            </a:xfrm>
            <a:custGeom>
              <a:avLst/>
              <a:gdLst/>
              <a:ahLst/>
              <a:rect l="l" t="t" r="r" b="b"/>
              <a:pathLst>
                <a:path w="1716" h="720">
                  <a:moveTo>
                    <a:pt x="0" y="720"/>
                  </a:moveTo>
                  <a:lnTo>
                    <a:pt x="600" y="720"/>
                  </a:lnTo>
                  <a:lnTo>
                    <a:pt x="1716" y="0"/>
                  </a:lnTo>
                </a:path>
              </a:pathLst>
            </a:custGeom>
            <a:noFill/>
            <a:ln w="3175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6920" y="3505320"/>
              <a:ext cx="357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fornian FB"/>
                </a:rPr>
                <a:t>Incremental Improv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fornian FB"/>
                </a:rPr>
                <a:t>In Outcomes And Qu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05320" y="5029200"/>
            <a:ext cx="5430960" cy="1465920"/>
            <a:chOff x="3505320" y="5029200"/>
            <a:chExt cx="5430960" cy="1465920"/>
          </a:xfrm>
        </p:grpSpPr>
        <p:sp>
          <p:nvSpPr>
            <p:cNvPr id="122" name=""/>
            <p:cNvSpPr/>
            <p:nvPr/>
          </p:nvSpPr>
          <p:spPr>
            <a:xfrm>
              <a:off x="3505320" y="5029200"/>
              <a:ext cx="2286000" cy="914400"/>
            </a:xfrm>
            <a:custGeom>
              <a:avLst/>
              <a:gdLst/>
              <a:ahLst/>
              <a:rect l="l" t="t" r="r" b="b"/>
              <a:pathLst>
                <a:path w="1680" h="588">
                  <a:moveTo>
                    <a:pt x="0" y="0"/>
                  </a:moveTo>
                  <a:lnTo>
                    <a:pt x="252" y="0"/>
                  </a:lnTo>
                  <a:lnTo>
                    <a:pt x="552" y="0"/>
                  </a:lnTo>
                  <a:lnTo>
                    <a:pt x="1680" y="588"/>
                  </a:lnTo>
                </a:path>
              </a:pathLst>
            </a:custGeom>
            <a:noFill/>
            <a:ln w="31752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59280" y="5791320"/>
              <a:ext cx="317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be0e3"/>
                  </a:solidFill>
                  <a:latin typeface="Californian FB"/>
                </a:rPr>
                <a:t>Myocardial, Endothel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be0e3"/>
                  </a:solidFill>
                  <a:latin typeface="Californian FB"/>
                </a:rPr>
                <a:t>Perfusion 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05320" y="4495680"/>
            <a:ext cx="5559120" cy="1008720"/>
            <a:chOff x="3505320" y="4495680"/>
            <a:chExt cx="5559120" cy="1008720"/>
          </a:xfrm>
        </p:grpSpPr>
        <p:sp>
          <p:nvSpPr>
            <p:cNvPr id="125" name=""/>
            <p:cNvSpPr/>
            <p:nvPr/>
          </p:nvSpPr>
          <p:spPr>
            <a:xfrm>
              <a:off x="3505320" y="5029200"/>
              <a:ext cx="3124080" cy="0"/>
            </a:xfrm>
            <a:prstGeom prst="line">
              <a:avLst/>
            </a:prstGeom>
            <a:ln w="3175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85040" y="4495680"/>
              <a:ext cx="257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alifornian FB"/>
                </a:rPr>
                <a:t>Directed, Patient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alifornian FB"/>
                </a:rPr>
                <a:t>Specific Adjun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alifornian FB"/>
                </a:rPr>
                <a:t>Therapies (TM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9480" y="4267080"/>
            <a:ext cx="3893040" cy="1968480"/>
            <a:chOff x="69480" y="4267080"/>
            <a:chExt cx="3893040" cy="1968480"/>
          </a:xfrm>
        </p:grpSpPr>
        <p:sp>
          <p:nvSpPr>
            <p:cNvPr id="128" name=""/>
            <p:cNvSpPr/>
            <p:nvPr/>
          </p:nvSpPr>
          <p:spPr>
            <a:xfrm>
              <a:off x="228600" y="5029200"/>
              <a:ext cx="297180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438280" y="4267080"/>
              <a:ext cx="15242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80" y="5410080"/>
              <a:ext cx="244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Californian FB"/>
                </a:rPr>
                <a:t>“</a:t>
              </a:r>
              <a:r>
                <a:rPr b="1" lang="en-US" sz="2400" spc="-1" strike="noStrike">
                  <a:solidFill>
                    <a:srgbClr val="ffff66"/>
                  </a:solidFill>
                  <a:latin typeface="Californian FB"/>
                </a:rPr>
                <a:t>Image-guid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Californian FB"/>
                </a:rPr>
                <a:t>CABG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ronary Artery Bypass Today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990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350,000 Procedures/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800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 3400 active US surge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 75% on-pump, 25% OPC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gnificant decline in RA 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</a:rPr>
              <a:t>(Ferguson, Circulation 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stained Survival bene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</a:rPr>
              <a:t>(Hannan, NEJM 200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952880" y="1341360"/>
          <a:ext cx="36576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341360"/>
                    <a:ext cx="36576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52880" y="4025880"/>
            <a:ext cx="358164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ardiac Surgery Patients Today 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200" y="1828800"/>
            <a:ext cx="3949920" cy="3962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14800" cy="3962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69960" y="60199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Normal coronary 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3160" y="60199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iseased Coronary 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TOM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timize Procedure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and assess target vess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ACY OF REVASCULARIZ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bypass graft patency vi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distal out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stomotic Revision/Re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positioning/revising graft/anastom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OLO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cument physiologic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teral flow, competitive flow, vessel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microvascular perfusion to coronary b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need and location for adjunctive therapies (TMR, genetic/proteomic therapi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ssible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linical Benefits of Intra-operative Angiography in CABG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solidFill>
            <a:srgbClr val="596d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3492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505320" y="6465960"/>
            <a:ext cx="5638680" cy="407880"/>
            <a:chOff x="3505320" y="6465960"/>
            <a:chExt cx="5638680" cy="407880"/>
          </a:xfrm>
        </p:grpSpPr>
        <p:sp>
          <p:nvSpPr>
            <p:cNvPr id="63" name=""/>
            <p:cNvSpPr/>
            <p:nvPr/>
          </p:nvSpPr>
          <p:spPr>
            <a:xfrm>
              <a:off x="3505320" y="6465960"/>
              <a:ext cx="5638680" cy="407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d82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8234280" y="6519960"/>
              <a:ext cx="709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468360" y="3068640"/>
            <a:ext cx="20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7c12"/>
                </a:solidFill>
                <a:latin typeface="Arial"/>
              </a:rPr>
              <a:t>Real time visual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438640" cy="143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22360" r="0" b="23572"/>
          <a:stretch/>
        </p:blipFill>
        <p:spPr>
          <a:xfrm>
            <a:off x="3581280" y="1600200"/>
            <a:ext cx="5562720" cy="277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4419720"/>
            <a:ext cx="16239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4343400"/>
            <a:ext cx="1892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1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133720"/>
            <a:ext cx="16239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2133720"/>
            <a:ext cx="16239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0"/>
            <a:ext cx="5562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onary Artery Bypass Surger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DA cleared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ubstantially equivalent to X-ray angi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5181480"/>
            <a:ext cx="556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ave surgeons not imaged intra-operatively because the technology didn’t ex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r because there was no (perceiv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linical need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9188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tra-operative</a:t>
            </a:r>
            <a:r>
              <a:rPr b="1" lang="en-US" sz="20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luorescence Vascular Angiography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6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31760" y="537048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ccluded Gr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541008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vised Gr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202572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27600" y="2025720"/>
            <a:ext cx="36306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343400" y="1219320"/>
            <a:ext cx="4680" cy="5114880"/>
          </a:xfrm>
          <a:prstGeom prst="line">
            <a:avLst/>
          </a:prstGeom>
          <a:ln w="936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90720" cy="58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43400" y="1600200"/>
            <a:ext cx="480060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 + patient clinic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000-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 clinical experience (2005/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00 pts / 5000 + grafts 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 peer-reviewed journal pub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buClr>
                <a:srgbClr val="f67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 adoption: 50 Centers (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228600"/>
            <a:ext cx="63406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linical Data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36576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uld Imaging Improve CABG Qu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371600"/>
            <a:ext cx="82296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aft patency is the major determinant of freedom from repeat intervention after CAB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EVENT IV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intervention rate over 3 years higher in patients with occluded grafts angiographically at 1 year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Alexander, JAMA 2006; 294:2446-5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ioperative MI associated with poorer outcome at 2 year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Yau, 2006)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chnical errors in bypass graft construction by the operating surgeon and/or endothelial factors are primarily responsible for early fail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62720" y="5867280"/>
            <a:ext cx="358128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66"/>
                </a:solidFill>
                <a:latin typeface="Arial"/>
                <a:ea typeface="Arial"/>
              </a:rPr>
              <a:t>Desai, ND.  Journal of the American College of Cardiology.  2005; 46:1521-5</a:t>
            </a:r>
            <a:r>
              <a:rPr b="1" lang="en-CA" sz="1600" spc="-1" strike="noStrike">
                <a:solidFill>
                  <a:srgbClr val="ffff66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uld Imaging Improve CABG Qu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143000"/>
            <a:ext cx="87584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sion R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2% of grafts images intra-operatively with SPY Angiography had significant problems and required major anastomotic revision and 3.5% required minor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t-op Angiographic Follow up (6 pt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itivity - Peri-anastomotic lesions with &gt;50% stenosis were observed in three grafts; sensitivity for detection was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ity - There were no false positive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ity for &gt;50% stenosis was also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1447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6:24:18Z</dcterms:created>
  <dc:creator> Arun Menawat</dc:creator>
  <dc:description/>
  <cp:keywords/>
  <dc:language>en-US</dc:language>
  <cp:lastModifiedBy>CMS</cp:lastModifiedBy>
  <cp:lastPrinted>2005-05-06T16:01:58Z</cp:lastPrinted>
  <dcterms:modified xsi:type="dcterms:W3CDTF">2006-10-05T17:45:23Z</dcterms:modified>
  <cp:revision>578</cp:revision>
  <dc:subject>Investor Presentation</dc:subject>
  <dc:title>Novadaq Investor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4106573</vt:r8>
  </property>
  <property fmtid="{D5CDD505-2E9C-101B-9397-08002B2CF9AE}" pid="3" name="_AuthorEmail">
    <vt:lpwstr>patricia.brooks2@cms.hhs.gov</vt:lpwstr>
  </property>
  <property fmtid="{D5CDD505-2E9C-101B-9397-08002B2CF9AE}" pid="4" name="_AuthorEmailDisplayName">
    <vt:lpwstr>Brooks, Pat E. (CMS/CMM)</vt:lpwstr>
  </property>
  <property fmtid="{D5CDD505-2E9C-101B-9397-08002B2CF9AE}" pid="5" name="_EmailSubject">
    <vt:lpwstr>Spy procedure for posting</vt:lpwstr>
  </property>
  <property fmtid="{D5CDD505-2E9C-101B-9397-08002B2CF9AE}" pid="6" name="_NewReviewCycle">
    <vt:lpwstr/>
  </property>
</Properties>
</file>