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9.wmf" ContentType="image/x-wmf"/>
  <Override PartName="/ppt/media/image22.png" ContentType="image/png"/>
  <Override PartName="/ppt/media/image1.jpeg" ContentType="image/jpeg"/>
  <Override PartName="/ppt/media/image21.png" ContentType="image/png"/>
  <Override PartName="/ppt/media/image19.wmf" ContentType="image/x-wmf"/>
  <Override PartName="/ppt/media/image17.wmf" ContentType="image/x-wmf"/>
  <Override PartName="/ppt/media/image14.jpeg" ContentType="image/jpeg"/>
  <Override PartName="/ppt/media/image16.wmf" ContentType="image/x-wmf"/>
  <Override PartName="/ppt/media/image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5.jpeg" ContentType="image/jpeg"/>
  <Override PartName="/ppt/media/image20.wmf" ContentType="image/x-wmf"/>
  <Override PartName="/ppt/media/image1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C904-7768-46ED-9865-9DDFB187C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scan is his “ tight “ pre-hemicranotomy scan the day we were hyperventilating him. Left scan is post-hemicr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ans 7 day trend of ICP black is his ICP…gray is just a fi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ight prior to his hemicraniectomy he had intractable ICP. We were able to manually hyperventilate because of his “ luxury perfusion “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scan is his “ tight “ pre-hemicranotomy scan the day we were hyperventilating him. Left scan is post-hemicr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E697-2E4E-4E46-83A6-EE8F1249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2151-DD7F-493C-BD5B-22B4A59C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8DB9-F254-4E64-BD15-DF887188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7334-7F35-4685-B0E1-4B609409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81A4-A27D-4C23-98CF-C4887986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9830-5CA0-4E58-A02B-BAFA31C8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D4B4-4869-440F-9EA6-29D29FAB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1F64-53D8-4667-9291-4FCD2801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FFD9-F80B-43FA-91D0-06D7334F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01A7-D9AB-4329-AC2A-DB6D92C8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FFCE-24FF-48B3-8C2D-F9303CE1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D31B-7FDE-4FCC-BF6C-41DF2764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5578-80BE-470F-A3EF-4FE3D6E9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D249-C2D2-478C-B102-63B4A848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644B-6C18-4572-A952-6861DC01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BD87-362E-4A5C-B40D-0303E4D1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0FFF-2650-490D-BC2D-EC2012F4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FEBA-6414-488B-AC65-93275F7E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8326-2B4E-4285-ACA4-81D92D5D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301B-ED1A-435A-9406-8C53EA61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430E-B02A-461B-B3BA-D3AD234A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9D7C-8410-42B8-9B4D-D5D8C835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15AF-D04E-4D01-BE9E-E0AD3834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9485-C074-4586-A92E-D7BE194B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7F03-91EA-4220-AB25-F235216C26A7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5964-C76D-4389-BC5E-C880DB449CC6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al for New Codes for Intracranial Monitoring and Catheter Inser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Karen March RN, M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adeep Narotam, MbChB, MMED, FCS (SA), FRCSC, FAC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nical Descri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598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rain tissue oxygen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91120" y="2630520"/>
            <a:ext cx="441936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nical Descri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y be performed in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Operating roo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tensive Car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mergency Departm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terile procedur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8940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nical Descri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8960" y="17524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ser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ntertior to coronal sutur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Off the midli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ront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2989440" cy="342900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5334120" y="2895480"/>
            <a:ext cx="2590200" cy="3504960"/>
            <a:chOff x="5334120" y="2895480"/>
            <a:chExt cx="2590200" cy="3504960"/>
          </a:xfrm>
        </p:grpSpPr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5506560" y="3053160"/>
              <a:ext cx="2316960" cy="234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>
              <a:off x="5334120" y="2895480"/>
              <a:ext cx="2590200" cy="35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3048120" y="3352680"/>
            <a:ext cx="761760" cy="137160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5840" y="338940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Coronal sutur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581280"/>
            <a:ext cx="304920" cy="763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50440" y="579132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www.healcentral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22760" y="6172200"/>
            <a:ext cx="164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mic Sans MS"/>
              </a:rPr>
              <a:t>Life Art, www.lifeart.com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nical Descri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renchymal ICP catheter place about 1 cm. into the cortex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unnel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olt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48320" y="1994040"/>
            <a:ext cx="37544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nical Descri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49320" y="167652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Ventricular ICP cathet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rontal horn of the lateral ventricl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unnel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olt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856040" y="3048120"/>
            <a:ext cx="2840040" cy="3276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75651" t="6371" r="0" b="0"/>
          <a:stretch/>
        </p:blipFill>
        <p:spPr>
          <a:xfrm>
            <a:off x="1295280" y="3581280"/>
            <a:ext cx="2874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nical Descri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659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xtra-dural ICP cathet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pidural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ubdu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828800" y="3457440"/>
            <a:ext cx="6248520" cy="3095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86000" y="3657600"/>
            <a:ext cx="1295280" cy="41436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18320" y="4419720"/>
            <a:ext cx="1359000" cy="38088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6320" y="640080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www.healcentral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nical Descri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400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rain tissue oxyg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onitored in white matt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unneled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olt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81024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nical Descrip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752480"/>
            <a:ext cx="78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aramet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tracranial pressure (ICP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um of the pressures exerted by intracranial conten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819520" y="3733920"/>
            <a:ext cx="4038480" cy="2847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834880" y="623268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www.healcentral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nical Descri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aramet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erebral perfusion pressure (CPP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stimate of pressure needed to adequately perfuse the brai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ean blood pressure – ICP = CPP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nical Descri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aramet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rain tissue oxygen (PbtO2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easure of the amount of oxygen delivered to brain tissue (extravascular, extracellular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rain cells require oxygen to surviv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ssue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urrent code 01.26 says insertion of catheter into cranial cavity.  Code not specific enough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uggestion: Expand the ventriculostomy code 02.2 to identify sites of catheter inser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nical Descri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aramet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rain temperature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emperature of brai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rain temperature is higher than body temperatur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ever worsens patient outcom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nical Benef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mpact on outcom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tudies show patients treated with ICP directed care have better outcomes than those without (2001, 2002 [x3], 2004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niversity of Pennsylvania (2005) found the addition of Brain Oxygen Monitoring significantly decreased mortality and morbidity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72920"/>
            <a:ext cx="76960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24 year old ma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TV accid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eft SDH &amp; occipital fracture, basilar skull fracture, Right frontal contusion, SDH along Falx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tractable elevations in ICP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volving contusio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ralyzed, sedated, SjO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 LICOX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86520" y="6377040"/>
            <a:ext cx="31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Hospital of the University of Pennsylvania. 200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594760" y="6377040"/>
            <a:ext cx="31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Hospital of the University of Pennsylvania. 200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197240" cy="4800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69960" y="203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3640" y="218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90512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-hemicraniect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P 7 Day Tr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45960" y="1778040"/>
          <a:ext cx="8188560" cy="393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1778040"/>
                    <a:ext cx="818856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5186520" y="6248520"/>
            <a:ext cx="31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Hospital of the University of Pennsylvania. 200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uxury Perf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04920" y="1523880"/>
          <a:ext cx="8894520" cy="447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89452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6837120" y="5111640"/>
            <a:ext cx="1893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0% F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86520" y="6377040"/>
            <a:ext cx="31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Hospital of the University of Pennsylvania. 200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533520" y="1905120"/>
          <a:ext cx="8026200" cy="39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05120"/>
                    <a:ext cx="802620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0" y="228600"/>
            <a:ext cx="93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re- &amp; Post-Decompressive Hemicraniectomy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71640" y="614376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CH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905280" y="60195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00280" y="6143760"/>
            <a:ext cx="8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Barbiturates Off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133720" y="60195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629480" y="60195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38960" y="6143760"/>
            <a:ext cx="6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ressors Off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8458200" y="6248520"/>
            <a:ext cx="533520" cy="457200"/>
            <a:chOff x="8458200" y="6248520"/>
            <a:chExt cx="533520" cy="457200"/>
          </a:xfrm>
        </p:grpSpPr>
        <p:pic>
          <p:nvPicPr>
            <p:cNvPr id="200" name="" descr=""/>
            <p:cNvPicPr/>
            <p:nvPr/>
          </p:nvPicPr>
          <p:blipFill>
            <a:blip r:embed="rId3"/>
            <a:stretch/>
          </p:blipFill>
          <p:spPr>
            <a:xfrm>
              <a:off x="8458200" y="6248520"/>
              <a:ext cx="533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8458200" y="6248520"/>
              <a:ext cx="53352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"/>
          <p:cNvSpPr/>
          <p:nvPr/>
        </p:nvSpPr>
        <p:spPr>
          <a:xfrm>
            <a:off x="7787880" y="461340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Comic Sans MS"/>
              </a:rPr>
              <a:t>40% FiO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20040" y="6431040"/>
            <a:ext cx="31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Hospital of the University of Pennsylvania. 200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492440" cy="49528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69960" y="203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3640" y="218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hemicraniect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14400" y="1773360"/>
            <a:ext cx="777240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Unicode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 Unicode MS"/>
                <a:ea typeface="Times New Roman"/>
              </a:rPr>
              <a:t>At 3 month follow-up patient had returned to   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290520" indent="-290520"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Unicode MS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 Unicode MS"/>
                <a:ea typeface="Times New Roman"/>
              </a:rPr>
              <a:t>work without neurological defici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290520" indent="-290520" algn="just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Unicode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 Unicode MS"/>
                <a:ea typeface="Times New Roman"/>
              </a:rPr>
              <a:t>At 6 month follow-up patient was married &amp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290520" indent="-290520"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Unicode MS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 Unicode MS"/>
                <a:ea typeface="Times New Roman"/>
              </a:rPr>
              <a:t>returned for replacement of bone flap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290520" indent="-290520" algn="just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Unicode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 Unicode MS"/>
                <a:ea typeface="Times New Roman"/>
              </a:rPr>
              <a:t>At 12 month follow-up his family wa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290520" indent="-290520"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Unicode MS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 Unicode MS"/>
                <a:ea typeface="Times New Roman"/>
              </a:rPr>
              <a:t>expecting their first chil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8458200" y="6248520"/>
            <a:ext cx="533520" cy="457200"/>
            <a:chOff x="8458200" y="6248520"/>
            <a:chExt cx="533520" cy="457200"/>
          </a:xfrm>
        </p:grpSpPr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8458200" y="6248520"/>
              <a:ext cx="533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8458200" y="6248520"/>
              <a:ext cx="53352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04920" y="17136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name category 02.2 Insertion of a catheter for Monitoring or Drainage of CSF (bolted or tunneled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02.20 Ventriculostom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02.21 Frontal Horn of Lateral Ventricle for monitor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02.22  Parenchym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02.23 Subdural Sp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02.24 Epidural Sp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 in Co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upport for chang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rain Trauma Found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ecessary because of changes in clinical practice and need for research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 in Co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name category 02.2 to Insertion of a catheter for Monitoring or Drainage of CSF (bolted or tunneled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02.20 Ventriculostom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02.21 Frontal Horn of Lateral Ventricle for monitor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02.22 Parenchym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02.23 Subdural Sp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02.24 Epidural Sp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 in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commend creation of a new category to identify parameters monitored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tracranial pressure (ICP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rtial pressure of brain oxygen (PbtO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rain temperatur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erebral blood flow (CBF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rain metabolism (Microdialysis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 in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Brain Trauma Foundation is willing to assist in the creation of appropriate coding education material in support of the new code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commend expansion of the 02.2 category to capture specific catheter sit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dentify a new category that could be expanded for the specific monitoring technologi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doption of these new codes would lead to better data capture of current technologies, and assist in the research of these parameters toward improving patient outcom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tes of Catheter Insertions (Delete Code 01.26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renchymal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Ventricul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xtradural (Subdural or epidural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2880000" cy="2971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114800" y="4278240"/>
            <a:ext cx="4592520" cy="2274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V="1">
            <a:off x="3429000" y="2437920"/>
            <a:ext cx="3048120" cy="21337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733920" y="1980720"/>
            <a:ext cx="2590560" cy="221004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4419720"/>
            <a:ext cx="990360" cy="30456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4952880"/>
            <a:ext cx="990720" cy="30492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63680" y="647712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www.healcentral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lso recommend creation of new category to identify parameter monitored. (01.18 unable to be expanded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tracranial pressure (ICP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rtial pressure of brain oxygen (PbtO</a:t>
            </a:r>
            <a:r>
              <a:rPr b="0" lang="en-US" sz="24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rain temperatur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erebral blood flow (CBF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rain metabolism (Microdialysis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rrent U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urrent use of Neuro Monitor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euro Trauma Patien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erebrovascular insul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rain tumo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52880" y="3753000"/>
            <a:ext cx="33274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 of Monito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dentify &amp; prevent secondary injury caused by increased intracranial pressure and/or decreased brain oxygenation and cerebral blood flow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rack the use of the technology, their impact on care and on patient outcom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U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Future of Neuro Monitoring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ew technologies on the horiz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BF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icrodialysi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of IC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echnology -ICP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luid-filled external transduce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icro-tip transducers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beroptic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ir-pouch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856040" y="2735280"/>
            <a:ext cx="375444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17:29:27Z</dcterms:created>
  <dc:creator>Karen March</dc:creator>
  <dc:description/>
  <dc:language>en-US</dc:language>
  <cp:lastModifiedBy>CMS</cp:lastModifiedBy>
  <dcterms:modified xsi:type="dcterms:W3CDTF">2006-10-04T15:26:30Z</dcterms:modified>
  <cp:revision>1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48078527</vt:r8>
  </property>
  <property fmtid="{D5CDD505-2E9C-101B-9397-08002B2CF9AE}" pid="3" name="_AuthorEmail">
    <vt:lpwstr>Marilu.Hue@cms.hhs.gov</vt:lpwstr>
  </property>
  <property fmtid="{D5CDD505-2E9C-101B-9397-08002B2CF9AE}" pid="4" name="_AuthorEmailDisplayName">
    <vt:lpwstr>Hue, Marilu (CMS/CMM)</vt:lpwstr>
  </property>
  <property fmtid="{D5CDD505-2E9C-101B-9397-08002B2CF9AE}" pid="5" name="_EmailSubject">
    <vt:lpwstr>Another to post...</vt:lpwstr>
  </property>
  <property fmtid="{D5CDD505-2E9C-101B-9397-08002B2CF9AE}" pid="6" name="_NewReviewCycle">
    <vt:lpwstr/>
  </property>
</Properties>
</file>