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A49-9D62-4F1C-95A8-879B60D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027-E13F-44AB-95D3-60709AC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904-3960-4353-8F54-300623F7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7D2-C0C6-4C0B-8E64-8F15CFA1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101B-8E17-4084-9B4B-8515983B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A0F-61C0-4AC2-9C69-06424A0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920-B8B6-48BB-BDBD-3D2CF705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DC2-20D5-4676-B76F-10C41817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CC9-01F2-4080-95D5-11A888BD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B5E6-74CE-49B3-8C4C-7D998688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C8C-B265-428B-ABF5-216AC20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B36-3654-4505-9FF2-D324D72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3BC-6650-42C9-97F6-B3BA659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A3D3-A9F2-497B-9EE0-95D69DD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A4F-EC15-4270-8748-2C46C8C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2E9A-B782-4D51-8CAF-93F38DD7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F10-2348-468A-A0E4-9A69EE23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6E6-1110-40C1-B081-41474BA7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BDD-70EA-4A4D-AC4F-7EE221B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BB2-4DA4-4252-95C2-4032410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B99-D31C-4BB8-8F2B-F82CC3CE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B02-B6B5-463A-B5B5-3948B41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E3C-0E8D-49C1-8619-3A8CC4C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04B-998E-450B-B61E-7C4AD2D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E98-0589-47A8-B44C-8903063065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616-3D05-4CD9-9133-C550A177BE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ms.hhs.gov/paymentsystems/icd9/icd10.as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006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ordination &amp; Maintenance Committee Mee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tember 29, 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MS Headquarters—Baltimo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 of Approaches and Devices Streamlin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cutaneous approach applied more selective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ice Y Other Device applied more selective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ndant entries elimin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tually exclusive devices (e.g., intraluminal and extraluminal) do not need Other Device in the same row of the t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BCA-BAF4-4F3D-B412-7361A50BCD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dy-part Valu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nge Highl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 Nervous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inal meninges body-part value ad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ronary Arte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d by number of si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ad and Facial B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bit body-part value ad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per and Lower J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rtebral joints subdivided by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60C-449D-44D3-9B7A-B762DE08C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CD-9-CM to ICD-10-PCS m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d ICD-10-PCS to ICD-9-CM m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d Reference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832-D00B-4FD7-BB24-B61E7336E3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ned for 200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lete a prototype of CMS DRGs using ICD-10 code 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e comprehensive body-part value inclusion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5EE-CE92-43AB-8419-18A753E5A4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s for 2007 Upd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 ancillary se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ag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ation Onc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 system as needed to reflect current pract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982-748C-4BF1-9B58-4A4C908CD6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006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ailable on the CMS website end of 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2006 ver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b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de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mple Descri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to ICD-9-CM m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9-CM to ICD-10-PCS m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Reference Manu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cms.hhs.gov/paymentsystems/icd9/icd10.as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5F7-2104-46F9-9A61-888720FCB9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Structure: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racters and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haracter is a stable, standardized code compon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lds a fixed place in the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ains its meaning across a range of co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alue is an individual unit defined for each charact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800600"/>
            <a:ext cx="830592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ad12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54c247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ea1db"/>
                </a:solidFill>
                <a:latin typeface="Arial"/>
              </a:rPr>
              <a:t>Root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29992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Approach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vice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ec7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Operation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4419720"/>
            <a:ext cx="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A08-4BEE-480E-B611-DDFA20150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T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ading—values for 1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3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ns—values for 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7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charac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 codes built from single table r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3657600"/>
          <a:ext cx="8942400" cy="598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65760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4E6-0033-423C-A95D-3E67C41317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CS Table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asily Updated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medical practice chang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 the applicable new value to create a unique procedure descrip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3581280"/>
          <a:ext cx="8942400" cy="598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053-5D84-4101-822D-FBE58699D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p Replacement Bearing Surface: ICD-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4  Hip replacement bearing surface, metal on polyethyle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5  Hip replacement bearing surface, metal-on-met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6  Hip replacement bearing surface, ceramic-on-ceram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ABE-D7D4-4CFF-B737-C9C7363EE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p Replacement Bearing Surface: ICD-10-P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qualifier values added to further specify devic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ed only to the relevant body p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3581280"/>
          <a:ext cx="8942400" cy="598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2A3-2671-4D6D-A562-30CF10B02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ed Specificity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 Devices and Substan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/Surg sec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ice specificity ad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diac: resynchronization, implantable heart assist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thopedic: synthetic liner, joint spacer, external fixator typ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tion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specificity ad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hesion barri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- and low-dose Interleukin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binant human-activated protein 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74C-7611-4239-99BA-B359CF32A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eamlining ICD-10-P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ed with the capacity to identify every distinct proced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lexibility of system allows high degree of specific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stem streamlined to reflect only practical level of specific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92C-E7DF-4D47-B16C-80D0129459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roach Value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eamlin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tal number of approaches reduc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guage more preci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orifice Intraluminal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Via Natural or Artificial O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orifice Intraluminal Endoscopic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Via Natural or Artificial Opening Endoscop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C14-9D55-4F47-9496-53D345743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rrbutler</cp:lastModifiedBy>
  <dcterms:modified xsi:type="dcterms:W3CDTF">2005-09-08T18:04:32Z</dcterms:modified>
  <cp:revision>91</cp:revision>
  <dc:subject/>
  <dc:title>ICD-10-PCS Update</dc:title>
</cp:coreProperties>
</file>