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CD8-E685-4CDB-89C1-AAE62E8E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A77-CCA5-4274-A37D-87BCAD7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183-0B9D-4CB8-A40E-96E083DD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283-5F96-4204-8E19-38145CD1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94C-EEE1-454E-A168-B87BFC7B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732-4CBD-4F4B-8C9E-A88D3D65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6F96-A98B-46C0-B270-C8DDF98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80C1-B93E-4E0E-8299-00F13176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3EE-F0C7-47A2-99F8-B5CA7B1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E580-ADB7-4758-BC05-7A3D572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7270-68F0-46D7-898D-15B97AC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5E8-A1CF-41A0-97EB-E5EDE37C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B3EA-4882-49AB-B1AA-CA5D93E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5B76-0327-4B0C-ABBE-3D41E00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EA1-1234-436A-8134-0F856288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3E76-268C-463F-9458-E94BBAF5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5046-12C0-443B-BBC0-0A3DC511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164-6BD5-4612-87F4-6AD32BF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445-AC28-4E45-BB67-A8782782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303-E20B-4ACF-BDAB-C021A9E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B0C-9604-4A44-8D26-ABFE06C2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7A9-7806-4B52-B60F-09461C3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418-33C4-4523-A0FD-A6F2905A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719-DCB4-4B0C-9A74-61BEF74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87A7-8363-44E4-A92E-5602DA4211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DB9-5094-4A02-949C-A28A7FF5E6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ms.hhs.gov/paymentsystems/icd9/icd10.as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 Updat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006 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ordination &amp; Maintenance Committee Mee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tember 29, 200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MS Headquarters—Baltimo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 of Approaches and Devices Streamlin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cutaneous approach applied more selective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ice Y Other Device applied more selective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dundant entries elimin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tually exclusive devices (e.g., intraluminal and extraluminal) do not need Other Device in the same row of the t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D72-3752-4399-987B-34282B3FD0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dy-part Valu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nge Highligh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 Nervous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inal meninges body-part value ad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ronary Arte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d by number of si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ad and Facial B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bit body-part value ad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per and Lower J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rtebral joints subdivided by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75E-8F07-48A4-922A-FE1ACB9D38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CD-9-CM to ICD-10-PCS m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d ICD-10-PCS to ICD-9-CM m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d Reference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4B4-5CF5-4C83-BCBE-A1AAAA6373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ned for 200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lete a prototype of CMS DRGs using ICD-10 code 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e comprehensive body-part value inclusion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C21-5342-4CE7-8C6B-65CBAE4F4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s for 2007 Upd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 ancillary se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ag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ation Onc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pdate system as needed to reflect current pract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B92-9DB8-403C-9A45-C259D41EB8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006 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ailable on the CMS website end of 200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10-PCS 2006 ver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ab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de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mple Descrip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10-PCS to ICD-9-CM ma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9-CM to ICD-10-PCS ma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CD-10-PCS Reference Manu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cms.hhs.gov/paymentsystems/icd9/icd10.as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7B7-6B04-48FC-BA38-1894CBE6B6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 Structure: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racters and Val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character is a stable, standardized code compon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lds a fixed place in the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ains its meaning across a range of co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alue is an individual unit defined for each charact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800600"/>
            <a:ext cx="830592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10800000"/>
          </a:gra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ad12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54c247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ea1db"/>
                </a:solidFill>
                <a:latin typeface="Arial"/>
              </a:rPr>
              <a:t>Root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299926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Approach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vice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ec7"/>
                </a:solidFill>
                <a:latin typeface="Arial"/>
              </a:rPr>
              <a:t>Qualifi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Operation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4419720"/>
            <a:ext cx="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4876920"/>
            <a:ext cx="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765-32F5-4717-B43A-7B85358BB7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CD-10-PCS T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ading—values for 1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3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ns—values for 4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7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charac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 codes built from single table r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3657600"/>
          <a:ext cx="8942400" cy="598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657600"/>
                    <a:ext cx="89424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2F4-294D-45DD-A318-8FD145EA4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CS Table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asily Updated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medical practice chang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 the applicable new value to create a unique procedure descrip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3581280"/>
          <a:ext cx="8942400" cy="598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89424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DD7-5A83-4918-A1D4-66CA22B968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p Replacement Bearing Surface: ICD-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0.74  Hip replacement bearing surface, metal on polyethyle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0.75  Hip replacement bearing surface, metal-on-met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0.76  Hip replacement bearing surface, ceramic-on-ceram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C00-567C-4D6E-BA3F-33A3ECCBD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p Replacement Bearing Surface: ICD-10-P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qualifier values added to further specify devic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ed only to the relevant body p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09480" y="3581280"/>
          <a:ext cx="8942400" cy="598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89424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068-D8FC-4177-B135-7A936A5D6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ed Specificity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 Devices and Substan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/Surg sec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ice specificity add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rdiac: resynchronization, implantable heart assist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thopedic: synthetic liner, joint spacer, external fixator typ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tion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tance specificity add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hesion barri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- and low-dose Interleukin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binant human-activated protein 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07C-B2BA-4AE5-9A3E-84A18CD41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eamlining ICD-10-P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ed with the capacity to identify every distinct proced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lexibility of system allows high degree of specific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stem streamlined to reflect only practical level of specificit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2E7-0D1B-4B37-A4D9-E740B3B2F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roach Value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eamlin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tal number of approaches reduc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guage more preci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orifice Intraluminal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Via Natural or Artificial O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orifice Intraluminal Endoscopic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Via Natural or Artificial Opening Endoscop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D-10-PCS Updat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4CB-B2E4-432D-A073-7176BA265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0:03Z</dcterms:created>
  <dc:creator>grant</dc:creator>
  <dc:description/>
  <dc:language>en-US</dc:language>
  <cp:lastModifiedBy>rrbutler</cp:lastModifiedBy>
  <dcterms:modified xsi:type="dcterms:W3CDTF">2005-09-08T18:04:32Z</dcterms:modified>
  <cp:revision>91</cp:revision>
  <dc:subject/>
  <dc:title>ICD-10-PCS Update</dc:title>
</cp:coreProperties>
</file>