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485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48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424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994200" y="-360"/>
            <a:ext cx="305424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80800" y="703080"/>
            <a:ext cx="4691160" cy="35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Gill Sans MT"/>
              </a:rPr>
              <a:t>Click to move the slide</a:t>
            </a: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39960" y="4457880"/>
            <a:ext cx="516888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8916480"/>
            <a:ext cx="305424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994200" y="8916480"/>
            <a:ext cx="305424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B11F17-D66B-4522-8614-133F1AEC1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9360" y="703440"/>
            <a:ext cx="4692960" cy="3519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41040" y="4459320"/>
            <a:ext cx="51656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on Cathe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rvoir for radiatio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apsulates fluid during 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normal conditions, up to 1% of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1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ffuses through the balloon walls over the whole course of 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variable balloon siz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m, max fill volume = 5 cc and min fill volume = 4 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m, max fill volume = 15 cc and min fill volume = 7.5 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, max fill volume = 35 cc and min fill volume = 17.5 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for safety and ease-of-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wall balloon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attached, self-sealing infusion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leable titanium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otrex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etary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1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radiotherapy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in conjunction with Dow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ally bound to hydroxybenzenesulfonate (HB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s vola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Dose Rat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izes potential for cell damage/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ted for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vola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dose drop-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ily shiel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91160" cy="3517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9960" y="4457880"/>
            <a:ext cx="516888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  <a:ea typeface="Arial"/>
              </a:rPr>
              <a:t>Traditional Brachytherapy Results: Recurrent Malignant Gliomas</a:t>
            </a:r>
            <a:r>
              <a:rPr b="1" lang="en-US" sz="6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tudy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Modality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Mean Dose (Gy)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Median Survival (mos.)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% Reoperation for necrosi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Gutin, et. al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66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I-125 temporary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11.6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5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Malkin, et. al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I-125 temporary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hrieve, et. al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I-125 temporary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4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lligan, et. al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-125 permanent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10 (median)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4.8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ies represented in the table illustrate a significant improvement in survival.  For example, the Halligan study reported an increase in survival of 8 months for patients treated with tumor resection and brachytherapy compared to a control group of patients treated with tumor resection and chemotherap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pite the clear improvement in survival for recurrent patients, the reoperation rate for tissue necrosis in the three temporary I-125 studies ranges from 44-56%.  This elevated incidence of reoperation suggests that the high degree of dose inhomogeneity delivered by multiple seeds results in hot and cold sp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ata led to the development of the GliaSite RTS, which offers the therapeutic benefits of brachytherapy but minimizes the disadvantages of catheter and seed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888000"/>
            <a:ext cx="8001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88800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85120" y="388800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90840" y="205704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6240" y="205704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88800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90840" y="388800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6240" y="388800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440" y="20570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001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440" y="388800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20570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85120" y="388800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3888000"/>
            <a:ext cx="8001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440" y="3888000"/>
            <a:ext cx="8001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88800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85120" y="388800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0840" y="205704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6240" y="205704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440" y="388800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90840" y="388800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96240" y="3888000"/>
            <a:ext cx="257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001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88800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85120" y="388800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2254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5120" y="2057040"/>
            <a:ext cx="3904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888000"/>
            <a:ext cx="80010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Gill Sans MT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20570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2" marL="960120" indent="-191880">
              <a:spcBef>
                <a:spcPts val="79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3" marL="1343880" indent="-191880">
              <a:spcBef>
                <a:spcPts val="799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4" marL="1728000" indent="-191880">
              <a:spcBef>
                <a:spcPts val="799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5" marL="1728000" indent="-191880">
              <a:spcBef>
                <a:spcPts val="799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6" marL="1728000" indent="-191880">
              <a:spcBef>
                <a:spcPts val="799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Gill Sans MT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 MT"/>
              </a:rPr>
              <a:t>Infusion and removal of liquid radioisotope into the brain</a:t>
            </a:r>
            <a:endParaRPr b="0" lang="en-US" sz="42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920" y="2361960"/>
            <a:ext cx="6324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 Sans MT"/>
              </a:rPr>
              <a:t>Request for appropriate ICD-9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 Sans MT"/>
              </a:rPr>
              <a:t>For Brain Cancer Treatment Procedur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4191120"/>
            <a:ext cx="716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Robert A. Lustig, M.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nical Associate Professor and Associate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epartment of Radiation Onc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Hospital for the University of Pennsylva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Gill Sans MT"/>
              </a:rPr>
              <a:t>GliaSite Iotrex I-125 NRC Licensure</a:t>
            </a:r>
            <a:endParaRPr b="0" lang="en-US" sz="34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Federally mandated that any facility that utilizes radioactive materials requires a licens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License must comply with specific Iotrex 1-125 guidelin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NRC regulates use and disposal of radioactive materia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Gill Sans MT"/>
              </a:rPr>
              <a:t>Infusion and removal of liquid radioisotope into the brain</a:t>
            </a: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3581280"/>
            <a:ext cx="106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tient admitted to hos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200400"/>
            <a:ext cx="16002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-125 Iotrex infused into catheter in brain compliant with NRC Regul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3-7 day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3200400"/>
            <a:ext cx="1447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-125 Iotrex removed from catheter in brain compliant with NRC Regul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3581280"/>
            <a:ext cx="1219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urgical Removal of Cathet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3657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tient discharg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514600"/>
            <a:ext cx="8382240" cy="30481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2743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edure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2743200"/>
            <a:ext cx="120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edure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000" y="27432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edure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Gill Sans MT"/>
              </a:rPr>
              <a:t>Infusion and removal of liquid radioisotope into brain </a:t>
            </a:r>
            <a:br>
              <a:rPr sz="3400"/>
            </a:br>
            <a:br>
              <a:rPr sz="3400"/>
            </a:br>
            <a:r>
              <a:rPr b="0" i="1" lang="en-US" sz="3400" spc="-1" strike="noStrike">
                <a:solidFill>
                  <a:srgbClr val="ffff00"/>
                </a:solidFill>
                <a:latin typeface="Gill Sans MT"/>
              </a:rPr>
              <a:t>Key Issues</a:t>
            </a:r>
            <a:endParaRPr b="0" lang="en-US" sz="34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8305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Distinct inpatient admission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ree unique procedures during admiss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Procedures not described by current ICD-9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Lack of appropriate ICD-9 may impact patient access to technology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Gill Sans MT"/>
              </a:rPr>
              <a:t>ICD-9 Required</a:t>
            </a: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69339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Infusion and removal of liquid radioisotope into 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the brain” 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 MT"/>
              </a:rPr>
              <a:t>Infusion and removal of liquid radioisotope into the brain</a:t>
            </a:r>
            <a:endParaRPr b="0" lang="en-US" sz="42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echnology not accurately described by current ICD-9-CM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nical overview of treatment of brain cancer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Describe inpatient admission for infusion and removal of liquid radioisotope into the brai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43240" y="1676160"/>
            <a:ext cx="2895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24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ill Sans MT"/>
              </a:rPr>
              <a:t>Unique Liquid Radioactive Source (Iotrex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Gill Sans MT"/>
              </a:rPr>
              <a:t>®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ill Sans MT"/>
              </a:rPr>
              <a:t>)</a:t>
            </a:r>
            <a:r>
              <a:rPr b="0" lang="en-US" sz="2400" spc="-1" strike="noStrike">
                <a:solidFill>
                  <a:srgbClr val="ffff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17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72440" indent="-172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Gill Sans MT"/>
              </a:rPr>
              <a:t>125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I liquid radioactive brachytherapy sourc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7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72440" indent="-172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Low Dose Rate radiation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7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7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72440" indent="-172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ormulated for safety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676520"/>
            <a:ext cx="281916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ill Sans MT"/>
              </a:rPr>
              <a:t>Unique Balloon Cath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Reservoir for radiation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hree variable balloon siz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Designed for safe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124080" y="2197080"/>
            <a:ext cx="2590920" cy="2643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5257800"/>
            <a:ext cx="876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Gill Sans MT"/>
              </a:rPr>
              <a:t>“</a:t>
            </a:r>
            <a:r>
              <a:rPr b="0" i="1" lang="en-US" sz="1600" spc="-1" strike="noStrike">
                <a:solidFill>
                  <a:srgbClr val="ffff00"/>
                </a:solidFill>
                <a:latin typeface="Gill Sans MT"/>
              </a:rPr>
              <a:t>This modality is appealing because of the high spatial localization of the dose and the favorable therapeutic ratio afforded by the continuous administration of radiation at a low dose rate this spares normal brain tissue from adverse radiation effects”</a:t>
            </a:r>
            <a:r>
              <a:rPr b="0" i="1" lang="en-US" sz="1800" spc="-1" strike="noStrike">
                <a:solidFill>
                  <a:srgbClr val="ffff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00"/>
                </a:solidFill>
                <a:latin typeface="Gill Sans MT"/>
              </a:rPr>
              <a:t>Tatter et. al., J of NS, August 200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838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ill Sans MT"/>
              </a:rPr>
              <a:t>GliaSite Radiation Therapy System (R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ill Sans MT"/>
              </a:rPr>
              <a:t>Brain Cancer Treatmen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ill Sans MT"/>
              </a:rPr>
              <a:t>Evolution and New Technology</a:t>
            </a:r>
            <a:endParaRPr b="0" lang="en-US" sz="32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6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Historical - brachytherapy showed survival benefit, but high rates of re-operation for necrosis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713160" indent="-274320"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ill Sans MT"/>
              </a:rPr>
              <a:t>Difficult to control dosing, resulting in high radionecrosis rates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329040">
              <a:lnSpc>
                <a:spcPct val="80000"/>
              </a:lnSpc>
              <a:spcBef>
                <a:spcPts val="1624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Gill Sans MT"/>
              </a:rPr>
              <a:t>GliaSite RTS addresses many of the treatment limitations associated with conventional brachytherapy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713160" indent="-274320"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ill Sans MT"/>
              </a:rPr>
              <a:t>More conformal, uniform dose delivery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5410080"/>
            <a:ext cx="807696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Gill Sans MT"/>
              </a:rPr>
              <a:t>GliaSite RTS allows an additional radiation dose to be delivered in a way that maximizes the patient’s quality of life while delivering a radiation dose to the tissues at greatest risk of recurrence”</a:t>
            </a:r>
            <a:r>
              <a:rPr b="0" i="1" lang="en-US" sz="1600" spc="-1" strike="noStrike">
                <a:solidFill>
                  <a:srgbClr val="ffff00"/>
                </a:solidFill>
                <a:latin typeface="Gill Sans MT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Gill Sans MT"/>
              </a:rPr>
              <a:t>Tatter et. al., J of NS, August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ill Sans MT"/>
              </a:rPr>
              <a:t>Clinical Benefits of Infusion and Removal of I-125 Iotrex (GliaSite System) to Brain</a:t>
            </a:r>
            <a:endParaRPr b="0" lang="en-US" sz="32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Delivers radiation to the tissue at highest risk for recurrence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Minimize harmful effects of radiation exposure to healthy brain tissu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chieve local tumor contro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ncreased survival 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(Tatter, et al, 2003; Gabayan, et al, 2004)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reserve quality of life 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(Rogers, et al, 2004)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533520"/>
            <a:ext cx="86108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Gill Sans MT"/>
              </a:rPr>
              <a:t>Brain Cancer Treatment with I-125 Iotrex Requires Two Hospital Admission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514600"/>
            <a:ext cx="13716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raniotom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4382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raniotomy w/ Tumor rese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2286000"/>
            <a:ext cx="160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atheter implant (during craniotom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5146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tient discharg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2743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36576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overy + Treatment planning and ordering  of Iotrex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10552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atient admitted to hospi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4952880"/>
            <a:ext cx="15238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. Proced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fusion of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-125 Iotrex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-7 da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4952880"/>
            <a:ext cx="14475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. Proced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-125 Iotrex Re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029200"/>
            <a:ext cx="1447560" cy="137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fusion of Radioisotope with Removal of Radioisotope and Cathe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4876920"/>
            <a:ext cx="160020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. Proced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parate surgical procedure to remove cathe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96080" y="50292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tient discharg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41148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mission about 2-3 weeks following Craniotom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5410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5486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5410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7480" y="5410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28600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atient admitted to hospi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2666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743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 MT"/>
              </a:rPr>
              <a:t>Infusion of liquid radioisotope into the brain (Procedure 1)</a:t>
            </a:r>
            <a:endParaRPr b="0" lang="en-US" sz="42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adioisotope infusion into special catheter implanted in brai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equires a 3-7 day hospital admiss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nfusion requires compliance with Nuclear Regulatory Commission (NRC) Regulations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 MT"/>
              </a:rPr>
              <a:t>Removal of liquid radioisotope from the brain (Procedure 2)</a:t>
            </a:r>
            <a:endParaRPr b="0" lang="en-US" sz="42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3924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3-7 days after infusion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Removed under local anesthesia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Patient monitored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Catheter flushed with saline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Appropriate disposal of radioisotope and contaminated materials within NRC guidelines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105520" y="2666880"/>
            <a:ext cx="3251160" cy="2560680"/>
            <a:chOff x="5105520" y="2666880"/>
            <a:chExt cx="3251160" cy="256068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105520" y="2666880"/>
              <a:ext cx="3251160" cy="2560680"/>
            </a:xfrm>
            <a:prstGeom prst="rect">
              <a:avLst/>
            </a:prstGeom>
            <a:ln w="12600">
              <a:solidFill>
                <a:srgbClr val="ffffff"/>
              </a:solidFill>
              <a:miter/>
            </a:ln>
          </p:spPr>
        </p:pic>
        <p:sp>
          <p:nvSpPr>
            <p:cNvPr id="125" name=""/>
            <p:cNvSpPr/>
            <p:nvPr/>
          </p:nvSpPr>
          <p:spPr>
            <a:xfrm>
              <a:off x="6960960" y="4112640"/>
              <a:ext cx="1013400" cy="1045800"/>
            </a:xfrm>
            <a:prstGeom prst="ellipse">
              <a:avLst/>
            </a:prstGeom>
            <a:solidFill>
              <a:srgbClr val="c0c0c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Gill Sans MT"/>
              </a:rPr>
              <a:t>Surgical Removal of Catheter (Procedure 3)</a:t>
            </a:r>
            <a:endParaRPr b="0" lang="en-US" sz="3800" spc="-1" strike="noStrike">
              <a:solidFill>
                <a:srgbClr val="ffff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3924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Patient moved to OR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General anesthesi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Catheter remova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Incision made in scalp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crews removed from scalp to remove por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Balloon end of catheter gently withdrawn through burr hol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Patient incision carefully closed and patient moved to recovery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419720" y="2209680"/>
            <a:ext cx="3428640" cy="2250720"/>
            <a:chOff x="4419720" y="2209680"/>
            <a:chExt cx="3428640" cy="225072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4419720" y="2209680"/>
              <a:ext cx="314316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419720" y="4123800"/>
              <a:ext cx="3428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562720" y="4343400"/>
            <a:ext cx="2920680" cy="2120400"/>
            <a:chOff x="5562720" y="4343400"/>
            <a:chExt cx="2920680" cy="212040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5562720" y="4343400"/>
              <a:ext cx="2920680" cy="175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562720" y="6128280"/>
              <a:ext cx="2887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3T19:37:37Z</dcterms:created>
  <dc:creator>MacAdminG4</dc:creator>
  <dc:description/>
  <dc:language>en-US</dc:language>
  <cp:lastModifiedBy>CMS</cp:lastModifiedBy>
  <cp:lastPrinted>2004-06-24T22:19:14Z</cp:lastPrinted>
  <dcterms:modified xsi:type="dcterms:W3CDTF">2004-10-19T20:19:32Z</dcterms:modified>
  <cp:revision>227</cp:revision>
  <dc:subject/>
  <dc:title> </dc:title>
</cp:coreProperties>
</file>