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71C-C9B0-432B-9ADA-D7758515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DE5-685F-404E-BA15-33A9369D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392-9537-4080-8B7A-C76AA3E1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273-75FF-4769-8657-A96DBA8B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781-AA0B-4F58-90FB-BA08F56A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F49-1864-4BE3-8125-C3C67D84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7FB3-1A65-4D9A-BAF3-5341D607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081-65C6-4E9A-8757-2D2DDE06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56E-9651-4D1D-B1C7-C96CCB30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BA0-9A9B-4DC3-A651-451F8759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097-6AE0-4426-B384-49601519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AC5-5A3E-4E07-BC7F-25FFA18B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0140-229F-40D9-8E66-F9D88A5E1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ms.hhs.gov/paymentsystems/icd9/icd10.asp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Upd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5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&amp; M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7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S - Baltimore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344-441F-4E5A-A994-771B9825F7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/Surgical section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or revisions were made to the definitions of three other root operations, for c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ion, Fragmentation, Reattach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new approaches were defined and ad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 indwelling de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with endoscopic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A43-4DAA-43F2-860B-EC220B8C1C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/Surgical section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ody-part values were added to some body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redundant body-part values were de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body systems, various character values and descriptions were changed for consistency within the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D9E-C477-4165-80EE-95923D4C96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o other s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 character value was changed for some sections, with re-arrangement of Tables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body system characters were changed to preserve consistency with the Medical/Surgical section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543-F375-40BB-A6C9-A9CB08D26F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 PCS Changes -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tions were re-arranged in the Tables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/Surgical and Related sections first, followed by the Ancillary procedure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boratory section was de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new ICD-10-PCS approaches were added to other sections where appropr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 indwelling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with endoscopic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3FE-2AF0-49AF-AB11-5EF7DCBD40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–  2005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tetrics section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delivery procedures were re-assigned to other root operations for consistency with PCS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Cesarean delivery changed from Resection to Ex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y” used only for the manually-assisted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79A-CCB9-493C-88BB-22BA74A0D9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3 code description file was converted to text format; it will be available on the CMS website by early 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ode description file also will be converted and made available as part of the up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AA1-104B-4D48-96F3-9C9DE27352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s will be converted into a machine-readable format (.txt) that preserves the positions and relationships of the values within the7- character code struc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The line for the first code in the previous table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Medical and Surgical Section/D Gastrointestinal System/B Excision/0 Esophagus/0 Open/Z None/X Diagnost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221-FD97-4094-A736-9B4F6F0765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ld Training Manual will be replaced by a new Reference Manu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include the definitions for PCS terms, root operations and approaches, and draft PCS coding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18F-4FAC-43CD-B03B-154735B87A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 for 2006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the ICD-9-CM to ICD-10-PCS cross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on the task of converting the DRGs into ICD-10-CM &amp; P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Complete a prototype of the DRGs in the new code sets by the end of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45C8-7624-4A18-A9AC-6D5E4F1919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test update will be available on the CMS website by early 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cms.hhs.gov/paymentsystems/icd9/icd10.a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s, the Index, the PCS-to-9CM Mapping, as well as the paper that describes the system, will also be upd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494-02DF-4FFB-92D5-9ACA29F958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Update – 2005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inal decision yet from DHHS on whether it will propose adoption of ICD-10-CM/PCS as a HIPAA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althcare industry awaits announcement as to whether there will be an NPRM with a proposed implementation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meantime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DA9-DAC5-4FC7-99DD-9D725C2CF5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D-10-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on of Hip Replacemen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ting in or on biological or synthetic material that physically takes the place of all or a portion of a body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B18-7CE1-4596-A522-7B27256569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D-10-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ing, to the extent possible, a malfunctioning or displaced device [New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ing a portion of a previously performed procedure[Old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3AF-D5BB-4FCF-96C6-3FC1BA4A53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D-10-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out or off a device from a body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ting in a non-biological device that monitors, assists, performs or prevents a physiological function but does not physically take the place of a body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052-B849-4052-88D5-CDBF3E45F2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CD-10-P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Hip R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– Medical and Surgical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– Lower j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 – Replac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/9 – Hip joint, Right or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– Op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 – Synthetic 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-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2971800"/>
          <a:ext cx="6324480" cy="609480"/>
        </p:xfrm>
        <a:graphic>
          <a:graphicData uri="http://schemas.openxmlformats.org/drawingml/2006/table">
            <a:tbl>
              <a:tblPr/>
              <a:tblGrid>
                <a:gridCol w="903960"/>
                <a:gridCol w="902880"/>
                <a:gridCol w="904320"/>
                <a:gridCol w="902160"/>
                <a:gridCol w="904320"/>
                <a:gridCol w="902880"/>
                <a:gridCol w="9039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S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ot Op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P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f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733-71C1-4916-9A16-928ACC0296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CD-10-P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on’ of Hip R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Removal of old pros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– Medical and Surgical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– Lower j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 – Remov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/9 – Hip joint, Right or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– Op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 – Synthetic Substitu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003: Y – Device N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-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3880" y="2971800"/>
          <a:ext cx="6324480" cy="609480"/>
        </p:xfrm>
        <a:graphic>
          <a:graphicData uri="http://schemas.openxmlformats.org/drawingml/2006/table">
            <a:tbl>
              <a:tblPr/>
              <a:tblGrid>
                <a:gridCol w="903960"/>
                <a:gridCol w="902880"/>
                <a:gridCol w="904320"/>
                <a:gridCol w="902160"/>
                <a:gridCol w="904320"/>
                <a:gridCol w="902880"/>
                <a:gridCol w="9039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S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ot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P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f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004-EB94-4034-ABA4-32DB1B5D61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CD-10-P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on’ of Hip 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nsertion of spa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– Medical and Surg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– Lower J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 – Inser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/9 – Hip joint, right or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–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– Device NE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- 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2971800"/>
          <a:ext cx="6400800" cy="771480"/>
        </p:xfrm>
        <a:graphic>
          <a:graphicData uri="http://schemas.openxmlformats.org/drawingml/2006/table">
            <a:tbl>
              <a:tblPr/>
              <a:tblGrid>
                <a:gridCol w="916200"/>
                <a:gridCol w="912600"/>
                <a:gridCol w="916200"/>
                <a:gridCol w="911160"/>
                <a:gridCol w="915840"/>
                <a:gridCol w="912960"/>
                <a:gridCol w="91584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S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o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Par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ach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i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fier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466-E270-495C-A9CE-DDDACB8672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CD-10-P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on’ of Hip 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Removal of spa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– Medical and Surg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– Lower J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 – Rem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/9 – Hip joint, right or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–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– Device NE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- 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2971800"/>
          <a:ext cx="6400800" cy="771480"/>
        </p:xfrm>
        <a:graphic>
          <a:graphicData uri="http://schemas.openxmlformats.org/drawingml/2006/table">
            <a:tbl>
              <a:tblPr/>
              <a:tblGrid>
                <a:gridCol w="916200"/>
                <a:gridCol w="912600"/>
                <a:gridCol w="916200"/>
                <a:gridCol w="911160"/>
                <a:gridCol w="915840"/>
                <a:gridCol w="912960"/>
                <a:gridCol w="91584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S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o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Par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ach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i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fier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763-186B-4EED-8E20-A26DC9CE14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CD-10-P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on’ of Hip 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Replacement of joint pros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– Medical and Surg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– Lower J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 - Re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/9 – Hip Joint, right or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–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 – Synthetic 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-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2971800"/>
          <a:ext cx="6324480" cy="609480"/>
        </p:xfrm>
        <a:graphic>
          <a:graphicData uri="http://schemas.openxmlformats.org/drawingml/2006/table">
            <a:tbl>
              <a:tblPr/>
              <a:tblGrid>
                <a:gridCol w="903960"/>
                <a:gridCol w="902880"/>
                <a:gridCol w="904320"/>
                <a:gridCol w="902160"/>
                <a:gridCol w="904320"/>
                <a:gridCol w="902880"/>
                <a:gridCol w="9039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S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ot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P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f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C93-E8FC-4EF3-A5DC-9F3AC6542B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’s Coding Issu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CD-10-P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Hip 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– Medical and Surg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– Lower B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- Re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/5, 6/7 – Acetabulum, right or left; Upper femur, right or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–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 – Synthetic 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-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3880" y="2971800"/>
          <a:ext cx="6324840" cy="771480"/>
        </p:xfrm>
        <a:graphic>
          <a:graphicData uri="http://schemas.openxmlformats.org/drawingml/2006/table">
            <a:tbl>
              <a:tblPr/>
              <a:tblGrid>
                <a:gridCol w="905040"/>
                <a:gridCol w="901800"/>
                <a:gridCol w="904680"/>
                <a:gridCol w="901800"/>
                <a:gridCol w="904680"/>
                <a:gridCol w="901800"/>
                <a:gridCol w="90504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S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ot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P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5, 6/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fier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63A-0CF5-4C0A-A1EA-8DDEA5C9EC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Update – 2005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y brief history of ICD-10-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d in 1998 by 3M HIS under a contract from CMS (then HCF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updated annually by the contractor, unti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on the CMS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BF4-91A1-4FC3-9B2F-D60612E014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ief overview of ICD-10-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character alphanum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s 0-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s A-Z, except “i” and “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AB1-ADBC-4B49-B688-93BB38C9F9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049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4f89"/>
                </a:solidFill>
                <a:latin typeface="Arial"/>
              </a:rPr>
              <a:t>Characters</a:t>
            </a:r>
            <a:br>
              <a:rPr sz="3600"/>
            </a:br>
            <a:r>
              <a:rPr b="0" lang="en-US" sz="2800" spc="-1" strike="noStrike">
                <a:solidFill>
                  <a:srgbClr val="234f89"/>
                </a:solidFill>
                <a:latin typeface="Arial"/>
              </a:rPr>
              <a:t>Medical and Surgical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0680" y="2319480"/>
            <a:ext cx="8305560" cy="642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eaeaea"/>
              </a:gs>
              <a:gs pos="100000">
                <a:srgbClr val="dddddd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e0ad12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54c247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ea1db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299926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85c7e3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ec7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5736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1968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3864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796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00960" y="231948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0680" y="3843360"/>
            <a:ext cx="1066680" cy="398880"/>
          </a:xfrm>
          <a:prstGeom prst="rect">
            <a:avLst/>
          </a:prstGeom>
          <a:solidFill>
            <a:srgbClr val="fad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47880" y="3005280"/>
            <a:ext cx="228600" cy="761760"/>
          </a:xfrm>
          <a:prstGeom prst="upArrow">
            <a:avLst>
              <a:gd name="adj1" fmla="val 50000"/>
              <a:gd name="adj2" fmla="val 83307"/>
            </a:avLst>
          </a:prstGeom>
          <a:solidFill>
            <a:srgbClr val="fade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57360" y="4681440"/>
            <a:ext cx="1143000" cy="703800"/>
          </a:xfrm>
          <a:prstGeom prst="rect">
            <a:avLst/>
          </a:prstGeom>
          <a:solidFill>
            <a:srgbClr val="a8d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14560" y="3005280"/>
            <a:ext cx="228600" cy="1600200"/>
          </a:xfrm>
          <a:prstGeom prst="upArrow">
            <a:avLst>
              <a:gd name="adj1" fmla="val 50000"/>
              <a:gd name="adj2" fmla="val 175000"/>
            </a:avLst>
          </a:prstGeom>
          <a:solidFill>
            <a:srgbClr val="a8d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24040" y="3614760"/>
            <a:ext cx="1371600" cy="703800"/>
          </a:xfrm>
          <a:prstGeom prst="rect">
            <a:avLst/>
          </a:prstGeom>
          <a:solidFill>
            <a:srgbClr val="9ea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57560" y="308124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ea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8280" y="4616280"/>
            <a:ext cx="914400" cy="703800"/>
          </a:xfrm>
          <a:prstGeom prst="rect">
            <a:avLst/>
          </a:prstGeom>
          <a:solidFill>
            <a:srgbClr val="54c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52840" y="3005280"/>
            <a:ext cx="228600" cy="1523880"/>
          </a:xfrm>
          <a:prstGeom prst="upArrow">
            <a:avLst>
              <a:gd name="adj1" fmla="val 50000"/>
              <a:gd name="adj2" fmla="val 166654"/>
            </a:avLst>
          </a:prstGeom>
          <a:solidFill>
            <a:srgbClr val="54c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38640" y="3691080"/>
            <a:ext cx="1371600" cy="398880"/>
          </a:xfrm>
          <a:prstGeom prst="rect">
            <a:avLst/>
          </a:prstGeom>
          <a:solidFill>
            <a:srgbClr val="85c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48480" y="300528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85c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86560" y="4844880"/>
            <a:ext cx="9907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91480" y="3005280"/>
            <a:ext cx="228600" cy="1752480"/>
          </a:xfrm>
          <a:prstGeom prst="upArrow">
            <a:avLst>
              <a:gd name="adj1" fmla="val 50000"/>
              <a:gd name="adj2" fmla="val 1916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00960" y="3691080"/>
            <a:ext cx="1143000" cy="398880"/>
          </a:xfrm>
          <a:prstGeom prst="rect">
            <a:avLst/>
          </a:prstGeom>
          <a:solidFill>
            <a:srgbClr val="00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58160" y="300528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E03-C227-4427-94C7-AC7EC6B79E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ief overview of ICD-10-PCS 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ing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d as grids with rows and columns to delineate valid combinations of code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the first three or four characters of th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the specific grid that must be used to complete th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FE6-BCC4-4014-855D-58A00AAFB1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57120" y="46080"/>
          <a:ext cx="8786880" cy="68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080"/>
                    <a:ext cx="8786880" cy="6811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28A-4F49-43D9-9C61-E49E595E6B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– 200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o the Medical/Surgical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d the definition of the root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limited its application to adjustment of malfunctioning or misplaced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he application of the root oper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p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procedures performed without devices, except in the body systems that comprise bones and j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204-E554-4CD2-A306-004397A19E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D-10-PCS  Update -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o the Medical/Surgical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he scope of the root operations Division and Removal, limited their application to body parts and devices that can actually be divided and rem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8AF-7D72-4855-A7B6-2E9F33FFC0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00:20:03Z</dcterms:created>
  <dc:creator>grant</dc:creator>
  <dc:description/>
  <dc:language>en-US</dc:language>
  <cp:lastModifiedBy>CMS</cp:lastModifiedBy>
  <dcterms:modified xsi:type="dcterms:W3CDTF">2004-10-05T12:34:29Z</dcterms:modified>
  <cp:revision>42</cp:revision>
  <dc:subject/>
  <dc:title>ICD-10-PCS Update</dc:title>
</cp:coreProperties>
</file>