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485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48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9420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0800" y="703080"/>
            <a:ext cx="4691160" cy="35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39960" y="4457880"/>
            <a:ext cx="516888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91648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94200" y="891648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1674B-8A6B-478D-8F7B-DC5C4300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9360" y="703440"/>
            <a:ext cx="4692960" cy="3519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1040" y="4459320"/>
            <a:ext cx="51656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Cathe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rvoir for radi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apsulates fluid during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normal conditions, up to 1% of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ffuses through the balloon walls over the whole course of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variable balloon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m, max fill volume = 5 cc and min fill volume = 4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m, max fill volume = 15 cc and min fill volume = 7.5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, max fill volume = 35 cc and min fill volume = 17.5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for safety and ease-of-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wall balloon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attached, self-sealing infusion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leable titanium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otre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radiotherapy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in conjunction with Dow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ally bound to hydroxybenzenesulfonate (HB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s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ose Rat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es potential for cell damage/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ed for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dose drop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shiel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9960" y="4457880"/>
            <a:ext cx="516888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Traditional Brachytherapy Results: Recurrent Malignant Gliomas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odality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ean Dose (Gy)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edian Survival (mos.)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% Reoperation for necros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Gutin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1.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alkin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hrieve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lligan, et. al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125 permanent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10 (median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8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ies represented in the table illustrate a significant improvement in survival.  For example, the Halligan study reported an increase in survival of 8 months for patients treated with tumor resection and brachytherapy compared to a control group of patients treated with tumor resection and chemotherap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the clear improvement in survival for recurrent patients, the reoperation rate for tissue necrosis in the three temporary I-125 studies ranges from 44-56%.  This elevated incidence of reoperation suggests that the high degree of dose inhomogeneity delivered by multiple seeds results in hot and cold sp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ata led to the development of the GliaSite RTS, which offers the therapeutic benefits of brachytherapy but minimizes the disadvantages of catheter and seed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8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62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8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62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62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8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62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96012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34388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Request for appropriate ICD-9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For Brain Cancer Treatment Procedu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191120"/>
            <a:ext cx="71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obert A. Lustig, M.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nical Associate Professor and Associat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partment of Radiation Onc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Hospital for the University of Pennsylv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Gill Sans MT"/>
              </a:rPr>
              <a:t>GliaSite Iotrex I-125 NRC Licensure</a:t>
            </a:r>
            <a:endParaRPr b="0" lang="en-US" sz="34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ederally mandated that any facility that utilizes radioactive materials requires a licens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License must comply with specific Iotrex 1-125 guidelin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NRC regulates use and disposal of radioactive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58128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200400"/>
            <a:ext cx="1600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infused into catheter in brain compliant with NRC Reg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3-7 d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3200400"/>
            <a:ext cx="1447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removed from catheter in brain compliant with NRC Reg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581280"/>
            <a:ext cx="121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rgical Removal of Cathe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514600"/>
            <a:ext cx="8382240" cy="30481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743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74320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Gill Sans MT"/>
              </a:rPr>
              <a:t>Infusion and removal of liquid radioisotope into brain </a:t>
            </a:r>
            <a:br>
              <a:rPr sz="3400"/>
            </a:br>
            <a:br>
              <a:rPr sz="3400"/>
            </a:br>
            <a:r>
              <a:rPr b="0" i="1" lang="en-US" sz="3400" spc="-1" strike="noStrike">
                <a:solidFill>
                  <a:srgbClr val="ffff00"/>
                </a:solidFill>
                <a:latin typeface="Gill Sans MT"/>
              </a:rPr>
              <a:t>Key Issues</a:t>
            </a:r>
            <a:endParaRPr b="0" lang="en-US" sz="34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istinct inpatient admiss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ree unique procedures during admiss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rocedures not described by current ICD-9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ack of appropriate ICD-9 may impact patient access to technolog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ICD-9 Required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6933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Infusion and removal of liquid radioisotope into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the brain”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chnology not accurately described by current ICD-9-C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nical overview of treatment of brain canc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scribe inpatient admission for infusion and removal of liquid radioisotope into the bra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43240" y="1676160"/>
            <a:ext cx="2895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24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Unique Liquid Radioactive Source (Iotrex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Gill Sans MT"/>
              </a:rPr>
              <a:t>®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ill Sans MT"/>
              </a:rPr>
              <a:t>125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liquid radioactive brachytherapy sour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Low Dose Rate radiation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rmulated for safe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76520"/>
            <a:ext cx="28191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Unique Balloon Cath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eservoir for radiation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ree variable balloon siz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Designed for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2197080"/>
            <a:ext cx="2590920" cy="264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257800"/>
            <a:ext cx="87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“</a:t>
            </a: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This modality is appealing because of the high spatial localization of the dose and the favorable therapeutic ratio afforded by the continuous administration of radiation at a low dose rate this spares normal brain tissue from adverse radiation effects”</a:t>
            </a:r>
            <a:r>
              <a:rPr b="0" i="1" lang="en-US" sz="1800" spc="-1" strike="noStrike">
                <a:solidFill>
                  <a:srgbClr val="ffff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Gill Sans MT"/>
              </a:rPr>
              <a:t>Tatter et. al., J of NS, Augus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ill Sans MT"/>
              </a:rPr>
              <a:t>GliaSite Radiation Therapy System (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Brain Cancer Treatmen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Evolution and New Technology</a:t>
            </a:r>
            <a:endParaRPr b="0" lang="en-US" sz="3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Historical - brachytherapy showed survival benefit, but high rates of re-operation for necrosi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ill Sans MT"/>
              </a:rPr>
              <a:t>Difficult to control dosing, resulting in high radionecrosis rat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329040">
              <a:lnSpc>
                <a:spcPct val="80000"/>
              </a:lnSpc>
              <a:spcBef>
                <a:spcPts val="1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ill Sans MT"/>
              </a:rPr>
              <a:t>GliaSite RTS addresses many of the treatment limitations associated with conventional brachytherap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ill Sans MT"/>
              </a:rPr>
              <a:t>More conformal, uniform dose delivery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410080"/>
            <a:ext cx="80769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ill Sans MT"/>
              </a:rPr>
              <a:t>GliaSite RTS allows an additional radiation dose to be delivered in a way that maximizes the patient’s quality of life while delivering a radiation dose to the tissues at greatest risk of recurrence”</a:t>
            </a: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Gill Sans MT"/>
              </a:rPr>
              <a:t>Tatter et. al., J of NS, August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Clinical Benefits of Infusion and Removal of I-125 Iotrex (GliaSite System) to Brain</a:t>
            </a:r>
            <a:endParaRPr b="0" lang="en-US" sz="3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livers radiation to the tissue at highest risk for recurrence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inimize harmful effects of radiation exposure to healthy brain tissu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chieve local tumor contro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creased survival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(Tatter, et al, 2003; Gabayan, et al, 2004)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eserve quality of life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(Rogers, et al, 2004)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533520"/>
            <a:ext cx="8610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ill Sans MT"/>
              </a:rPr>
              <a:t>Brain Cancer Treatment with I-125 Iotrex Requires Two Hospital Admiss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514600"/>
            <a:ext cx="13716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anioto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438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aniotomy w/ Tumor 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8600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theter implant (during craniotom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514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2743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6576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very + Treatment planning and ordering  of Iotrex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055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95288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fusion of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-7 d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952880"/>
            <a:ext cx="14475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Re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029200"/>
            <a:ext cx="1447560" cy="137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usion of Radioisotope with Removal of Radioisotope and Cath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876920"/>
            <a:ext cx="16002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arate surgical procedure to remove cath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5029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1148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ssion about 2-3 weeks following Cranioto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486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of liquid radioisotope into the brain (Procedure 1)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adioisotope infusion into special catheter implanted in bra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quires a 3-7 day hospital admiss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fusion requires compliance with Nuclear Regulatory Commission (NRC) Regulation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Removal of liquid radioisotope from the brain (Procedure 2)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3924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3-7 days after infusion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emoved under local anesthesia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Patient monitored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atheter flushed with salin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Appropriate disposal of radioisotope and contaminated materials within NRC guidelin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5520" y="2666880"/>
            <a:ext cx="3251160" cy="2560680"/>
            <a:chOff x="5105520" y="2666880"/>
            <a:chExt cx="3251160" cy="25606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105520" y="2666880"/>
              <a:ext cx="3251160" cy="25606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6960960" y="4112640"/>
              <a:ext cx="1013400" cy="1045800"/>
            </a:xfrm>
            <a:prstGeom prst="ellipse">
              <a:avLst/>
            </a:prstGeom>
            <a:solidFill>
              <a:srgbClr val="c0c0c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Surgical Removal of Catheter (Procedure 3)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924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atient moved to OR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General anesth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atheter remova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ncision made in scalp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crews removed from scalp to remove por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alloon end of catheter gently withdrawn through burr ho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tient incision carefully closed and patient moved to recover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19720" y="2209680"/>
            <a:ext cx="3428640" cy="2250720"/>
            <a:chOff x="4419720" y="2209680"/>
            <a:chExt cx="3428640" cy="22507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419720" y="2209680"/>
              <a:ext cx="314316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19720" y="4123800"/>
              <a:ext cx="3428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4343400"/>
            <a:ext cx="2920680" cy="2120400"/>
            <a:chOff x="5562720" y="4343400"/>
            <a:chExt cx="2920680" cy="212040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5562720" y="4343400"/>
              <a:ext cx="292068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562720" y="6128280"/>
              <a:ext cx="2887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9:37:37Z</dcterms:created>
  <dc:creator>MacAdminG4</dc:creator>
  <dc:description/>
  <dc:language>en-US</dc:language>
  <cp:lastModifiedBy>CMS</cp:lastModifiedBy>
  <cp:lastPrinted>2004-06-24T22:19:14Z</cp:lastPrinted>
  <dcterms:modified xsi:type="dcterms:W3CDTF">2004-10-19T20:19:32Z</dcterms:modified>
  <cp:revision>227</cp:revision>
  <dc:subject/>
  <dc:title> </dc:title>
</cp:coreProperties>
</file>