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199313" cy="9510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E958-4647-4CDD-9C6E-F095A952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E44-A2F5-4AFF-A75A-7D589370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CEBA-7F90-4485-BBBF-E4F859DB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3463-8D27-472A-A2BF-5D688DCD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157B-3A48-4C11-ABCA-3BACBF52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F842-D642-442C-9C98-5D9BB89F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B843-2461-493E-992D-A4EEB793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B796-056D-48A3-8702-DB9BD23E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616-E670-4821-A748-FAEADB31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6793-686A-4F2A-9970-1FD5A696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5B9C-98FC-4C13-87B9-5682E8E9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B70F-9BCD-44BD-9C22-C3225C5D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AC21-7486-42FC-A56F-61C45D6AD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cms.hhs.gov/paymentsystems/icd9/icd10.asp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Upd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5 D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&amp; M Committe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7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S - Baltimore,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EFAE-CAE6-4F55-AC90-1087467D8C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 Chan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/Surgical section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or revisions were made to the definitions of three other root operations, for cl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ion, Fragmentation, Reattach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new approaches were defined and ad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a indwelling de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with endoscopic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3B9C-F31B-4E8B-8937-949D1886B2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 Chan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/Surgical section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body-part values were added to some body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redundant body-part values were de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body systems, various character values and descriptions were changed for consistency within the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2909-2FF0-40B0-9473-A1835A1735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 Chan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o other s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tion character value was changed for some sections, with re-arrangement of Tables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body system characters were changed to preserve consistency with the Medical/Surgical section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9E9-86BD-4618-9892-604A7B83EB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5 PCS Changes -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tions were re-arranged in the Tables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/Surgical and Related sections first, followed by the Ancillary procedure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boratory section was de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new ICD-10-PCS approaches were added to other sections where appropr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a indwelling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with endoscopic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D491-BE31-4490-9DE5-4DDADC9C95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–  2005 D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 Chan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tetrics section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delivery procedures were re-assigned to other root operations for consistency with PCS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Cesarean delivery changed from Resection to Ex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y” used only for the manually-assisted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614-BC4A-41F2-9CBC-7ADD239DDB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 Chan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3 code description file was converted to text format; it will be available on the CMS website by early 20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 code description file also will be converted and made available as part of the upd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E7B6-31D1-469A-BE87-5D88B5B856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 Chan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bles will be converted into a machine-readable format (.txt) that preserves the positions and relationships of the values within the7- character code structu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The line for the first code in the previous table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Medical and Surgical Section/D Gastrointestinal System/B Excision/0 Esophagus/0 Open/Z None/X Diagnosti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95F4-11E2-4ED9-9745-4A54AA2011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 Chan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ld Training Manual will be replaced by a new Reference Manu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include the definitions for PCS terms, root operations and approaches, and draft PCS coding 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998E-0B2D-42E3-BC1F-7459734212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 for 2006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the ICD-9-CM to ICD-10-PCS cross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on the task of converting the DRGs into ICD-10-CM &amp; P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Complete a prototype of the DRGs in the new code sets by the end of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008D-1D2D-4A7E-BEFB-DA8A6637BA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test update will be available on the CMS website by early 20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cms.hhs.gov/paymentsystems/icd9/icd10.a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bles, the Index, the PCS-to-9CM Mapping, as well as the paper that describes the system, will also be upd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F946-E75B-4627-A319-8AB9DB0267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Update – 2005 D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inal decision yet from DHHS on whether it will propose adoption of ICD-10-CM/PCS as a HIPAA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althcare industry awaits announcement as to whether there will be an NPRM with a proposed implementation 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meantime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6323-3001-454F-B5ED-B14E27BB7B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day’s Coding Issues 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D-10-P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ion of Hip Replacemen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ting in or on biological or synthetic material that physically takes the place of all or a portion of a body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BD6-A962-4233-B028-899FF8DA23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day’s Coding Issues 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D-10-P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ting, to the extent possible, a malfunctioning or displaced device [New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ting a portion of a previously performed procedure[Old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2800-A9A4-4518-98B7-113DABFC54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day’s Coding Issues 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D-10-P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ing out or off a device from a body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ting in a non-biological device that monitors, assists, performs or prevents a physiological function but does not physically take the place of a body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49BD-E567-4D68-A71E-FA99CF5A96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day’s Coding Issu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ICD-10-PC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Hip Re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– Medical and Surgical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– Lower j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 – Replac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/9 – Hip joint, Right or Le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– Op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 – Synthetic Sub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-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2971800"/>
          <a:ext cx="6324480" cy="609480"/>
        </p:xfrm>
        <a:graphic>
          <a:graphicData uri="http://schemas.openxmlformats.org/drawingml/2006/table">
            <a:tbl>
              <a:tblPr/>
              <a:tblGrid>
                <a:gridCol w="903960"/>
                <a:gridCol w="902880"/>
                <a:gridCol w="904320"/>
                <a:gridCol w="902160"/>
                <a:gridCol w="904320"/>
                <a:gridCol w="902880"/>
                <a:gridCol w="9039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S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ot Op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P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a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f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15DB-5BC7-4CF8-B058-0535DC2A58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day’s Coding Issu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ICD-10-PC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ion’ of Hip Re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Removal of old pros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– Medical and Surgical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– Lower j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 – Remov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/9 – Hip joint, Right or Le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– Op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 – Synthetic Substitu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003: Y – Device N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-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3880" y="2971800"/>
          <a:ext cx="6324480" cy="609480"/>
        </p:xfrm>
        <a:graphic>
          <a:graphicData uri="http://schemas.openxmlformats.org/drawingml/2006/table">
            <a:tbl>
              <a:tblPr/>
              <a:tblGrid>
                <a:gridCol w="903960"/>
                <a:gridCol w="902880"/>
                <a:gridCol w="904320"/>
                <a:gridCol w="902160"/>
                <a:gridCol w="904320"/>
                <a:gridCol w="902880"/>
                <a:gridCol w="9039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S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ot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P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a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f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C5B-A015-40A2-B739-FA0CB97008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day’s Coding Issu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ICD-10-PC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ion’ of Hip Re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nsertion of spa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– Medical and Surgical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– Lower J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 – Inser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/9 – Hip joint, right or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–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– Device NE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- 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3880" y="2971800"/>
          <a:ext cx="6400800" cy="771480"/>
        </p:xfrm>
        <a:graphic>
          <a:graphicData uri="http://schemas.openxmlformats.org/drawingml/2006/table">
            <a:tbl>
              <a:tblPr/>
              <a:tblGrid>
                <a:gridCol w="916200"/>
                <a:gridCol w="912600"/>
                <a:gridCol w="916200"/>
                <a:gridCol w="911160"/>
                <a:gridCol w="915840"/>
                <a:gridCol w="912960"/>
                <a:gridCol w="91584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S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o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Par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ach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i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fier 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5E2C-C0E3-4CEA-BDE0-24AF89D5B1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day’s Coding Issu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ICD-10-PC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ion’ of Hip Re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Removal of spa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– Medical and Surgical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– Lower J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 – Rem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/9 – Hip joint, right or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–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– Device NE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- 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2971800"/>
          <a:ext cx="6400800" cy="771480"/>
        </p:xfrm>
        <a:graphic>
          <a:graphicData uri="http://schemas.openxmlformats.org/drawingml/2006/table">
            <a:tbl>
              <a:tblPr/>
              <a:tblGrid>
                <a:gridCol w="916200"/>
                <a:gridCol w="912600"/>
                <a:gridCol w="916200"/>
                <a:gridCol w="911160"/>
                <a:gridCol w="915840"/>
                <a:gridCol w="912960"/>
                <a:gridCol w="91584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S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o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Par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ach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i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fier 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1A0-3145-41AC-A1A5-4232AC0FC2D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day’s Coding Issu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ICD-10-PC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ion’ of Hip Re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Replacement of joint pros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– Medical and Surgical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– Lower J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 - Re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/9 – Hip Joint, right or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–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 – Synthetic 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-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2971800"/>
          <a:ext cx="6324480" cy="609480"/>
        </p:xfrm>
        <a:graphic>
          <a:graphicData uri="http://schemas.openxmlformats.org/drawingml/2006/table">
            <a:tbl>
              <a:tblPr/>
              <a:tblGrid>
                <a:gridCol w="903960"/>
                <a:gridCol w="902880"/>
                <a:gridCol w="904320"/>
                <a:gridCol w="902160"/>
                <a:gridCol w="904320"/>
                <a:gridCol w="902880"/>
                <a:gridCol w="9039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S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ot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P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a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f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4D2-8916-490D-AC63-CD327F38C48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day’s Coding Issu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ICD-10-PC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al Hip Re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– Medical and Surgical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– Lower B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- Re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/5, 6/7 – Acetabulum, right or left; Upper femur, right or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–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 – Synthetic 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-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23880" y="2971800"/>
          <a:ext cx="6324840" cy="771480"/>
        </p:xfrm>
        <a:graphic>
          <a:graphicData uri="http://schemas.openxmlformats.org/drawingml/2006/table">
            <a:tbl>
              <a:tblPr/>
              <a:tblGrid>
                <a:gridCol w="905040"/>
                <a:gridCol w="901800"/>
                <a:gridCol w="904680"/>
                <a:gridCol w="901800"/>
                <a:gridCol w="904680"/>
                <a:gridCol w="901800"/>
                <a:gridCol w="90504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S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ot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P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5, 6/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a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fier 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159C-7602-44B3-A332-754382344E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Update – 2005 D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ery brief history of ICD-10-P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d in 1998 by 3M HIS under a contract from CMS (then HCF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updated annually by the contractor, until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on the CMS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CE64-0514-48BD-B397-299CE7766E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ief overview of ICD-10-P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character alphanum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s 0-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s A-Z, except “i” and “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6FE1-CA0F-436D-A7E8-48A72EAD2B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049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34f89"/>
                </a:solidFill>
                <a:latin typeface="Arial"/>
              </a:rPr>
              <a:t>Characters</a:t>
            </a:r>
            <a:br>
              <a:rPr sz="3600"/>
            </a:br>
            <a:r>
              <a:rPr b="0" lang="en-US" sz="2800" spc="-1" strike="noStrike">
                <a:solidFill>
                  <a:srgbClr val="234f89"/>
                </a:solidFill>
                <a:latin typeface="Arial"/>
              </a:rPr>
              <a:t>Medical and Surgical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0680" y="2319480"/>
            <a:ext cx="8305560" cy="642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eaeaea"/>
              </a:gs>
              <a:gs pos="100000">
                <a:srgbClr val="dddddd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e0ad12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54c247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9ea1db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299926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85c7e3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6ec7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57360" y="23194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23194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19680" y="23194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38640" y="23194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7960" y="23194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00960" y="23194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0680" y="3843360"/>
            <a:ext cx="1066680" cy="398880"/>
          </a:xfrm>
          <a:prstGeom prst="rect">
            <a:avLst/>
          </a:prstGeom>
          <a:solidFill>
            <a:srgbClr val="fade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47880" y="3005280"/>
            <a:ext cx="228600" cy="761760"/>
          </a:xfrm>
          <a:prstGeom prst="upArrow">
            <a:avLst>
              <a:gd name="adj1" fmla="val 50000"/>
              <a:gd name="adj2" fmla="val 83307"/>
            </a:avLst>
          </a:prstGeom>
          <a:solidFill>
            <a:srgbClr val="fade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57360" y="4681440"/>
            <a:ext cx="1143000" cy="703800"/>
          </a:xfrm>
          <a:prstGeom prst="rect">
            <a:avLst/>
          </a:prstGeom>
          <a:solidFill>
            <a:srgbClr val="a8d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14560" y="3005280"/>
            <a:ext cx="228600" cy="1600200"/>
          </a:xfrm>
          <a:prstGeom prst="upArrow">
            <a:avLst>
              <a:gd name="adj1" fmla="val 50000"/>
              <a:gd name="adj2" fmla="val 175000"/>
            </a:avLst>
          </a:prstGeom>
          <a:solidFill>
            <a:srgbClr val="a8d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24040" y="3614760"/>
            <a:ext cx="1371600" cy="703800"/>
          </a:xfrm>
          <a:prstGeom prst="rect">
            <a:avLst/>
          </a:prstGeom>
          <a:solidFill>
            <a:srgbClr val="9ea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57560" y="308124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ea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8280" y="4616280"/>
            <a:ext cx="914400" cy="703800"/>
          </a:xfrm>
          <a:prstGeom prst="rect">
            <a:avLst/>
          </a:prstGeom>
          <a:solidFill>
            <a:srgbClr val="54c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52840" y="3005280"/>
            <a:ext cx="228600" cy="1523880"/>
          </a:xfrm>
          <a:prstGeom prst="upArrow">
            <a:avLst>
              <a:gd name="adj1" fmla="val 50000"/>
              <a:gd name="adj2" fmla="val 166654"/>
            </a:avLst>
          </a:prstGeom>
          <a:solidFill>
            <a:srgbClr val="54c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38640" y="3691080"/>
            <a:ext cx="1371600" cy="398880"/>
          </a:xfrm>
          <a:prstGeom prst="rect">
            <a:avLst/>
          </a:prstGeom>
          <a:solidFill>
            <a:srgbClr val="85c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48480" y="300528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85c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86560" y="4844880"/>
            <a:ext cx="9907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91480" y="3005280"/>
            <a:ext cx="228600" cy="1752480"/>
          </a:xfrm>
          <a:prstGeom prst="upArrow">
            <a:avLst>
              <a:gd name="adj1" fmla="val 50000"/>
              <a:gd name="adj2" fmla="val 19165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00960" y="3691080"/>
            <a:ext cx="1143000" cy="39888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58160" y="300528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8364-AFAB-4EE6-A74E-B16765DFD1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ief overview of ICD-10-PCS 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ding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ed as grids with rows and columns to delineate valid combinations of code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the first three or four characters of th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s the specific grid that must be used to complete th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F36-B8C2-4D87-B593-6FEB15C3F6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57120" y="46080"/>
          <a:ext cx="8786880" cy="68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46080"/>
                    <a:ext cx="8786880" cy="6811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7D67-55B2-4018-867A-2F6495AF50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– 200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 Chan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o the Medical/Surgical 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d the definition of the root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limited its application to adjustment of malfunctioning or misplaced de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the application of the root opera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pa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procedures performed without devices, except in the body systems that comprise bones and j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211-E244-48B2-8A4E-EEAC8CCF1F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 Chan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o the Medical/Surgical 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the scope of the root operations Division and Removal, limited their application to body parts and devices that can actually be divided and remo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6B3E-C9AB-47F8-BA4F-BBA54859EC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00:20:03Z</dcterms:created>
  <dc:creator>grant</dc:creator>
  <dc:description/>
  <dc:language>en-US</dc:language>
  <cp:lastModifiedBy>CMS</cp:lastModifiedBy>
  <dcterms:modified xsi:type="dcterms:W3CDTF">2004-10-05T12:34:29Z</dcterms:modified>
  <cp:revision>42</cp:revision>
  <dc:subject/>
  <dc:title>ICD-10-PCS Update</dc:title>
</cp:coreProperties>
</file>