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63DE-0960-4A1A-BD74-05D06A44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4C1D-C808-4736-987D-8C0FE2B4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5F7C-ECF6-4788-919A-7DD490B8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64A4-BFE0-4A23-AF40-09EC32C6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9E4C-BA72-42CA-AD39-ACE8BCF9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67B7-3AD9-4FF8-AFAE-0062E53E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BBB6-6A7C-44A4-869C-1398D94E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A995-871A-4BF5-B163-9DF1F97E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56B5-3498-4785-9748-9B8975B4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AB9-2DE2-4A60-9953-21E5856C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E0F6-0759-409D-B0A1-A99A7FFF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7988-0F98-4E42-9584-4267E952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ABC8-3272-4108-BC1B-49089564C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0080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6324480" cy="56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3612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324480" cy="61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152280"/>
            <a:ext cx="61750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32448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3086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20:54:18Z</dcterms:created>
  <dc:creator>KB Design</dc:creator>
  <dc:description/>
  <dc:language>en-US</dc:language>
  <cp:lastModifiedBy>SDPS</cp:lastModifiedBy>
  <dcterms:modified xsi:type="dcterms:W3CDTF">2005-05-23T20:39:25Z</dcterms:modified>
  <cp:revision>5</cp:revision>
  <dc:subject/>
  <dc:title>No Slide Title</dc:title>
</cp:coreProperties>
</file>