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7B0-6D7C-44A8-A41A-64D60E9F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789E-1EE4-46FF-81CD-E16E895D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A6F9-5FEA-44C9-9FEC-DB1B46FE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C697-29D3-44B4-AF7F-42AD4B98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D474-92C5-4F0B-A785-9AB94A53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901D-6D4A-428A-83EE-A9B76941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885-22CA-4F8B-BCBC-77603E1C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51E6-8AFE-433A-AF57-9FE6C593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6A84-39B8-4CE2-9AB6-8DA0D5DB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E5D5-B348-49A6-A6DA-E33C7E7D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C584-9D12-418B-A486-018DE0A6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66FC-DCC1-4D52-985B-973F320F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BA3C-B2DA-400B-912A-72F6FE810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32448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7920" y="698400"/>
            <a:ext cx="632448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4831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63244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0080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32448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008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2T17:56:38Z</dcterms:created>
  <dc:creator>KB Design</dc:creator>
  <dc:description/>
  <dc:language>en-US</dc:language>
  <cp:lastModifiedBy>SDPS</cp:lastModifiedBy>
  <dcterms:modified xsi:type="dcterms:W3CDTF">2005-05-27T17:34:40Z</dcterms:modified>
  <cp:revision>8</cp:revision>
  <dc:subject/>
  <dc:title>No Slide Title</dc:title>
</cp:coreProperties>
</file>