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06C-3A37-4D28-9161-478C1971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93E-83AC-4C4E-80FF-18C19CBD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35C-E7AB-491E-A86B-D434AE96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B46-2933-4C48-98FC-0A6C7277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004-5ACE-4606-9C6F-48CB2D48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D49-F121-429B-92B2-918E705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B20-96C7-4B66-A8CA-7CC12DE9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451-9F98-4F06-8B0B-BAD3264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B81-2B0F-4CF9-917D-F3F5FC34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9A8-ECEB-490E-B0BE-E9350DF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7B7-82F6-4EED-B54C-A375DE97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C19-D288-4632-AAC5-B00C9D3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F02-F693-44CC-B1C7-C22D7FDF7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5867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54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57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48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33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19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1008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7640" y="541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8:05:51Z</dcterms:created>
  <dc:creator>KB Design</dc:creator>
  <dc:description/>
  <dc:language>en-US</dc:language>
  <cp:lastModifiedBy>SDPS</cp:lastModifiedBy>
  <dcterms:modified xsi:type="dcterms:W3CDTF">2005-05-23T22:27:31Z</dcterms:modified>
  <cp:revision>19</cp:revision>
  <dc:subject/>
  <dc:title>No Slide Title</dc:title>
</cp:coreProperties>
</file>