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32F-BA9D-4CAF-9BEE-E3525F7E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15D-A80E-4D91-A036-64C6F66E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CF8-BA66-495D-80E6-05799DB6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EC3-1735-42DB-BA16-15EEE5F8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7B4-3FA3-464B-903A-EBED3718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7298-C337-4081-93CC-CE0AB1D1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60DA-4516-40B6-B827-C614C59E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A8F1-A817-429B-B48D-484C686F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1A7-5442-4C41-827E-89CB58DC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751-19AF-43AF-B831-FC9990A8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751-1DD5-43B4-B832-B094AE85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C94-1F91-4547-BBDF-210C9B63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1E84-2327-4E17-B34B-04F30661F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09624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32448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3244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321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9600" y="152280"/>
            <a:ext cx="6184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32448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9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703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93920" y="152280"/>
            <a:ext cx="4560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3244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9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01:29:36Z</dcterms:created>
  <dc:creator>KB Design</dc:creator>
  <dc:description/>
  <dc:language>en-US</dc:language>
  <cp:lastModifiedBy>SDPS</cp:lastModifiedBy>
  <dcterms:modified xsi:type="dcterms:W3CDTF">2006-05-03T19:07:42Z</dcterms:modified>
  <cp:revision>49</cp:revision>
  <dc:subject/>
  <dc:title>No Slide Title</dc:title>
</cp:coreProperties>
</file>