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0C6-20B8-4E9F-8C6C-A80248E5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E0F-F767-4257-8C51-C9C2403D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6C2-30D8-42C0-8DE4-B6F02705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B63-04AD-4B91-AA11-E460B9DF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340-E246-4187-BB9E-91C8B159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A57-EBD3-4127-8653-B345F257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BE0B-666B-48BC-8868-FEA67C8B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C94-C6E6-4312-BCFF-D3CD6603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FC8-ECED-4989-B6CC-6B843060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A5A-01D0-4408-A553-B3CF7076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A70-864C-4D31-9AD5-A85FC611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43B4-7384-4A2C-8397-9CAFCC5C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3FCC-92AA-439E-B97D-55E8ABE75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6318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01:40:23Z</dcterms:created>
  <dc:creator>KB Design</dc:creator>
  <dc:description/>
  <dc:language>en-US</dc:language>
  <cp:lastModifiedBy>SDPS</cp:lastModifiedBy>
  <dcterms:modified xsi:type="dcterms:W3CDTF">2006-05-01T13:37:48Z</dcterms:modified>
  <cp:revision>4</cp:revision>
  <dc:subject/>
  <dc:title>No Slide Title</dc:title>
</cp:coreProperties>
</file>