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D86-61F6-4ACF-B371-5EE6E13B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E156-6C8B-49FD-ACE7-2A6CDE15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CA9-BBD5-4A46-98C4-045EAA40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AEB-21B5-4244-BBCB-7AC6AA66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804-1D75-460A-952B-FD6495C7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ACE-A4B4-43E8-84DC-1B44F624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360-B760-4FDB-93D9-76D05E9E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EB8D-879E-489B-90D8-BF1D09DD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4BF-3C7D-4042-B1DF-ADF2B833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828-2331-4F83-B45C-8F7BFD19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18D-8AC1-49C3-A9C5-D2D95E76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93DC-5CB9-4893-B22B-FCA52870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0929-A4DA-425B-BC15-D4D373955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731880"/>
            <a:ext cx="64008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50960" y="304920"/>
            <a:ext cx="591336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430200"/>
            <a:ext cx="632448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2960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32448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2848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01:46:32Z</dcterms:created>
  <dc:creator>KB Design</dc:creator>
  <dc:description/>
  <dc:language>en-US</dc:language>
  <cp:lastModifiedBy>SDPS</cp:lastModifiedBy>
  <dcterms:modified xsi:type="dcterms:W3CDTF">2006-05-03T20:02:10Z</dcterms:modified>
  <cp:revision>19</cp:revision>
  <dc:subject/>
  <dc:title>No Slide Title</dc:title>
</cp:coreProperties>
</file>