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80E-80D1-458E-BE5A-E0B8C04B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025-E239-4CC2-962A-641BDEB0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A07-DD7B-4D0E-9CA0-36E02E0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D69-7C06-4BF7-9C36-F9662F7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227-BB26-46DE-B003-5FF2C066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8AE-0908-4A6B-A52A-9C75D515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483-6870-45FF-AA88-4C5101E6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32A-210B-4669-BC8A-726F54CB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59D-404D-4E2F-BAF3-BE588E1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8B3-70E1-4776-B41A-9AE9400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561-DFA6-4972-9BCE-7358FE1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E1D-D595-4C76-AD41-0D42FC51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DD70-A0A1-4BF0-85F1-7002262C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632484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6T01:53:11Z</dcterms:created>
  <dc:creator>KB Design</dc:creator>
  <dc:description/>
  <dc:language>en-US</dc:language>
  <cp:lastModifiedBy>SDPS</cp:lastModifiedBy>
  <dcterms:modified xsi:type="dcterms:W3CDTF">2006-05-01T13:41:38Z</dcterms:modified>
  <cp:revision>5</cp:revision>
  <dc:subject/>
  <dc:title>No Slide Title</dc:title>
</cp:coreProperties>
</file>