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0F9-F260-4CFB-902A-002B9947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8CF-3875-4337-BC82-5CE31D95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0A3-759E-4D2C-B89F-B75EC492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89D-97C1-401C-9267-80D9A117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1FF-AB6D-4645-9A01-43F1BD2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BA0-5C6D-4150-9F13-80CFE587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2B3-D57C-4529-9493-C2117340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307-8189-455E-B970-2EB3B597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16E-5A52-4935-86C6-381DF537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93F-8AB9-4C02-BEE3-8F1A2A5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A88-572F-44C5-A417-44DFF34E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048-00B1-45A8-BEF8-3CF3742C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8452-378C-4C05-978B-6382CC7B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2120" y="228600"/>
            <a:ext cx="635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91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244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3057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3:17:03Z</dcterms:created>
  <dc:creator>KB Design</dc:creator>
  <dc:description/>
  <dc:language>en-US</dc:language>
  <cp:lastModifiedBy>SDPS</cp:lastModifiedBy>
  <dcterms:modified xsi:type="dcterms:W3CDTF">2006-05-01T13:42:42Z</dcterms:modified>
  <cp:revision>8</cp:revision>
  <dc:subject/>
  <dc:title>No Slide Title</dc:title>
</cp:coreProperties>
</file>