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BA1-CE5C-4C64-9843-2DD5439C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E8F4-A592-4075-A6AA-7667158F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35A-7009-4C00-8D37-06F7C153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D539-7B70-43A7-94E2-F035C9C1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93D-B0D5-4142-8E38-EE08E2BC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187-FD41-4B5C-A4A2-E1840B37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5A93-D1CF-4897-A1D7-20BAB936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ACD-17F9-4296-B7EF-D5F112BB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E38D-184F-4640-81B4-E0C6013D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345-6CDA-4779-8E05-FC2C3881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EB0C-2BD0-4A77-90F6-962FAE2A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74F-C35B-4720-9047-C8E02E3F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BE47-22B2-481D-8313-A46F26477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13:43:07Z</dcterms:created>
  <dc:creator>crandolph</dc:creator>
  <dc:description/>
  <dc:language>en-US</dc:language>
  <cp:lastModifiedBy>crandolph</cp:lastModifiedBy>
  <dcterms:modified xsi:type="dcterms:W3CDTF">2007-04-19T13:44:22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21280003</vt:r8>
  </property>
  <property fmtid="{D5CDD505-2E9C-101B-9397-08002B2CF9AE}" pid="3" name="_AuthorEmail">
    <vt:lpwstr>Pamela.Frederick@cms.hhs.gov</vt:lpwstr>
  </property>
  <property fmtid="{D5CDD505-2E9C-101B-9397-08002B2CF9AE}" pid="4" name="_AuthorEmailDisplayName">
    <vt:lpwstr>Frederick, Pamela R. (CMS/OCSQ)</vt:lpwstr>
  </property>
  <property fmtid="{D5CDD505-2E9C-101B-9397-08002B2CF9AE}" pid="5" name="_EmailSubject">
    <vt:lpwstr>2006 CPM Status?</vt:lpwstr>
  </property>
  <property fmtid="{D5CDD505-2E9C-101B-9397-08002B2CF9AE}" pid="6" name="_NewReviewCycle">
    <vt:lpwstr/>
  </property>
</Properties>
</file>