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61E0-037F-4830-BB39-7C22D202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70A4-6B6C-4DB2-9629-0DF69208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B7CD-6F7E-4F48-ADED-1DC25580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75D9-FCE3-42C6-9552-42308450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AE8B-0938-4532-8C50-8B57D190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9000-A261-4A16-948E-C6A49AA3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4508-BD50-4D77-9513-0384F186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4B77-962F-4571-9AD7-C8B1735E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25BE-D3DD-4B8C-B204-C34F5743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9FC2-9E2D-404D-B50E-0351AE3A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E60C-B18B-4061-8BDF-D9804937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A455-E913-4ECB-BE2A-29B79F76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00FF-7DB5-439E-9510-26DC90D3E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324480" cy="603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038480" y="58672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5548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400800" cy="60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8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63579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63482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5339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32448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324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632484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6324480" cy="59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6319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632448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632448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32448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6310080" cy="6400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87640" y="541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32448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2T18:05:51Z</dcterms:created>
  <dc:creator>KB Design</dc:creator>
  <dc:description/>
  <dc:language>en-US</dc:language>
  <cp:lastModifiedBy>SDPS</cp:lastModifiedBy>
  <dcterms:modified xsi:type="dcterms:W3CDTF">2005-05-23T22:27:31Z</dcterms:modified>
  <cp:revision>19</cp:revision>
  <dc:subject/>
  <dc:title>No Slide Title</dc:title>
</cp:coreProperties>
</file>