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DFF7-107E-45BC-B4E1-0FE0E5BB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1CA-7DA8-47CA-A9A6-B0A78AED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5ED0-AD88-42E2-95A9-7C617EDA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03DD-BE51-4B95-955F-CC9C0898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7B5-BFB3-4DA6-A76D-F943AFFD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A401-112F-43B9-9F3E-0BD47EEA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209-7C53-4E21-8E6C-F8FAB62E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7A47-D0EC-4129-8BBD-0E4DAF4E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4D68-F377-4894-BF7D-E26E0975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BAEA-812A-476C-84B0-03EB64FB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A4E2-4DA0-43CA-906F-21FCCF56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62F-94E5-43B2-A593-61053AF3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C423-7889-42D5-AED1-A9CA5611C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32448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7920" y="698400"/>
            <a:ext cx="632448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4831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63244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0080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008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2T17:56:38Z</dcterms:created>
  <dc:creator>KB Design</dc:creator>
  <dc:description/>
  <dc:language>en-US</dc:language>
  <cp:lastModifiedBy>SDPS</cp:lastModifiedBy>
  <dcterms:modified xsi:type="dcterms:W3CDTF">2005-05-27T17:34:40Z</dcterms:modified>
  <cp:revision>8</cp:revision>
  <dc:subject/>
  <dc:title>No Slide Title</dc:title>
</cp:coreProperties>
</file>