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42D-6DDD-424D-9365-B817D00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70F-28E2-448C-8179-2E9C15A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68A-F7B9-43EA-B2F1-189EE0C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FFA-A683-45E7-87CE-7558A2FD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5D3-7219-41CE-83A3-A674C18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10F-78C6-475A-B212-86BA2042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D9C-4190-4C56-9EDB-7E34DC2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A78-1A8A-46EE-A64E-2346F837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0D3-2488-4EB3-8782-7ABBDF9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668-3408-49B2-9D93-26E7710A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AFA-58C9-4B1D-8C99-EDC36AB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DCB-B0D9-49A3-BA44-D3677E4D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E6A8-A3BD-4552-9996-4F8A43F42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32448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361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2448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175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324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308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20:54:18Z</dcterms:created>
  <dc:creator>KB Design</dc:creator>
  <dc:description/>
  <dc:language>en-US</dc:language>
  <cp:lastModifiedBy>SDPS</cp:lastModifiedBy>
  <dcterms:modified xsi:type="dcterms:W3CDTF">2005-05-23T20:39:25Z</dcterms:modified>
  <cp:revision>5</cp:revision>
  <dc:subject/>
  <dc:title>No Slide Title</dc:title>
</cp:coreProperties>
</file>