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77D-B7D2-4E47-8A54-E4AD02E5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E58-0324-4514-A829-C6F69EBF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382-AC0B-4452-9B21-6381D3C5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BC7-6007-4083-8E27-CE8172D0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010-A234-4307-8B86-C5E8AEB2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E15-3524-46D8-8CF3-49E873E3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5CF-E193-44F9-9274-910D2104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D13-5273-4807-B757-3F95909A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2EC-DED0-44FE-9A0E-8C42745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763-59F1-40E2-9A30-B1C40A1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827-00EF-4B58-879E-02E7888A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7AB-05AD-4B6F-BF80-862F7E2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AE92-25B2-4AE3-A9D3-C390FB6F9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2120" y="228600"/>
            <a:ext cx="635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91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244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3057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3:17:03Z</dcterms:created>
  <dc:creator>KB Design</dc:creator>
  <dc:description/>
  <dc:language>en-US</dc:language>
  <cp:lastModifiedBy>SDPS</cp:lastModifiedBy>
  <dcterms:modified xsi:type="dcterms:W3CDTF">2006-05-01T13:42:42Z</dcterms:modified>
  <cp:revision>8</cp:revision>
  <dc:subject/>
  <dc:title>No Slide Title</dc:title>
</cp:coreProperties>
</file>