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585-D3A9-4DD5-BE54-3E15B0A8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3E9-CE95-4CEE-BA77-06F42A4C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941-BCF8-46C7-ADB6-7432C8A8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91C-F556-4260-BB4C-31BFDBFA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AF4-9543-484C-B9C7-0B7C1B14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D48-6FB0-4BD6-8027-DB678C41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1EF-071F-489F-A8D5-267C3891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C95-7C1A-46D3-AA09-E3167849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2E2-DDA7-4D26-B9DA-94BB5A2D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94C-15B7-490C-A020-F6734731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382-FB03-4986-98F1-7904C966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EAF-4815-45C2-9341-5A344F25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8810-09D0-45AA-8963-3E122EC0A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318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1:40:23Z</dcterms:created>
  <dc:creator>KB Design</dc:creator>
  <dc:description/>
  <dc:language>en-US</dc:language>
  <cp:lastModifiedBy>SDPS</cp:lastModifiedBy>
  <dcterms:modified xsi:type="dcterms:W3CDTF">2006-05-01T13:37:48Z</dcterms:modified>
  <cp:revision>4</cp:revision>
  <dc:subject/>
  <dc:title>No Slide Title</dc:title>
</cp:coreProperties>
</file>