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26C-4615-40CB-A060-FB5D6781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82F-AD35-4390-B766-71027EB7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C35-F6DD-447F-98E8-49285179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3AE-082A-40C2-986F-3A0AC2D9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A40-BA70-41C2-BDFA-E87C41A4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8EE-7DEE-473A-B6E1-E4C3DB19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4FA-874A-4AD3-AA3A-7F383E59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35D-14FC-4242-8829-D9C1224B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F35-9E54-4E63-9743-7723357F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302-36F7-43AF-9916-A3A64616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FA4-10BF-43F4-8249-DCBCF7B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EF6-D800-4875-9C3A-16CF551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8568-35F9-46B4-B1C9-DA5FC1531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731880"/>
            <a:ext cx="64008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0960" y="304920"/>
            <a:ext cx="591336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430200"/>
            <a:ext cx="632448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96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84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1:46:32Z</dcterms:created>
  <dc:creator>KB Design</dc:creator>
  <dc:description/>
  <dc:language>en-US</dc:language>
  <cp:lastModifiedBy>SDPS</cp:lastModifiedBy>
  <dcterms:modified xsi:type="dcterms:W3CDTF">2006-05-03T20:02:10Z</dcterms:modified>
  <cp:revision>19</cp:revision>
  <dc:subject/>
  <dc:title>No Slide Title</dc:title>
</cp:coreProperties>
</file>