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331-35C8-428A-B171-E670C5BE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ED2-F686-4E26-8654-86F8FFF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BA1-583D-4CBD-AC8D-C843B296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05E-9C67-4399-8F15-B2E06765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34B-C793-42FB-A3EE-C22FEF2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D5C-1DD9-40E4-BBD1-D0B810D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64D-3D57-42E1-AE5A-9CCB92D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17-37A3-437D-A0B0-5D1BA38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458-827F-4E8A-9236-CEC6471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C08-B304-4BD3-AB91-6E5CFD3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62A-F8C5-4F97-BE0D-28EC18C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9E6-B3AF-4910-8F5E-E13CDDC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1A0-52BA-4A00-A19E-322BD0A5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53:11Z</dcterms:created>
  <dc:creator>KB Design</dc:creator>
  <dc:description/>
  <dc:language>en-US</dc:language>
  <cp:lastModifiedBy>SDPS</cp:lastModifiedBy>
  <dcterms:modified xsi:type="dcterms:W3CDTF">2006-05-01T13:41:38Z</dcterms:modified>
  <cp:revision>5</cp:revision>
  <dc:subject/>
  <dc:title>No Slide Title</dc:title>
</cp:coreProperties>
</file>