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88E-01C4-4563-8922-AF57FA6C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947-67E4-4A5F-A4CB-B8C23948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4A3-E116-4F43-A535-228D3992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F03-BEDC-4697-95FB-05FB8C60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1FF-3BA7-4808-99C8-DDAF0730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746-71A8-45A3-92AF-E35212E7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C42-0813-4C7B-B307-6BA6E050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7F7-C7C8-4485-BA67-8968187D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EAF-0744-4658-A213-BD4FF53A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954-AFFE-42FF-A2BF-898D2EE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304-4A0A-40C2-A150-934A8773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3B8-5184-4C1A-9E36-C86C43CF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E610-0A6F-419D-A9C9-2F720EE85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2448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24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21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9600" y="152280"/>
            <a:ext cx="6184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703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93920" y="152280"/>
            <a:ext cx="4560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1:29:36Z</dcterms:created>
  <dc:creator>KB Design</dc:creator>
  <dc:description/>
  <dc:language>en-US</dc:language>
  <cp:lastModifiedBy>SDPS</cp:lastModifiedBy>
  <dcterms:modified xsi:type="dcterms:W3CDTF">2006-05-03T19:07:42Z</dcterms:modified>
  <cp:revision>49</cp:revision>
  <dc:subject/>
  <dc:title>No Slide Title</dc:title>
</cp:coreProperties>
</file>