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36160" y="690120"/>
            <a:ext cx="458964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723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723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1BFC362-26B1-49A0-874C-5804305B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5840" y="8723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613DB4D-680C-4068-8A24-F2D8E1C03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723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6520" y="69048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7E82-FD34-45B5-8379-D88A84E1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22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79360"/>
            <a:ext cx="822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DA28-969B-4C04-886D-9E42A8A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D74D-0C01-4564-97CF-422AC5AF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7049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7049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793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793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793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29C6-104B-4B97-9A26-75C95810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052B-3A54-4D7B-8A06-89CC2D03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68CF-04EB-4BE9-A9D6-50ABD464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4A08-E786-4EE4-97CB-64513326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AA2D-BBCB-4B06-9667-79BEC96B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836-7011-4233-8D7E-A588EF5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414360"/>
            <a:ext cx="8229600" cy="48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EC18-03C1-4794-A9CF-E11A6C6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164-7141-4802-A3BA-3A960A1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02E5-3E52-4A4B-BEDD-09E6257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E9A2-A8D9-4428-A90D-D8E653C3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9360"/>
            <a:ext cx="822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85CB-7622-452E-A5C1-B7B8E5DA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22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79360"/>
            <a:ext cx="822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6A59-876D-496C-9533-5413D11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0412-6522-4186-9A3D-53E4E75C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049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049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793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793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79360"/>
            <a:ext cx="264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BCD6-4921-41C1-A3E8-3E346A90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0C40-BEA1-4793-9D05-4E61F236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37FE-5CBA-4E67-8A65-EE5272CE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2114-C779-47DF-A0DF-66A35E9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414360"/>
            <a:ext cx="8229600" cy="48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F18F-4C08-4A10-B50E-4ED7F50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D492-7827-48A7-B514-A361D7B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793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0AA4-598E-4A09-86FF-DF24DCB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04960"/>
            <a:ext cx="40158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79360"/>
            <a:ext cx="822960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6C92-5887-4E94-920C-158B65E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4A86-F78C-4F56-8AC8-FBD5CB217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336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6560" indent="-3477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76560" indent="-347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76560" indent="-347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CAF-5DEB-4FB2-8A30-1AB8F0435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68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ntract Award Proces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MEPOS Competitive Bidding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1772" t="11772" r="11772" b="54934"/>
          <a:stretch/>
        </p:blipFill>
        <p:spPr>
          <a:xfrm>
            <a:off x="392040" y="5548320"/>
            <a:ext cx="23623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ufficient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, the cumulative capacity of all eligible bidding suppliers did not equal or exceed projected demand for the product category in the C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 offers were not made for 5 product categories in San J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BFDE-0D6E-4F57-95D3-304651E882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Single Payment Am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1403280"/>
            <a:ext cx="82008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 amounts at or below the pivotal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the median bid amount for each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bid became the single payment am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960" y="5195880"/>
            <a:ext cx="814248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Selection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§§ 414.416(a),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1B06-E6E4-49C2-A3C6-B865F6833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Supplier Pro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760" y="1403280"/>
            <a:ext cx="82008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minimum of 30% of winning suppliers are small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mall suppliers if necessary to meet small supplier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6640" y="5195880"/>
            <a:ext cx="814248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Selection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§§ 414.402, 414.414(g)(1), 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AF50-24BB-4430-BF01-DEFA6F1F0B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ward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440" y="134280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 to contract award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 to bidders above the winning range (price fail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 to disqualified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fo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00" y="5210280"/>
            <a:ext cx="814248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Selection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§414.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8E50-FBA6-43D2-B38E-3E06B31E58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1280" y="48744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 Offers (Second Wa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s where one or more of the suppliers rejected contract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second round of contract offers to next lowest bidding suppliers in cases where cumulative capacity of suppliers that accepted contracts did not equal or exceed projecte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wo cases, additional contract offers were not made because the added capacity for remaining eligible suppliers would not have brought cumulative capacity to the level of projecte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 of contracts (NPWT in Kansas City and San Ju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B134-ABEA-4F72-B818-72D39C6EB5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 B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2280" y="1741320"/>
            <a:ext cx="837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960" y="1474920"/>
            <a:ext cx="82868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data from on-line system da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receipt of hardcopy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, assign DCN, and catalogue documents in W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documents; accessible to on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zed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5122800"/>
            <a:ext cx="814212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of Bids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§414.414(d),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- pg. 1-3, 5, 10-11,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B27B-E6F8-43FF-828E-DC2B0F2FFD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Basic 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640" y="1474920"/>
            <a:ext cx="82011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data against NSC database f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NSC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d state licen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data against accreditati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1040" y="5122800"/>
            <a:ext cx="814212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414.412(a)-(c), (e), 414.414(b),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- pg. 1, 2, 4, 9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3C2F-1B36-4CB2-8B8A-ECD93F1E5A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Network 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640" y="1474920"/>
            <a:ext cx="82011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network f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eligibility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embers (limited to 2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small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hare (not to exceed 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040" y="5122800"/>
            <a:ext cx="814212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14.402, 414.414(g), 414.4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- pg. 4, 11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7CDF-39C7-45B6-A19C-9090BCDE4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Bid 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9800" y="1344600"/>
            <a:ext cx="82011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bid amount(s)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or equal to fe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for each item in the product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a f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by payment class for oxygen product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3800" y="5195880"/>
            <a:ext cx="8142480" cy="155700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14.408(f) – (g), 414.412(a) – (g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14.414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- pg. 3 - 5,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BD0E-B2C4-4892-8458-8AF83E6BC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212760"/>
            <a:ext cx="87152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and Array Composite B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760" y="1155600"/>
            <a:ext cx="8200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composite bid for each product category in each C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weight x bid amount; summed across all items in product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composite bids from lowest to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gh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200" y="5167440"/>
            <a:ext cx="814212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Selection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§ 414.402, 414.414(e)(3) and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– pg.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C149-E5FA-4430-A754-B5F0B86E1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 Pivotal B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760" y="1403280"/>
            <a:ext cx="82008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jected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cumulative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bids from lowest to high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3800" y="4978440"/>
            <a:ext cx="814248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Selection Regu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§ 414.414 (a) - (c), (e), (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– pg. 13, 15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6828-8773-4A4D-A615-5FF7CA415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225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Financial Str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3560" y="1211400"/>
            <a:ext cx="8607240" cy="51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inancial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nacceptable docu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port but no credi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port from unapproved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Schedul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hedule L for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 covering more than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ash flow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 that do not tie to other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Income Tax Summary as substitute for income or cash flow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76FB-82EF-4E21-982C-A796DABFB3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414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Financial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760" y="1403280"/>
            <a:ext cx="82008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aggregate financial s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score to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capacity based on financial s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estimated cumulative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2360" y="5137200"/>
            <a:ext cx="8142120" cy="1191240"/>
          </a:xfrm>
          <a:prstGeom prst="rect">
            <a:avLst/>
          </a:prstGeom>
          <a:solidFill>
            <a:srgbClr val="d3d3d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Selection Regul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ule –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§414.414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B – pg. 1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9D9D-9EF9-4825-BEDB-4962917A2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4:30:34Z</dcterms:created>
  <dc:creator>Jamie Chriqui</dc:creator>
  <dc:description/>
  <dc:language>en-US</dc:language>
  <cp:lastModifiedBy>CMS/PCG/DPCT</cp:lastModifiedBy>
  <dcterms:modified xsi:type="dcterms:W3CDTF">2008-07-01T15:56:05Z</dcterms:modified>
  <cp:revision>234</cp:revision>
  <dc:subject/>
  <dc:title>BadgerCare Disenrollee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8570776</vt:r8>
  </property>
  <property fmtid="{D5CDD505-2E9C-101B-9397-08002B2CF9AE}" pid="3" name="_AuthorEmail">
    <vt:lpwstr>Ralph.Goldberg@cms.hhs.gov</vt:lpwstr>
  </property>
  <property fmtid="{D5CDD505-2E9C-101B-9397-08002B2CF9AE}" pid="4" name="_AuthorEmailDisplayName">
    <vt:lpwstr>Goldberg, Ralph (CMS/CMM)</vt:lpwstr>
  </property>
  <property fmtid="{D5CDD505-2E9C-101B-9397-08002B2CF9AE}" pid="5" name="_EmailSubject">
    <vt:lpwstr>Spotlight information</vt:lpwstr>
  </property>
  <property fmtid="{D5CDD505-2E9C-101B-9397-08002B2CF9AE}" pid="6" name="_NewReviewCycle">
    <vt:lpwstr/>
  </property>
  <property fmtid="{D5CDD505-2E9C-101B-9397-08002B2CF9AE}" pid="7" name="_PreviousAdHocReviewCycleID">
    <vt:r8>-510393548</vt:r8>
  </property>
  <property fmtid="{D5CDD505-2E9C-101B-9397-08002B2CF9AE}" pid="8" name="_ReviewingToolsShownOnce">
    <vt:lpwstr/>
  </property>
</Properties>
</file>