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586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4049640" y="0"/>
            <a:ext cx="3036960" cy="4586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09600" y="685800"/>
            <a:ext cx="4672080" cy="350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4560" y="4420800"/>
            <a:ext cx="5216760" cy="42656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8913960"/>
            <a:ext cx="3036960" cy="4586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049640" y="8913960"/>
            <a:ext cx="3036960" cy="4586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8A16FB-32EF-406F-BC51-DE48E4B46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09600" y="685800"/>
            <a:ext cx="4672080" cy="3503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34560" y="4420800"/>
            <a:ext cx="5216760" cy="42656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S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determines Medicare’s payment liability in the presence of a primary p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cal Revi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a local Medical Director, who establishes local medical policy and provides written guidelines for our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nformation is provided to our medical community in coordination with our professional relations dep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s us to establish utilization review edits as related to claims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 Enroll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 application for certification and establish effective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ignment of UPIN number if they have not enrolled in another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igned a specialty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provider enrollment files- participation/non-particip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 Communi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fessional Rel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ily responsible for provider education regarding the Medicare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orm Outreach activities- Look at top 10 inquiries to cust srvc number - performs focused education by contacting the provider’s 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ct offices to ascertain individual needs-Reports that indicated how many times the providers have contacted us via calls or writing – then look at frequent fl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orm provider worksh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209600" y="685800"/>
            <a:ext cx="4672080" cy="35035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34560" y="4420800"/>
            <a:ext cx="5216760" cy="42656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art B Clai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es claims for services rendered to Medicare Part B beneficiari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ypes of Cla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ians and other profession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s, x-rays,ambulance, AS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art B Appeal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appeal services to providers and beneficiaries who have received a denied or disputed Medicare Part B claim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department performs reviews of initial hearing request and coordinates resultant appeal requests with a hearing offi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so makes claims adjustments as directed by the hearing officer or Administrative Law Judge (ALJ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art B Customer Serv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les telephone and written inquiries from all  Part B beneficiaries and providers in the states of South Carolina, Ohio and West Virginia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ypical beneficiary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im payments, denials, benefit cover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ypical Provider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ims specific questions- denial, beneficiary eligibility, deductible, benefit cover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3FF12-2F93-4B14-A604-69E95D9291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B612C-355E-40B4-AA0F-29D1B3C3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022AC-6321-4C62-8BB0-7DB8F265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5A9B0-37CB-40B7-B066-049DEC1B94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7C493-F449-43D1-BFCA-96D3942D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239EF-DE99-4A95-BFFA-B340F94F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79FDB-A303-4F0A-99BC-4F95217D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77987-7579-4733-9729-98A6344B7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8619F-097C-465C-91C0-811B6C046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05597-2766-427B-95E8-A0386366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AAAF3-F3A2-48D8-A59A-9FF9ED2E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38555-6CF2-4954-B191-32B250ED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7602480" y="5703840"/>
            <a:ext cx="1541520" cy="1154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304120" y="6432480"/>
            <a:ext cx="184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9242-F8C3-4967-91EF-6512E473C07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/26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57E3-7993-437C-B626-0CE49D958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04120" y="6432480"/>
            <a:ext cx="184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602480" y="5703840"/>
            <a:ext cx="1541520" cy="1154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756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ncial Cap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41360" y="2830680"/>
            <a:ext cx="8261280" cy="27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aine Myers, Palmetto G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resentation does not necessary refl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S views or polic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157960" y="62294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96960" y="162000"/>
            <a:ext cx="88581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40000" y="628560"/>
            <a:ext cx="566424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27240" y="2152800"/>
            <a:ext cx="5759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2720" y="231840"/>
            <a:ext cx="59580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 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73120" y="153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collect evidence of bidder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cial stabil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ability to stay in business for contra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ability to maintai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08280" y="62294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96960" y="162000"/>
            <a:ext cx="88581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40000" y="628560"/>
            <a:ext cx="566424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27240" y="2152800"/>
            <a:ext cx="5759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31840"/>
            <a:ext cx="91440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 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61720" y="2085840"/>
            <a:ext cx="8258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cial Data, Form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only required if in competitive r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10 days to complete &amp; retu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76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ed data for last 2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76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ed data for service location an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ent company, if applic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108280" y="62294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361440"/>
            <a:ext cx="91440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 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260280" y="2108160"/>
            <a:ext cx="8126640" cy="43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used to calculate financial rati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 Profit Mar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 income / Net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Collection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unts receivable / Gross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108280" y="62294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96960" y="162000"/>
            <a:ext cx="88581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40000" y="628560"/>
            <a:ext cx="566424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50920" y="623880"/>
            <a:ext cx="6699240" cy="46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2760" y="283680"/>
            <a:ext cx="610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 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287280" y="1949400"/>
            <a:ext cx="885672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d using data from attach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If no parent compan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x returns for service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If parent compan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x returns for parent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lance sheets, accounts receivable &amp; inco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ments for service locatio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108280" y="62294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96960" y="162000"/>
            <a:ext cx="88581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40000" y="628560"/>
            <a:ext cx="566424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50920" y="1209600"/>
            <a:ext cx="669924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79600" y="985680"/>
            <a:ext cx="64530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19240" y="2897280"/>
            <a:ext cx="608004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22600" y="2968560"/>
            <a:ext cx="610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35160" y="2732040"/>
            <a:ext cx="768348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36720" y="1828800"/>
            <a:ext cx="7708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36520"/>
            <a:ext cx="914400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ncial Sound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26800" y="1717560"/>
            <a:ext cx="891684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lmetto GBA requested the following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to calculate the ratio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The supplier’s Financial Balance Sh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The Supplier’s Financial Income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Credit References from the Supplier’s Prim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cial Institutions – (the banks the supplier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ly/frequently use to carry out commerc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s.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108280" y="62294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96960" y="162000"/>
            <a:ext cx="88581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40000" y="628560"/>
            <a:ext cx="566424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50920" y="1209600"/>
            <a:ext cx="669924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24200" y="985680"/>
            <a:ext cx="600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19240" y="2897280"/>
            <a:ext cx="608004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22600" y="2968560"/>
            <a:ext cx="610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35160" y="2732040"/>
            <a:ext cx="768348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2446200"/>
            <a:ext cx="6853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24200" y="2992320"/>
            <a:ext cx="5925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4320" y="1933560"/>
            <a:ext cx="781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6820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ncial Sound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25440" y="1790640"/>
            <a:ext cx="822960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lmetto GBA computed the following rati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Return on Sales (Profit Margin) 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t Profits After Ta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nual Net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 Return on Assets 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t Profits After Ta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As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119440" y="62294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96960" y="162000"/>
            <a:ext cx="88581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40000" y="628560"/>
            <a:ext cx="566424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31760" y="1495440"/>
            <a:ext cx="66992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10080" y="415800"/>
            <a:ext cx="486864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22640" y="534960"/>
            <a:ext cx="37051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3160" y="457200"/>
            <a:ext cx="65898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ncial Sound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14520" y="1773000"/>
            <a:ext cx="786744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Accounts Payable to Sales Rati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ccounts Payab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Annual Net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Current 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urrent As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Li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108280" y="62294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96960" y="162000"/>
            <a:ext cx="88581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40000" y="628560"/>
            <a:ext cx="566424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50920" y="1209600"/>
            <a:ext cx="669924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11440" y="554040"/>
            <a:ext cx="62211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19240" y="2882880"/>
            <a:ext cx="608004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22600" y="2968560"/>
            <a:ext cx="610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35160" y="2732040"/>
            <a:ext cx="768348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63680" y="2446200"/>
            <a:ext cx="669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855440" y="534600"/>
            <a:ext cx="614844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ncial Sound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62080" y="1673280"/>
            <a:ext cx="888192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rder to ensure that suppliers are able to fulfill a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siness and financial obligations and remain a vi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ny and capable of meeting an increase in dem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products and/or services, Palmetto GBA used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cial statements received with the bid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computed key business ratios to determine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acity for growth of potential demonstration suppli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108280" y="62294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96960" y="162000"/>
            <a:ext cx="88581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40000" y="628560"/>
            <a:ext cx="566424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50920" y="1209600"/>
            <a:ext cx="669924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87480" y="1498680"/>
            <a:ext cx="60087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19240" y="2897280"/>
            <a:ext cx="608004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22600" y="2968560"/>
            <a:ext cx="610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35160" y="2732040"/>
            <a:ext cx="768348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2640" y="2695680"/>
            <a:ext cx="77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48888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ncial Sound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85720" y="1472760"/>
            <a:ext cx="832320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acity  (cont’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lmetto GBA computed the following rati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Sales to inventory 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nual Net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n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urrent Liabilities to Inven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urrent Li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n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108280" y="62294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96960" y="162000"/>
            <a:ext cx="88581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40000" y="628560"/>
            <a:ext cx="566424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50920" y="1209600"/>
            <a:ext cx="669924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50960" y="985680"/>
            <a:ext cx="628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19240" y="2897280"/>
            <a:ext cx="608004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22600" y="2968560"/>
            <a:ext cx="610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35160" y="2732040"/>
            <a:ext cx="768348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79440" y="2314440"/>
            <a:ext cx="6807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04640" y="429840"/>
            <a:ext cx="709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ancial Sound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75680" y="1730160"/>
            <a:ext cx="8890200" cy="38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lmetto GBA requested the following inform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the suppliers in order to make these calcul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he Supplier’s Financial Balance Sh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he Supplier’s Financial Income Stat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1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dit references from the Supplier’s primary financial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5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itutions (in order to determine if supplier has credi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5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ilable to increase inventory or personnel as a result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5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an increase in sales and/or servic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108280" y="62294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47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rpose of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62080" y="2258640"/>
            <a:ext cx="8881920" cy="33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ption of Evaluation of Financial Capabilities in Demonstrat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Coll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s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tfalls/Lessons Lear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157960" y="62294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268200"/>
            <a:ext cx="894708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ncial Sound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272520" y="1687320"/>
            <a:ext cx="86821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ons Learn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Suppliers did not understand the Form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cial data, so the form was reforma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revised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To obtain consistent information, tax retur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be requested from suppliers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ing the financial inform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d by the suppli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108280" y="62294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74680" y="2682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ncial Sound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239760" y="1887120"/>
            <a:ext cx="890424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ons Learned – (cont’d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Ratios were difficult to evaluate because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nsistent data reported by the suppliers.  So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s could not be calculated for suppliers that did no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rt all of the requested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Ensure that suppliers submit the s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years of available financial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108280" y="62294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4680" y="2682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ncial Sound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205920" y="1587240"/>
            <a:ext cx="89377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ons Learned – (cont’d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Collecting reference information is  challen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Financial forms were not popular requests with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liers.  It was decided that only the suppliers with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mpetitive range would be requested to sen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cial data to the implementation contra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108280" y="62294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474480"/>
            <a:ext cx="652788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ancial Sound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39480" y="1472760"/>
            <a:ext cx="877068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/Observ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6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Several suppliers reported high sales figures and/or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6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unts receivable, but are not turning a prof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6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imary cause identified in our review was po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6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 pract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"/>
              </a:lnSpc>
              <a:spcBef>
                <a:spcPts val="31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Several of the suppliers did not have two full yea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"/>
              </a:lnSpc>
              <a:spcBef>
                <a:spcPts val="31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or in some cases one full year) of financial d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"/>
              </a:lnSpc>
              <a:spcBef>
                <a:spcPts val="31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they were a new business. In this scenario,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"/>
              </a:lnSpc>
              <a:spcBef>
                <a:spcPts val="31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business probably could not pass the finan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erion.  Most would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show a prof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after three-to-five years of origin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108280" y="62294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31880" y="299880"/>
            <a:ext cx="6905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ncial Sound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00120" y="1504800"/>
            <a:ext cx="825984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/Observations  (cont’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Several suppliers showed a net loss or very low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 income, which causes poor ratings for Retur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Assets and  Return on S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08280" y="62294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31880" y="220320"/>
            <a:ext cx="6905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ncial Sound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21840" y="1181160"/>
            <a:ext cx="8542440" cy="53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/Observations  (cont’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The same for accounts  payable, such transactions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shown on the books until the transaction occu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out figures to calculate any part of a ratio,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 cannot be fairly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We requested that the suppliers submit tax retu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ping to obtain consistent information.  However,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formation was still inconsistent because of the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accounting methods used by each suppli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108280" y="62294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31880" y="220320"/>
            <a:ext cx="6905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ncial Sound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289080" y="1633680"/>
            <a:ext cx="8632800" cy="53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/Observations  (cont’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he suppliers that used a cash-basis account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may not report the items needed to evaluate th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s.  For example, a supplier using the cash-ba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did not report accounts receivable until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ual collection is mad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108280" y="62294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622440"/>
            <a:ext cx="91440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verall Observations for Financial Evalua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269640" y="2103480"/>
            <a:ext cx="857412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cial analysis was very time-consu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required some level of manual computation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/or verification of reported fig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companies were not necessarily the strongest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etitors in the financial category.  A high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centage of smaller companies scored i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llent or Good ranking for each bidding rou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108280" y="62294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608040"/>
            <a:ext cx="91440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verall Observations for Financial Evalua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69640" y="2077920"/>
            <a:ext cx="857412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were two supplier in the demonstrations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ed low in the financial category that provided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quality services to the beneficiaries.  But is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cial scoring really indicative of the quality of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a supplier provid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108280" y="62294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740880"/>
            <a:ext cx="9144000" cy="13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verall Observations for Financial Evalua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301320" y="2217600"/>
            <a:ext cx="857412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liers will always reject the idea of provi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ils of their financial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nsistencies will always exist in comp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cial information because of different accoun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 and practices of the suppli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evaluate new entities with little or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cial data will remain a challe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108280" y="62294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394920"/>
            <a:ext cx="914400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ionale for Evaluating Financial Capabiliti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99520" y="2088720"/>
            <a:ext cx="8844120" cy="31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intain access to quality services, we wanted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ck suppliers who will remain in business during the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A:  Contracts cannot be awarded unless “the entit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ets applicable financial standards specified by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retary, taking into account the needs of sma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lier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157960" y="62294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490320"/>
            <a:ext cx="914400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o Consider for The National Competit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dding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217080" y="2817360"/>
            <a:ext cx="8782200" cy="39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factors do you take into consideration in judg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nancial stability of a DME enti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25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e financial items/issues unique to the D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5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y that should be considered when evaluating th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5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cial health of a DME enti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108280" y="62294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363240" y="2735280"/>
            <a:ext cx="8434440" cy="34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appropriate financial ratios and oth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ion factors to be consider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more important, the financial stability of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ME entity providing the DME product/service or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ent entity, if appli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108280" y="62294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0" y="490320"/>
            <a:ext cx="914400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o Consider for The National Competit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dding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269640" y="2752200"/>
            <a:ext cx="8559720" cy="36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re a better methodology to reviewing financ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ty of a company over the method used in th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nstr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you determine what an appropriate line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dit is for a small, medium and large DME suppli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108280" y="62294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490680"/>
            <a:ext cx="9144000" cy="20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o Consider for The National Competit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dding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25520" y="2664000"/>
            <a:ext cx="824544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mportant and applicable are the cred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s/ratings in the financial evalu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e suggested approaches for evalua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acity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considered a small, medium and l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siness (based on revenue) in the DME indust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08280" y="62294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0" y="490320"/>
            <a:ext cx="914400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o Consider for The National Competit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dding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25520" y="2863800"/>
            <a:ext cx="824544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CMS require audit profits/loss state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suppli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108280" y="62294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0" y="490320"/>
            <a:ext cx="914400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o Consider for The National Competit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dding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Ratio Stand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14360" y="2476440"/>
          <a:ext cx="8515440" cy="2691000"/>
        </p:xfrm>
        <a:graphic>
          <a:graphicData uri="http://schemas.openxmlformats.org/drawingml/2006/table">
            <a:tbl>
              <a:tblPr/>
              <a:tblGrid>
                <a:gridCol w="1046160"/>
                <a:gridCol w="1282680"/>
                <a:gridCol w="1828800"/>
                <a:gridCol w="2030400"/>
                <a:gridCol w="2327400"/>
              </a:tblGrid>
              <a:tr h="64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cell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turn on S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et Income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Arial"/>
                        </a:rPr>
                        <a:t> (Loss)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nnual Net S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Arial"/>
                        </a:rPr>
                        <a:t>$     71,52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$  849,910 =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4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Arial"/>
                        </a:rPr>
                        <a:t>$  346,30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$11,213,163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08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Arial"/>
                        </a:rPr>
                        <a:t>$ (35,259,529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$   362,803,054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9.71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8157960" y="62294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sur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11040" y="2215800"/>
            <a:ext cx="883296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liers were measured on a scale from 0-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liers had to score 70% in financial evaluation to b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ptable and most were actually evaluated as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cceptable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57960" y="62294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828800" y="0"/>
            <a:ext cx="61405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609480"/>
            <a:ext cx="2361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68200"/>
            <a:ext cx="9144000" cy="8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ncial Sound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61720" y="1584360"/>
            <a:ext cx="8623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rder to ensure that suppliers are financially stabl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lmetto GBA inquired about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 Is the supplier profita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 Is the supplier capable to support growth by eith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ilable cash flow or their credi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oning/rat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 Is the supplier able to pay creditors currently or ar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overextend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157960" y="62294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96960" y="162000"/>
            <a:ext cx="88581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40000" y="628560"/>
            <a:ext cx="566424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46320" y="625320"/>
            <a:ext cx="669924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24200" y="985680"/>
            <a:ext cx="600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19240" y="2897280"/>
            <a:ext cx="608004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22600" y="2968560"/>
            <a:ext cx="610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35160" y="2732040"/>
            <a:ext cx="768348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71640" y="2446200"/>
            <a:ext cx="6853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24200" y="2992320"/>
            <a:ext cx="5925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536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ncial Soundness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64960" y="1947600"/>
            <a:ext cx="887904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rder to answer these questions, Palmetto GBA us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cial statements received with the bid inform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compute key business ratios to determine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cial soundness of potential demonstration suppli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157960" y="62294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0448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ancial Sound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28240" y="1861920"/>
            <a:ext cx="8915400" cy="52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tios were considered to provide critical ins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o suppliers’ business performance in areas of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ncy, efficiency and profitability.  Ratios al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d insight into how their executives manage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ts, controlled inventory, collected on receiv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other key measures of a financially stable compa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157960" y="62294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98080"/>
            <a:ext cx="91440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ncial Sound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97920" y="2352600"/>
            <a:ext cx="8890200" cy="54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hresholds to compare the suppliers were develop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industry norms as calculated by Dunn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dstreet.  Dunn and Bradstreet uses samples t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e “typical balance-sheet figures” for an 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industry types.  They sequence this information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rt figures from best to worst within an industry cod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company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157960" y="62294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0T15:11:25Z</dcterms:created>
  <dc:creator>Blue Cross Blue Shield of SC</dc:creator>
  <dc:description/>
  <dc:language>en-US</dc:language>
  <cp:lastModifiedBy>CMS</cp:lastModifiedBy>
  <cp:lastPrinted>2003-11-17T21:43:53Z</cp:lastPrinted>
  <dcterms:modified xsi:type="dcterms:W3CDTF">2005-02-17T20:50:52Z</dcterms:modified>
  <cp:revision>340</cp:revision>
  <dc:subject/>
  <dc:title>PowerPoint Presentation</dc:title>
</cp:coreProperties>
</file>