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5A97-56F9-4FF7-96D6-1E450487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F41E-5192-46F1-BDEE-213E1947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923-8E49-42F0-A41E-50F6CF597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35D6D-CE41-423F-BC16-B888050D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8DC3-12CF-4FB4-99D3-3581499E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8732-BB19-420B-8A0C-ABC74310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D5DC-517C-47FE-B441-9B64B6924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BD12-F2ED-426F-938D-E7A4C11E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4EE-AAA5-4533-8A7C-F1F858AF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8056-1A0B-46F2-B791-A3041615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13C9-C5E4-4A2E-9A76-BD147B071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6696-ED9A-469B-BA50-B2EEAF851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BFC12-AF8E-466D-99B8-E70A182D61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png"/><Relationship Id="rId3" Type="http://schemas.openxmlformats.org/officeDocument/2006/relationships/package" Target="../embeddings/oleObject2.xlsx"/><Relationship Id="rId4" Type="http://schemas.openxmlformats.org/officeDocument/2006/relationships/image" Target="../media/image6.png"/><Relationship Id="rId5" Type="http://schemas.openxmlformats.org/officeDocument/2006/relationships/package" Target="../embeddings/oleObject3.xlsx"/><Relationship Id="rId6" Type="http://schemas.openxmlformats.org/officeDocument/2006/relationships/image" Target="../media/image7.png"/><Relationship Id="rId7" Type="http://schemas.openxmlformats.org/officeDocument/2006/relationships/package" Target="../embeddings/oleObject4.xlsx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4572000" y="2666880"/>
          <a:ext cx="3276720" cy="3200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666880"/>
                    <a:ext cx="32767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76320" y="2590920"/>
          <a:ext cx="3352680" cy="32004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2590920"/>
                    <a:ext cx="335268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30492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7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800600" y="1752480"/>
            <a:ext cx="2743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FY 2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Black"/>
              </a:rPr>
              <a:t>$18.7 Bill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310680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5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9.7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0040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40 Million (2.5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4120" y="3182760"/>
            <a:ext cx="1981080" cy="7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ciary Co-Pa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7.9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181480" y="4664160"/>
            <a:ext cx="1828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Benefi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$10.4 Bill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20120" y="4206960"/>
            <a:ext cx="1295280" cy="13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Pass-Through Paymen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Black"/>
              </a:rPr>
              <a:t>$430 Million (2.3%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6094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 Black"/>
              </a:rPr>
              <a:t>Outpatient PPS Expendi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990720"/>
            <a:ext cx="815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 Medicare payments increase, the beneficiary co-pay also incre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6248520"/>
            <a:ext cx="8077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"/>
          <p:cNvGraphicFramePr/>
          <p:nvPr/>
        </p:nvGraphicFramePr>
        <p:xfrm>
          <a:off x="228600" y="289080"/>
          <a:ext cx="6781680" cy="321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89080"/>
                    <a:ext cx="6781680" cy="321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380880" y="3668760"/>
          <a:ext cx="6477120" cy="31892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3668760"/>
                    <a:ext cx="6477120" cy="31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1121760" y="3733920"/>
            <a:ext cx="62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Service Payment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6320" y="365040"/>
            <a:ext cx="516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Distribution of APCs by Change in Payment Rate, 2002-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086600" y="105084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 majority of the APCs will have higher payments under the final rule than they did in 2002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86600" y="4267080"/>
            <a:ext cx="1752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aking utilization into account, a large majority of the service payments will be high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457200" y="957240"/>
          <a:ext cx="3962520" cy="2730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57240"/>
                    <a:ext cx="3962520" cy="27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3962520"/>
          <a:ext cx="4267080" cy="2674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962520"/>
                    <a:ext cx="4267080" cy="26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60948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Procrit (non-ESRD epoetin alph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76920" y="6523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Lupr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Cisplati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0" y="880920"/>
          <a:ext cx="4495680" cy="285300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880920"/>
                    <a:ext cx="4495680" cy="28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0" y="3962520"/>
          <a:ext cx="4572000" cy="26542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0" y="3962520"/>
                    <a:ext cx="4572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4952880" y="373392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 Black"/>
              </a:rPr>
              <a:t>Factor vii 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11920" y="152280"/>
            <a:ext cx="24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Black"/>
              </a:rPr>
              <a:t>Drug Payment Chan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02:47:35Z</dcterms:created>
  <dc:creator>Bill Roger</dc:creator>
  <dc:description/>
  <dc:language>en-US</dc:language>
  <cp:lastModifiedBy>CMS</cp:lastModifiedBy>
  <dcterms:modified xsi:type="dcterms:W3CDTF">2002-10-31T17:47:17Z</dcterms:modified>
  <cp:revision>36</cp:revision>
  <dc:subject/>
  <dc:title>PowerPoint Presentation</dc:title>
</cp:coreProperties>
</file>