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</p:sldIdLst>
  <p:sldSz cx="9144000" cy="6858000"/>
  <p:notesSz cx="6997700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998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6"/>
          </p:nvPr>
        </p:nvSpPr>
        <p:spPr>
          <a:xfrm>
            <a:off x="3963600" y="-3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204560" y="689040"/>
            <a:ext cx="45975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7"/>
          </p:nvPr>
        </p:nvSpPr>
        <p:spPr>
          <a:xfrm>
            <a:off x="-360" y="873252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8"/>
          </p:nvPr>
        </p:nvSpPr>
        <p:spPr>
          <a:xfrm>
            <a:off x="3963600" y="873252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D768-F2EE-47F5-94D7-7065D80FF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963960" y="8732880"/>
            <a:ext cx="3032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280B-0B8D-453F-A8BC-7F3B0B1C91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20348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0168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742 res = num of res after deleting dups, zres, nonres, etc (artifacts of data collec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486 res = num of  res studied who have at least 1 min of STM.  Deletes poor units and nonres (res not on study uni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136 res = res with STM and MDS&amp;orRPT.  This is the sample N.  Used for sample weigh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,721 = res with Full STM (48 hrs nursing) and have MDS&amp;orRPT.  Used for RUGs (note of these, 14 do not classify due to poor M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for UM internal kickoff staff mee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ed the note that it is only for individuals present for full week (should be individuals present for 2 nursing days and MDS/R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20348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ose with therapy on PDA days will have their non-PDA time included in weekly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weigh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runcation of nurs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weigh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= *SMI inclu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RUG OR ALCOHOL PSYCHOSES/ DEPENDENCE/ NOND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FFECTIVE PSYCHOSES (including bipol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ARANOI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NONORGANIC PSYCH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RSONALITY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ORGANIC PSYCHOTIC CON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SYCHOSES ORIGIN CHILD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OREXIA, SLEEP DISORD, EATING DISO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RGANIC BRAIN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PRESSIVE DISORD - (ICD9 OR CHECKBOX) *AND* DRS&gt;=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54809-3071-43E6-9302-56C7FD68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835B2-F83D-4FDB-BAB9-693221D6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4C6EA-9C1E-46B3-B5AA-7EF812C1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024C1-8431-480D-866C-2D801B52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4E840-90BE-4B75-B1F0-AE7A0969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F5040-3C7C-448C-B865-15F11308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C77FA-8B48-4FA9-96DB-D2BF1C1D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47D2A-A1A6-426B-83C0-A26714BC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75E61-B094-4DAB-A845-ED4DC98D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7FFFD-A2A0-4C40-BCDC-D503E2DF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4C53E-683F-4305-ACB2-0586A890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A8D72-5AD6-4D8E-A400-B1ADDBE2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590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IVE TEP March 11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4648320" y="6248160"/>
            <a:ext cx="4038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Notice: These materials are in the public domain and cannot be copyright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038480" y="62485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6546-DC42-44A8-844D-7911B872B1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D514-F949-43DD-83E1-5936B89F90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TRIVE@IFMC.ORG" TargetMode="External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STRIVE@IFMC.ORG" TargetMode="Externa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to Viewer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have been some corrections made to these slides since the presentation on 11 March 2009.  In particula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DL Index slides (#78-84) have now been changed to be consistent with the planned “Alternative” range of 0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eft axis on slide #58 has been corr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lumn heading on slide #94 has been corr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ddition, we have added an appendix of an extra slide providing additional requested information about our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ampling Procedur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list states to participate in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sampling frame of certified fac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QI/QM and OSCAR deficiency data to eliminate worst-performing facilities (5-1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y geographic restrictions (in four sta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fy facilities into str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of 7,237 dru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2.2% daily and weekly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1% monthly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8% drugs given once or tw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6% “other”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9% unknown drug frequ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su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drugs are covered in Medicare Part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ily dose – how much is used each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: inhalers, salve tubes, “sliding scale” (e.g., insulin, anti-coagulan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ily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: drugs provided monthly (0.1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on of cost b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alculating Drug Cos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“AWP” (Average Wholesale Price) in First DataBa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lowest of 3 Dec 2007 AWPs for each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lowest cost “generic sequence number” (GSN) for each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nly drugs administered daily/weekly (92% of prescriptions) and not salves/sliding sc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 average number of times/day drug administered during study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= number times * drug quantity * AW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 across drugs for resi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escriptive Statistics on Number and Cost of Drugs*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457200" y="1600200"/>
          <a:ext cx="8229600" cy="3649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st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 of Prescrip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ily Drug Cost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34.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4.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5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56.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im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0.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xim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421.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>
            <a:off x="461160" y="5511960"/>
            <a:ext cx="4150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Only Daily and Weekly Dru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*2 high outlier costs omit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Variance Explanation of Daily Drug Cos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5200" y="5257800"/>
            <a:ext cx="7976160" cy="9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e: 395 Residents with MAR data, Full STM (48 hrs), MDS, and RUG classifi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 high outlier costs omit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609480" y="1752480"/>
          <a:ext cx="7848720" cy="3578400"/>
        </p:xfrm>
        <a:graphic>
          <a:graphicData uri="http://schemas.openxmlformats.org/drawingml/2006/table">
            <a:tbl>
              <a:tblPr/>
              <a:tblGrid>
                <a:gridCol w="4114800"/>
                <a:gridCol w="2514600"/>
                <a:gridCol w="1219320"/>
              </a:tblGrid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dictive Vari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nce Explan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apy + Nursing CM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rsing CM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PS Sca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L 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sident Daily Drug Cost Mean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y RUG Group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228600" y="1752480"/>
          <a:ext cx="8686800" cy="35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686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357840" y="5715000"/>
            <a:ext cx="75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te: 395 Residents, see before.  Open symbols represent points with &lt;5 observ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Highest Daily Drug Cost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y Total Daily Drug Cos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839880" y="1752480"/>
          <a:ext cx="7227720" cy="40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752480"/>
                    <a:ext cx="722772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365760" y="580248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=3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ount of Daily and Weekly Drugs by Total Daily Drug Cos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914400" y="1905120"/>
          <a:ext cx="7613640" cy="398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61364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594360" y="595476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=3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onclusions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Gs do not explain drug cost 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daily drug cost from one (or 2) high cost drugs, not high number of dru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ampling Procedures (cont)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initial s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target number of facilities for each stratum within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over-sample within each stra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lists reviewed by State agencies and CMS regional offices to ident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al poor quality fac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ies with special problems (emergencies, recent change of ownership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n Discussion - Observer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take a position in line nea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ront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limit questions and comment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2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3461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Thank you 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for your participation 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&amp;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attendance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APPENDIX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2286000" y="0"/>
          <a:ext cx="5029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0"/>
                    <a:ext cx="5029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-1600200" y="-685800"/>
          <a:ext cx="10744200" cy="67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00200" y="-685800"/>
                    <a:ext cx="10744200" cy="67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acility Sample Fulfill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14400" y="1523880"/>
          <a:ext cx="7315200" cy="4343040"/>
        </p:xfrm>
        <a:graphic>
          <a:graphicData uri="http://schemas.openxmlformats.org/drawingml/2006/table">
            <a:tbl>
              <a:tblPr/>
              <a:tblGrid>
                <a:gridCol w="3932280"/>
                <a:gridCol w="1644480"/>
                <a:gridCol w="1738440"/>
              </a:tblGrid>
              <a:tr h="95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opulation 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cent of 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rtified facilities -15 st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4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exclusions (poor qualit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wide eligi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9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ies outside of geographic study areas (FL, IL, LA, TX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le facilities in study ar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.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acility Sample Fulfill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66680" y="1397160"/>
          <a:ext cx="7315200" cy="4644720"/>
        </p:xfrm>
        <a:graphic>
          <a:graphicData uri="http://schemas.openxmlformats.org/drawingml/2006/table">
            <a:tbl>
              <a:tblPr/>
              <a:tblGrid>
                <a:gridCol w="4343400"/>
                <a:gridCol w="1695600"/>
                <a:gridCol w="1276200"/>
              </a:tblGrid>
              <a:tr h="581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ligible Facilities by Strat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trat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c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spital-ba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-V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-H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-Part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5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acility Sample Fulfill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90720" y="1905120"/>
          <a:ext cx="7619760" cy="3382920"/>
        </p:xfrm>
        <a:graphic>
          <a:graphicData uri="http://schemas.openxmlformats.org/drawingml/2006/table">
            <a:tbl>
              <a:tblPr/>
              <a:tblGrid>
                <a:gridCol w="4495680"/>
                <a:gridCol w="1809720"/>
                <a:gridCol w="1314360"/>
              </a:tblGrid>
              <a:tr h="670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tate/Regional Office Review 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y 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c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ly selected for revie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minated by State agencies/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MS regional offi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aining: eligible for invi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acility Sample Fulfill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85800" y="1752480"/>
          <a:ext cx="7543800" cy="3484800"/>
        </p:xfrm>
        <a:graphic>
          <a:graphicData uri="http://schemas.openxmlformats.org/drawingml/2006/table">
            <a:tbl>
              <a:tblPr/>
              <a:tblGrid>
                <a:gridCol w="4191120"/>
                <a:gridCol w="1938240"/>
                <a:gridCol w="1414440"/>
              </a:tblGrid>
              <a:tr h="581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y Particip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y 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c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ited to particip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lined to particip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reed to particip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.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ies with completed stud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.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ampling Weight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weights correct for unequal selection probabilit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ability of selection for each facility is product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) Probability facility selected for initial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 Probability facility selected for inclusion in stu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) Probability each resident within facility included in stu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ing weight = inverse of probability, scaled to samp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es various factors are rando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e.g., facility refusals, unit sele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ison with population on selected variables increases confidence in sampling 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457200" y="625140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IVE TEP March 11,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4648320" y="6248520"/>
            <a:ext cx="4038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Notice: These materials are in the public domain and cannot be copyright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Margin of Error: Mean Staff Time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1676520"/>
          <a:ext cx="7848720" cy="375912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  <a:gridCol w="1962000"/>
                <a:gridCol w="196236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/97 St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VE Projec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V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care Resid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rsing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apy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-Medicare Resid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rsing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apy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45"/>
          <p:cNvSpPr/>
          <p:nvPr/>
        </p:nvSpPr>
        <p:spPr>
          <a:xfrm>
            <a:off x="685800" y="571500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Note:  Margins of error reflect expected sampling error for mean staff time with the effect of case mix removed.  Margins of error based upon 95% confidence interv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cedures in Facility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Time Meas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cted using PDA (2 days nursing, 3 days therapy) an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per tools (7 days therap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nursing, therapy, and ancillary sta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etermined protocol for unit selection based on facility size selected entire facility or entire un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ty population units, if applic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-Part A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aining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“supplemental unit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VE M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al MDS 2.0 and Addend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STRIVE</a:t>
            </a:r>
            <a:br>
              <a:rPr sz="6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taff Time and Resource Intensity Verificatio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Expert Panel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 11,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TRIVE@IFMC.ORG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ssembling Analytic Databas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-Collection Ad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ge we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MDS Repository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Part A resid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lea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 sample deter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ing therapy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inal Sample Determination: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Residents Used for CMI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5640" y="1905120"/>
            <a:ext cx="449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,486 Study Resi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0481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,136 Study Resi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MDS/R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46483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,721 Study Residents with MDS/RPT and 48 hrs of Nursing Staf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2514600"/>
            <a:ext cx="0" cy="5335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4038480"/>
            <a:ext cx="0" cy="5335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724280"/>
            <a:ext cx="1143000" cy="45720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Therapy Adjustments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djusting Therapy Tim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ollected with paper (vs. PDAs) appears incompl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supervi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different staff on week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not match national distribution of RUG-III rehabilitation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djusting Therapy Tim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04920" y="1371600"/>
          <a:ext cx="8534160" cy="3913200"/>
        </p:xfrm>
        <a:graphic>
          <a:graphicData uri="http://schemas.openxmlformats.org/drawingml/2006/table">
            <a:tbl>
              <a:tblPr/>
              <a:tblGrid>
                <a:gridCol w="1600200"/>
                <a:gridCol w="990360"/>
                <a:gridCol w="762120"/>
                <a:gridCol w="762120"/>
                <a:gridCol w="838080"/>
                <a:gridCol w="762120"/>
                <a:gridCol w="685800"/>
                <a:gridCol w="685800"/>
                <a:gridCol w="838080"/>
                <a:gridCol w="6094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lection Schedul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1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5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5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9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72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531360" y="5486400"/>
            <a:ext cx="81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ding: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PDA data collection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Paper data colle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60199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te: Analysis includes only individuals present for full 7 days of stu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itting National Distribution: Part A Claims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Unadjusted Therapy Tim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04920" y="1106640"/>
          <a:ext cx="8610480" cy="521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06640"/>
                    <a:ext cx="8610480" cy="52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etermining Therapy Times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djustment Method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ent time for each disciplin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Therapy, Occupational Therapy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ch-Language Path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verage therapy ses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ased on PDA days where 15+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e number of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days of therap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ate PDA days wi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≥ 1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non-PDA weekend days wi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≥ 15 min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djusted weekly therapy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ed weekly therapy minute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verage therapy session) x (Days of therap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etermining Therapy Times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xampl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04920" y="1828800"/>
          <a:ext cx="8610480" cy="1959120"/>
        </p:xfrm>
        <a:graphic>
          <a:graphicData uri="http://schemas.openxmlformats.org/drawingml/2006/table">
            <a:tbl>
              <a:tblPr/>
              <a:tblGrid>
                <a:gridCol w="1447560"/>
                <a:gridCol w="685800"/>
                <a:gridCol w="609840"/>
                <a:gridCol w="609480"/>
                <a:gridCol w="609480"/>
                <a:gridCol w="457200"/>
                <a:gridCol w="609840"/>
                <a:gridCol w="609480"/>
                <a:gridCol w="990720"/>
                <a:gridCol w="990360"/>
                <a:gridCol w="9907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Ti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g Therapy ses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ys 15+ m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erv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ed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2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1753200" y="3962520"/>
            <a:ext cx="56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IMATED DAYS of THERAPY*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JUSTED WEEKLY MINUTES  =  5 x 42= 210 m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943600" y="2971800"/>
            <a:ext cx="1676160" cy="1676160"/>
            <a:chOff x="5943600" y="2971800"/>
            <a:chExt cx="1676160" cy="1676160"/>
          </a:xfrm>
        </p:grpSpPr>
        <p:sp>
          <p:nvSpPr>
            <p:cNvPr id="175" name=""/>
            <p:cNvSpPr/>
            <p:nvPr/>
          </p:nvSpPr>
          <p:spPr>
            <a:xfrm>
              <a:off x="5943600" y="4088880"/>
              <a:ext cx="332640" cy="55908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76440" y="2971800"/>
              <a:ext cx="1543320" cy="1117080"/>
            </a:xfrm>
            <a:custGeom>
              <a:avLst/>
              <a:gdLst/>
              <a:ahLst/>
              <a:rect l="l" t="t" r="r" b="b"/>
              <a:pathLst>
                <a:path w="1152" h="576">
                  <a:moveTo>
                    <a:pt x="0" y="576"/>
                  </a:moveTo>
                  <a:lnTo>
                    <a:pt x="0" y="288"/>
                  </a:lnTo>
                  <a:lnTo>
                    <a:pt x="1152" y="288"/>
                  </a:lnTo>
                  <a:lnTo>
                    <a:pt x="1152" y="0"/>
                  </a:lnTo>
                </a:path>
              </a:pathLst>
            </a:custGeom>
            <a:noFill/>
            <a:ln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470560" y="3505320"/>
            <a:ext cx="3292560" cy="1143000"/>
            <a:chOff x="5470560" y="3505320"/>
            <a:chExt cx="3292560" cy="1143000"/>
          </a:xfrm>
        </p:grpSpPr>
        <p:sp>
          <p:nvSpPr>
            <p:cNvPr id="178" name=""/>
            <p:cNvSpPr/>
            <p:nvPr/>
          </p:nvSpPr>
          <p:spPr>
            <a:xfrm>
              <a:off x="5470560" y="3962520"/>
              <a:ext cx="377640" cy="68580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43440" y="3505320"/>
              <a:ext cx="3019680" cy="533160"/>
            </a:xfrm>
            <a:custGeom>
              <a:avLst/>
              <a:gdLst/>
              <a:ahLst/>
              <a:rect l="l" t="t" r="r" b="b"/>
              <a:pathLst>
                <a:path w="1872" h="528">
                  <a:moveTo>
                    <a:pt x="0" y="528"/>
                  </a:moveTo>
                  <a:lnTo>
                    <a:pt x="1872" y="528"/>
                  </a:lnTo>
                  <a:lnTo>
                    <a:pt x="1872" y="0"/>
                  </a:lnTo>
                </a:path>
              </a:pathLst>
            </a:custGeom>
            <a:noFill/>
            <a:ln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itting National Distribution: Part A Claims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djusted Therapy Tim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1152360"/>
          <a:ext cx="876312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52360"/>
                    <a:ext cx="876312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an Eby, Project Directo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hy Langenberg, R.N.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Operations Manage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ik Thompson, Program Directo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ffect of Therapy Adjustment on Normalized Therapy WWS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adjusted and raw therapy WW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e “therapy CMIs” by normalizing therapy wage-weighted staf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e “therapy CMIs” for NFs where the therapy collection appeared consistent across the entire wee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collection on unsupervised days was &gt;50% of supervised d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mparison of Normalized Therapy WWST: Adjusted vs. Raw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68280" y="1846440"/>
          <a:ext cx="8310600" cy="408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1846440"/>
                    <a:ext cx="83106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609480" y="6019920"/>
            <a:ext cx="7423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*therapy collection on unsupervised days was &gt;50% of the supervised d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266760" y="1600200"/>
          <a:ext cx="84582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600200"/>
                    <a:ext cx="84582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mparison of Normalized Therapy WWST: Adjusted vs. Raw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28600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34340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72428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18148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01992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62940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16292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8680" y="152388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ivid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85600" y="152388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cur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1447920"/>
            <a:ext cx="14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1828800"/>
            <a:ext cx="0" cy="4114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72200" y="1828800"/>
            <a:ext cx="0" cy="4114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35791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5520" y="3581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37339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886200" y="36554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4120" y="43434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5920" y="3733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5920" y="3124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3400" y="3276720"/>
            <a:ext cx="8380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43400" y="38098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43400" y="3962520"/>
            <a:ext cx="7621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477120" y="36554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96080" y="37339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9788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153280" y="32004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153280" y="37339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3809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0120" y="3200400"/>
            <a:ext cx="838080" cy="1066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5257800"/>
            <a:ext cx="27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allocated= 30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26240" y="4952880"/>
            <a:ext cx="294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allocated= 30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ocated     = 30 minutes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 10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48520" y="5029200"/>
            <a:ext cx="270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allocated= 30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ocated = 30 minutes/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  7.5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ndividual, Concurrent &amp; Group Thera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 rot="10800000">
            <a:off x="2285640" y="62481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 Therapi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45760" y="624852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 Resid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7960" y="2286000"/>
            <a:ext cx="203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rapist works wi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nly 1 resi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60120" y="2209680"/>
            <a:ext cx="208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rapist works with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+ residents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fferent modal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08240" y="2133720"/>
            <a:ext cx="208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rapist works with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+ residents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ame moda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ndividual, Concurrent &amp; Group Time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600200"/>
          <a:ext cx="8229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herapy Time: Summary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apy adjust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ch national Part A distribution of RUG-III rehabilita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ll information collect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DS, PDA, paper too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dit maximum likely therapy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urrent therapy frequently util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itial RUG-53 Nursing Relative Weights (STRIVE)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s. Current Unadjusted SNF Nursing CMIs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69800" y="1263600"/>
          <a:ext cx="8458200" cy="454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263600"/>
                    <a:ext cx="8458200" cy="45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reliminary Analysis: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Variance Explanation of RUG-53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04720" y="1440000"/>
          <a:ext cx="8258400" cy="435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1440000"/>
                    <a:ext cx="8258400" cy="43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403200" y="5935680"/>
            <a:ext cx="462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About Analy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tic (N=6454 residents) vs. validation (N=3253) s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analyses use only analytic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replicated on validation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full sample when have small sample si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full sample and sample weights to derive case-mix indexes (CM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nt Fries, Ph.D., STRIVE Analytic Task Lead, University of Michi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b Godbout, Ph.D.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Survey Design Consultant, Stepw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e Malitz, Ph.D.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Survey Design Consultant, Stepw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e Oatway, R.N., M.P.H.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Database Manager, CareTr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About Analy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dependent variable: wage-weighted staff time = “WWS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ges normalized to average CNA sal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ed both (nursing+therapy) and nurs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ly, similar results obtained for log WW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e: WWST are not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WWSTs (analytic sample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rsing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8.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rsing + Therapy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4.7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About Analy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displaying portion of analyses r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most all analyses inte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Refinement to “upper” RUG hierarchy affects “lower” categ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ication: Use caution in comparing analyses performed at different stages of model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About Analy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s made on multiple criter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riance explan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antiality of dif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overall range of group me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e groups more homogene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differences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etwe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lication of results in prior 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cal s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n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oid items vulnerable to “gaming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ourage selected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impact on Medic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dic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228600" y="990720"/>
          <a:ext cx="3809880" cy="4778280"/>
        </p:xfrm>
        <a:graphic>
          <a:graphicData uri="http://schemas.openxmlformats.org/drawingml/2006/table">
            <a:tbl>
              <a:tblPr/>
              <a:tblGrid>
                <a:gridCol w="2444760"/>
                <a:gridCol w="13651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pecial Pop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s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zheim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I-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I-Schizophren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I- Bipo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I- Ot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afbli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a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li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der Age 18 y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-40 yea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1-64 yea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iratory Therap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343400" y="990720"/>
          <a:ext cx="4572000" cy="4778280"/>
        </p:xfrm>
        <a:graphic>
          <a:graphicData uri="http://schemas.openxmlformats.org/drawingml/2006/table">
            <a:tbl>
              <a:tblPr/>
              <a:tblGrid>
                <a:gridCol w="3024360"/>
                <a:gridCol w="15476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pecial Pop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s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ctio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ysical/Verbal  Ab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r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emotherap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umatic Brain Inju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rgical Wound C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aly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sp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UG 44- BA/B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riatric (weight ≥ 300lb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lliative C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in (&gt; no pai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2135160" y="152280"/>
            <a:ext cx="550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pecial Populations Ident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Pain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ain Scal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485120" cy="37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ed five pain sc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2.0 Pain Sc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3.0 Resident Pain int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nbach’s Alpha: 0.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3.0 Facility Pain Indic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nbach’s Alpha: 0.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3.0 Combined Pain interview and Facility Pain sc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resident can self report on pain then use Pain interview scale. Otherwise, use Facility Pain 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Control item – in STRIVE Addend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ariance Explanation (VE) of Pain Scal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762120" y="1600200"/>
          <a:ext cx="7924680" cy="4356000"/>
        </p:xfrm>
        <a:graphic>
          <a:graphicData uri="http://schemas.openxmlformats.org/drawingml/2006/table">
            <a:tbl>
              <a:tblPr/>
              <a:tblGrid>
                <a:gridCol w="1881000"/>
                <a:gridCol w="1473120"/>
                <a:gridCol w="1473480"/>
                <a:gridCol w="1471320"/>
                <a:gridCol w="1625760"/>
              </a:tblGrid>
              <a:tr h="61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t Vari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apy+Nursing WW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 of (RUG+Pai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 of RU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(RUG+Pain)-VE(RUG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S P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1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5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in Intervie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1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0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y P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4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5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in Interview Faci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4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5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in Contr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6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6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ested Pain Control Item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CONTROL (Note: Always ask the person about pain frequency, intensity, and control.  Observe person and ask others who are in contact with the pers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quacy of current therapeutic regimen to control pain (from person’s point of view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 for the last 3 day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 = No issue of p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= Pain intensity acceptable to person, no treatment regimen or change in regimen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= Controlled adequately by therapeutic regi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= Controlled when therapeutic regimen followed, but not always followed as ord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= Therapeutic regimen followed, but pain control not adequ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 = No therapeutic regimen being followed for pain; pain not adequately control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variance explanation for RUG 53 residu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e pain measures identify different individua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not clear how to implement pain scale into 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initiatives will address pain, e.g., as part of quality monito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Participant introd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dures for the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nes – place on vib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at 4:00 p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 –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TRIVE@IFMC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9907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6615360" y="87480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Refining RUG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rarchy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spl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tiary spl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Structure of Extensive Services Category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9907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6615360" y="87480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533520"/>
            <a:ext cx="762120" cy="60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28800" y="2590920"/>
            <a:ext cx="76212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xtensive Services - Main Issu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 vs. Post-admission Extensiv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of Extensiv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qual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qual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li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Pre- vs. Post-Admission Extensive Services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Pre- vs. Post-admission Extensive Servic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sue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there significant differences in resource use among early-stay residents who receiv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extensive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-admission extensive services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admission extensive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pulation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2 residents with days of stay ≤7 d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umbers of Pre/Post Extensive Servic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30120" y="1225440"/>
          <a:ext cx="8864640" cy="39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225440"/>
                    <a:ext cx="8864640" cy="39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ean Nursing WWST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by Pre/Post Extensive Servic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11040" y="1857240"/>
          <a:ext cx="8701200" cy="39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1857240"/>
                    <a:ext cx="8701200" cy="39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567720" y="593100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sis of individuals with LOS&lt;=7 da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Extensive Services Category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xtensive Services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su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 items used to qualify for extensive services appropri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the extensive services count work to split the extensive catego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pulation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454 residents in the derivation s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520" y="503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RUG-III Extensive Services Cou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09480" y="1752480"/>
          <a:ext cx="7848720" cy="4206960"/>
        </p:xfrm>
        <a:graphic>
          <a:graphicData uri="http://schemas.openxmlformats.org/drawingml/2006/table">
            <a:tbl>
              <a:tblPr/>
              <a:tblGrid>
                <a:gridCol w="4232520"/>
                <a:gridCol w="2014560"/>
                <a:gridCol w="1601640"/>
              </a:tblGrid>
              <a:tr h="42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 Qualifi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 cou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eral/IV feed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 medic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ction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cheostom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tilator/Respirat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fy for Special C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fy for Clinically Comple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fy for Cognitive Impair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7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L ≥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xtensive Services WWST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y RUG-III Count and Item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57200" y="1523880"/>
          <a:ext cx="82296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96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Summary of Analysis of Extensive Services Category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-admission extensive services more resource intensive than pre-admission; pre-admission similar to “no servic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eral feeding and IV meds have lower resource use than other Extensive qualif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Extensive Services count (including qualifiers of major categories) not effec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"/>
          <p:cNvGraphicFramePr/>
          <p:nvPr/>
        </p:nvGraphicFramePr>
        <p:xfrm>
          <a:off x="12193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6936120" y="8380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3124080"/>
            <a:ext cx="838440" cy="838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valuating RUG-III Special Care Qualifier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706320" y="1657440"/>
          <a:ext cx="7828200" cy="45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320" y="1657440"/>
                    <a:ext cx="7828200" cy="45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valuating RUG-III Clinically Complex Qualifier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14240" y="1236600"/>
          <a:ext cx="7782120" cy="508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236600"/>
                    <a:ext cx="778212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TRIVE Background Review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nursing home time stu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– Spring ’06 – Summer ‘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rsing, therapy, and ancillary staff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onal digital assistants (PDAs) with paper tool back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ment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DS 2.0 with one-third “grayed out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IVE MDS addend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– ongo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12193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6936120" y="8380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57400" y="4343400"/>
            <a:ext cx="762120" cy="1828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fining RUGs – Hierarchy Categori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er Hierarc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Physical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istribution of RUG-III Lower Hierarchy Group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60440" y="1600200"/>
          <a:ext cx="845172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45172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re reasons to combine or retain Behavior catego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ce was not a predictor of resource use. 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ADL Scale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DL Scal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su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the ADL Scale be improved s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residents get similar scores (f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res are more proportional to impairment (linear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pulation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454 residents in the derivation s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DL Scal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in RUG-III for splits of each Major Group except for ‘Extensive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4 AD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d mo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ilet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ting, including ‘Feeding’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enteral/IV nutr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eding Tube nutr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 &gt;50% daily calorie intake 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 &gt;25% daily calorie intake and &gt;500cc daily fluid inta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12193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6936120" y="8380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380880"/>
            <a:ext cx="60948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05320" y="1523880"/>
            <a:ext cx="53316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76720" y="3200400"/>
            <a:ext cx="68580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19520" y="3657600"/>
            <a:ext cx="60948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19520" y="4419720"/>
            <a:ext cx="60948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19520" y="4876920"/>
            <a:ext cx="609480" cy="304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19520" y="5715000"/>
            <a:ext cx="60948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325920" y="3048120"/>
            <a:ext cx="23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ote: Also used 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ategory qualif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DLs to Scale Values</a:t>
            </a:r>
            <a:br>
              <a:rPr sz="40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ed mobility, Transfer, Toilet use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57200" y="1600200"/>
          <a:ext cx="3995280" cy="4525560"/>
        </p:xfrm>
        <a:graphic>
          <a:graphicData uri="http://schemas.openxmlformats.org/drawingml/2006/table">
            <a:tbl>
              <a:tblPr/>
              <a:tblGrid>
                <a:gridCol w="1498320"/>
                <a:gridCol w="832320"/>
                <a:gridCol w="845640"/>
                <a:gridCol w="819000"/>
              </a:tblGrid>
              <a:tr h="49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pende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 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4691160" y="1600200"/>
          <a:ext cx="3995640" cy="4129200"/>
        </p:xfrm>
        <a:graphic>
          <a:graphicData uri="http://schemas.openxmlformats.org/drawingml/2006/table">
            <a:tbl>
              <a:tblPr/>
              <a:tblGrid>
                <a:gridCol w="1498680"/>
                <a:gridCol w="831600"/>
                <a:gridCol w="846360"/>
                <a:gridCol w="819000"/>
              </a:tblGrid>
              <a:tr h="446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ern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pende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 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DLs to Scale Values</a:t>
            </a:r>
            <a:br>
              <a:rPr sz="40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ating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57200" y="1600200"/>
          <a:ext cx="3995280" cy="4525560"/>
        </p:xfrm>
        <a:graphic>
          <a:graphicData uri="http://schemas.openxmlformats.org/drawingml/2006/table">
            <a:tbl>
              <a:tblPr/>
              <a:tblGrid>
                <a:gridCol w="1498320"/>
                <a:gridCol w="832320"/>
                <a:gridCol w="845640"/>
                <a:gridCol w="819000"/>
              </a:tblGrid>
              <a:tr h="49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pende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 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Including Parenteral/IV/Tube Feed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4691160" y="1600200"/>
          <a:ext cx="3995640" cy="4129200"/>
        </p:xfrm>
        <a:graphic>
          <a:graphicData uri="http://schemas.openxmlformats.org/drawingml/2006/table">
            <a:tbl>
              <a:tblPr/>
              <a:tblGrid>
                <a:gridCol w="1498680"/>
                <a:gridCol w="755640"/>
                <a:gridCol w="871200"/>
                <a:gridCol w="870120"/>
              </a:tblGrid>
              <a:tr h="4460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ern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pende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 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ampling Goal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ability-based sample that can be generalized to the 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selection of facilities and resi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member of population has a known probability of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-sample important special populations to support case mix analy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More Linear; More Respon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52280" y="1447920"/>
          <a:ext cx="405144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405144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3733920" y="1371600"/>
          <a:ext cx="4554360" cy="259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371600"/>
                    <a:ext cx="455436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52280" y="3657600"/>
          <a:ext cx="3843360" cy="24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3657600"/>
                    <a:ext cx="38433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3352680" y="3505320"/>
          <a:ext cx="5600880" cy="274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3505320"/>
                    <a:ext cx="56008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380880" y="59436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for comparative purposes, Original scoring is scaled from 0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arenteral, IV, and Tube Feeding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in RUG-III Sc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eding” not needed when use Eating Suppor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adjustment, little difference with vs. without “feed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ding” residents vary greatly in Eating Performance/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without “feeding” as qualifier, 82% place at an equal or higher Scale Weight as with the Current Sc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lternative ADL Index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 of scale values for 4 AD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le ranges from 0-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mproved Fit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(More homogeneous)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609480" y="1371600"/>
          <a:ext cx="784872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84872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2221920" y="2362320"/>
            <a:ext cx="225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rrent R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:    10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ternative R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  11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577240" y="50655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41400" y="304812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Altern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609588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for comparative purposes, Original scoring is scaled from 0-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Greater Range,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Flatter Distribution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609480" y="1371600"/>
          <a:ext cx="79250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9250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7012440" y="3352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165080" y="4572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Altern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299360" y="3402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80880" y="601992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for comparative purposes, Original scoring is scaled from 0-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Hierarchy Categories - Approach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ADL Thresholds for qualif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ADL Thresholds for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condary Split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L Ind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of categ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of all category qual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of “below” category qual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e as strong as ADL splits, or useful after ADL spl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UG-III ADL Cut Points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380880" y="685800"/>
          <a:ext cx="8548920" cy="5691240"/>
        </p:xfrm>
        <a:graphic>
          <a:graphicData uri="http://schemas.openxmlformats.org/drawingml/2006/table">
            <a:tbl>
              <a:tblPr/>
              <a:tblGrid>
                <a:gridCol w="1447920"/>
                <a:gridCol w="979560"/>
                <a:gridCol w="468360"/>
                <a:gridCol w="412560"/>
                <a:gridCol w="333360"/>
                <a:gridCol w="397080"/>
                <a:gridCol w="480960"/>
                <a:gridCol w="563400"/>
                <a:gridCol w="638280"/>
                <a:gridCol w="385920"/>
                <a:gridCol w="469800"/>
                <a:gridCol w="431640"/>
                <a:gridCol w="381240"/>
                <a:gridCol w="610920"/>
                <a:gridCol w="182520"/>
                <a:gridCol w="365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G Catego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-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+Exte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ltra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ilit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ltra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AD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i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havi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uced Physical Funct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ossible ADL Cut Points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295280" y="762120"/>
          <a:ext cx="7010640" cy="5473440"/>
        </p:xfrm>
        <a:graphic>
          <a:graphicData uri="http://schemas.openxmlformats.org/drawingml/2006/table">
            <a:tbl>
              <a:tblPr/>
              <a:tblGrid>
                <a:gridCol w="1927440"/>
                <a:gridCol w="1577880"/>
                <a:gridCol w="701640"/>
                <a:gridCol w="579600"/>
                <a:gridCol w="674640"/>
                <a:gridCol w="760320"/>
                <a:gridCol w="78912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G Catego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G Gro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-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-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-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+Extens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ltra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ilit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ltra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nically Comple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i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havi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uced Physic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sonable to use ADL as secondary split (except for Extensive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it reasonable to restrict structure of ADL spl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ample Desig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stage cluster sample within each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ified random sample of facilities (selected with probability proportional to siz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ed unit(s) within each facility for inclusion in time stu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ta (over-sample special popula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pital-b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concentration of ventilator resi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2%+ ventilator/ respirator resident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concentration of HIV resid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0%+ HIV resid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concentration of Medicare resid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0%+ Part A resid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other fac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12193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6936120" y="8380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09880" y="3429000"/>
            <a:ext cx="68580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809880" y="4267080"/>
            <a:ext cx="838440" cy="2210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fining RUGs – Tertiary Split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on used in RUG-III as tertiary split for Clinically Complex categ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lit was not large, not consis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evidence that this finding will be repe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based on MDS 2.0 “Depression Rating Scal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rsing Rehabilita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609480" y="1523880"/>
          <a:ext cx="7848720" cy="554688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97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s the following (primarily: 2+ activities provided 6+ days for 15+ min.)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sive range of motion (p3a) or active range of motion (p3b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d mobility (p3d) or walking (p3f) trai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lint or brace assistance (p3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fer training (p3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essing or grooming training (p3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ating or swallowing training (p3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putation/prosthesis care (p3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unication training (p3j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heduled toileting plan (h3a) or bladder retraining program (h3b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rsing Rehabilita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52280" y="2057400"/>
          <a:ext cx="8839440" cy="2895480"/>
        </p:xfrm>
        <a:graphic>
          <a:graphicData uri="http://schemas.openxmlformats.org/drawingml/2006/table">
            <a:tbl>
              <a:tblPr/>
              <a:tblGrid>
                <a:gridCol w="1947960"/>
                <a:gridCol w="898560"/>
                <a:gridCol w="1422360"/>
                <a:gridCol w="1370160"/>
                <a:gridCol w="1550880"/>
                <a:gridCol w="1649520"/>
              </a:tblGrid>
              <a:tr h="1371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 R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Category WW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WWST 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ificant difference (p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ired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amp; Behavi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4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"/>
          <p:cNvSpPr/>
          <p:nvPr/>
        </p:nvSpPr>
        <p:spPr>
          <a:xfrm>
            <a:off x="609840" y="548640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RUG-III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rsing Rehabilitation Splits: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xampl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762120" y="1752480"/>
          <a:ext cx="7391160" cy="3929040"/>
        </p:xfrm>
        <a:graphic>
          <a:graphicData uri="http://schemas.openxmlformats.org/drawingml/2006/table">
            <a:tbl>
              <a:tblPr/>
              <a:tblGrid>
                <a:gridCol w="2803320"/>
                <a:gridCol w="1540080"/>
                <a:gridCol w="1066680"/>
                <a:gridCol w="19810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G Catego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rsing Rehabili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Nursing WW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9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9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5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nursing rehabilitation be retained as a split for the lower categor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ble to obtain drug profiles at time of STM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ested Medication Administration Records (MARs) – 56 facilities in 14 states respo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-keyed Medicare resi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key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DC code (look-u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quency, dose, str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dministered during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drug data from resident MAR forms for week of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7.9% of Residents are Part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=428 residents with STRIV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6 facili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 states plus D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,237 drug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6.9 drugs per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includes TB tests, vitamin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01:11:25Z</dcterms:created>
  <dc:creator>Big Ed</dc:creator>
  <dc:description/>
  <dc:language>en-US</dc:language>
  <cp:lastModifiedBy>CMS</cp:lastModifiedBy>
  <dcterms:modified xsi:type="dcterms:W3CDTF">2009-03-18T13:49:38Z</dcterms:modified>
  <cp:revision>266</cp:revision>
  <dc:subject/>
  <dc:title>STRIV fka NNHTS</dc:title>
</cp:coreProperties>
</file>