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05174-FE34-4665-99DD-3086A954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E8FE6-BC97-4C8E-A4C9-A52134B2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38407-094E-4D5A-9F20-36E655B9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A4C65-E48F-4463-AF54-3DB29686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F12D3-271D-4033-A73C-7CD00673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E1496-3F1B-4C40-82EE-01F0CB94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E698C-BBC9-49E1-8FF2-2AC5BA74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06264-23A9-4B04-B417-5FCE6A7D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C3D8B-1AB5-4463-8D50-9F370874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18C65-010A-45B2-95E5-3ADD5C98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0F0CF-C174-4F12-9D47-7E2A07C9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597CB-AF1B-4C04-B6C3-C35D1B08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IVE TEP December 1,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4648320" y="6248160"/>
            <a:ext cx="403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wa Foundation for Medical 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tice: These materials are in the public domain and cannot be copyrighted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038480" y="62485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081D-6B92-4EA2-847E-4F51B7320A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440B-2A8B-4A82-91A2-E3C03C277A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cms.hhs.gov/providers/snfpps" TargetMode="External"/><Relationship Id="rId2" Type="http://schemas.openxmlformats.org/officeDocument/2006/relationships/hyperlink" Target="mailto:Strive@ifmc.org" TargetMode="External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cms.hhs.gov/snfpps" TargetMode="External"/><Relationship Id="rId2" Type="http://schemas.openxmlformats.org/officeDocument/2006/relationships/hyperlink" Target="mailto:Strive@ifmc.org" TargetMode="External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TRIVE</a:t>
            </a:r>
            <a:br>
              <a:rPr sz="6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Staff Time and Resource Intensity Verification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Expert Panel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 1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nibus Budget Reconciliation Act of 19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uniform assessment instrument, based on a minimum data set to improve facility care planning and resident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d Budget Act of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F moves to PPS system in 1998, many states use the case-mix payment system for Medicaid reimburse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se mix system at the core of the Medicare SNF PPS consists of three compon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ime measures (ST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dent assess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calculations of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Utiliza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G-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group represents a level of resource utilization and is quantified with a case mix index s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s resource utilization to payment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-III classification system was designed by relating resident characteristics to wage-weighted staf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regarding a resident’s characteristics was derived from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S resident assessment instr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ly 50 percent of states use a version of the RUG classification system to pay for Medicaid nursing home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the Federal and state systems are based on staff time measurement data collected in 1990, 1995, and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ational time study has taken place since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September 30, 2005, CMS awarded a contract to Iowa Foundation for Medical Care (IFMC) and its partners to conduct this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cope of Work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project team will implement and manage CMS’s multi-state STM study including the following tas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ruit nursing homes, state agencies, and volunteers to particip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hardware, software, and training to obtain the data in a useable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data collection through pilot test and national time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Approach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use for Medicare and Medic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use for special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venti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illary co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ive items and meas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MDS 3.0, MDS-P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ed servic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IV meds, therapy patt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collaboration with other stud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VA, C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ampling Approach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nationally representative sampl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bout 12,000 resid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ified random sample of facilities within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re and special population str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y screening based on survey deficiencies and QI/QM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Data Collection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tate / Facility Role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Oatway, R.N., M.P.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Langenberg, R.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Burke, Ph. 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an Eby, Directo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Langenberg, R.N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Operations Manag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e Pelfrey, STRIVE Project Manag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oals of Data Collec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resource us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time data with most current and teste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normal staff levels and resident loa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 current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assessmen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 current resident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ata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llec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data to be col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data from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resources used for resident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/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2.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emental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rivac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ent level data not shared or available outside of th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conducted in compliance with HIPAA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data not shared with fac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prot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ime Data Collec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time from all direct care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cketPC running the CareTrack Staff Time softw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r backup available for technical probl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and group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ketPC time data collection is very easy to learn and use, and is reliable and accu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848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sident Specific Tim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ent Specific Time (R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aff members spend with or on behalf of a resid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ists identify the modality by selecting HCPCS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Non-Resident Specific Tim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Resident Specific Time (NR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aff members spend supporting the delivery of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ve du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porate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eals and Break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ls and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aff member’s spend on personal meals and br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Additional Resources Used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to Care for Residents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and Doc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s/Med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sident Assessmen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/update hardcopy MDS 2.0 with an assessment reference date during the time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supplemental assessment items on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 to IFMC for data e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b Burke, Ph.D.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Project Director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eorge Washington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nt Fries, Ph.D., STRIVE Analytic Task Lead, University of Michi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b Godbout, Ph.D.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e Malitz, Ph.D.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e Oatway, R.N., M.P.H.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Database Manager, CareTr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ility Characteristic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on,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, types, sizes of nursing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ing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Data Collection Role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Oatway, R.N., M.P.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ate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ates state project l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uits fac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uits staff for on-site data collection and monito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s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s facilities and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s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Support provided by 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akeholder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s study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s study parti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es issues and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volunteers for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ility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es in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s staff for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staff and resident ro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s staff time and resource d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s assessmen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work space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FMC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TRIVE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State Recru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s state project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sample facility 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recruitment materials and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s recruitment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in recruitment as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Stat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study materials and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laptops and PocketP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help line and study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ata Collection Summar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ion performed by states, with  assistance provided by 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y trained volunteers create partnerships and keep the process transparent to the 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Analysis Plan and Sampling Plan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t Fries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Malitz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librate CMI for current RUG-III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ull sample (N=12,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, 44, 53 group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several CMI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re, Medicaid, D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2280" y="2057400"/>
            <a:ext cx="3353040" cy="6858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dent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4267080"/>
            <a:ext cx="3276720" cy="53352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3505320"/>
            <a:ext cx="2895840" cy="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438280"/>
            <a:ext cx="838080" cy="106704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6" idx="3"/>
          </p:cNvCxnSpPr>
          <p:nvPr/>
        </p:nvCxnSpPr>
        <p:spPr>
          <a:xfrm flipV="1">
            <a:off x="3429000" y="3428280"/>
            <a:ext cx="915120" cy="1105560"/>
          </a:xfrm>
          <a:prstGeom prst="straightConnector1">
            <a:avLst/>
          </a:prstGeom>
          <a:ln w="63360">
            <a:solidFill>
              <a:srgbClr val="ff99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4348080" y="12942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25672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257800" y="3505320"/>
            <a:ext cx="838080" cy="167616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4120" y="1752480"/>
            <a:ext cx="761760" cy="1752840"/>
          </a:xfrm>
          <a:prstGeom prst="line">
            <a:avLst/>
          </a:prstGeom>
          <a:ln w="6336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315200" y="3200400"/>
            <a:ext cx="12762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5e5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UG-III</a:t>
            </a:r>
            <a:endParaRPr b="0" lang="en-US" sz="1800" spc="1" strike="noStrike">
              <a:ln w="19080">
                <a:solidFill>
                  <a:srgbClr val="e5e5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Approach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Geographic Distribution of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Project Team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MC is based in West Des Moines, Iowa with offices in Owings Mills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rge Washington University, Washington, 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y of Michigan, Ann Arbor, 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Track Systems, Key West, F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wise Systems, Austin, T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RUG-III mod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 of RUG-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“Rehab+Extensiv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“leafy-end split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ication of special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ventilator/respi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 of changing RUG-III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use of known sc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IV medications before/after NH ad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additional qualifi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tion of new assessment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RUG-III modifications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 RUG-III service-based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physician orders/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f assessment schedu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f additional cost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iss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ility of any new assessment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ed servic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collaboration with D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collaboration with Canadian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Sampling Design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, random sample of facilities within volunteer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cation will insure adequate re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re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-based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y ex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ble to particip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emergencies, legal 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ampling Pla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: 15 states, 240 facilitie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,000 res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ed facilities will include all uni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xcept large facilit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atification of Faciliti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1526760" y="1371240"/>
            <a:ext cx="546120" cy="4419720"/>
          </a:xfrm>
          <a:prstGeom prst="rect">
            <a:avLst/>
          </a:pr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luded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46320" y="1374840"/>
            <a:ext cx="5321160" cy="2638800"/>
          </a:xfrm>
          <a:prstGeom prst="rect">
            <a:avLst/>
          </a:prstGeom>
          <a:solidFill>
            <a:srgbClr val="0099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population: Medi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population: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46320" y="3932280"/>
            <a:ext cx="5321160" cy="1818000"/>
          </a:xfrm>
          <a:prstGeom prst="rect">
            <a:avLst/>
          </a:pr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pulation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pulation 2 (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pulatio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12840" y="2557440"/>
            <a:ext cx="4813560" cy="32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12840" y="4629240"/>
            <a:ext cx="481356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12840" y="5221440"/>
            <a:ext cx="481356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ampling Methodolog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1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ata-based exclusions using administrativ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CAR defici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(QIs)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Measures (Q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2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lect sample from remaining facilities (over-sam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Stakeholder exclusions from list of sampled fac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ility Exclus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of data-based ex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s with QI/QM exp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to in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ing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S algorithm for scoring survey and complaint deficiency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keholder ex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Analysis Plan and Sampling Plan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P Discu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pecial Populations and Supplemental Data Item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Godbout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t Fries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Participant 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s for the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s – place on vib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at 4:00 p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–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pecial Popula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inclusion on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is of high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 patterns have chan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en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is rare (prevalence &lt;0.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Population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cillary Cost Measur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measures collected directly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s part of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ndled vs. unbundled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drugs/ IV med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baric 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ium swall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ndled only for Medicare Part A st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NDC codes, can attach price/cos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dose (need advic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PAA &amp; privacy conc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ly to col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wha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en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op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re / Medicaid b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cost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drugs for a sample of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Approach: Medicare b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bills related to drug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to other cos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not require primary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 not ident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possible for Medicare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identify appropriate bills (time fr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 in getting complete b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pproach: High cost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 database with daily cost by drug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k drugs in top % (e.g., 2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y or STRIVE project staff code drug/frequency/dose received by res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drugs most likely at iss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s data collection effort (few residents receiv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 of high-daily-cost drugs could be very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to find database to identify high-daily-cost dru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daily-cost drugs may be used infrequent High cost drugs change over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consuming to check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pproach: All drugs for Medicare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 approach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ff enter drug data directly into database (with looku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out sent to IFMC for en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database sent from facility/pharmacy to IFM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NDC co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all drugs, can do any analysi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alternative data collection/coding method is time-consu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pproach: All drugs for sample of Medicare A res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 in facilities where data are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s similar to “All drug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as 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s expensive, as only doing for part of s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as 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ies with this capability may create a biased s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not have sufficient sample size for some analy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ther Cost Data Issu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of some supplies/services straight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selected items as part of assessment (include volu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collection issues for some other high-cost sup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ai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st for a supply with no specified time peri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pressure-relieving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lemental Assessment Item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ine MDS 2.0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IV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MDS instru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MDS V3.0, MDS-P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ssessment syst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 efficiency and accuracy of the RUGs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 changes in health care practices since implementation of SNF 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payment to promote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lemental Assessment Item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choo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ed influence on case m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t be “gam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aud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of ite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pecification, training mater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to obtain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reliability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liability Studi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assessment i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inter-rater reliabilit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to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test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liability of ancillary cost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Arial"/>
              </a:rPr>
              <a:t>Skilled Service Patterns</a:t>
            </a:r>
            <a:endParaRPr b="1" lang="en-US" sz="4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rvices before or after SNF admiss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, IV medications, suc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apy patterns and RUG break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apy modal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pecial Populations and Supplemental Data Item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P Discu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 TEP - Next Ste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slides posted on CMS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cms.hhs.gov/providers/snfpp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available later this mon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comments due by 12/22/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trive@ifmc.or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e in follow-up tele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pen Discussion - Observer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take a position in lin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 the fron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limit questions and comments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 TEP - Next Ste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slides posted on CMS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cms.hhs.gov/snfpp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available later this mon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comments due by 12/22/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trive@ifmc.or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e in follow-up tele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3461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Thank you 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for your participation 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&amp;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attendance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EP Objectiv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scope of STRIV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ain Stakeholder Inp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Design /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Study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ion / Facility Recrui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/ Facility Recru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nch / Data Collection 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&amp; Sampling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Analysis &amp; Sampling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genda, continue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Populations &amp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lemental Data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Populations &amp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emental Data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1:11:25Z</dcterms:created>
  <dc:creator>Big Ed</dc:creator>
  <dc:description/>
  <dc:language>en-US</dc:language>
  <cp:lastModifiedBy>CMS</cp:lastModifiedBy>
  <dcterms:modified xsi:type="dcterms:W3CDTF">2005-12-19T16:07:36Z</dcterms:modified>
  <cp:revision>90</cp:revision>
  <dc:subject/>
  <dc:title>STRIV fka NNH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